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7.wmf" ContentType="image/x-wmf"/>
  <Override PartName="/ppt/media/image8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23.wmf" ContentType="image/x-wmf"/>
  <Override PartName="/ppt/media/image22.wmf" ContentType="image/x-wmf"/>
  <Override PartName="/ppt/media/image5.wmf" ContentType="image/x-wmf"/>
  <Override PartName="/ppt/media/image10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6.wmf" ContentType="image/x-wmf"/>
  <Override PartName="/ppt/media/image15.wmf" ContentType="image/x-wmf"/>
  <Override PartName="/ppt/media/image14.wmf" ContentType="image/x-wmf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새굴림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새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새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헤드라인M"/>
              </a:rPr>
              <a:t>Click to move the slide</a:t>
            </a:r>
            <a:endParaRPr b="0" lang="en-US" sz="2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3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새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4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16BC3-CF27-472A-B1EF-2BF2518D7567}" type="slidenum"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슬라이드 번호 개체 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481B2-D742-4508-A1AA-827C127312C7}" type="slidenum"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새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8AFFEA-4464-4F59-882C-926C2C86E2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908000" y="620640"/>
            <a:ext cx="70200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8000" y="1599840"/>
            <a:ext cx="8928000" cy="24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08000" y="4285440"/>
            <a:ext cx="8928000" cy="24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C71BBE-6558-4FBF-AC9B-AB03860D67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08000" y="620640"/>
            <a:ext cx="70200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8000" y="1599840"/>
            <a:ext cx="4356720" cy="24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2880" y="1599840"/>
            <a:ext cx="4356720" cy="24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8000" y="4285440"/>
            <a:ext cx="4356720" cy="24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2880" y="4285440"/>
            <a:ext cx="4356720" cy="24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93D0EB-0796-4002-8F8A-2E23F71F4F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908000" y="620640"/>
            <a:ext cx="70200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8000" y="1599840"/>
            <a:ext cx="2874600" cy="24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26600" y="1599840"/>
            <a:ext cx="2874600" cy="24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45560" y="1599840"/>
            <a:ext cx="2874600" cy="24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08000" y="4285440"/>
            <a:ext cx="2874600" cy="24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26600" y="4285440"/>
            <a:ext cx="2874600" cy="24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45560" y="4285440"/>
            <a:ext cx="2874600" cy="24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368693-3905-49C4-9390-97D7C56DDB4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908000" y="620640"/>
            <a:ext cx="70200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08000" y="1599840"/>
            <a:ext cx="8928000" cy="51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F36977-2D2C-4538-98F2-9038D2963DC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908000" y="620640"/>
            <a:ext cx="70200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08000" y="1599840"/>
            <a:ext cx="8928000" cy="51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B31799-2359-4F60-8969-3F16C9AE39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908000" y="620640"/>
            <a:ext cx="70200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000" y="1599840"/>
            <a:ext cx="4356720" cy="51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2880" y="1599840"/>
            <a:ext cx="4356720" cy="51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B8DA9B-0400-4FDA-AAF4-7FF366532B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08000" y="620640"/>
            <a:ext cx="70200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8DA07F-F28B-43AF-8683-75B5088664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908000" y="620640"/>
            <a:ext cx="7020000" cy="36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7B05F8-567F-446B-A763-3CC00EF889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908000" y="620640"/>
            <a:ext cx="70200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8000" y="1599840"/>
            <a:ext cx="4356720" cy="24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2880" y="1599840"/>
            <a:ext cx="4356720" cy="51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08000" y="4285440"/>
            <a:ext cx="4356720" cy="24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904692-092A-4DFF-BB78-C7AAB5DAFF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908000" y="620640"/>
            <a:ext cx="70200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8000" y="1599840"/>
            <a:ext cx="4356720" cy="51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2880" y="1599840"/>
            <a:ext cx="4356720" cy="24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2880" y="4285440"/>
            <a:ext cx="4356720" cy="24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7BD085-613C-4717-B690-28C3C74EEE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908000" y="620640"/>
            <a:ext cx="70200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8000" y="1599840"/>
            <a:ext cx="4356720" cy="24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2880" y="1599840"/>
            <a:ext cx="4356720" cy="24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8000" y="4285440"/>
            <a:ext cx="8928000" cy="24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CCCB00-49B4-4299-BA2E-DA597369CF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3" descr="파워포인트(ML로고포함)프레임"/>
          <p:cNvPicPr/>
          <p:nvPr/>
        </p:nvPicPr>
        <p:blipFill>
          <a:blip r:embed="rId2"/>
          <a:stretch/>
        </p:blipFill>
        <p:spPr>
          <a:xfrm>
            <a:off x="0" y="0"/>
            <a:ext cx="9144000" cy="8366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16" descr="3"/>
          <p:cNvPicPr/>
          <p:nvPr/>
        </p:nvPicPr>
        <p:blipFill>
          <a:blip r:embed="rId3"/>
          <a:stretch/>
        </p:blipFill>
        <p:spPr>
          <a:xfrm>
            <a:off x="250920" y="1446120"/>
            <a:ext cx="8893080" cy="73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908000" y="620640"/>
            <a:ext cx="70200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헤드라인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08000" y="1599840"/>
            <a:ext cx="8928000" cy="51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234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1200" indent="-324000">
              <a:lnSpc>
                <a:spcPct val="120000"/>
              </a:lnSpc>
              <a:spcBef>
                <a:spcPts val="601"/>
              </a:spcBef>
              <a:buClr>
                <a:srgbClr val="00438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5680" indent="-2714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63560" indent="-2286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71800" indent="-2286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71800" indent="-2286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71800" indent="-2286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558280" y="258840"/>
            <a:ext cx="466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HY헤드라인M"/>
                <a:ea typeface="HY헤드라인M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346FC-73D0-4873-A9C6-A42752EEA852}" type="slidenum">
              <a:rPr b="0" lang="en-US" sz="14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새굴림"/>
            </a:endParaRPr>
          </a:p>
        </p:txBody>
      </p:sp>
      <p:pic>
        <p:nvPicPr>
          <p:cNvPr id="5" name="Picture 9" descr="워드마크"/>
          <p:cNvPicPr/>
          <p:nvPr/>
        </p:nvPicPr>
        <p:blipFill>
          <a:blip r:embed="rId4"/>
          <a:stretch/>
        </p:blipFill>
        <p:spPr>
          <a:xfrm>
            <a:off x="108000" y="836640"/>
            <a:ext cx="1571400" cy="325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2.wmf"/><Relationship Id="rId1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Media Lab LoGo"/>
          <p:cNvPicPr/>
          <p:nvPr/>
        </p:nvPicPr>
        <p:blipFill>
          <a:blip r:embed="rId1"/>
          <a:stretch/>
        </p:blipFill>
        <p:spPr>
          <a:xfrm>
            <a:off x="1979640" y="4773600"/>
            <a:ext cx="1503360" cy="16556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55640" y="2060280"/>
            <a:ext cx="777240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Y헤드라인M"/>
              </a:rPr>
              <a:t>JCT3V-C0122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HY헤드라인M"/>
              </a:rPr>
              <a:t>3D-CE2.a results on simplification on the disparity vector derivation</a:t>
            </a:r>
            <a:endParaRPr b="0" lang="en-US" sz="36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555640" y="4916520"/>
            <a:ext cx="560844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굴림"/>
              </a:rPr>
              <a:t>ETRI &amp; KyungHee Univ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908000" y="620640"/>
            <a:ext cx="70200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헤드라인M"/>
              </a:rPr>
              <a:t>Experimental Test Sets </a:t>
            </a:r>
            <a:endParaRPr b="0" lang="en-US" sz="2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108000" y="1599840"/>
            <a:ext cx="8928000" cy="514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00234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맑은 고딕"/>
              </a:rPr>
              <a:t>There are 3 test set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1200" indent="-324000">
              <a:lnSpc>
                <a:spcPct val="120000"/>
              </a:lnSpc>
              <a:spcBef>
                <a:spcPts val="349"/>
              </a:spcBef>
              <a:buClr>
                <a:srgbClr val="00438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81200" indent="-324000">
              <a:lnSpc>
                <a:spcPct val="120000"/>
              </a:lnSpc>
              <a:spcBef>
                <a:spcPts val="349"/>
              </a:spcBef>
              <a:buClr>
                <a:srgbClr val="00438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맑은 고딕"/>
              </a:rPr>
              <a:t>Test 1.H : half depth, inter-view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81200" indent="-324000">
              <a:lnSpc>
                <a:spcPct val="120000"/>
              </a:lnSpc>
              <a:spcBef>
                <a:spcPts val="349"/>
              </a:spcBef>
              <a:buClr>
                <a:srgbClr val="00438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맑은 고딕"/>
              </a:rPr>
              <a:t>Test 1.F : full depth, inter-view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81200" indent="-324000">
              <a:lnSpc>
                <a:spcPct val="120000"/>
              </a:lnSpc>
              <a:spcBef>
                <a:spcPts val="349"/>
              </a:spcBef>
              <a:buClr>
                <a:srgbClr val="00438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81200" indent="-324000">
              <a:lnSpc>
                <a:spcPct val="120000"/>
              </a:lnSpc>
              <a:spcBef>
                <a:spcPts val="349"/>
              </a:spcBef>
              <a:buClr>
                <a:srgbClr val="00438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맑은 고딕"/>
              </a:rPr>
              <a:t>Test 2.H : half depth, tempora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81200" indent="-324000">
              <a:lnSpc>
                <a:spcPct val="120000"/>
              </a:lnSpc>
              <a:spcBef>
                <a:spcPts val="349"/>
              </a:spcBef>
              <a:buClr>
                <a:srgbClr val="00438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맑은 고딕"/>
              </a:rPr>
              <a:t>Test 2.F : full depth, tempora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81200" indent="-324000">
              <a:lnSpc>
                <a:spcPct val="120000"/>
              </a:lnSpc>
              <a:spcBef>
                <a:spcPts val="349"/>
              </a:spcBef>
              <a:buClr>
                <a:srgbClr val="00438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81200" indent="-324000">
              <a:lnSpc>
                <a:spcPct val="120000"/>
              </a:lnSpc>
              <a:spcBef>
                <a:spcPts val="349"/>
              </a:spcBef>
              <a:buClr>
                <a:srgbClr val="00438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맑은 고딕"/>
              </a:rPr>
              <a:t>Test 3.H : half depth, inter-view + tempora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81200" indent="-324000">
              <a:lnSpc>
                <a:spcPct val="120000"/>
              </a:lnSpc>
              <a:spcBef>
                <a:spcPts val="349"/>
              </a:spcBef>
              <a:buClr>
                <a:srgbClr val="00438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맑은 고딕"/>
              </a:rPr>
              <a:t>Test 3.F : full depth, inter-view + tempora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81200" indent="-324000">
              <a:lnSpc>
                <a:spcPct val="120000"/>
              </a:lnSpc>
              <a:spcBef>
                <a:spcPts val="349"/>
              </a:spcBef>
              <a:buClr>
                <a:srgbClr val="00438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슬라이드 번호 개체 틀 3"/>
          <p:cNvSpPr/>
          <p:nvPr/>
        </p:nvSpPr>
        <p:spPr>
          <a:xfrm>
            <a:off x="8558280" y="258840"/>
            <a:ext cx="46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110C8-E9B4-4000-85AD-F00820A4CB2F}" type="slidenum">
              <a:rPr b="0" lang="en-US" sz="14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새굴림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08000" y="620640"/>
            <a:ext cx="70200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헤드라인M"/>
              </a:rPr>
              <a:t>Results Summary</a:t>
            </a:r>
            <a:endParaRPr b="0" lang="en-US" sz="2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08000" y="1599840"/>
            <a:ext cx="8928000" cy="514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00234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맑은 고딕"/>
              </a:rPr>
              <a:t>Cross-check by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맑은 고딕"/>
              </a:rPr>
              <a:t>Nokia (JCT3V-C0174),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맑은 고딕"/>
              </a:rPr>
              <a:t>Samsung (JCT3V-C0213) and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맑은 고딕"/>
              </a:rPr>
              <a:t>Qualcomm (JCT3V-C0226)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슬라이드 번호 개체 틀 3"/>
          <p:cNvSpPr/>
          <p:nvPr/>
        </p:nvSpPr>
        <p:spPr>
          <a:xfrm>
            <a:off x="8558280" y="258840"/>
            <a:ext cx="46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9D6BB-CE60-48EC-B376-54FAB058714D}" type="slidenum">
              <a:rPr b="0" lang="en-US" sz="14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새굴림"/>
            </a:endParaRPr>
          </a:p>
        </p:txBody>
      </p:sp>
      <p:graphicFrame>
        <p:nvGraphicFramePr>
          <p:cNvPr id="117" name="개체 7"/>
          <p:cNvGraphicFramePr/>
          <p:nvPr/>
        </p:nvGraphicFramePr>
        <p:xfrm>
          <a:off x="614520" y="3862440"/>
          <a:ext cx="7772400" cy="295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개체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4520" y="3862440"/>
                    <a:ext cx="7772400" cy="295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9" name="개체 10"/>
          <p:cNvGraphicFramePr/>
          <p:nvPr/>
        </p:nvGraphicFramePr>
        <p:xfrm>
          <a:off x="3780000" y="1628640"/>
          <a:ext cx="5306760" cy="2103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0" name="개체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80000" y="1628640"/>
                    <a:ext cx="5306760" cy="210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TextBox 6"/>
          <p:cNvSpPr/>
          <p:nvPr/>
        </p:nvSpPr>
        <p:spPr>
          <a:xfrm>
            <a:off x="4568760" y="3500280"/>
            <a:ext cx="3672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est cases for bottom-right depth position</a:t>
            </a:r>
            <a:endParaRPr b="0" lang="en-US" sz="1100" spc="-1" strike="noStrike">
              <a:solidFill>
                <a:srgbClr val="000000"/>
              </a:solidFill>
              <a:latin typeface="새굴림"/>
            </a:endParaRPr>
          </a:p>
        </p:txBody>
      </p:sp>
      <p:sp>
        <p:nvSpPr>
          <p:cNvPr id="122" name="TextBox 7"/>
          <p:cNvSpPr/>
          <p:nvPr/>
        </p:nvSpPr>
        <p:spPr>
          <a:xfrm>
            <a:off x="3419640" y="6524640"/>
            <a:ext cx="2422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verage results for test cases</a:t>
            </a:r>
            <a:endParaRPr b="0" lang="en-US" sz="1100" spc="-1" strike="noStrike">
              <a:solidFill>
                <a:srgbClr val="000000"/>
              </a:solidFill>
              <a:latin typeface="새굴림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908000" y="620640"/>
            <a:ext cx="70200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헤드라인M"/>
              </a:rPr>
              <a:t>Depth positions for each sets</a:t>
            </a:r>
            <a:endParaRPr b="0" lang="en-US" sz="2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108000" y="1599840"/>
            <a:ext cx="8928000" cy="514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81200" indent="-324000">
              <a:lnSpc>
                <a:spcPct val="120000"/>
              </a:lnSpc>
              <a:spcBef>
                <a:spcPts val="349"/>
              </a:spcBef>
              <a:buClr>
                <a:srgbClr val="00438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맑은 고딕"/>
              </a:rPr>
              <a:t>top-lef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81200" indent="-324000">
              <a:lnSpc>
                <a:spcPct val="120000"/>
              </a:lnSpc>
              <a:spcBef>
                <a:spcPts val="349"/>
              </a:spcBef>
              <a:buClr>
                <a:srgbClr val="00438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맑은 고딕"/>
              </a:rPr>
              <a:t>top-righ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81200" indent="-324000">
              <a:lnSpc>
                <a:spcPct val="120000"/>
              </a:lnSpc>
              <a:spcBef>
                <a:spcPts val="349"/>
              </a:spcBef>
              <a:buClr>
                <a:srgbClr val="00438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맑은 고딕"/>
              </a:rPr>
              <a:t>bottom-lef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81200" indent="-324000">
              <a:lnSpc>
                <a:spcPct val="120000"/>
              </a:lnSpc>
              <a:spcBef>
                <a:spcPts val="349"/>
              </a:spcBef>
              <a:buClr>
                <a:srgbClr val="00438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맑은 고딕"/>
              </a:rPr>
              <a:t>bottom-righ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81200" indent="-324000">
              <a:lnSpc>
                <a:spcPct val="120000"/>
              </a:lnSpc>
              <a:spcBef>
                <a:spcPts val="349"/>
              </a:spcBef>
              <a:buClr>
                <a:srgbClr val="00438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맑은 고딕"/>
              </a:rPr>
              <a:t>cente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81200" indent="-324000">
              <a:lnSpc>
                <a:spcPct val="120000"/>
              </a:lnSpc>
              <a:spcBef>
                <a:spcPts val="349"/>
              </a:spcBef>
              <a:buClr>
                <a:srgbClr val="00438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슬라이드 번호 개체 틀 3"/>
          <p:cNvSpPr/>
          <p:nvPr/>
        </p:nvSpPr>
        <p:spPr>
          <a:xfrm>
            <a:off x="8558280" y="258840"/>
            <a:ext cx="46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61DB7-437E-4C1C-A99D-7C9245DF1E95}" type="slidenum">
              <a:rPr b="0" lang="en-US" sz="14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새굴림"/>
            </a:endParaRPr>
          </a:p>
        </p:txBody>
      </p:sp>
      <p:grpSp>
        <p:nvGrpSpPr>
          <p:cNvPr id="126" name="그룹 7"/>
          <p:cNvGrpSpPr/>
          <p:nvPr/>
        </p:nvGrpSpPr>
        <p:grpSpPr>
          <a:xfrm>
            <a:off x="503280" y="4113360"/>
            <a:ext cx="8353440" cy="1764000"/>
            <a:chOff x="503280" y="4113360"/>
            <a:chExt cx="8353440" cy="1764000"/>
          </a:xfrm>
        </p:grpSpPr>
        <p:graphicFrame>
          <p:nvGraphicFramePr>
            <p:cNvPr id="127" name="개체 1"/>
            <p:cNvGraphicFramePr/>
            <p:nvPr/>
          </p:nvGraphicFramePr>
          <p:xfrm>
            <a:off x="5660640" y="4113360"/>
            <a:ext cx="1476720" cy="14756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28" name="개체 1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660640" y="4113360"/>
                      <a:ext cx="1476720" cy="1475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29" name="개체 2"/>
            <p:cNvGraphicFramePr/>
            <p:nvPr/>
          </p:nvGraphicFramePr>
          <p:xfrm>
            <a:off x="503280" y="4113360"/>
            <a:ext cx="1476720" cy="14756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30" name="개체 2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03280" y="4113360"/>
                      <a:ext cx="1476720" cy="1475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31" name="개체 4"/>
            <p:cNvGraphicFramePr/>
            <p:nvPr/>
          </p:nvGraphicFramePr>
          <p:xfrm>
            <a:off x="3941640" y="4113360"/>
            <a:ext cx="1476720" cy="14756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32" name="개체 4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941640" y="4113360"/>
                      <a:ext cx="1476720" cy="1475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33" name="개체 5"/>
            <p:cNvGraphicFramePr/>
            <p:nvPr/>
          </p:nvGraphicFramePr>
          <p:xfrm>
            <a:off x="7380000" y="4113360"/>
            <a:ext cx="1476720" cy="14756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34" name="개체 5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7380000" y="4113360"/>
                      <a:ext cx="1476720" cy="1475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35" name="개체 6"/>
            <p:cNvGraphicFramePr/>
            <p:nvPr/>
          </p:nvGraphicFramePr>
          <p:xfrm>
            <a:off x="2222280" y="4113360"/>
            <a:ext cx="1476720" cy="147564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36" name="개체 6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2222280" y="4113360"/>
                      <a:ext cx="1476720" cy="1475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7" name="TextBox 10"/>
            <p:cNvSpPr/>
            <p:nvPr/>
          </p:nvSpPr>
          <p:spPr>
            <a:xfrm>
              <a:off x="956160" y="5631120"/>
              <a:ext cx="587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ase 1</a:t>
              </a:r>
              <a:endParaRPr b="0" lang="en-US" sz="1000" spc="-1" strike="noStrike">
                <a:solidFill>
                  <a:srgbClr val="000000"/>
                </a:solidFill>
                <a:latin typeface="새굴림"/>
              </a:endParaRPr>
            </a:p>
          </p:txBody>
        </p:sp>
        <p:sp>
          <p:nvSpPr>
            <p:cNvPr id="138" name="TextBox 11"/>
            <p:cNvSpPr/>
            <p:nvPr/>
          </p:nvSpPr>
          <p:spPr>
            <a:xfrm>
              <a:off x="7827120" y="5631120"/>
              <a:ext cx="587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ase 5</a:t>
              </a:r>
              <a:endParaRPr b="0" lang="en-US" sz="1000" spc="-1" strike="noStrike">
                <a:solidFill>
                  <a:srgbClr val="000000"/>
                </a:solidFill>
                <a:latin typeface="새굴림"/>
              </a:endParaRPr>
            </a:p>
          </p:txBody>
        </p:sp>
        <p:sp>
          <p:nvSpPr>
            <p:cNvPr id="139" name="TextBox 12"/>
            <p:cNvSpPr/>
            <p:nvPr/>
          </p:nvSpPr>
          <p:spPr>
            <a:xfrm>
              <a:off x="6109200" y="5631120"/>
              <a:ext cx="587520" cy="24624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0000"/>
                  </a:solidFill>
                  <a:latin typeface="Arial"/>
                </a:rPr>
                <a:t>Case 4</a:t>
              </a:r>
              <a:endParaRPr b="0" lang="en-US" sz="1000" spc="-1" strike="noStrike">
                <a:solidFill>
                  <a:srgbClr val="000000"/>
                </a:solidFill>
                <a:latin typeface="새굴림"/>
              </a:endParaRPr>
            </a:p>
          </p:txBody>
        </p:sp>
        <p:sp>
          <p:nvSpPr>
            <p:cNvPr id="140" name="TextBox 13"/>
            <p:cNvSpPr/>
            <p:nvPr/>
          </p:nvSpPr>
          <p:spPr>
            <a:xfrm>
              <a:off x="4391640" y="5631120"/>
              <a:ext cx="587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ase 3</a:t>
              </a:r>
              <a:endParaRPr b="0" lang="en-US" sz="1000" spc="-1" strike="noStrike">
                <a:solidFill>
                  <a:srgbClr val="000000"/>
                </a:solidFill>
                <a:latin typeface="새굴림"/>
              </a:endParaRPr>
            </a:p>
          </p:txBody>
        </p:sp>
        <p:sp>
          <p:nvSpPr>
            <p:cNvPr id="141" name="TextBox 14"/>
            <p:cNvSpPr/>
            <p:nvPr/>
          </p:nvSpPr>
          <p:spPr>
            <a:xfrm>
              <a:off x="2673720" y="5631120"/>
              <a:ext cx="587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ase 2</a:t>
              </a:r>
              <a:endParaRPr b="0" lang="en-US" sz="1000" spc="-1" strike="noStrike">
                <a:solidFill>
                  <a:srgbClr val="000000"/>
                </a:solidFill>
                <a:latin typeface="새굴림"/>
              </a:endParaRPr>
            </a:p>
          </p:txBody>
        </p:sp>
      </p:grpSp>
      <p:sp>
        <p:nvSpPr>
          <p:cNvPr id="142" name="타원 9"/>
          <p:cNvSpPr/>
          <p:nvPr/>
        </p:nvSpPr>
        <p:spPr>
          <a:xfrm>
            <a:off x="237960" y="3860640"/>
            <a:ext cx="640080" cy="641520"/>
          </a:xfrm>
          <a:prstGeom prst="ellipse">
            <a:avLst/>
          </a:prstGeom>
          <a:noFill/>
          <a:ln w="2232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새굴림"/>
            </a:endParaRPr>
          </a:p>
        </p:txBody>
      </p:sp>
      <p:sp>
        <p:nvSpPr>
          <p:cNvPr id="143" name="타원 9"/>
          <p:cNvSpPr/>
          <p:nvPr/>
        </p:nvSpPr>
        <p:spPr>
          <a:xfrm>
            <a:off x="3294000" y="3860640"/>
            <a:ext cx="639720" cy="641520"/>
          </a:xfrm>
          <a:prstGeom prst="ellipse">
            <a:avLst/>
          </a:prstGeom>
          <a:noFill/>
          <a:ln w="2232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새굴림"/>
            </a:endParaRPr>
          </a:p>
        </p:txBody>
      </p:sp>
      <p:sp>
        <p:nvSpPr>
          <p:cNvPr id="144" name="타원 9"/>
          <p:cNvSpPr/>
          <p:nvPr/>
        </p:nvSpPr>
        <p:spPr>
          <a:xfrm>
            <a:off x="3679920" y="5189400"/>
            <a:ext cx="639720" cy="641520"/>
          </a:xfrm>
          <a:prstGeom prst="ellipse">
            <a:avLst/>
          </a:prstGeom>
          <a:noFill/>
          <a:ln w="2232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새굴림"/>
            </a:endParaRPr>
          </a:p>
        </p:txBody>
      </p:sp>
      <p:sp>
        <p:nvSpPr>
          <p:cNvPr id="145" name="타원 9"/>
          <p:cNvSpPr/>
          <p:nvPr/>
        </p:nvSpPr>
        <p:spPr>
          <a:xfrm>
            <a:off x="6757920" y="5189400"/>
            <a:ext cx="639720" cy="641520"/>
          </a:xfrm>
          <a:prstGeom prst="ellipse">
            <a:avLst/>
          </a:prstGeom>
          <a:noFill/>
          <a:ln w="2232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새굴림"/>
            </a:endParaRPr>
          </a:p>
        </p:txBody>
      </p:sp>
      <p:sp>
        <p:nvSpPr>
          <p:cNvPr id="146" name="타원 9"/>
          <p:cNvSpPr/>
          <p:nvPr/>
        </p:nvSpPr>
        <p:spPr>
          <a:xfrm>
            <a:off x="7834320" y="4559400"/>
            <a:ext cx="639720" cy="641160"/>
          </a:xfrm>
          <a:prstGeom prst="ellipse">
            <a:avLst/>
          </a:prstGeom>
          <a:noFill/>
          <a:ln w="2232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새굴림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908000" y="620640"/>
            <a:ext cx="70200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헤드라인M"/>
              </a:rPr>
              <a:t>Results</a:t>
            </a:r>
            <a:endParaRPr b="0" lang="en-US" sz="2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8000" y="1599840"/>
            <a:ext cx="8928000" cy="514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00234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맑은 고딕"/>
              </a:rPr>
              <a:t>Test 1.H :  ATM 6.0  / ATM 6.0 + DMVP(inter-view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00234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00234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00234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00234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00234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00234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00234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맑은 고딕"/>
              </a:rPr>
              <a:t>Test 1.F : Full resolution depth, ATM 6.0  / ATM 6.0 + DMVP(inter-view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슬라이드 번호 개체 틀 3"/>
          <p:cNvSpPr/>
          <p:nvPr/>
        </p:nvSpPr>
        <p:spPr>
          <a:xfrm>
            <a:off x="8558280" y="258840"/>
            <a:ext cx="46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11D4D-1C42-4FEB-A487-69E27B840C91}" type="slidenum">
              <a:rPr b="0" lang="en-US" sz="14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새굴림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641520" y="2197080"/>
          <a:ext cx="7860960" cy="1447920"/>
        </p:xfrm>
        <a:graphic>
          <a:graphicData uri="http://schemas.openxmlformats.org/drawingml/2006/table">
            <a:tbl>
              <a:tblPr/>
              <a:tblGrid>
                <a:gridCol w="1056960"/>
                <a:gridCol w="851040"/>
                <a:gridCol w="851040"/>
                <a:gridCol w="849240"/>
                <a:gridCol w="850680"/>
                <a:gridCol w="851040"/>
                <a:gridCol w="851040"/>
                <a:gridCol w="849240"/>
                <a:gridCol w="850680"/>
              </a:tblGrid>
              <a:tr h="1771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 gridSpan="2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re Cod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pth Cod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(Coded PSNR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(Synthesed PSNR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452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sample posi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dBR, 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dPSNR,dB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dBR, 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dPSNR,dB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dBR, 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dPSNR,dB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dBR, 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dPSNR,dB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7712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top-lef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2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2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712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top-righ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712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bot-lef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712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bot-righ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7712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cent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TextBox 5"/>
          <p:cNvSpPr/>
          <p:nvPr/>
        </p:nvSpPr>
        <p:spPr>
          <a:xfrm>
            <a:off x="3203640" y="3672000"/>
            <a:ext cx="2422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verage results for Test 1.H</a:t>
            </a:r>
            <a:endParaRPr b="0" lang="en-US" sz="1100" spc="-1" strike="noStrike">
              <a:solidFill>
                <a:srgbClr val="000000"/>
              </a:solidFill>
              <a:latin typeface="새굴림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641520" y="4581360"/>
          <a:ext cx="7860960" cy="1447920"/>
        </p:xfrm>
        <a:graphic>
          <a:graphicData uri="http://schemas.openxmlformats.org/drawingml/2006/table">
            <a:tbl>
              <a:tblPr/>
              <a:tblGrid>
                <a:gridCol w="1056960"/>
                <a:gridCol w="851040"/>
                <a:gridCol w="851040"/>
                <a:gridCol w="849240"/>
                <a:gridCol w="850680"/>
                <a:gridCol w="851040"/>
                <a:gridCol w="851040"/>
                <a:gridCol w="849240"/>
                <a:gridCol w="850680"/>
              </a:tblGrid>
              <a:tr h="1771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 gridSpan="2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re Cod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pth Cod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(Coded PSNR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(Synthesed PSNR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452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sample posi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dBR, 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dPSNR,dB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dBR, 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dPSNR,dB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dBR, 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dPSNR,dB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dBR, 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dPSNR,dB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7712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top-lef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2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2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712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top-righ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712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bot-lef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712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bot-righ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7712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cent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3" name="TextBox 9"/>
          <p:cNvSpPr/>
          <p:nvPr/>
        </p:nvSpPr>
        <p:spPr>
          <a:xfrm>
            <a:off x="3203640" y="6093000"/>
            <a:ext cx="2422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verage results for Test 1.F</a:t>
            </a:r>
            <a:endParaRPr b="0" lang="en-US" sz="1100" spc="-1" strike="noStrike">
              <a:solidFill>
                <a:srgbClr val="000000"/>
              </a:solidFill>
              <a:latin typeface="새굴림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908000" y="620640"/>
            <a:ext cx="70200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헤드라인M"/>
              </a:rPr>
              <a:t>Results</a:t>
            </a:r>
            <a:endParaRPr b="0" lang="en-US" sz="2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108000" y="1599840"/>
            <a:ext cx="8928000" cy="514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00234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맑은 고딕"/>
              </a:rPr>
              <a:t>Test 2.H :  ATM 6.0  / ATM 6.0 + DMVP(temporal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00234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00234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00234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00234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00234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00234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00234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맑은 고딕"/>
              </a:rPr>
              <a:t>Test 2.F : Full resolution depth, ATM 6.0  / ATM 6.0 + DMVP(temporal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00234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슬라이드 번호 개체 틀 3"/>
          <p:cNvSpPr/>
          <p:nvPr/>
        </p:nvSpPr>
        <p:spPr>
          <a:xfrm>
            <a:off x="8558280" y="258840"/>
            <a:ext cx="46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E6702-9397-44AF-AD08-105F3BC9CE19}" type="slidenum">
              <a:rPr b="0" lang="en-US" sz="14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새굴림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641520" y="2197080"/>
          <a:ext cx="7860960" cy="1447920"/>
        </p:xfrm>
        <a:graphic>
          <a:graphicData uri="http://schemas.openxmlformats.org/drawingml/2006/table">
            <a:tbl>
              <a:tblPr/>
              <a:tblGrid>
                <a:gridCol w="1056960"/>
                <a:gridCol w="851040"/>
                <a:gridCol w="851040"/>
                <a:gridCol w="849240"/>
                <a:gridCol w="850680"/>
                <a:gridCol w="851040"/>
                <a:gridCol w="851040"/>
                <a:gridCol w="849240"/>
                <a:gridCol w="850680"/>
              </a:tblGrid>
              <a:tr h="1771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 gridSpan="2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re Cod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pth Cod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(Coded PSNR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(Synthesed PSNR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452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sample posi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dBR, 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dPSNR,dB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dBR, 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dPSNR,dB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dBR, 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dPSNR,dB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dBR, 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dPSNR,dB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7712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top-lef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712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top-righ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712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bot-lef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712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bot-righ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7712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cent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8" name="TextBox 6"/>
          <p:cNvSpPr/>
          <p:nvPr/>
        </p:nvSpPr>
        <p:spPr>
          <a:xfrm>
            <a:off x="3203640" y="3672000"/>
            <a:ext cx="2422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verage results for Test 2.H</a:t>
            </a:r>
            <a:endParaRPr b="0" lang="en-US" sz="1100" spc="-1" strike="noStrike">
              <a:solidFill>
                <a:srgbClr val="000000"/>
              </a:solidFill>
              <a:latin typeface="새굴림"/>
            </a:endParaRPr>
          </a:p>
        </p:txBody>
      </p:sp>
      <p:sp>
        <p:nvSpPr>
          <p:cNvPr id="159" name="TextBox 7"/>
          <p:cNvSpPr/>
          <p:nvPr/>
        </p:nvSpPr>
        <p:spPr>
          <a:xfrm>
            <a:off x="3203640" y="6093000"/>
            <a:ext cx="2422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verage results for Test 2.F</a:t>
            </a:r>
            <a:endParaRPr b="0" lang="en-US" sz="1100" spc="-1" strike="noStrike">
              <a:solidFill>
                <a:srgbClr val="000000"/>
              </a:solidFill>
              <a:latin typeface="새굴림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641520" y="4573440"/>
          <a:ext cx="7860960" cy="1447920"/>
        </p:xfrm>
        <a:graphic>
          <a:graphicData uri="http://schemas.openxmlformats.org/drawingml/2006/table">
            <a:tbl>
              <a:tblPr/>
              <a:tblGrid>
                <a:gridCol w="1056960"/>
                <a:gridCol w="851040"/>
                <a:gridCol w="851040"/>
                <a:gridCol w="849240"/>
                <a:gridCol w="850680"/>
                <a:gridCol w="851040"/>
                <a:gridCol w="851040"/>
                <a:gridCol w="849240"/>
                <a:gridCol w="850680"/>
              </a:tblGrid>
              <a:tr h="1771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 gridSpan="2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re Cod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pth Cod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(Coded PSNR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(Synthesed PSNR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452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sample posi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dBR, 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dPSNR,dB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dBR, 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dPSNR,dB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dBR, 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dPSNR,dB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dBR, 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dPSNR,dB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7712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top-lef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712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top-righ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712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bot-lef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712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bot-righ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7712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cent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908000" y="620640"/>
            <a:ext cx="70200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헤드라인M"/>
              </a:rPr>
              <a:t>Results</a:t>
            </a:r>
            <a:endParaRPr b="0" lang="en-US" sz="2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08000" y="1599840"/>
            <a:ext cx="8928000" cy="514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00234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맑은 고딕"/>
              </a:rPr>
              <a:t>Test 3.H :  ATM 6.0  / ATM 6.0 + DMVP(inter-view + temporal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00234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00234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00234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00234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00234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00234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00234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맑은 고딕"/>
              </a:rPr>
              <a:t>Test 3.F : Full resolution depth, ATM 6.0  / ATM 6.0 + DMVP(inter-view + temporal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00234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슬라이드 번호 개체 틀 3"/>
          <p:cNvSpPr/>
          <p:nvPr/>
        </p:nvSpPr>
        <p:spPr>
          <a:xfrm>
            <a:off x="8558280" y="258840"/>
            <a:ext cx="46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3AD23-9FCF-4EC3-9230-B72C2D2576C5}" type="slidenum">
              <a:rPr b="0" lang="en-US" sz="14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새굴림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41520" y="2205000"/>
          <a:ext cx="7860960" cy="1447920"/>
        </p:xfrm>
        <a:graphic>
          <a:graphicData uri="http://schemas.openxmlformats.org/drawingml/2006/table">
            <a:tbl>
              <a:tblPr/>
              <a:tblGrid>
                <a:gridCol w="1056960"/>
                <a:gridCol w="851040"/>
                <a:gridCol w="851040"/>
                <a:gridCol w="849240"/>
                <a:gridCol w="850680"/>
                <a:gridCol w="851040"/>
                <a:gridCol w="851040"/>
                <a:gridCol w="849240"/>
                <a:gridCol w="850680"/>
              </a:tblGrid>
              <a:tr h="1771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 gridSpan="2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re Cod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pth Cod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(Coded PSNR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(Synthesed PSNR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452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sample posi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dBR, 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dPSNR,dB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dBR, 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dPSNR,dB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dBR, 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dPSNR,dB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dBR, 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dPSNR,dB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7712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top-lef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2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2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712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top-righ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712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bot-lef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712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bot-righ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7712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cent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5" name="TextBox 6"/>
          <p:cNvSpPr/>
          <p:nvPr/>
        </p:nvSpPr>
        <p:spPr>
          <a:xfrm>
            <a:off x="3203640" y="3672000"/>
            <a:ext cx="2422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verage results for Test 3.H</a:t>
            </a:r>
            <a:endParaRPr b="0" lang="en-US" sz="1100" spc="-1" strike="noStrike">
              <a:solidFill>
                <a:srgbClr val="000000"/>
              </a:solidFill>
              <a:latin typeface="새굴림"/>
            </a:endParaRPr>
          </a:p>
        </p:txBody>
      </p:sp>
      <p:sp>
        <p:nvSpPr>
          <p:cNvPr id="166" name="TextBox 7"/>
          <p:cNvSpPr/>
          <p:nvPr/>
        </p:nvSpPr>
        <p:spPr>
          <a:xfrm>
            <a:off x="3203640" y="6093000"/>
            <a:ext cx="2422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verage results for Test 3.F</a:t>
            </a:r>
            <a:endParaRPr b="0" lang="en-US" sz="1100" spc="-1" strike="noStrike">
              <a:solidFill>
                <a:srgbClr val="000000"/>
              </a:solidFill>
              <a:latin typeface="새굴림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641520" y="4573440"/>
          <a:ext cx="7860960" cy="1447920"/>
        </p:xfrm>
        <a:graphic>
          <a:graphicData uri="http://schemas.openxmlformats.org/drawingml/2006/table">
            <a:tbl>
              <a:tblPr/>
              <a:tblGrid>
                <a:gridCol w="1056960"/>
                <a:gridCol w="851040"/>
                <a:gridCol w="851040"/>
                <a:gridCol w="849240"/>
                <a:gridCol w="850680"/>
                <a:gridCol w="851040"/>
                <a:gridCol w="851040"/>
                <a:gridCol w="849240"/>
                <a:gridCol w="850680"/>
              </a:tblGrid>
              <a:tr h="1771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 gridSpan="2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re Cod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pth Cod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(Coded PSNR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(Synthesed PSNR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452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sample posi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dBR, 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dPSNR,dB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dBR, 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dPSNR,dB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dBR, 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dPSNR,dB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dBR, 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dPSNR,dB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7712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top-lef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2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2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712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top-righ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712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bot-lef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712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bot-righ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7712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cent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908000" y="620640"/>
            <a:ext cx="70200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헤드라인M"/>
              </a:rPr>
              <a:t>Conclusions</a:t>
            </a:r>
            <a:endParaRPr b="0" lang="en-US" sz="2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108000" y="1599840"/>
            <a:ext cx="8928000" cy="514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00234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simplified derivation method of the disparity vector was proposed.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00234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00234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ile the proposed method shows negligible BD rate loss and complexity, it reduces the </a:t>
            </a:r>
            <a:r>
              <a:rPr b="1" lang="en-CA" sz="1600" spc="-1" strike="noStrike">
                <a:solidFill>
                  <a:srgbClr val="000000"/>
                </a:solidFill>
                <a:latin typeface="Arial"/>
              </a:rPr>
              <a:t>memory access bandwidth and removes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searching and comparing operation of the depth samples depending on a partition size</a:t>
            </a:r>
            <a:r>
              <a:rPr b="1" lang="en-CA" sz="1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00234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00234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000000"/>
                </a:solidFill>
                <a:latin typeface="Arial"/>
              </a:rPr>
              <a:t>I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recommended to adopt the proposed method to the next 3DV-ATM and the 3D-AVC WD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슬라이드 번호 개체 틀 3"/>
          <p:cNvSpPr/>
          <p:nvPr/>
        </p:nvSpPr>
        <p:spPr>
          <a:xfrm>
            <a:off x="8558280" y="258840"/>
            <a:ext cx="46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193C0-7782-4576-B0FC-1D2E83D026F0}" type="slidenum">
              <a:rPr b="0" lang="en-US" sz="14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새굴림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17" descr="C:\Documents and Settings\Administrator\Temporary Internet Files\Content.IE5\0NZBAWDP\MCj03835280000[1].wmf"/>
          <p:cNvPicPr/>
          <p:nvPr/>
        </p:nvPicPr>
        <p:blipFill>
          <a:blip r:embed="rId1"/>
          <a:stretch/>
        </p:blipFill>
        <p:spPr>
          <a:xfrm>
            <a:off x="3106800" y="2133720"/>
            <a:ext cx="2930400" cy="3232080"/>
          </a:xfrm>
          <a:prstGeom prst="rect">
            <a:avLst/>
          </a:prstGeom>
          <a:ln w="0">
            <a:noFill/>
          </a:ln>
        </p:spPr>
      </p:pic>
      <p:sp>
        <p:nvSpPr>
          <p:cNvPr id="172" name="슬라이드 번호 개체 틀 3"/>
          <p:cNvSpPr/>
          <p:nvPr/>
        </p:nvSpPr>
        <p:spPr>
          <a:xfrm>
            <a:off x="8558280" y="258840"/>
            <a:ext cx="46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A7520-EB73-4CCA-B1B0-2E5FC18F15BC}" type="slidenum">
              <a:rPr b="0" lang="en-US" sz="14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새굴림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08000" y="620640"/>
            <a:ext cx="70200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</a:rPr>
              <a:t>The Development of Simple Disparity Vector Derivation</a:t>
            </a:r>
            <a:endParaRPr b="0" lang="en-US" sz="20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08000" y="1599840"/>
            <a:ext cx="8928000" cy="514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349"/>
              </a:spcBef>
              <a:buClr>
                <a:srgbClr val="00234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맑은 고딕"/>
              </a:rPr>
              <a:t>2012, 1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  <a:ea typeface="맑은 고딕"/>
              </a:rPr>
              <a:t>st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맑은 고딕"/>
              </a:rPr>
              <a:t> JCT3V Meeting, Stockhol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81200" indent="-324000">
              <a:lnSpc>
                <a:spcPct val="120000"/>
              </a:lnSpc>
              <a:spcBef>
                <a:spcPts val="300"/>
              </a:spcBef>
              <a:buClr>
                <a:srgbClr val="00438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맑은 고딕"/>
              </a:rPr>
              <a:t>JCT3V-A0046 was adopted. (MediaTek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255680" indent="-271440">
              <a:lnSpc>
                <a:spcPct val="120000"/>
              </a:lnSpc>
              <a:spcBef>
                <a:spcPts val="27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맑은 고딕"/>
              </a:rPr>
              <a:t>When MV predictor is not available, use the maximum depth sample among the samples at 4 corners to derivate the disparity for MVP process of inter-view and skip/direct mode.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255680" indent="-271440">
              <a:lnSpc>
                <a:spcPct val="120000"/>
              </a:lnSpc>
              <a:spcBef>
                <a:spcPts val="27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맑은 고딕"/>
              </a:rPr>
              <a:t>Total -0.02% (coded), -0.02% (synthetic). Complexity 98.83%(encoder), 97.66%(decoder)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349"/>
              </a:spcBef>
              <a:buClr>
                <a:srgbClr val="00234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맑은 고딕"/>
              </a:rPr>
              <a:t>2012, 2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  <a:ea typeface="맑은 고딕"/>
              </a:rPr>
              <a:t>n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맑은 고딕"/>
              </a:rPr>
              <a:t> JCT3V Meeting, Shanghai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81200" indent="-324000">
              <a:lnSpc>
                <a:spcPct val="120000"/>
              </a:lnSpc>
              <a:spcBef>
                <a:spcPts val="300"/>
              </a:spcBef>
              <a:buClr>
                <a:srgbClr val="00438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  <a:ea typeface="맑은 고딕"/>
              </a:rPr>
              <a:t>JCT3V-B0073 (ETRI &amp; KHU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255680" indent="-271440">
              <a:lnSpc>
                <a:spcPct val="120000"/>
              </a:lnSpc>
              <a:spcBef>
                <a:spcPts val="275"/>
              </a:spcBef>
              <a:buClr>
                <a:srgbClr val="0000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ff"/>
                </a:solidFill>
                <a:latin typeface="Arial"/>
                <a:ea typeface="맑은 고딕"/>
              </a:rPr>
              <a:t>It provides more reduction in memory access bandwidth for disparity vector derivation.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255680" indent="-271440">
              <a:lnSpc>
                <a:spcPct val="120000"/>
              </a:lnSpc>
              <a:spcBef>
                <a:spcPts val="275"/>
              </a:spcBef>
              <a:buClr>
                <a:srgbClr val="0000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ff"/>
                </a:solidFill>
                <a:latin typeface="Arial"/>
                <a:ea typeface="맑은 고딕"/>
              </a:rPr>
              <a:t>For Inter-view MVP, use </a:t>
            </a:r>
            <a:r>
              <a:rPr b="1" lang="en-US" sz="1100" spc="-1" strike="noStrike">
                <a:solidFill>
                  <a:srgbClr val="ff0000"/>
                </a:solidFill>
                <a:latin typeface="Arial"/>
                <a:ea typeface="맑은 고딕"/>
              </a:rPr>
              <a:t>a bottom-right depth samples of current MB </a:t>
            </a:r>
            <a:r>
              <a:rPr b="1" lang="en-US" sz="1100" spc="-1" strike="noStrike">
                <a:solidFill>
                  <a:srgbClr val="0000ff"/>
                </a:solidFill>
                <a:latin typeface="Arial"/>
                <a:ea typeface="맑은 고딕"/>
              </a:rPr>
              <a:t>Instead of calculating maximum depth from 4 candidates when MV predictor is not available.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255680" indent="-271440">
              <a:lnSpc>
                <a:spcPct val="120000"/>
              </a:lnSpc>
              <a:spcBef>
                <a:spcPts val="275"/>
              </a:spcBef>
              <a:buClr>
                <a:srgbClr val="0000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ff"/>
                </a:solidFill>
                <a:latin typeface="Arial"/>
                <a:ea typeface="맑은 고딕"/>
              </a:rPr>
              <a:t>Total 0.06% (coded), 0.02% (synthetic). Complexity 98%(encoder), 100%(decoder)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81200" indent="-324000">
              <a:lnSpc>
                <a:spcPct val="120000"/>
              </a:lnSpc>
              <a:spcBef>
                <a:spcPts val="300"/>
              </a:spcBef>
              <a:buClr>
                <a:srgbClr val="00438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맑은 고딕"/>
              </a:rPr>
              <a:t>JCT3V-B0153 was adopted. (Samsung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255680" indent="-271440">
              <a:lnSpc>
                <a:spcPct val="120000"/>
              </a:lnSpc>
              <a:spcBef>
                <a:spcPts val="27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맑은 고딕"/>
              </a:rPr>
              <a:t>Use the identical process to the disparity derivation of JCT3V-A0046 for temporal MVP.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255680" indent="-271440">
              <a:lnSpc>
                <a:spcPct val="120000"/>
              </a:lnSpc>
              <a:spcBef>
                <a:spcPts val="27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맑은 고딕"/>
              </a:rPr>
              <a:t>Total -0.11% (coded), -0.08% (synthetic). Complexity 98.65%(encoder), 100.18%(decoder)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349"/>
              </a:spcBef>
              <a:buClr>
                <a:srgbClr val="00234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맑은 고딕"/>
              </a:rPr>
              <a:t>2013, 3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  <a:ea typeface="맑은 고딕"/>
              </a:rPr>
              <a:t>r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맑은 고딕"/>
              </a:rPr>
              <a:t> JCT3V Meeting, Genev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55680" indent="-271440">
              <a:lnSpc>
                <a:spcPct val="120000"/>
              </a:lnSpc>
              <a:spcBef>
                <a:spcPts val="300"/>
              </a:spcBef>
              <a:buClr>
                <a:srgbClr val="002346"/>
              </a:buClr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  <a:ea typeface="맑은 고딕"/>
              </a:rPr>
              <a:t>JCT3V-C0122 (ETRI &amp; KHU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25440" indent="-342720">
              <a:lnSpc>
                <a:spcPct val="120000"/>
              </a:lnSpc>
              <a:spcBef>
                <a:spcPts val="275"/>
              </a:spcBef>
              <a:buClr>
                <a:srgbClr val="00234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ff"/>
                </a:solidFill>
                <a:latin typeface="Arial"/>
                <a:ea typeface="맑은 고딕"/>
              </a:rPr>
              <a:t>The method of B0073 was implemented for temporal MVP due to the adoption of JCT3V-B0153.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225440" indent="-342720">
              <a:lnSpc>
                <a:spcPct val="120000"/>
              </a:lnSpc>
              <a:spcBef>
                <a:spcPts val="275"/>
              </a:spcBef>
              <a:buClr>
                <a:srgbClr val="00234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ff"/>
                </a:solidFill>
                <a:latin typeface="Arial"/>
                <a:ea typeface="맑은 고딕"/>
              </a:rPr>
              <a:t>Total 0.05% (coded), 0.02% (synthetic). Complexity 99%(encoder), 99%(decoder)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225440" indent="-342720">
              <a:lnSpc>
                <a:spcPct val="120000"/>
              </a:lnSpc>
              <a:spcBef>
                <a:spcPts val="275"/>
              </a:spcBef>
              <a:buClr>
                <a:srgbClr val="00234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ff"/>
                </a:solidFill>
                <a:latin typeface="Arial"/>
                <a:ea typeface="맑은 고딕"/>
              </a:rPr>
              <a:t>Simulation using full resolution depth was performed and the results are similar to the results using half depth resolution.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슬라이드 번호 개체 틀 3"/>
          <p:cNvSpPr/>
          <p:nvPr/>
        </p:nvSpPr>
        <p:spPr>
          <a:xfrm>
            <a:off x="8558280" y="258840"/>
            <a:ext cx="46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9728C-645D-46A9-AB37-3A014846B4FF}" type="slidenum">
              <a:rPr b="0" lang="en-US" sz="14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새굴림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08000" y="620640"/>
            <a:ext cx="70200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헤드라인M"/>
              </a:rPr>
              <a:t>Algorithm description</a:t>
            </a:r>
            <a:endParaRPr b="0" lang="en-US" sz="2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108000" y="1599840"/>
            <a:ext cx="8928000" cy="514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00234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맑은 고딕"/>
              </a:rPr>
              <a:t>Weak Point of current metho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1200" indent="-324000">
              <a:lnSpc>
                <a:spcPct val="120000"/>
              </a:lnSpc>
              <a:spcBef>
                <a:spcPts val="349"/>
              </a:spcBef>
              <a:buClr>
                <a:srgbClr val="00438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맑은 고딕"/>
              </a:rPr>
              <a:t>the number of the required depth sample will be increased by the increment of the number of sub-block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81200" indent="-324000">
              <a:lnSpc>
                <a:spcPct val="120000"/>
              </a:lnSpc>
              <a:spcBef>
                <a:spcPts val="349"/>
              </a:spcBef>
              <a:buClr>
                <a:srgbClr val="00438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맑은 고딕"/>
              </a:rPr>
              <a:t>the number of the accessed depth samples in a 16x16 MB: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55680" indent="-2714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맑은 고딕"/>
              </a:rPr>
              <a:t>1. 16x16 partition : 4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255680" indent="-2714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맑은 고딕"/>
              </a:rPr>
              <a:t>2. 8x8 partitions : 16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255680" indent="-271440">
              <a:lnSpc>
                <a:spcPct val="120000"/>
              </a:lnSpc>
              <a:spcBef>
                <a:spcPts val="3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  <a:ea typeface="맑은 고딕"/>
              </a:rPr>
              <a:t>3. 4x4 partitions : 64 (Worst Case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81200" indent="-324000">
              <a:lnSpc>
                <a:spcPct val="120000"/>
              </a:lnSpc>
              <a:spcBef>
                <a:spcPts val="349"/>
              </a:spcBef>
              <a:buClr>
                <a:srgbClr val="00438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맑은 고딕"/>
              </a:rPr>
              <a:t>In worst case (4x4 partitions), the number of the depth samples to be accessed is increased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55680" indent="-2714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맑은 고딕"/>
              </a:rPr>
              <a:t>It maybe should be solved for 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  <a:ea typeface="맑은 고딕"/>
              </a:rPr>
              <a:t>problem of the memory access bandwidth in worst case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맑은 고딕"/>
              </a:rPr>
              <a:t>.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슬라이드 번호 개체 틀 3"/>
          <p:cNvSpPr/>
          <p:nvPr/>
        </p:nvSpPr>
        <p:spPr>
          <a:xfrm>
            <a:off x="8558280" y="258840"/>
            <a:ext cx="46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8703D-8590-4613-B95C-664F52ADF618}" type="slidenum">
              <a:rPr b="0" lang="en-US" sz="14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새굴림"/>
            </a:endParaRPr>
          </a:p>
        </p:txBody>
      </p:sp>
      <p:graphicFrame>
        <p:nvGraphicFramePr>
          <p:cNvPr id="58" name="Object 8"/>
          <p:cNvGraphicFramePr/>
          <p:nvPr/>
        </p:nvGraphicFramePr>
        <p:xfrm>
          <a:off x="5972040" y="4186080"/>
          <a:ext cx="2129040" cy="2127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72040" y="4186080"/>
                    <a:ext cx="2129040" cy="212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" name="Object 9"/>
          <p:cNvGraphicFramePr/>
          <p:nvPr/>
        </p:nvGraphicFramePr>
        <p:xfrm>
          <a:off x="3484440" y="4186080"/>
          <a:ext cx="2129040" cy="2127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84440" y="4186080"/>
                    <a:ext cx="2129040" cy="212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TextBox 17"/>
          <p:cNvSpPr/>
          <p:nvPr/>
        </p:nvSpPr>
        <p:spPr>
          <a:xfrm>
            <a:off x="4047120" y="6386400"/>
            <a:ext cx="100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8x8 partitions</a:t>
            </a:r>
            <a:endParaRPr b="0" lang="en-US" sz="1000" spc="-1" strike="noStrike">
              <a:solidFill>
                <a:srgbClr val="000000"/>
              </a:solidFill>
              <a:latin typeface="새굴림"/>
            </a:endParaRPr>
          </a:p>
        </p:txBody>
      </p:sp>
      <p:sp>
        <p:nvSpPr>
          <p:cNvPr id="63" name="TextBox 18"/>
          <p:cNvSpPr/>
          <p:nvPr/>
        </p:nvSpPr>
        <p:spPr>
          <a:xfrm>
            <a:off x="5973840" y="6386400"/>
            <a:ext cx="212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4x4 partitions (worst case)</a:t>
            </a:r>
            <a:endParaRPr b="0" lang="en-US" sz="1000" spc="-1" strike="noStrike">
              <a:solidFill>
                <a:srgbClr val="000000"/>
              </a:solidFill>
              <a:latin typeface="새굴림"/>
            </a:endParaRPr>
          </a:p>
        </p:txBody>
      </p:sp>
      <p:graphicFrame>
        <p:nvGraphicFramePr>
          <p:cNvPr id="64" name="Object 10"/>
          <p:cNvGraphicFramePr/>
          <p:nvPr/>
        </p:nvGraphicFramePr>
        <p:xfrm>
          <a:off x="1036800" y="4186080"/>
          <a:ext cx="2127240" cy="2129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5" name="Object 1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36800" y="4186080"/>
                    <a:ext cx="2127240" cy="212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TextBox 20"/>
          <p:cNvSpPr/>
          <p:nvPr/>
        </p:nvSpPr>
        <p:spPr>
          <a:xfrm>
            <a:off x="1564920" y="6386400"/>
            <a:ext cx="1073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6x16 partition</a:t>
            </a:r>
            <a:endParaRPr b="0" lang="en-US" sz="1000" spc="-1" strike="noStrike">
              <a:solidFill>
                <a:srgbClr val="000000"/>
              </a:solidFill>
              <a:latin typeface="새굴림"/>
            </a:endParaRPr>
          </a:p>
        </p:txBody>
      </p:sp>
      <p:sp>
        <p:nvSpPr>
          <p:cNvPr id="67" name="TextBox 10"/>
          <p:cNvSpPr/>
          <p:nvPr/>
        </p:nvSpPr>
        <p:spPr>
          <a:xfrm>
            <a:off x="1933560" y="6599160"/>
            <a:ext cx="5230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e number of the depth samples to be accessed </a:t>
            </a:r>
            <a:r>
              <a:rPr b="1" lang="en-US" sz="1100" spc="-1" strike="noStrike">
                <a:solidFill>
                  <a:srgbClr val="ff0000"/>
                </a:solidFill>
                <a:latin typeface="Arial"/>
              </a:rPr>
              <a:t>in a 16x16 MB</a:t>
            </a:r>
            <a:endParaRPr b="0" lang="en-US" sz="1100" spc="-1" strike="noStrike">
              <a:solidFill>
                <a:srgbClr val="000000"/>
              </a:solidFill>
              <a:latin typeface="새굴림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08000" y="620640"/>
            <a:ext cx="70200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헤드라인M"/>
              </a:rPr>
              <a:t>Algorithm description</a:t>
            </a:r>
            <a:endParaRPr b="0" lang="en-US" sz="2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108000" y="1599840"/>
            <a:ext cx="8928000" cy="514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00234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맑은 고딕"/>
              </a:rPr>
              <a:t>Simplification on the disparity vector deriv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1200" indent="-324000">
              <a:lnSpc>
                <a:spcPct val="120000"/>
              </a:lnSpc>
              <a:spcBef>
                <a:spcPts val="349"/>
              </a:spcBef>
              <a:buClr>
                <a:srgbClr val="00438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맑은 고딕"/>
              </a:rPr>
              <a:t>In the last meeting, a simplified disparity vector derivation method was proposed by ETRI and KHU to reduce the memory access bandwidth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맑은 고딕"/>
              </a:rPr>
              <a:t>using only one depth sample in a 16x16 MB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맑은 고딕"/>
              </a:rPr>
              <a:t>.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81200" indent="-324000">
              <a:lnSpc>
                <a:spcPct val="120000"/>
              </a:lnSpc>
              <a:spcBef>
                <a:spcPts val="349"/>
              </a:spcBef>
              <a:buClr>
                <a:srgbClr val="00438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맑은 고딕"/>
              </a:rPr>
              <a:t>All the partitions inside a 16x16 MB take only one depth sample(bottom-right) for deriving the disparity vector. Thus,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맑은 고딕"/>
              </a:rPr>
              <a:t>memory access bandwidth can be sav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맑은 고딕"/>
              </a:rPr>
              <a:t>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슬라이드 번호 개체 틀 3"/>
          <p:cNvSpPr/>
          <p:nvPr/>
        </p:nvSpPr>
        <p:spPr>
          <a:xfrm>
            <a:off x="8558280" y="258840"/>
            <a:ext cx="46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C221D-37BD-447A-8B02-EA0869F40965}" type="slidenum">
              <a:rPr b="0" lang="en-US" sz="14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새굴림"/>
            </a:endParaRPr>
          </a:p>
        </p:txBody>
      </p:sp>
      <p:sp>
        <p:nvSpPr>
          <p:cNvPr id="71" name="TextBox 16"/>
          <p:cNvSpPr/>
          <p:nvPr/>
        </p:nvSpPr>
        <p:spPr>
          <a:xfrm>
            <a:off x="1646280" y="5805360"/>
            <a:ext cx="5878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erivation of the depth value in case a 16x16 MB is partitioned into 4x4 partitions</a:t>
            </a:r>
            <a:endParaRPr b="0" lang="en-US" sz="1100" spc="-1" strike="noStrike">
              <a:solidFill>
                <a:srgbClr val="000000"/>
              </a:solidFill>
              <a:latin typeface="새굴림"/>
            </a:endParaRPr>
          </a:p>
        </p:txBody>
      </p:sp>
      <p:pic>
        <p:nvPicPr>
          <p:cNvPr id="72" name="그림 14" descr=""/>
          <p:cNvPicPr/>
          <p:nvPr/>
        </p:nvPicPr>
        <p:blipFill>
          <a:blip r:embed="rId1"/>
          <a:stretch/>
        </p:blipFill>
        <p:spPr>
          <a:xfrm>
            <a:off x="5021280" y="4010040"/>
            <a:ext cx="1665360" cy="1650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3" name="개체 1"/>
          <p:cNvGraphicFramePr/>
          <p:nvPr/>
        </p:nvGraphicFramePr>
        <p:xfrm>
          <a:off x="2293920" y="4010040"/>
          <a:ext cx="1652760" cy="1650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4" name="개체 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93920" y="4010040"/>
                    <a:ext cx="1652760" cy="165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오른쪽 화살표 2"/>
          <p:cNvSpPr/>
          <p:nvPr/>
        </p:nvSpPr>
        <p:spPr>
          <a:xfrm>
            <a:off x="4189320" y="4724280"/>
            <a:ext cx="576360" cy="289080"/>
          </a:xfrm>
          <a:prstGeom prst="rightArrow">
            <a:avLst>
              <a:gd name="adj1" fmla="val 50000"/>
              <a:gd name="adj2" fmla="val 49844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새굴림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08000" y="620640"/>
            <a:ext cx="70200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</a:rPr>
              <a:t>Implementation for Temporal MVP(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맑은 고딕"/>
              </a:rPr>
              <a:t>JCT3V-B0153 : Samsung)</a:t>
            </a:r>
            <a:endParaRPr b="0" lang="en-US" sz="20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108000" y="1599840"/>
            <a:ext cx="8928000" cy="514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81200" indent="-324000">
              <a:lnSpc>
                <a:spcPct val="120000"/>
              </a:lnSpc>
              <a:spcBef>
                <a:spcPts val="349"/>
              </a:spcBef>
              <a:buClr>
                <a:srgbClr val="00438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맑은 고딕"/>
              </a:rPr>
              <a:t>An additional modification is required because the proposal JCT3V-B0153 from Samsung Electronics Co. Ltd was adopted at the last meeting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슬라이드 번호 개체 틀 3"/>
          <p:cNvSpPr/>
          <p:nvPr/>
        </p:nvSpPr>
        <p:spPr>
          <a:xfrm>
            <a:off x="8558280" y="258840"/>
            <a:ext cx="46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E63F3-386A-41B4-891B-2BEE475FDA75}" type="slidenum">
              <a:rPr b="0" lang="en-US" sz="14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새굴림"/>
            </a:endParaRPr>
          </a:p>
        </p:txBody>
      </p:sp>
      <p:pic>
        <p:nvPicPr>
          <p:cNvPr id="79" name="Picture 2" descr=""/>
          <p:cNvPicPr/>
          <p:nvPr/>
        </p:nvPicPr>
        <p:blipFill>
          <a:blip r:embed="rId1"/>
          <a:stretch/>
        </p:blipFill>
        <p:spPr>
          <a:xfrm>
            <a:off x="179280" y="2984400"/>
            <a:ext cx="4805640" cy="3108600"/>
          </a:xfrm>
          <a:prstGeom prst="rect">
            <a:avLst/>
          </a:prstGeom>
          <a:ln w="0">
            <a:noFill/>
          </a:ln>
        </p:spPr>
      </p:pic>
      <p:sp>
        <p:nvSpPr>
          <p:cNvPr id="80" name="TextBox 17"/>
          <p:cNvSpPr/>
          <p:nvPr/>
        </p:nvSpPr>
        <p:spPr>
          <a:xfrm>
            <a:off x="1547640" y="6308640"/>
            <a:ext cx="2808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emporal motion vector prediction</a:t>
            </a:r>
            <a:endParaRPr b="0" lang="en-US" sz="1100" spc="-1" strike="noStrike">
              <a:solidFill>
                <a:srgbClr val="000000"/>
              </a:solidFill>
              <a:latin typeface="새굴림"/>
            </a:endParaRPr>
          </a:p>
        </p:txBody>
      </p:sp>
      <p:sp>
        <p:nvSpPr>
          <p:cNvPr id="81" name="TextBox 1"/>
          <p:cNvSpPr/>
          <p:nvPr/>
        </p:nvSpPr>
        <p:spPr>
          <a:xfrm>
            <a:off x="5076720" y="3198960"/>
            <a:ext cx="4103640" cy="26514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When the temporal motion vector is unavailable in the neighboring block A, B, or C, inter-view motion vector is employed for the unavailable blocks instead of the zero vector. </a:t>
            </a:r>
            <a:endParaRPr b="0" lang="en-US" sz="1400" spc="-1" strike="noStrike">
              <a:solidFill>
                <a:srgbClr val="000000"/>
              </a:solidFill>
              <a:latin typeface="새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새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A max disparity which is associated with Current block(Cb) is used for the inter-view motion vector derivation. </a:t>
            </a:r>
            <a:endParaRPr b="0" lang="en-US" sz="1400" spc="-1" strike="noStrike">
              <a:solidFill>
                <a:srgbClr val="000000"/>
              </a:solidFill>
              <a:latin typeface="새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새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The max disparity can be calculated from a max depth value among four corner depth samples.</a:t>
            </a:r>
            <a:endParaRPr b="0" lang="en-US" sz="1400" spc="-1" strike="noStrike">
              <a:solidFill>
                <a:srgbClr val="000000"/>
              </a:solidFill>
              <a:latin typeface="새굴림"/>
            </a:endParaRPr>
          </a:p>
        </p:txBody>
      </p:sp>
      <p:sp>
        <p:nvSpPr>
          <p:cNvPr id="82" name="TextBox 18"/>
          <p:cNvSpPr/>
          <p:nvPr/>
        </p:nvSpPr>
        <p:spPr>
          <a:xfrm>
            <a:off x="5724360" y="5732640"/>
            <a:ext cx="2808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ethod of JCT3V-B0153</a:t>
            </a:r>
            <a:endParaRPr b="0" lang="en-US" sz="1100" spc="-1" strike="noStrike">
              <a:solidFill>
                <a:srgbClr val="000000"/>
              </a:solidFill>
              <a:latin typeface="새굴림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08000" y="620640"/>
            <a:ext cx="70200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</a:rPr>
              <a:t>Implementation for Temporal MVP</a:t>
            </a:r>
            <a:endParaRPr b="0" lang="en-US" sz="20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108000" y="1599840"/>
            <a:ext cx="8928000" cy="514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81200" indent="-324000">
              <a:lnSpc>
                <a:spcPct val="120000"/>
              </a:lnSpc>
              <a:spcBef>
                <a:spcPts val="349"/>
              </a:spcBef>
              <a:buClr>
                <a:srgbClr val="00438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맑은 고딕"/>
              </a:rPr>
              <a:t>The disparity vector derivation of both temporal and inter-view motion vector prediction is identical in processing. So,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맑은 고딕"/>
              </a:rPr>
              <a:t>temporal motion vector prediction has also same problem associated with memory access bandwidth.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81200" indent="-324000">
              <a:lnSpc>
                <a:spcPct val="120000"/>
              </a:lnSpc>
              <a:spcBef>
                <a:spcPts val="349"/>
              </a:spcBef>
              <a:buClr>
                <a:srgbClr val="00438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맑은 고딕"/>
              </a:rPr>
              <a:t>Therefore, the proposed method was implemented for the disparity vector derivation of the inter-view motion vector prediction and the temporal motion vector prediction, respectively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81200" indent="-324000">
              <a:lnSpc>
                <a:spcPct val="120000"/>
              </a:lnSpc>
              <a:spcBef>
                <a:spcPts val="349"/>
              </a:spcBef>
              <a:buClr>
                <a:srgbClr val="00438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슬라이드 번호 개체 틀 3"/>
          <p:cNvSpPr/>
          <p:nvPr/>
        </p:nvSpPr>
        <p:spPr>
          <a:xfrm>
            <a:off x="8558280" y="258840"/>
            <a:ext cx="46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A41A4-6C07-44E7-98ED-2F4BB2736F51}" type="slidenum">
              <a:rPr b="0" lang="en-US" sz="14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새굴림"/>
            </a:endParaRPr>
          </a:p>
        </p:txBody>
      </p:sp>
      <p:pic>
        <p:nvPicPr>
          <p:cNvPr id="86" name="Picture 2" descr=""/>
          <p:cNvPicPr/>
          <p:nvPr/>
        </p:nvPicPr>
        <p:blipFill>
          <a:blip r:embed="rId1"/>
          <a:stretch/>
        </p:blipFill>
        <p:spPr>
          <a:xfrm>
            <a:off x="2071800" y="3213000"/>
            <a:ext cx="4803840" cy="3108600"/>
          </a:xfrm>
          <a:prstGeom prst="rect">
            <a:avLst/>
          </a:prstGeom>
          <a:ln w="0">
            <a:noFill/>
          </a:ln>
        </p:spPr>
      </p:pic>
      <p:sp>
        <p:nvSpPr>
          <p:cNvPr id="87" name="TextBox 10"/>
          <p:cNvSpPr/>
          <p:nvPr/>
        </p:nvSpPr>
        <p:spPr>
          <a:xfrm>
            <a:off x="3079800" y="6407280"/>
            <a:ext cx="2808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emporal motion vector prediction</a:t>
            </a:r>
            <a:endParaRPr b="0" lang="en-US" sz="1100" spc="-1" strike="noStrike">
              <a:solidFill>
                <a:srgbClr val="000000"/>
              </a:solidFill>
              <a:latin typeface="새굴림"/>
            </a:endParaRPr>
          </a:p>
        </p:txBody>
      </p:sp>
      <p:sp>
        <p:nvSpPr>
          <p:cNvPr id="88" name="직사각형 11"/>
          <p:cNvSpPr/>
          <p:nvPr/>
        </p:nvSpPr>
        <p:spPr>
          <a:xfrm>
            <a:off x="5508720" y="3860640"/>
            <a:ext cx="1366920" cy="505080"/>
          </a:xfrm>
          <a:prstGeom prst="rect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isparity derived from bottom-right depth sample of current MB</a:t>
            </a:r>
            <a:endParaRPr b="0" lang="en-US" sz="900" spc="-1" strike="noStrike">
              <a:solidFill>
                <a:srgbClr val="000000"/>
              </a:solidFill>
              <a:latin typeface="새굴림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908000" y="620640"/>
            <a:ext cx="70200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헤드라인M"/>
              </a:rPr>
              <a:t>Reasonability of C0122</a:t>
            </a:r>
            <a:endParaRPr b="0" lang="en-US" sz="2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108000" y="1599840"/>
            <a:ext cx="8928000" cy="514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00234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맑은 고딕"/>
              </a:rPr>
              <a:t>Memory access bandwidth reduction (in worst case,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  <a:ea typeface="맑은 고딕"/>
              </a:rPr>
              <a:t>from 64 to 1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맑은 고딕"/>
              </a:rPr>
              <a:t>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1200" indent="-324000">
              <a:lnSpc>
                <a:spcPct val="120000"/>
              </a:lnSpc>
              <a:spcBef>
                <a:spcPts val="349"/>
              </a:spcBef>
              <a:buClr>
                <a:srgbClr val="00438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맑은 고딕"/>
              </a:rPr>
              <a:t>significantly reduce the number of the depth samples to be accesse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00234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맑은 고딕"/>
              </a:rPr>
              <a:t>Remove the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  <a:ea typeface="맑은 고딕"/>
              </a:rPr>
              <a:t>search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맑은 고딕"/>
              </a:rPr>
              <a:t> operation of the depth samples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  <a:ea typeface="맑은 고딕"/>
              </a:rPr>
              <a:t>according to the size of parti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00234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맑은 고딕"/>
              </a:rPr>
              <a:t>Remove the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  <a:ea typeface="맑은 고딕"/>
              </a:rPr>
              <a:t>comparis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맑은 고딕"/>
              </a:rPr>
              <a:t> operation of the depth samp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00234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맑은 고딕"/>
              </a:rPr>
              <a:t>Complexity reduction for encoding (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  <a:ea typeface="맑은 고딕"/>
              </a:rPr>
              <a:t>avg. 99%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맑은 고딕"/>
              </a:rPr>
              <a:t>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슬라이드 번호 개체 틀 3"/>
          <p:cNvSpPr/>
          <p:nvPr/>
        </p:nvSpPr>
        <p:spPr>
          <a:xfrm>
            <a:off x="8558280" y="258840"/>
            <a:ext cx="46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474F3-CD5A-408B-9FA5-49150E6E0B5F}" type="slidenum">
              <a:rPr b="0" lang="en-US" sz="14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새굴림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908000" y="620640"/>
            <a:ext cx="70200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헤드라인M"/>
              </a:rPr>
              <a:t>WD Text modification</a:t>
            </a:r>
            <a:endParaRPr b="0" lang="en-US" sz="2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108000" y="1599840"/>
            <a:ext cx="8928000" cy="514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81200" indent="-324000">
              <a:lnSpc>
                <a:spcPct val="120000"/>
              </a:lnSpc>
              <a:spcBef>
                <a:spcPts val="349"/>
              </a:spcBef>
              <a:buClr>
                <a:srgbClr val="00438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맑은 고딕"/>
              </a:rPr>
              <a:t>JCT3V-B1002, 3D-AVC Draft Text 4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81200" indent="-324000">
              <a:lnSpc>
                <a:spcPct val="120000"/>
              </a:lnSpc>
              <a:spcBef>
                <a:spcPts val="349"/>
              </a:spcBef>
              <a:buClr>
                <a:srgbClr val="00438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맑은 고딕"/>
              </a:rPr>
              <a:t>Anchor: </a:t>
            </a:r>
            <a:r>
              <a:rPr b="1" lang="en-US" sz="1400" spc="-1" strike="noStrike">
                <a:solidFill>
                  <a:srgbClr val="00b0f0"/>
                </a:solidFill>
                <a:latin typeface="Arial"/>
                <a:ea typeface="맑은 고딕"/>
              </a:rPr>
              <a:t>cyan marked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맑은 고딕"/>
              </a:rPr>
              <a:t>Proposed method:</a:t>
            </a:r>
            <a:r>
              <a:rPr b="1" lang="en-US" sz="1400" spc="-1" strike="noStrike">
                <a:solidFill>
                  <a:srgbClr val="ffff00"/>
                </a:solidFill>
                <a:latin typeface="Arial"/>
                <a:ea typeface="맑은 고딕"/>
              </a:rPr>
              <a:t> yellow marke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슬라이드 번호 개체 틀 3"/>
          <p:cNvSpPr/>
          <p:nvPr/>
        </p:nvSpPr>
        <p:spPr>
          <a:xfrm>
            <a:off x="8558280" y="258840"/>
            <a:ext cx="46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62F71-9B6A-4A1D-8013-86180CE4F671}" type="slidenum">
              <a:rPr b="0" lang="en-US" sz="14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새굴림"/>
            </a:endParaRPr>
          </a:p>
        </p:txBody>
      </p:sp>
      <p:graphicFrame>
        <p:nvGraphicFramePr>
          <p:cNvPr id="95" name="개체 5"/>
          <p:cNvGraphicFramePr/>
          <p:nvPr/>
        </p:nvGraphicFramePr>
        <p:xfrm>
          <a:off x="598320" y="2708280"/>
          <a:ext cx="4189680" cy="366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개체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8320" y="2708280"/>
                    <a:ext cx="4189680" cy="366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7" name="개체 6"/>
          <p:cNvGraphicFramePr/>
          <p:nvPr/>
        </p:nvGraphicFramePr>
        <p:xfrm>
          <a:off x="4788000" y="2708280"/>
          <a:ext cx="3962160" cy="2881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8" name="개체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88000" y="2708280"/>
                    <a:ext cx="3962160" cy="28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9" name="개체 7"/>
          <p:cNvGraphicFramePr/>
          <p:nvPr/>
        </p:nvGraphicFramePr>
        <p:xfrm>
          <a:off x="600120" y="2205000"/>
          <a:ext cx="7859520" cy="360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0" name="개체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00120" y="2205000"/>
                    <a:ext cx="785952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직선 연결선 9"/>
          <p:cNvSpPr/>
          <p:nvPr/>
        </p:nvSpPr>
        <p:spPr>
          <a:xfrm>
            <a:off x="4859280" y="2781360"/>
            <a:ext cx="0" cy="38163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새굴림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08000" y="620640"/>
            <a:ext cx="70200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헤드라인M"/>
              </a:rPr>
              <a:t>WD Text modification</a:t>
            </a:r>
            <a:endParaRPr b="0" lang="en-US" sz="2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103" name="슬라이드 번호 개체 틀 3"/>
          <p:cNvSpPr/>
          <p:nvPr/>
        </p:nvSpPr>
        <p:spPr>
          <a:xfrm>
            <a:off x="8558280" y="258840"/>
            <a:ext cx="46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3EF15-7B9E-4197-A3CD-67CE3282E7A8}" type="slidenum">
              <a:rPr b="0" lang="en-US" sz="14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새굴림"/>
            </a:endParaRPr>
          </a:p>
        </p:txBody>
      </p:sp>
      <p:graphicFrame>
        <p:nvGraphicFramePr>
          <p:cNvPr id="104" name="개체 2"/>
          <p:cNvGraphicFramePr/>
          <p:nvPr/>
        </p:nvGraphicFramePr>
        <p:xfrm>
          <a:off x="1042920" y="1700280"/>
          <a:ext cx="7891560" cy="34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개체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1700280"/>
                    <a:ext cx="789156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" name="개체 4"/>
          <p:cNvGraphicFramePr/>
          <p:nvPr/>
        </p:nvGraphicFramePr>
        <p:xfrm>
          <a:off x="250920" y="2205000"/>
          <a:ext cx="3979800" cy="3167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7" name="개체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0920" y="2205000"/>
                    <a:ext cx="3979800" cy="31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8" name="개체 7"/>
          <p:cNvGraphicFramePr/>
          <p:nvPr/>
        </p:nvGraphicFramePr>
        <p:xfrm>
          <a:off x="4327560" y="2205000"/>
          <a:ext cx="4626000" cy="4476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9" name="개체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327560" y="2205000"/>
                    <a:ext cx="4626000" cy="447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직선 연결선 10"/>
          <p:cNvSpPr/>
          <p:nvPr/>
        </p:nvSpPr>
        <p:spPr>
          <a:xfrm>
            <a:off x="4253040" y="2276640"/>
            <a:ext cx="0" cy="43923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새굴림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0T04:49:42Z</dcterms:created>
  <dc:creator>이정헌</dc:creator>
  <dc:description/>
  <dc:language>en-US</dc:language>
  <cp:lastModifiedBy>kimky</cp:lastModifiedBy>
  <dcterms:modified xsi:type="dcterms:W3CDTF">2013-01-19T10:37:05Z</dcterms:modified>
  <cp:revision>2517</cp:revision>
  <dc:subject/>
  <dc:title>슬라이드 1</dc:title>
</cp:coreProperties>
</file>