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08A-580F-4201-BAC5-6CE9FC1C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613-2792-4CCD-AB37-22F87E16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B16-F5A2-466C-811A-5C19CCE2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592-106A-4454-9E87-CD4F1724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CA1-D30A-4296-B0C0-E50D594C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CCD-73DD-475B-B892-4266F34D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2EA-94F8-4531-875B-72CAFC34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CBF-B07C-41A2-AC55-E0B3F6B7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7F1-5205-4DB2-8397-FD37190A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6F7-BB80-4596-9D57-58C8214E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E19-465D-43D5-BA30-2A9328EB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849-E3D2-4137-A9FE-6350938A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AC05-8EA0-4537-945B-EA9FE2E92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0000"/>
                </a:solidFill>
                <a:latin typeface="Arial"/>
              </a:rPr>
              <a:t>3D-CE1.a and CE2.a related: synthesized disparity vectors for BVSP and DMVP</a:t>
            </a:r>
            <a:r>
              <a:rPr b="0" lang="en-CA" sz="3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CA" sz="3800" spc="-1" strike="noStrike">
                <a:solidFill>
                  <a:srgbClr val="0000ff"/>
                </a:solidFill>
                <a:latin typeface="Arial"/>
              </a:rPr>
              <a:t>JCT3V-C0114</a:t>
            </a:r>
            <a:r>
              <a:rPr b="0" lang="en-CA" sz="3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in Zhao, Yichen Zhang, Lu Y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Zhejiang Uni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ing Performance on ATM 6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684360" y="2349360"/>
          <a:ext cx="7632720" cy="31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7632720" cy="31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6"/>
          <p:cNvSpPr/>
          <p:nvPr/>
        </p:nvSpPr>
        <p:spPr>
          <a:xfrm>
            <a:off x="6119640" y="5516640"/>
            <a:ext cx="30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3.60% decodi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cluding the complexity of DV derivation method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enefits from a high-efficiency TF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More flexible coding order lead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&gt; more room for encoding optimization (such as depth RD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&gt; better support for more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TFCO supports unpaired MVD more efficien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&gt; Unpaired MVD data were commonly agreed as important application scenarios in 2nd JCT-3V mee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&gt; For unpaired MVD, DMVP and BVSP with the proposed DV derivation achieves about -45% coding gain for the dependent-view texture co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TFCO leads to less decoding complexity if only N-view texture is needed at a decoder (e.g., when no need for baseline adaptatio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&gt; the decoder can skip decoding of the bits for the dependent-view depth in TFCO bit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) TFCO and DFCO with a similar performance makes ATM more suitable for integrating and testing texture-aided depth coding tools (e.g., IVM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ternative DV derivation method is proposed to support DMVP and BVSP in TFCO (and the core modules of DMVP and BVSP are not touch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posed method makes up the large performance gap between TFCO and DFCO in ATM 6.0, at the cost of a low-complexity DV synthesis process (and a little change to WD on decoding proces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posed method enhances the functionality and potential applications of 3D-AV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recommend to adopt the method into ATM and 3D-AVC as a complementary method to the current DV deriv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ncludes my presentation, and we thank NTT (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018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ZTE (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02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for the cross-che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TM, two coding tools, DMVP and BVSP, use disparity vectors derived based on dependent-view dep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ternative disparity vector (DV) derivation is proposed for enabling BVSP and DMVP in texture-first coding order (TFC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proposed DV derivation method, the TFCO now performs as well as the depth-first coding order in C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1692360" y="4076640"/>
          <a:ext cx="561636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076640"/>
                    <a:ext cx="561636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6"/>
          <p:cNvSpPr/>
          <p:nvPr/>
        </p:nvSpPr>
        <p:spPr>
          <a:xfrm>
            <a:off x="2558160" y="6375240"/>
            <a:ext cx="40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-rate: synthesis PSNR vs. total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 derivation in ATM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ased on dependent-view dep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DV der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ased on reference-view dep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ze 4x4-block-based DVs, called a DV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SP: get a DV for each 4x4 block from the DV field, i.e., using 4x4-block-based D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VP: derive the DV for a target block (MxN) using the maximum DVs of the four corner 4x4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s illustrated in the next 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5292720" y="1413000"/>
          <a:ext cx="374184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413000"/>
                    <a:ext cx="374184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 for a target block (in DM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1692360" y="2349360"/>
          <a:ext cx="56163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49360"/>
                    <a:ext cx="56163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 of the DV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ain 4x4-based DV field of the reference view from its dep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p the reference DV field to the current/target 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s the spirit of one-loop warping and hole filling, and directional warping without z-buf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is of much lower complexity than texture war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611280" y="3343320"/>
          <a:ext cx="8062920" cy="35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43320"/>
                    <a:ext cx="806292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35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ethod in TFCO vs. ATM6.0 CTC anc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7% BD-rate for texture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Depth coding (-3.48%), due to applying IVMP at two dependent views, and more precise synthesis distortion calculation in depth 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performance slightly better than CTC anchor; largest gain (-1%) observed on synthetic sequences (S03_Dancer and S04_GTf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49" descr=""/>
          <p:cNvPicPr/>
          <p:nvPr/>
        </p:nvPicPr>
        <p:blipFill>
          <a:blip r:embed="rId1"/>
          <a:stretch/>
        </p:blipFill>
        <p:spPr>
          <a:xfrm>
            <a:off x="755640" y="3598920"/>
            <a:ext cx="7947000" cy="3058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6792840" y="659772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2.10% in cross-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ethod in DFCO vs. ATM6.0 anchor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inform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ure coding gain achieved in 5/7 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ght coding lo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55640" y="3598920"/>
            <a:ext cx="7996320" cy="305892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6786360" y="659772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1.11% in cross-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6.0 in TFCO (with DMVP and VSP off) vs. ATM 6.0 CTC anchor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inform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9.2% coding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755640" y="3598920"/>
            <a:ext cx="788184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128520" y="2349360"/>
          <a:ext cx="5616720" cy="23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2349360"/>
                    <a:ext cx="5616720" cy="23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588000" y="1600200"/>
          <a:ext cx="2170080" cy="2575080"/>
        </p:xfrm>
        <a:graphic>
          <a:graphicData uri="http://schemas.openxmlformats.org/drawingml/2006/table">
            <a:tbl>
              <a:tblPr/>
              <a:tblGrid>
                <a:gridCol w="938160"/>
                <a:gridCol w="1231920"/>
              </a:tblGrid>
              <a:tr h="246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ft-dependent-view Texture Co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54.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31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44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57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44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52.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31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45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79" name="Text Box 7"/>
          <p:cNvSpPr/>
          <p:nvPr/>
        </p:nvSpPr>
        <p:spPr>
          <a:xfrm>
            <a:off x="346320" y="836640"/>
            <a:ext cx="4688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coding perform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D-rate: synthesis PSNR vs. total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940200" y="184464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.83% encod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1.97% decod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940200" y="468000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.04% encod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3.48% decod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1480" y="4680000"/>
            <a:ext cx="194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8.78% encod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.16% decod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588000" y="4170240"/>
          <a:ext cx="2170080" cy="2575080"/>
        </p:xfrm>
        <a:graphic>
          <a:graphicData uri="http://schemas.openxmlformats.org/drawingml/2006/table">
            <a:tbl>
              <a:tblPr/>
              <a:tblGrid>
                <a:gridCol w="938160"/>
                <a:gridCol w="1231920"/>
              </a:tblGrid>
              <a:tr h="246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ight-dependent-view Texture Co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53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32.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45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58.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42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49.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29.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44.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248"/>
          <p:cNvSpPr/>
          <p:nvPr/>
        </p:nvSpPr>
        <p:spPr>
          <a:xfrm>
            <a:off x="3287160" y="5229360"/>
            <a:ext cx="266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rge the coding perform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etween TFCO and DF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9"/>
          <p:cNvSpPr/>
          <p:nvPr/>
        </p:nvSpPr>
        <p:spPr>
          <a:xfrm>
            <a:off x="6082200" y="836640"/>
            <a:ext cx="308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 in TFCO with BVSP and DMV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 in TFCO w/o BVSP and DMV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50"/>
          <p:cNvSpPr/>
          <p:nvPr/>
        </p:nvSpPr>
        <p:spPr>
          <a:xfrm>
            <a:off x="6012000" y="260280"/>
            <a:ext cx="0" cy="659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接箭头连接符 13"/>
          <p:cNvCxnSpPr/>
          <p:nvPr/>
        </p:nvCxnSpPr>
        <p:spPr>
          <a:xfrm flipH="1" flipV="1">
            <a:off x="2195280" y="4365360"/>
            <a:ext cx="12974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88" name="直接连接符 16"/>
          <p:cNvSpPr/>
          <p:nvPr/>
        </p:nvSpPr>
        <p:spPr>
          <a:xfrm>
            <a:off x="2843280" y="4365720"/>
            <a:ext cx="0" cy="1628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8"/>
          <p:cNvSpPr/>
          <p:nvPr/>
        </p:nvSpPr>
        <p:spPr>
          <a:xfrm>
            <a:off x="2843280" y="6021360"/>
            <a:ext cx="36003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0"/>
          <p:cNvGrpSpPr/>
          <p:nvPr/>
        </p:nvGrpSpPr>
        <p:grpSpPr>
          <a:xfrm>
            <a:off x="6085080" y="2060640"/>
            <a:ext cx="572040" cy="2159640"/>
            <a:chOff x="6085080" y="2060640"/>
            <a:chExt cx="572040" cy="2159640"/>
          </a:xfrm>
        </p:grpSpPr>
        <p:sp>
          <p:nvSpPr>
            <p:cNvPr id="91" name="TextBox 14"/>
            <p:cNvSpPr/>
            <p:nvPr/>
          </p:nvSpPr>
          <p:spPr>
            <a:xfrm>
              <a:off x="6159240" y="20606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15"/>
            <p:cNvSpPr/>
            <p:nvPr/>
          </p:nvSpPr>
          <p:spPr>
            <a:xfrm>
              <a:off x="6159240" y="36450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7"/>
            <p:cNvSpPr/>
            <p:nvPr/>
          </p:nvSpPr>
          <p:spPr>
            <a:xfrm>
              <a:off x="6085080" y="3913200"/>
              <a:ext cx="53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v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9"/>
            <p:cNvSpPr/>
            <p:nvPr/>
          </p:nvSpPr>
          <p:spPr>
            <a:xfrm>
              <a:off x="6229800" y="2636640"/>
              <a:ext cx="231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21"/>
          <p:cNvGrpSpPr/>
          <p:nvPr/>
        </p:nvGrpSpPr>
        <p:grpSpPr>
          <a:xfrm>
            <a:off x="6085080" y="4653000"/>
            <a:ext cx="572040" cy="2160000"/>
            <a:chOff x="6085080" y="4653000"/>
            <a:chExt cx="572040" cy="2160000"/>
          </a:xfrm>
        </p:grpSpPr>
        <p:sp>
          <p:nvSpPr>
            <p:cNvPr id="96" name="TextBox 22"/>
            <p:cNvSpPr/>
            <p:nvPr/>
          </p:nvSpPr>
          <p:spPr>
            <a:xfrm>
              <a:off x="6159240" y="46530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23"/>
            <p:cNvSpPr/>
            <p:nvPr/>
          </p:nvSpPr>
          <p:spPr>
            <a:xfrm>
              <a:off x="6159240" y="623772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24"/>
            <p:cNvSpPr/>
            <p:nvPr/>
          </p:nvSpPr>
          <p:spPr>
            <a:xfrm>
              <a:off x="6085080" y="6505920"/>
              <a:ext cx="53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v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5"/>
            <p:cNvSpPr/>
            <p:nvPr/>
          </p:nvSpPr>
          <p:spPr>
            <a:xfrm>
              <a:off x="6229800" y="5229000"/>
              <a:ext cx="231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3:03:44Z</dcterms:created>
  <dc:creator>Yin Zhao</dc:creator>
  <dc:description/>
  <dc:language>en-US</dc:language>
  <cp:lastModifiedBy>lvpeng</cp:lastModifiedBy>
  <dcterms:modified xsi:type="dcterms:W3CDTF">2013-01-17T18:05:37Z</dcterms:modified>
  <cp:revision>99</cp:revision>
  <dc:subject/>
  <dc:title>3D-CE1.a and CE2.a related: synthesized disparity vectors for BVSP and DMVP </dc:title>
</cp:coreProperties>
</file>