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36817-2F13-4A8A-8C95-E1F9ACF88AE5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FEC39-FBDE-4AC9-B309-5F27F7CC8DD9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4C233-6A9F-49AA-A86A-C8261EEF2AEE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9EDFA-317D-495E-AF88-0B4ACA8ECE99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4A188-8E2C-42FF-B35E-16E335D0B521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A2FBD-749C-4466-B4A6-A14A983F3050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A2FA3-497F-4043-B92C-E3BB4E7BD66F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5C4C7-9CFB-49E9-A86F-0A4A6C94DFEF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2"/>
          <p:cNvSpPr/>
          <p:nvPr/>
        </p:nvSpPr>
        <p:spPr>
          <a:xfrm>
            <a:off x="4215960" y="6586560"/>
            <a:ext cx="884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2120" bIns="4212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888F7-223B-4B3C-984D-C61534089D70}" type="slidenum">
              <a:rPr b="1" lang="en-US" sz="1100" spc="-1" strike="noStrike">
                <a:solidFill>
                  <a:srgbClr val="006699"/>
                </a:solidFill>
                <a:latin typeface="굴림"/>
                <a:ea typeface="HY견고딕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산돌고딕B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2" descr="D:\2009 CI\1. LOGO 모음\기술원영문로고\기술원1.jpg"/>
          <p:cNvPicPr/>
          <p:nvPr/>
        </p:nvPicPr>
        <p:blipFill>
          <a:blip r:embed="rId3"/>
          <a:stretch/>
        </p:blipFill>
        <p:spPr>
          <a:xfrm>
            <a:off x="6622920" y="272880"/>
            <a:ext cx="2341800" cy="355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D:\2009 CI\1. LOGO 모음\기술원영문로고\기술원1.jpg"/>
          <p:cNvPicPr/>
          <p:nvPr/>
        </p:nvPicPr>
        <p:blipFill>
          <a:blip r:embed="rId3"/>
          <a:stretch/>
        </p:blipFill>
        <p:spPr>
          <a:xfrm>
            <a:off x="6622920" y="272880"/>
            <a:ext cx="2341800" cy="355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5"/>
          <p:cNvSpPr txBox="1"/>
          <p:nvPr/>
        </p:nvSpPr>
        <p:spPr>
          <a:xfrm>
            <a:off x="1663560" y="5157720"/>
            <a:ext cx="6337440" cy="37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1" strike="noStrike">
                <a:ln w="0">
                  <a:noFill/>
                </a:ln>
                <a:solidFill>
                  <a:srgbClr val="000000"/>
                </a:solidFill>
                <a:latin typeface="산돌고딕B"/>
              </a:rPr>
              <a:t>Byung Tae Oh, Ilsoon Lim, Ho-cheon Wey, and Du-Sik Park</a:t>
            </a:r>
            <a:endParaRPr b="1" lang="en-US" sz="900" spc="1" strike="noStrike">
              <a:ln w="0">
                <a:noFill/>
              </a:ln>
              <a:solidFill>
                <a:srgbClr val="000000"/>
              </a:solidFill>
              <a:latin typeface="산돌고딕B"/>
              <a:ea typeface="산돌고딕B"/>
            </a:endParaRPr>
          </a:p>
        </p:txBody>
      </p:sp>
      <p:sp>
        <p:nvSpPr>
          <p:cNvPr id="119" name="WordArt 16"/>
          <p:cNvSpPr txBox="1"/>
          <p:nvPr/>
        </p:nvSpPr>
        <p:spPr>
          <a:xfrm>
            <a:off x="2556000" y="5716440"/>
            <a:ext cx="46767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Samsung Electronics Co., Ltd.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0" name="WordArt 17"/>
          <p:cNvSpPr txBox="1"/>
          <p:nvPr/>
        </p:nvSpPr>
        <p:spPr>
          <a:xfrm>
            <a:off x="428760" y="2343240"/>
            <a:ext cx="8572320" cy="14428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HY견고딕"/>
              </a:rPr>
              <a:t>3D-CE6.h  related results on _x000b_                      Improved Simple Depth Coding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HY견고딕"/>
              <a:ea typeface="HY견고딕"/>
            </a:endParaRPr>
          </a:p>
        </p:txBody>
      </p:sp>
      <p:sp>
        <p:nvSpPr>
          <p:cNvPr id="121" name="TextBox 4"/>
          <p:cNvSpPr/>
          <p:nvPr/>
        </p:nvSpPr>
        <p:spPr>
          <a:xfrm>
            <a:off x="142920" y="285840"/>
            <a:ext cx="1765080" cy="3682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CT3V-C0096</a:t>
            </a:r>
            <a:endParaRPr b="0" lang="en-US" sz="1800" spc="-1" strike="noStrike">
              <a:solidFill>
                <a:srgbClr val="000000"/>
              </a:solidFill>
              <a:latin typeface="산돌고딕B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108000" y="44280"/>
            <a:ext cx="90360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0380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HY헤드라인M"/>
              </a:rPr>
              <a:t>Simple Depth Coding (SDC)</a:t>
            </a:r>
            <a:endParaRPr b="0" lang="en-US" sz="32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500040" y="857160"/>
            <a:ext cx="831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pproach 1 : Simplification of SDC</a:t>
            </a:r>
            <a:endParaRPr b="0" lang="en-US" sz="2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32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33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34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35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36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37" name="Rectangle 22"/>
          <p:cNvSpPr/>
          <p:nvPr/>
        </p:nvSpPr>
        <p:spPr>
          <a:xfrm>
            <a:off x="713880" y="1337760"/>
            <a:ext cx="76737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urrently, use the following 4 modes = {DC, PLANAR, DMM1, DMM2}</a:t>
            </a:r>
            <a:endParaRPr b="0" lang="en-US" sz="1800" spc="-1" strike="noStrike">
              <a:solidFill>
                <a:srgbClr val="000000"/>
              </a:solidFill>
              <a:latin typeface="산돌고딕B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GB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se 3 modes  = {DC, PLANAR, DMM1}</a:t>
            </a:r>
            <a:endParaRPr b="0" lang="en-US" sz="1800" spc="-1" strike="noStrike">
              <a:solidFill>
                <a:srgbClr val="000000"/>
              </a:solidFill>
              <a:latin typeface="산돌고딕B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332000" y="2309760"/>
          <a:ext cx="3882960" cy="1263600"/>
        </p:xfrm>
        <a:graphic>
          <a:graphicData uri="http://schemas.openxmlformats.org/drawingml/2006/table">
            <a:tbl>
              <a:tblPr/>
              <a:tblGrid>
                <a:gridCol w="1293840"/>
                <a:gridCol w="1293840"/>
                <a:gridCol w="1295280"/>
              </a:tblGrid>
              <a:tr h="250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Binary cod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sdc_pred_mod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D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DMM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DMM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PLANA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1338120" y="4398840"/>
          <a:ext cx="3881520" cy="1262160"/>
        </p:xfrm>
        <a:graphic>
          <a:graphicData uri="http://schemas.openxmlformats.org/drawingml/2006/table">
            <a:tbl>
              <a:tblPr/>
              <a:tblGrid>
                <a:gridCol w="1293840"/>
                <a:gridCol w="1293840"/>
                <a:gridCol w="1293840"/>
              </a:tblGrid>
              <a:tr h="250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Binary cod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sdc_pred_mod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D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DMM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DMM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PLANA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아래쪽 화살표 20"/>
          <p:cNvSpPr/>
          <p:nvPr/>
        </p:nvSpPr>
        <p:spPr>
          <a:xfrm>
            <a:off x="3203640" y="3735360"/>
            <a:ext cx="288720" cy="433440"/>
          </a:xfrm>
          <a:prstGeom prst="downArrow">
            <a:avLst>
              <a:gd name="adj1" fmla="val 50000"/>
              <a:gd name="adj2" fmla="val 50041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108000" y="44280"/>
            <a:ext cx="90360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0380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HY헤드라인M"/>
              </a:rPr>
              <a:t>Experimental Results</a:t>
            </a:r>
            <a:endParaRPr b="0" lang="en-US" sz="32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47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48" name="TextBox 9"/>
          <p:cNvSpPr/>
          <p:nvPr/>
        </p:nvSpPr>
        <p:spPr>
          <a:xfrm>
            <a:off x="500040" y="857160"/>
            <a:ext cx="8319960" cy="34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mplification of SDC</a:t>
            </a:r>
            <a:endParaRPr b="0" lang="en-US" sz="2000" spc="-1" strike="noStrike">
              <a:solidFill>
                <a:srgbClr val="000000"/>
              </a:solidFill>
              <a:latin typeface="산돌고딕B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 CTC condition</a:t>
            </a:r>
            <a:endParaRPr b="0" lang="en-US" sz="2000" spc="-1" strike="noStrike">
              <a:solidFill>
                <a:srgbClr val="000000"/>
              </a:solidFill>
              <a:latin typeface="산돌고딕B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산돌고딕B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산돌고딕B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산돌고딕B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산돌고딕B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산돌고딕B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산돌고딕B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52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54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55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826920" y="1773360"/>
          <a:ext cx="6409080" cy="3311280"/>
        </p:xfrm>
        <a:graphic>
          <a:graphicData uri="http://schemas.openxmlformats.org/drawingml/2006/table">
            <a:tbl>
              <a:tblPr/>
              <a:tblGrid>
                <a:gridCol w="1235160"/>
                <a:gridCol w="1403280"/>
                <a:gridCol w="1741680"/>
                <a:gridCol w="1014480"/>
                <a:gridCol w="1014480"/>
              </a:tblGrid>
              <a:tr h="30960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ynthesized only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coded &amp; synthesiz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enc t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ec t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Ballo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6.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3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664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Ken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9.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4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700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Newspaperc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2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6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700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GhostTownFl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7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2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664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PoznanHall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9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4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520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PoznanStre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0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7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960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UndoDanc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0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7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24x7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9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4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960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920x10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9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5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avera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9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5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108000" y="44280"/>
            <a:ext cx="90360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0380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HY헤드라인M"/>
              </a:rPr>
              <a:t>Experimental Results</a:t>
            </a:r>
            <a:endParaRPr b="0" lang="en-US" sz="32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59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63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500040" y="857160"/>
            <a:ext cx="8319960" cy="7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mplification of SDC</a:t>
            </a:r>
            <a:endParaRPr b="0" lang="en-US" sz="2000" spc="-1" strike="noStrike">
              <a:solidFill>
                <a:srgbClr val="000000"/>
              </a:solidFill>
              <a:latin typeface="산돌고딕B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 All Intra condition</a:t>
            </a:r>
            <a:endParaRPr b="0" lang="en-US" sz="2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67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68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69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70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71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826920" y="1773360"/>
          <a:ext cx="6624720" cy="3240000"/>
        </p:xfrm>
        <a:graphic>
          <a:graphicData uri="http://schemas.openxmlformats.org/drawingml/2006/table">
            <a:tbl>
              <a:tblPr/>
              <a:tblGrid>
                <a:gridCol w="1276560"/>
                <a:gridCol w="1450800"/>
                <a:gridCol w="1800360"/>
                <a:gridCol w="1049400"/>
                <a:gridCol w="1047600"/>
              </a:tblGrid>
              <a:tr h="30168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ynthesized only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coded &amp; synthesiz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enc t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ec t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16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Ballo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9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052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Ken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9.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6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908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Newspaperc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7.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8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052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GhostTownFl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9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2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052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PoznanHall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9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2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052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PoznanStre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9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9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68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UndoDanc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1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3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24x7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9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8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168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920x10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9.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1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avera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9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108000" y="44280"/>
            <a:ext cx="90360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0380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HY헤드라인M"/>
              </a:rPr>
              <a:t>Simple Depth Coding (SDC)</a:t>
            </a:r>
            <a:endParaRPr b="0" lang="en-US" sz="32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75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78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79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80" name="TextBox 9"/>
          <p:cNvSpPr/>
          <p:nvPr/>
        </p:nvSpPr>
        <p:spPr>
          <a:xfrm>
            <a:off x="500040" y="857160"/>
            <a:ext cx="831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pproach 2 : Improvement of SDC</a:t>
            </a:r>
            <a:endParaRPr b="0" lang="en-US" sz="2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83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84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85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86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87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88" name="Rectangle 22"/>
          <p:cNvSpPr/>
          <p:nvPr/>
        </p:nvSpPr>
        <p:spPr>
          <a:xfrm>
            <a:off x="826920" y="1203840"/>
            <a:ext cx="779328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mprove the context-based coding</a:t>
            </a:r>
            <a:endParaRPr b="0" lang="en-US" sz="1800" spc="-1" strike="noStrike">
              <a:solidFill>
                <a:srgbClr val="000000"/>
              </a:solidFill>
              <a:latin typeface="산돌고딕B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cision rule</a:t>
            </a:r>
            <a:endParaRPr b="0" lang="en-US" sz="1800" spc="-1" strike="noStrike">
              <a:solidFill>
                <a:srgbClr val="000000"/>
              </a:solidFill>
              <a:latin typeface="산돌고딕B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산돌고딕B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산돌고딕B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산돌고딕B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산돌고딕B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산돌고딕B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f sdc_pred_mode[][] is not available, </a:t>
            </a:r>
            <a:endParaRPr b="0" lang="en-US" sz="1800" spc="-1" strike="noStrike">
              <a:solidFill>
                <a:srgbClr val="000000"/>
              </a:solidFill>
              <a:latin typeface="산돌고딕B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산돌고딕B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산돌고딕B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116000" y="2076480"/>
          <a:ext cx="6192720" cy="1730520"/>
        </p:xfrm>
        <a:graphic>
          <a:graphicData uri="http://schemas.openxmlformats.org/drawingml/2006/table">
            <a:tbl>
              <a:tblPr/>
              <a:tblGrid>
                <a:gridCol w="1219320"/>
                <a:gridCol w="4973400"/>
              </a:tblGrid>
              <a:tr h="317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ctxId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sdc_pred_mod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( sdc_pred_mode[ xL ][ yL ] == 0 &amp;&amp; sdc_pred_mode[ xA ][ yA ] == 0 ) ||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( sdc_pred_mode[ xL ][ yL ] == 0 &amp;&amp; sdc_pred_mode[ xA ][ yA ] == 2 ) ||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( sdc_pred_mode[ xL ][ yL ] == 2 &amp;&amp; sdc_pred_mode[ xA ][ yA ] == 0 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sdc_pred_mode[ xL ][ yL ] == 1 || sdc_pred_mode[ xA ][ yA ] ==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sdc_pred_mode[ xL ][ yL ] == 2 &amp;&amp; sdc_pred_mode[ xA ][ yA ] ==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116000" y="4527720"/>
          <a:ext cx="6192720" cy="1282680"/>
        </p:xfrm>
        <a:graphic>
          <a:graphicData uri="http://schemas.openxmlformats.org/drawingml/2006/table">
            <a:tbl>
              <a:tblPr/>
              <a:tblGrid>
                <a:gridCol w="3168720"/>
                <a:gridCol w="3024000"/>
              </a:tblGrid>
              <a:tr h="317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intra_pred_mod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sdc_pred_mod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 (D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 (D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 (PLANA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2 (PLANA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oth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 (DMM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108000" y="44280"/>
            <a:ext cx="90360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0380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HY헤드라인M"/>
              </a:rPr>
              <a:t>Experimental Results</a:t>
            </a:r>
            <a:endParaRPr b="0" lang="en-US" sz="32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9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96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97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98" name="TextBox 9"/>
          <p:cNvSpPr/>
          <p:nvPr/>
        </p:nvSpPr>
        <p:spPr>
          <a:xfrm>
            <a:off x="500040" y="857160"/>
            <a:ext cx="8319960" cy="30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mplification of SDC</a:t>
            </a:r>
            <a:endParaRPr b="0" lang="en-US" sz="2000" spc="-1" strike="noStrike">
              <a:solidFill>
                <a:srgbClr val="000000"/>
              </a:solidFill>
              <a:latin typeface="산돌고딕B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 CTC condition</a:t>
            </a:r>
            <a:endParaRPr b="0" lang="en-US" sz="2000" spc="-1" strike="noStrike">
              <a:solidFill>
                <a:srgbClr val="000000"/>
              </a:solidFill>
              <a:latin typeface="산돌고딕B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산돌고딕B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산돌고딕B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산돌고딕B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산돌고딕B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산돌고딕B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201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202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203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204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205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971640" y="1773360"/>
          <a:ext cx="6624720" cy="3168360"/>
        </p:xfrm>
        <a:graphic>
          <a:graphicData uri="http://schemas.openxmlformats.org/drawingml/2006/table">
            <a:tbl>
              <a:tblPr/>
              <a:tblGrid>
                <a:gridCol w="1276200"/>
                <a:gridCol w="1451160"/>
                <a:gridCol w="1800000"/>
                <a:gridCol w="1049400"/>
                <a:gridCol w="1047960"/>
              </a:tblGrid>
              <a:tr h="29520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ynthesized only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coded &amp; synthesiz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enc t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ec t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Ballo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9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3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8440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Ken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8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1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224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Newspaperc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0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4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40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GhostTownFl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9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6.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PoznanHall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8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6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260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PoznanStre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0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5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520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UndoDanc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1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9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24x7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9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3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520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920x10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9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6.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avera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9.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5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108000" y="44280"/>
            <a:ext cx="90360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0380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HY헤드라인M"/>
              </a:rPr>
              <a:t>Experimental Results</a:t>
            </a:r>
            <a:endParaRPr b="0" lang="en-US" sz="32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209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212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213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214" name="TextBox 9"/>
          <p:cNvSpPr/>
          <p:nvPr/>
        </p:nvSpPr>
        <p:spPr>
          <a:xfrm>
            <a:off x="500040" y="857160"/>
            <a:ext cx="8319960" cy="7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mplification of SDC</a:t>
            </a:r>
            <a:endParaRPr b="0" lang="en-US" sz="2000" spc="-1" strike="noStrike">
              <a:solidFill>
                <a:srgbClr val="000000"/>
              </a:solidFill>
              <a:latin typeface="산돌고딕B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ll Intra condition</a:t>
            </a:r>
            <a:endParaRPr b="0" lang="en-US" sz="2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217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218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219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220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971640" y="1773360"/>
          <a:ext cx="6480000" cy="3168360"/>
        </p:xfrm>
        <a:graphic>
          <a:graphicData uri="http://schemas.openxmlformats.org/drawingml/2006/table">
            <a:tbl>
              <a:tblPr/>
              <a:tblGrid>
                <a:gridCol w="1247760"/>
                <a:gridCol w="1419120"/>
                <a:gridCol w="1762200"/>
                <a:gridCol w="1025640"/>
                <a:gridCol w="1025280"/>
              </a:tblGrid>
              <a:tr h="29520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ynthesized only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coded &amp; synthesiz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enc t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ec t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Ballo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9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8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8260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Ken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7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3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Newspaperc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8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3.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40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GhostTownFl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7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9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260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PoznanHall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8.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3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PoznanStre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5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3.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520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UndoDanc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9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9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24x7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8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5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520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920x10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7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8.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avera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8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7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108000" y="44280"/>
            <a:ext cx="90360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0380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HY헤드라인M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228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229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230" name="TextBox 9"/>
          <p:cNvSpPr/>
          <p:nvPr/>
        </p:nvSpPr>
        <p:spPr>
          <a:xfrm>
            <a:off x="324000" y="857160"/>
            <a:ext cx="8712000" cy="33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oposed schemes are integrated in HTM v5.0.1</a:t>
            </a:r>
            <a:endParaRPr b="0" lang="en-US" sz="2000" spc="-1" strike="noStrike">
              <a:solidFill>
                <a:srgbClr val="000000"/>
              </a:solidFill>
              <a:latin typeface="산돌고딕B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산돌고딕B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mplification of SDC </a:t>
            </a:r>
            <a:endParaRPr b="0" lang="en-US" sz="2000" spc="-1" strike="noStrike">
              <a:solidFill>
                <a:srgbClr val="000000"/>
              </a:solidFill>
              <a:latin typeface="산돌고딕B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 has no BD-rate impact with less decoding complexity</a:t>
            </a:r>
            <a:endParaRPr b="0" lang="en-US" sz="2000" spc="-1" strike="noStrike">
              <a:solidFill>
                <a:srgbClr val="000000"/>
              </a:solidFill>
              <a:latin typeface="산돌고딕B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mprovement of SDC</a:t>
            </a:r>
            <a:endParaRPr b="0" lang="en-US" sz="2000" spc="-1" strike="noStrike">
              <a:solidFill>
                <a:srgbClr val="000000"/>
              </a:solidFill>
              <a:latin typeface="산돌고딕B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 has 0.1% bit-rate saving with less decoding complexity</a:t>
            </a:r>
            <a:endParaRPr b="0" lang="en-US" sz="2000" spc="-1" strike="noStrike">
              <a:solidFill>
                <a:srgbClr val="000000"/>
              </a:solidFill>
              <a:latin typeface="산돌고딕B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산돌고딕B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ross-checked by RWHT and cross-check’s results are completely matched</a:t>
            </a:r>
            <a:endParaRPr b="0" lang="en-US" sz="2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23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233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234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235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236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237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0T05:16:09Z</dcterms:created>
  <dc:creator>이성혁</dc:creator>
  <dc:description/>
  <dc:language>en-US</dc:language>
  <cp:lastModifiedBy>snowyun</cp:lastModifiedBy>
  <dcterms:modified xsi:type="dcterms:W3CDTF">2013-01-19T13:16:48Z</dcterms:modified>
  <cp:revision>709</cp:revision>
  <dc:subject/>
  <dc:title>슬라이드 1</dc:title>
</cp:coreProperties>
</file>