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CDBF-4B1C-4626-A175-7DFF45E95C88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EC9C-659E-4A00-8F57-9273BFBB851E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F403-914B-4C6C-8EC4-706294CD9F40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7912-80C4-4A35-AC5D-1EE956FBB4BB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37A5-7185-4CE9-836E-D24F2C6A2778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4D41-98BD-4546-BFE9-B0CEBE4B230C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30C5-1A54-4037-951A-841BE257A186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4382-209A-465B-8359-B01CA270D9C0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64C5-CFDD-49B5-8A73-059D4C00B9A5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4215960" y="6586560"/>
            <a:ext cx="884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2120" bIns="421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35B1-4961-4DD9-86D3-E1BDF0DEF7BB}" type="slidenum">
              <a:rPr b="1" lang="en-US" sz="1100" spc="-1" strike="noStrike">
                <a:solidFill>
                  <a:srgbClr val="006699"/>
                </a:solidFill>
                <a:latin typeface="굴림"/>
                <a:ea typeface="HY견고딕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D:\2009 CI\1. LOGO 모음\기술원영문로고\기술원1.jpg"/>
          <p:cNvPicPr/>
          <p:nvPr/>
        </p:nvPicPr>
        <p:blipFill>
          <a:blip r:embed="rId3"/>
          <a:stretch/>
        </p:blipFill>
        <p:spPr>
          <a:xfrm>
            <a:off x="6622920" y="272880"/>
            <a:ext cx="234180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2009 CI\1. LOGO 모음\기술원영문로고\기술원1.jpg"/>
          <p:cNvPicPr/>
          <p:nvPr/>
        </p:nvPicPr>
        <p:blipFill>
          <a:blip r:embed="rId3"/>
          <a:stretch/>
        </p:blipFill>
        <p:spPr>
          <a:xfrm>
            <a:off x="6622920" y="272880"/>
            <a:ext cx="234180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5"/>
          <p:cNvSpPr txBox="1"/>
          <p:nvPr/>
        </p:nvSpPr>
        <p:spPr>
          <a:xfrm>
            <a:off x="2428920" y="5214960"/>
            <a:ext cx="4572000" cy="3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0">
                  <a:noFill/>
                </a:ln>
                <a:solidFill>
                  <a:srgbClr val="000000"/>
                </a:solidFill>
                <a:latin typeface="Arial Unicode MS"/>
              </a:rPr>
              <a:t>Ilsoon Lim, Hocheon Wey and Dusik Park</a:t>
            </a:r>
            <a:endParaRPr b="0" lang="en-US" sz="900" spc="1" strike="noStrike">
              <a:ln w="0">
                <a:noFill/>
              </a:ln>
              <a:solidFill>
                <a:srgbClr val="000000"/>
              </a:solidFill>
              <a:latin typeface="Arial Unicode MS"/>
              <a:ea typeface="Arial Unicode MS"/>
            </a:endParaRPr>
          </a:p>
        </p:txBody>
      </p:sp>
      <p:sp>
        <p:nvSpPr>
          <p:cNvPr id="119" name="WordArt 16"/>
          <p:cNvSpPr txBox="1"/>
          <p:nvPr/>
        </p:nvSpPr>
        <p:spPr>
          <a:xfrm>
            <a:off x="2395440" y="5643720"/>
            <a:ext cx="46767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amsung Electronics Co., Ltd.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" name="WordArt 17"/>
          <p:cNvSpPr txBox="1"/>
          <p:nvPr/>
        </p:nvSpPr>
        <p:spPr>
          <a:xfrm>
            <a:off x="214200" y="2771640"/>
            <a:ext cx="8786880" cy="514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HY견고딕"/>
              </a:rPr>
              <a:t>3D-CE6.h Related: Improved Depth Lookup Table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HY견고딕"/>
              <a:ea typeface="HY견고딕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42920" y="285840"/>
            <a:ext cx="164304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CT3V-C0093</a:t>
            </a:r>
            <a:endParaRPr b="0" lang="en-US" sz="18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08000" y="44280"/>
            <a:ext cx="903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380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HY헤드라인M"/>
              </a:rPr>
              <a:t>Improved Depth Lookup Table(All Intra Condition)</a:t>
            </a:r>
            <a:endParaRPr b="0" lang="en-US" sz="3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428760" y="714240"/>
            <a:ext cx="2714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rimental conditions</a:t>
            </a:r>
            <a:endParaRPr b="0" lang="en-US" sz="1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500040" y="1120680"/>
            <a:ext cx="7929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산돌고딕B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chor: 3DV-HTM 5.0.1 (All Intra Condition)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ared conditions: SDC is disabled and DLT is disabled.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30" name="직선 연결선 15"/>
          <p:cNvSpPr/>
          <p:nvPr/>
        </p:nvSpPr>
        <p:spPr>
          <a:xfrm>
            <a:off x="4000680" y="928800"/>
            <a:ext cx="3000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42960" y="2000160"/>
          <a:ext cx="7929720" cy="3929040"/>
        </p:xfrm>
        <a:graphic>
          <a:graphicData uri="http://schemas.openxmlformats.org/drawingml/2006/table">
            <a:tbl>
              <a:tblPr/>
              <a:tblGrid>
                <a:gridCol w="915840"/>
                <a:gridCol w="752760"/>
                <a:gridCol w="752400"/>
                <a:gridCol w="752400"/>
                <a:gridCol w="917640"/>
                <a:gridCol w="1041480"/>
                <a:gridCol w="1292040"/>
                <a:gridCol w="752400"/>
                <a:gridCol w="752760"/>
              </a:tblGrid>
              <a:tr h="4474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ynthesized on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oded &amp; synthes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nc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ec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416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allo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2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2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25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Ke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2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2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8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24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ewspa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2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2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9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5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6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GT_F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1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23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all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3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7ce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2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4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8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5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2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UndoD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2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7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2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24x7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2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2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28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74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920x1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2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7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18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7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8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22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232" name="직사각형 55"/>
          <p:cNvSpPr/>
          <p:nvPr/>
        </p:nvSpPr>
        <p:spPr>
          <a:xfrm>
            <a:off x="1714680" y="5929200"/>
            <a:ext cx="6215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able 6) Test results for the tool experiment in all intra conditions</a:t>
            </a: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08000" y="44280"/>
            <a:ext cx="903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380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HY헤드라인M"/>
              </a:rPr>
              <a:t>Improved Depth Lookup Table</a:t>
            </a:r>
            <a:endParaRPr b="0" lang="en-US" sz="3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500040" y="857160"/>
            <a:ext cx="79297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present DLT is constructed on analysis of the first 24 frames and then the DLT is written to SPS(SPS signalling).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this way, initial analysis DLT suffers from scene change that always happens in a sequence.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this proposal, we moved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SPS signall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to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intra slice-layer signall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3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35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3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37" name="직사각형 55"/>
          <p:cNvSpPr/>
          <p:nvPr/>
        </p:nvSpPr>
        <p:spPr>
          <a:xfrm>
            <a:off x="2000160" y="6429240"/>
            <a:ext cx="5500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Figure 1) DLT signalling</a:t>
            </a: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pic>
        <p:nvPicPr>
          <p:cNvPr id="138" name="Picture 22" descr=""/>
          <p:cNvPicPr/>
          <p:nvPr/>
        </p:nvPicPr>
        <p:blipFill>
          <a:blip r:embed="rId1"/>
          <a:stretch/>
        </p:blipFill>
        <p:spPr>
          <a:xfrm>
            <a:off x="2486160" y="2911320"/>
            <a:ext cx="4228920" cy="1303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3" descr=""/>
          <p:cNvPicPr/>
          <p:nvPr/>
        </p:nvPicPr>
        <p:blipFill>
          <a:blip r:embed="rId2"/>
          <a:stretch/>
        </p:blipFill>
        <p:spPr>
          <a:xfrm>
            <a:off x="2471760" y="4500720"/>
            <a:ext cx="4386240" cy="1611000"/>
          </a:xfrm>
          <a:prstGeom prst="rect">
            <a:avLst/>
          </a:prstGeom>
          <a:ln w="0">
            <a:noFill/>
          </a:ln>
        </p:spPr>
      </p:pic>
      <p:sp>
        <p:nvSpPr>
          <p:cNvPr id="140" name="직사각형 55"/>
          <p:cNvSpPr/>
          <p:nvPr/>
        </p:nvSpPr>
        <p:spPr>
          <a:xfrm>
            <a:off x="2928960" y="4071960"/>
            <a:ext cx="3643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a) SPS DLT signalling(present)</a:t>
            </a: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41" name="직사각형 55"/>
          <p:cNvSpPr/>
          <p:nvPr/>
        </p:nvSpPr>
        <p:spPr>
          <a:xfrm>
            <a:off x="2786040" y="6072120"/>
            <a:ext cx="4357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b) Intra slice-layer DLT signalling(proposed)</a:t>
            </a: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08000" y="44280"/>
            <a:ext cx="903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380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HY헤드라인M"/>
              </a:rPr>
              <a:t>Improved Depth Lookup Table</a:t>
            </a:r>
            <a:endParaRPr b="0" lang="en-US" sz="3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00040" y="857160"/>
            <a:ext cx="79297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posed DLT signaling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In I-slice 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construct &amp; send DLT 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 In P- / B-slice 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DO NOT construct &amp; send DLT 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Reuse DLT of I-slice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5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5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5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5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08000" y="44280"/>
            <a:ext cx="903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380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HY헤드라인M"/>
              </a:rPr>
              <a:t>Improved Depth Lookup Table(CTC)</a:t>
            </a:r>
            <a:endParaRPr b="0" lang="en-US" sz="3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428760" y="714240"/>
            <a:ext cx="2714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rimental conditions</a:t>
            </a:r>
            <a:endParaRPr b="0" lang="en-US" sz="1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500040" y="112068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산돌고딕B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chor: 3DV-HTM 5.0.1 (CTC)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68" name="직사각형 55"/>
          <p:cNvSpPr/>
          <p:nvPr/>
        </p:nvSpPr>
        <p:spPr>
          <a:xfrm>
            <a:off x="2357280" y="5929200"/>
            <a:ext cx="55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able 1) Test results for the proposal in CTC</a:t>
            </a: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42960" y="1643040"/>
          <a:ext cx="7929720" cy="4286160"/>
        </p:xfrm>
        <a:graphic>
          <a:graphicData uri="http://schemas.openxmlformats.org/drawingml/2006/table">
            <a:tbl>
              <a:tblPr/>
              <a:tblGrid>
                <a:gridCol w="915840"/>
                <a:gridCol w="752760"/>
                <a:gridCol w="752400"/>
                <a:gridCol w="753840"/>
                <a:gridCol w="916200"/>
                <a:gridCol w="1039680"/>
                <a:gridCol w="1293840"/>
                <a:gridCol w="752400"/>
                <a:gridCol w="752760"/>
              </a:tblGrid>
              <a:tr h="492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ynthesized on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oded &amp; synthes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nc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ec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1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allo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6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4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Ke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ewspa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6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GT_F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oznanHall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5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2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oznan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9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UndoD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2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24x7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6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920x1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7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7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70" name="직선 연결선 15"/>
          <p:cNvSpPr/>
          <p:nvPr/>
        </p:nvSpPr>
        <p:spPr>
          <a:xfrm>
            <a:off x="4000680" y="928800"/>
            <a:ext cx="3000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08000" y="44280"/>
            <a:ext cx="903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380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HY헤드라인M"/>
              </a:rPr>
              <a:t>Improved Depth Lookup Table(All Intra Condition)</a:t>
            </a:r>
            <a:endParaRPr b="0" lang="en-US" sz="3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428760" y="714240"/>
            <a:ext cx="2714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rimental conditions</a:t>
            </a:r>
            <a:endParaRPr b="0" lang="en-US" sz="1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500040" y="112068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산돌고딕B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chor: 3DV-HTM 5.0.1 (All Intra Condition)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80" name="직사각형 55"/>
          <p:cNvSpPr/>
          <p:nvPr/>
        </p:nvSpPr>
        <p:spPr>
          <a:xfrm>
            <a:off x="2357280" y="5929200"/>
            <a:ext cx="55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able 2) Test results for the proposal in all intra conditions</a:t>
            </a: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81" name="직선 연결선 15"/>
          <p:cNvSpPr/>
          <p:nvPr/>
        </p:nvSpPr>
        <p:spPr>
          <a:xfrm>
            <a:off x="4000680" y="928800"/>
            <a:ext cx="3000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42960" y="1643040"/>
          <a:ext cx="7929720" cy="4286160"/>
        </p:xfrm>
        <a:graphic>
          <a:graphicData uri="http://schemas.openxmlformats.org/drawingml/2006/table">
            <a:tbl>
              <a:tblPr/>
              <a:tblGrid>
                <a:gridCol w="976320"/>
                <a:gridCol w="745920"/>
                <a:gridCol w="746280"/>
                <a:gridCol w="746280"/>
                <a:gridCol w="907920"/>
                <a:gridCol w="1033560"/>
                <a:gridCol w="1280880"/>
                <a:gridCol w="746280"/>
                <a:gridCol w="746280"/>
              </a:tblGrid>
              <a:tr h="488880"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ynthesized on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oded &amp; synthes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nc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ec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76200"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allo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2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Ke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7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ewspa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1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GT_F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7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7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oznanHall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7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oznan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UndoD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7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24x7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1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920x1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10800" rIns="10800" tIns="108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08000" y="44280"/>
            <a:ext cx="903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380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HY헤드라인M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500040" y="857160"/>
            <a:ext cx="79297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DLT intra slice-layer signalling was proposed.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test results show 0.05% (synthesized only), 0.05% (coded&amp;synthesized) BD-rate in CTC and 0.22% (synthesized only), 0.24% (coded&amp;synthesized) BD-rate in all intra condition when compared with 3DV-HTM ver. 5.0.1.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coding loss is negligibly small compared to DLT’s own coding gain.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test results has been cross-checked by LG.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08000" y="44280"/>
            <a:ext cx="903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380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HY헤드라인M"/>
              </a:rPr>
              <a:t>Improved Depth Lookup Table(CTC)</a:t>
            </a:r>
            <a:endParaRPr b="0" lang="en-US" sz="3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428760" y="714240"/>
            <a:ext cx="2714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rimental conditions</a:t>
            </a:r>
            <a:endParaRPr b="0" lang="en-US" sz="1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500040" y="1120680"/>
            <a:ext cx="7929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산돌고딕B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chor: 3DV-HTM 5.0.1 (CTC)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ared conditions: SDC is enabled and DLT is disabled.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94" name="직선 연결선 15"/>
          <p:cNvSpPr/>
          <p:nvPr/>
        </p:nvSpPr>
        <p:spPr>
          <a:xfrm>
            <a:off x="4000680" y="928800"/>
            <a:ext cx="3000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42960" y="2000160"/>
          <a:ext cx="7929720" cy="3929040"/>
        </p:xfrm>
        <a:graphic>
          <a:graphicData uri="http://schemas.openxmlformats.org/drawingml/2006/table">
            <a:tbl>
              <a:tblPr/>
              <a:tblGrid>
                <a:gridCol w="915840"/>
                <a:gridCol w="752760"/>
                <a:gridCol w="752400"/>
                <a:gridCol w="753840"/>
                <a:gridCol w="914400"/>
                <a:gridCol w="1041480"/>
                <a:gridCol w="1293840"/>
                <a:gridCol w="752400"/>
                <a:gridCol w="752760"/>
              </a:tblGrid>
              <a:tr h="44604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ynthesized on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oded &amp; synthes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nc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ec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4128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allo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7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Ke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2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9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64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ewspa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5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GT_F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5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all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7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3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UndoD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1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24x7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748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920x1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7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39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34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96" name="직사각형 55"/>
          <p:cNvSpPr/>
          <p:nvPr/>
        </p:nvSpPr>
        <p:spPr>
          <a:xfrm>
            <a:off x="2357280" y="5929200"/>
            <a:ext cx="55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able 3) Test results for the tool experiment in CTC</a:t>
            </a: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08000" y="44280"/>
            <a:ext cx="903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380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HY헤드라인M"/>
              </a:rPr>
              <a:t>Improved Depth Lookup Table(All Intra Condition)</a:t>
            </a:r>
            <a:endParaRPr b="0" lang="en-US" sz="3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428760" y="714240"/>
            <a:ext cx="2714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rimental conditions</a:t>
            </a:r>
            <a:endParaRPr b="0" lang="en-US" sz="1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500040" y="1120680"/>
            <a:ext cx="7929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산돌고딕B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chor: 3DV-HTM 5.0.1 (All Intra Condition)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ared conditions: SDC is enabled and DLT is disabled.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06" name="직선 연결선 15"/>
          <p:cNvSpPr/>
          <p:nvPr/>
        </p:nvSpPr>
        <p:spPr>
          <a:xfrm>
            <a:off x="4000680" y="928800"/>
            <a:ext cx="3000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42960" y="2000160"/>
          <a:ext cx="7929720" cy="3929040"/>
        </p:xfrm>
        <a:graphic>
          <a:graphicData uri="http://schemas.openxmlformats.org/drawingml/2006/table">
            <a:tbl>
              <a:tblPr/>
              <a:tblGrid>
                <a:gridCol w="915840"/>
                <a:gridCol w="752760"/>
                <a:gridCol w="752400"/>
                <a:gridCol w="752400"/>
                <a:gridCol w="917640"/>
                <a:gridCol w="1041480"/>
                <a:gridCol w="1292040"/>
                <a:gridCol w="752400"/>
                <a:gridCol w="752760"/>
              </a:tblGrid>
              <a:tr h="44388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ynthesized on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oded &amp; synthes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nc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ec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4308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allo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4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1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164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Ke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3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8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ewspa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2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3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1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GT_F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2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all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1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6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6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UndoD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7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24x7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2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3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920x1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8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208" name="직사각형 55"/>
          <p:cNvSpPr/>
          <p:nvPr/>
        </p:nvSpPr>
        <p:spPr>
          <a:xfrm>
            <a:off x="1714680" y="5929200"/>
            <a:ext cx="6215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able 4) Test results for the tool experiment in all intra conditions</a:t>
            </a: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08000" y="44280"/>
            <a:ext cx="903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0380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HY헤드라인M"/>
              </a:rPr>
              <a:t>Improved Depth Lookup Table(CTC)</a:t>
            </a:r>
            <a:endParaRPr b="0" lang="en-US" sz="32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428760" y="714240"/>
            <a:ext cx="2714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rimental conditions</a:t>
            </a:r>
            <a:endParaRPr b="0" lang="en-US" sz="18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500040" y="1120680"/>
            <a:ext cx="7929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산돌고딕B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chor: 3DV-HTM 5.0.1 (CTC)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mpared conditions: SDC is disabled and DLT is disabled.</a:t>
            </a:r>
            <a:endParaRPr b="0" lang="en-US" sz="2000" spc="-1" strike="noStrike">
              <a:solidFill>
                <a:srgbClr val="000000"/>
              </a:solidFill>
              <a:latin typeface="산돌고딕B"/>
            </a:endParaRPr>
          </a:p>
        </p:txBody>
      </p:sp>
      <p:sp>
        <p:nvSpPr>
          <p:cNvPr id="218" name="직선 연결선 15"/>
          <p:cNvSpPr/>
          <p:nvPr/>
        </p:nvSpPr>
        <p:spPr>
          <a:xfrm>
            <a:off x="4000680" y="928800"/>
            <a:ext cx="3000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42960" y="2000160"/>
          <a:ext cx="7929720" cy="3929040"/>
        </p:xfrm>
        <a:graphic>
          <a:graphicData uri="http://schemas.openxmlformats.org/drawingml/2006/table">
            <a:tbl>
              <a:tblPr/>
              <a:tblGrid>
                <a:gridCol w="915840"/>
                <a:gridCol w="752760"/>
                <a:gridCol w="752400"/>
                <a:gridCol w="753840"/>
                <a:gridCol w="916200"/>
                <a:gridCol w="1039680"/>
                <a:gridCol w="1293840"/>
                <a:gridCol w="752400"/>
                <a:gridCol w="752760"/>
              </a:tblGrid>
              <a:tr h="45972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video 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ynthesized on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coded &amp; synthes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enc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ec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4164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Ballo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7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7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Ke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9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64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Newspa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5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7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GT_F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5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6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Hall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64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6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6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UndoD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9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24x7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7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7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920x1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7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3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3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7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3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산돌고딕B"/>
                      </a:endParaRPr>
                    </a:p>
                  </a:txBody>
                  <a:tcPr anchor="b" marL="10080" marR="100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220" name="직사각형 55"/>
          <p:cNvSpPr/>
          <p:nvPr/>
        </p:nvSpPr>
        <p:spPr>
          <a:xfrm>
            <a:off x="2357280" y="5929200"/>
            <a:ext cx="55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Table 5) Test results for the tool experiment in CTC</a:t>
            </a:r>
            <a:endParaRPr b="0" lang="en-US" sz="1600" spc="-1" strike="noStrike">
              <a:solidFill>
                <a:srgbClr val="000000"/>
              </a:solidFill>
              <a:latin typeface="산돌고딕B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5:16:09Z</dcterms:created>
  <dc:creator>이성혁</dc:creator>
  <dc:description/>
  <dc:language>en-US</dc:language>
  <cp:lastModifiedBy>snowyun</cp:lastModifiedBy>
  <dcterms:modified xsi:type="dcterms:W3CDTF">2013-01-19T08:16:56Z</dcterms:modified>
  <cp:revision>697</cp:revision>
  <dc:subject/>
  <dc:title>슬라이드 1</dc:title>
</cp:coreProperties>
</file>