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72A6-B44D-44BA-8917-17C15EBA35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319-A211-4EBA-A8B3-FFC6CB23A9D3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47E-EF26-40D5-8112-E6992524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E1D-5DAA-49E0-B558-FF1B4DE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C89-04CB-46F1-9766-BEB7BC97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0B5-525A-411E-B9ED-F259E35D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EEC-349F-4AFD-BA68-C01CA698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9A3-C63F-4391-BFA7-BE82AAC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DE2-D078-47FC-9C02-76FEBFB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607-976B-43B9-9953-208D0012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B36-4874-4636-8880-6D50F09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0AE2-BE54-4F2D-8CF6-C827907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6FA1-4626-4714-8AC9-EDA6DBF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691-779F-41C0-A1B9-7CA38E0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118-BA2E-4D11-8FE9-450E73A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2696-34A7-43AE-A96C-FCD5138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E70-DF2D-4007-B201-71CBDC1B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D1BC-1521-4B41-B1C2-740C19BC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066E-B0B8-45FE-AD46-0815102A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7FCE-010B-4855-9603-CDC379BF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B51E-2B4C-45B4-ABCE-2295649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1661-4653-465C-ACD5-FD3B1715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B540-624E-4BDD-874F-A2E01C9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2D0F-0929-4B1F-A76F-E431F829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A1A-7624-40EC-95E7-5A70CF8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A64A-F8DF-4B36-938D-C7382CB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6F4B-3294-4520-8EB0-A27DC3D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7F23-5118-41B8-87EB-65F0ADB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A007-5F63-4F38-A3F6-1ED452FB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5464-D729-4C96-837B-4112F532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E6D5-D30A-476A-9EF2-1CC0C227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9983-6DC9-4226-9968-34D0938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C870-3930-4029-992F-894DB043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40D7-19E4-4448-BAF9-75A039E7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8830-04B1-4F19-A36B-0A078729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492-8D77-4D2F-AA16-076BDC8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A9B0-06BF-4CBB-87F2-1EA544C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98E9-497D-4901-8D62-6C23A548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5E7D-9C10-45C0-968D-2D48887C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3B87-3DEB-4275-85BC-AA501E59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1EA8-71D9-49C3-B8BA-D4C67D6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EA62-950D-4D89-85BD-20AF318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2CAF-04CF-4414-B3B6-D302DA7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359C-D830-44C1-A722-41F0A499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682C-C210-433B-9371-A954ECA8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B84A-841F-4E11-A7CC-8E67E035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AF0-03F7-4DBD-B0F1-4B8931E5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A215-A890-4E47-980B-01869C7A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9F47-138F-44A8-97D4-5F5E0462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7B27D-E447-43E5-88E1-150B960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6973-6562-4B03-8B21-32E921EF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00BF-C502-4DFF-8C43-6CE6ADC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C3BC4-994B-443D-8BD9-92D897F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EAE6-1E24-49DB-BE0C-F2519EA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E26D-CAB0-42A1-A9F1-1D620A3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32C8F-30F5-45A6-974E-9D149123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E169-B792-4A39-A466-F6E60960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C1B-C3E6-45C5-96E2-EE0223E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0D3B-D960-4E5F-AB12-F801E884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5A79B-26C8-42C9-B099-841E96B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AE4D-6A6D-43B2-8EF1-7FA9E20B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37BE-6CDD-4032-98DB-D4ABA8A9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9DD86-494F-4C08-896D-BF574A7E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87A6-5C4C-4E52-B39B-E402FC5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72CD-4331-4BFB-806F-A76BF7FA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0F58-E5C0-4770-B6A7-3DB78C7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7833-08A5-47DD-BD19-7942EAD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98FF9-C40D-4D26-819E-DF6E107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063-CED8-4EC0-8380-611A114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25DE-FCF3-4BD8-9821-43BC1F4B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5838-246C-44CC-8A6A-0E030F6F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C1FB-3CCB-43D2-AAA2-1D7D4C70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49E32-31B5-4C76-89D9-D73A4EA6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6C479-D928-4736-B50C-0383E46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4452-AD9C-44B4-8D7D-8A890DA7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E61E8-1685-449E-B105-F0C4ED17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9EEF-9E2A-4344-9722-FB1872E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6955-0CBA-46FA-8313-CAF540F3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A6F90-9BFA-484F-BD0C-709B2C2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37C-A2D7-4196-BF3D-5222571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951E-B39A-419E-9FF2-40A91DD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A9F4-B1F0-4A24-8218-57672A0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2F235-6099-44AD-AE54-CECAEC04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79D9E-80D9-4A3E-9B74-17573A2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884BD-64D6-4C3D-BDC3-76226AA8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35CE-F8AE-4717-BB22-1098CFAE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71BD7-C361-4A84-A3EF-CB7EB47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D92A-B5F3-417D-BC61-568A0B2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192B-8672-403F-9C72-657B393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7893A-4BAC-41A5-BC7A-4763541A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1E7-2A93-4A22-BD87-E5FB856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4966-DAA2-4423-8DE1-439D5EB6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71B8-591A-4910-B381-DF5D72A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15ACC-85AC-4951-B778-22DCE2A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F9D1-3567-403F-8C99-1899E38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5A835-682F-4AB4-B7D7-C951132A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0A53-4C3E-4AD9-858D-BB6E932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28FD0-1A4D-4ED3-B286-18719D9B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553-A42F-466E-911F-E5FEF2486C45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AF28-4991-4425-B4C9-65F901C0E53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0F2-41F1-4FAA-815D-F35D26805DBE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3F8-EDFC-4C74-939B-511715B77A3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7635960" y="6237360"/>
            <a:ext cx="1512720" cy="620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408B-0F6F-4274-B3DA-D9E5C43D219E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4E3A-CF9A-4AE4-84CC-728405F56D38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2475-ED5B-4050-A3C2-63BF287FB834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4D12-E494-4E22-9B47-06339777A76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B09F-FAC9-4834-9944-1EE6BCBC6B6D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3352-48F6-4EB8-B220-A6E526619CE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5FE-D470-4C91-A438-D6C0403A025F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367-1E41-45FA-AE7D-7BB3052B5AE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40FC-0083-4E20-891B-C2802E1D454A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45E0-1C72-436D-92F3-EB8B4B3B7D3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0958-7346-40A3-889D-998C33A38A4C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139-692E-4666-95F3-4E57F29AEE3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맑은 고딕"/>
              </a:rPr>
              <a:t>Improvement of the rate control for 3D multi-view video coding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W. Lim, I.V. Bajić and D. S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BFBC-6667-4F5A-AACB-8FFAA9BD7DA3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eviation of bits per second (bp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1A0-E351-448A-9007-C676C64C9FDF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1773360"/>
          <a:ext cx="8496360" cy="4325760"/>
        </p:xfrm>
        <a:graphic>
          <a:graphicData uri="http://schemas.openxmlformats.org/drawingml/2006/table">
            <a:tbl>
              <a:tblPr/>
              <a:tblGrid>
                <a:gridCol w="1728720"/>
                <a:gridCol w="1393920"/>
                <a:gridCol w="1393920"/>
                <a:gridCol w="1393560"/>
                <a:gridCol w="1393920"/>
                <a:gridCol w="1192320"/>
              </a:tblGrid>
              <a:tr h="47124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roposed methods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roposed methods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g. dif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 vie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 vie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 vie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 vie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3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8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58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7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4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6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9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4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73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6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6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3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7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1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3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54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0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89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1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10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0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2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37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9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1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2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8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of virtual buffer occupancy vs. frame index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00D-4BD7-4DD5-81D3-9AE5E184CA58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4" name="차트 7" descr=""/>
          <p:cNvPicPr/>
          <p:nvPr/>
        </p:nvPicPr>
        <p:blipFill>
          <a:blip r:embed="rId1"/>
          <a:stretch/>
        </p:blipFill>
        <p:spPr>
          <a:xfrm>
            <a:off x="1182600" y="2419200"/>
            <a:ext cx="66326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d two methods to improve rate control of extended views in multi-view video coding based on HEVC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demonstrated that interview MAD prediction leads to more accurate MAD prediction compared to conventional methods, especially in the case of fast mo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proposed methods led to better rate control accuracy, reduced fluctuation of instantaneous bitrate, as well as a small reduction of PSNR degradation, compared to the benchmark method.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methods can be used with any rate control scheme that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s on the prediction of to-be-generated bits from MAD or other error metrics, including the newly adopted R-lambda model-based algorith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commend the proposed methods to be adopted to the current rate control scheme for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FE2C-164A-433C-BF8F-26A415484B74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3D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view : the conventional rate control scheme of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view : additional tool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setting of QP for the first frame in a GOP of the extended view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 for the extended view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738-B3A8-46CB-9225-74107726C3CE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HEVC-based multi-view coding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the rate control performance, we propos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initialization in extended view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B0AA-7B64-4913-97A6-03A3C36E232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348" name="그룹 32"/>
          <p:cNvGrpSpPr/>
          <p:nvPr/>
        </p:nvGrpSpPr>
        <p:grpSpPr>
          <a:xfrm>
            <a:off x="1800360" y="2707200"/>
            <a:ext cx="5580000" cy="3674520"/>
            <a:chOff x="1800360" y="2707200"/>
            <a:chExt cx="5580000" cy="3674520"/>
          </a:xfrm>
        </p:grpSpPr>
        <p:sp>
          <p:nvSpPr>
            <p:cNvPr id="349" name="직사각형 33"/>
            <p:cNvSpPr/>
            <p:nvPr/>
          </p:nvSpPr>
          <p:spPr>
            <a:xfrm>
              <a:off x="3210120" y="5558040"/>
              <a:ext cx="2397240" cy="82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EVC with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ate control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extended view)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50" name="직선 화살표 연결선 34"/>
            <p:cNvCxnSpPr>
              <a:stCxn id="351" idx="3"/>
              <a:endCxn id="349" idx="1"/>
            </p:cNvCxnSpPr>
            <p:nvPr/>
          </p:nvCxnSpPr>
          <p:spPr>
            <a:xfrm>
              <a:off x="2893680" y="5970240"/>
              <a:ext cx="316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직사각형 35"/>
            <p:cNvSpPr/>
            <p:nvPr/>
          </p:nvSpPr>
          <p:spPr>
            <a:xfrm>
              <a:off x="1800360" y="5764320"/>
              <a:ext cx="1093680" cy="41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itial QP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352" name="직사각형 36"/>
            <p:cNvSpPr/>
            <p:nvPr/>
          </p:nvSpPr>
          <p:spPr>
            <a:xfrm>
              <a:off x="3210120" y="3728880"/>
              <a:ext cx="2397240" cy="82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EVC with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ate control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Base view)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353" name="직사각형 37"/>
            <p:cNvSpPr/>
            <p:nvPr/>
          </p:nvSpPr>
          <p:spPr>
            <a:xfrm>
              <a:off x="3519360" y="4826160"/>
              <a:ext cx="939600" cy="4586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AD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54" name="직선 화살표 연결선 38"/>
            <p:cNvCxnSpPr>
              <a:endCxn id="353" idx="0"/>
            </p:cNvCxnSpPr>
            <p:nvPr/>
          </p:nvCxnSpPr>
          <p:spPr>
            <a:xfrm flipH="1">
              <a:off x="3989160" y="4552920"/>
              <a:ext cx="216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5" name="직선 화살표 연결선 39"/>
            <p:cNvCxnSpPr>
              <a:stCxn id="353" idx="2"/>
            </p:cNvCxnSpPr>
            <p:nvPr/>
          </p:nvCxnSpPr>
          <p:spPr>
            <a:xfrm>
              <a:off x="3989520" y="5284800"/>
              <a:ext cx="216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직사각형 40"/>
            <p:cNvSpPr/>
            <p:nvPr/>
          </p:nvSpPr>
          <p:spPr>
            <a:xfrm>
              <a:off x="5397480" y="2997360"/>
              <a:ext cx="939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AD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57" name="꺾인 연결선 41"/>
            <p:cNvCxnSpPr>
              <a:stCxn id="358" idx="3"/>
              <a:endCxn id="356" idx="2"/>
            </p:cNvCxnSpPr>
            <p:nvPr/>
          </p:nvCxnSpPr>
          <p:spPr>
            <a:xfrm flipV="1">
              <a:off x="5607000" y="3454200"/>
              <a:ext cx="261000" cy="481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꺾인 연결선 42"/>
            <p:cNvCxnSpPr>
              <a:stCxn id="356" idx="1"/>
              <a:endCxn id="360" idx="0"/>
            </p:cNvCxnSpPr>
            <p:nvPr/>
          </p:nvCxnSpPr>
          <p:spPr>
            <a:xfrm flipV="1" rot="10800000">
              <a:off x="4928760" y="3224880"/>
              <a:ext cx="468720" cy="503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직사각형 43"/>
            <p:cNvSpPr/>
            <p:nvPr/>
          </p:nvSpPr>
          <p:spPr>
            <a:xfrm>
              <a:off x="6442200" y="2997360"/>
              <a:ext cx="938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mount of bits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358" name="직사각형 44"/>
            <p:cNvSpPr/>
            <p:nvPr/>
          </p:nvSpPr>
          <p:spPr>
            <a:xfrm>
              <a:off x="5294520" y="3728880"/>
              <a:ext cx="312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362" name="직사각형 45"/>
            <p:cNvSpPr/>
            <p:nvPr/>
          </p:nvSpPr>
          <p:spPr>
            <a:xfrm>
              <a:off x="5294520" y="4140360"/>
              <a:ext cx="3124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63" name="꺾인 연결선 46"/>
            <p:cNvCxnSpPr>
              <a:stCxn id="362" idx="3"/>
              <a:endCxn id="361" idx="2"/>
            </p:cNvCxnSpPr>
            <p:nvPr/>
          </p:nvCxnSpPr>
          <p:spPr>
            <a:xfrm flipV="1">
              <a:off x="5607360" y="3454200"/>
              <a:ext cx="1303920" cy="892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0" name="직사각형 47"/>
            <p:cNvSpPr/>
            <p:nvPr/>
          </p:nvSpPr>
          <p:spPr>
            <a:xfrm>
              <a:off x="4772160" y="3728880"/>
              <a:ext cx="312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364" name="직사각형 48"/>
            <p:cNvSpPr/>
            <p:nvPr/>
          </p:nvSpPr>
          <p:spPr>
            <a:xfrm>
              <a:off x="3834000" y="3728880"/>
              <a:ext cx="312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65" name="꺾인 연결선 49"/>
            <p:cNvCxnSpPr>
              <a:stCxn id="361" idx="0"/>
              <a:endCxn id="364" idx="0"/>
            </p:cNvCxnSpPr>
            <p:nvPr/>
          </p:nvCxnSpPr>
          <p:spPr>
            <a:xfrm rot="5400000">
              <a:off x="5083560" y="1902600"/>
              <a:ext cx="732240" cy="2921760"/>
            </a:xfrm>
            <a:prstGeom prst="bentConnector3">
              <a:avLst>
                <a:gd name="adj1" fmla="val -396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6" name="직사각형 50"/>
            <p:cNvSpPr/>
            <p:nvPr/>
          </p:nvSpPr>
          <p:spPr>
            <a:xfrm>
              <a:off x="4772160" y="5558040"/>
              <a:ext cx="3124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367" name="직사각형 51"/>
            <p:cNvSpPr/>
            <p:nvPr/>
          </p:nvSpPr>
          <p:spPr>
            <a:xfrm>
              <a:off x="5397480" y="4826160"/>
              <a:ext cx="93960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mount of bits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68" name="꺾인 연결선 52"/>
            <p:cNvCxnSpPr>
              <a:stCxn id="367" idx="1"/>
              <a:endCxn id="366" idx="0"/>
            </p:cNvCxnSpPr>
            <p:nvPr/>
          </p:nvCxnSpPr>
          <p:spPr>
            <a:xfrm flipV="1" rot="10800000">
              <a:off x="4928760" y="5053680"/>
              <a:ext cx="468720" cy="503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꺾인 연결선 53"/>
            <p:cNvCxnSpPr>
              <a:stCxn id="349" idx="3"/>
              <a:endCxn id="367" idx="2"/>
            </p:cNvCxnSpPr>
            <p:nvPr/>
          </p:nvCxnSpPr>
          <p:spPr>
            <a:xfrm flipV="1">
              <a:off x="5607000" y="5284080"/>
              <a:ext cx="26100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직선 화살표 연결선 54"/>
            <p:cNvCxnSpPr>
              <a:stCxn id="371" idx="3"/>
              <a:endCxn id="352" idx="1"/>
            </p:cNvCxnSpPr>
            <p:nvPr/>
          </p:nvCxnSpPr>
          <p:spPr>
            <a:xfrm flipV="1">
              <a:off x="2893680" y="4139640"/>
              <a:ext cx="316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1" name="직사각형 55"/>
            <p:cNvSpPr/>
            <p:nvPr/>
          </p:nvSpPr>
          <p:spPr>
            <a:xfrm>
              <a:off x="1800360" y="3935520"/>
              <a:ext cx="1093680" cy="41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itial QP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72" name="직선 화살표 연결선 56"/>
            <p:cNvCxnSpPr>
              <a:stCxn id="371" idx="2"/>
              <a:endCxn id="373" idx="0"/>
            </p:cNvCxnSpPr>
            <p:nvPr/>
          </p:nvCxnSpPr>
          <p:spPr>
            <a:xfrm>
              <a:off x="2347920" y="4346640"/>
              <a:ext cx="3600" cy="3895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373" name="직사각형 57"/>
            <p:cNvSpPr/>
            <p:nvPr/>
          </p:nvSpPr>
          <p:spPr>
            <a:xfrm>
              <a:off x="1809720" y="4735440"/>
              <a:ext cx="1084320" cy="7315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iew layer QP offset</a:t>
              </a:r>
              <a:endParaRPr b="0" lang="en-US" sz="14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cxnSp>
          <p:nvCxnSpPr>
            <p:cNvPr id="374" name="직선 화살표 연결선 58"/>
            <p:cNvCxnSpPr>
              <a:stCxn id="373" idx="2"/>
              <a:endCxn id="351" idx="0"/>
            </p:cNvCxnSpPr>
            <p:nvPr/>
          </p:nvCxnSpPr>
          <p:spPr>
            <a:xfrm flipH="1">
              <a:off x="2347560" y="5467320"/>
              <a:ext cx="3600" cy="297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initialization in extended view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xisting HEVC rate control methods, at the beginning of en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QP for the first frame in the base view is decided based on the target bitrate using an empirically obtained table of QP valu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unlike the base view, the first frame in each GOP in extended views is inter-coded relative to the reconstructed first frame in the base view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a different set of QP values would seem more appropriat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6EA-2013-4F06-B2D7-A5FC1A100E7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80" name="직사각형 1" descr=""/>
          <p:cNvPicPr/>
          <p:nvPr/>
        </p:nvPicPr>
        <p:blipFill>
          <a:blip r:embed="rId1"/>
          <a:stretch/>
        </p:blipFill>
        <p:spPr>
          <a:xfrm>
            <a:off x="1731960" y="3486240"/>
            <a:ext cx="56498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select a QP value for the current CTU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te control algorithm needs to predict the MAD value of the current CTU using previously encoded inform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ngle-view rate control, this is done by using the MAD of a block in the reference frame (temporal MAD prediction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may work well in the case of low mo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MAD prediction is less accura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motion level incr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becomes completely unreliable in case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 chang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A10-BC74-4B73-BA94-FC1A64BBDA7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AEB-5BCD-4594-BEFD-65543CE57CC6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900000" y="1252440"/>
            <a:ext cx="6985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 comparis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r (1920x1088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U-wise comparis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rson correl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mo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-MAD and a-MAD : 0.981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v-MAD and a-MAD : 0.990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mo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-MAD and a-MAD : 0.919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v-MAD and a-MAD : 0.975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FE9-1706-4516-9A25-74BFBC799146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824360" cy="1657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2"/>
          <a:stretch/>
        </p:blipFill>
        <p:spPr>
          <a:xfrm>
            <a:off x="4284720" y="4221000"/>
            <a:ext cx="4824360" cy="1800360"/>
          </a:xfrm>
          <a:prstGeom prst="rect">
            <a:avLst/>
          </a:prstGeom>
          <a:ln w="0">
            <a:noFill/>
          </a:ln>
        </p:spPr>
      </p:pic>
      <p:sp>
        <p:nvSpPr>
          <p:cNvPr id="399" name="직사각형 1"/>
          <p:cNvSpPr/>
          <p:nvPr/>
        </p:nvSpPr>
        <p:spPr>
          <a:xfrm>
            <a:off x="5651640" y="1484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Slow mo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직사각형 9"/>
          <p:cNvSpPr/>
          <p:nvPr/>
        </p:nvSpPr>
        <p:spPr>
          <a:xfrm>
            <a:off x="5651640" y="378936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Fast mo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 error in the actual bitrate (%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6D4-F49B-4BA0-A2DB-BBCD60FEDA16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4360" y="1844640"/>
          <a:ext cx="8280360" cy="4208400"/>
        </p:xfrm>
        <a:graphic>
          <a:graphicData uri="http://schemas.openxmlformats.org/drawingml/2006/table">
            <a:tbl>
              <a:tblPr/>
              <a:tblGrid>
                <a:gridCol w="1871640"/>
                <a:gridCol w="1601640"/>
                <a:gridCol w="1603440"/>
                <a:gridCol w="1601640"/>
                <a:gridCol w="1602000"/>
              </a:tblGrid>
              <a:tr h="41868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roposed methods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roposed methods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0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28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NR degradation in extended views (dB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8558280" y="6237360"/>
            <a:ext cx="61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2B4-D618-40B9-9971-D111DA7AA2F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39640" y="1773360"/>
          <a:ext cx="8280360" cy="4319640"/>
        </p:xfrm>
        <a:graphic>
          <a:graphicData uri="http://schemas.openxmlformats.org/drawingml/2006/table">
            <a:tbl>
              <a:tblPr/>
              <a:tblGrid>
                <a:gridCol w="1847880"/>
                <a:gridCol w="1608120"/>
                <a:gridCol w="1608120"/>
                <a:gridCol w="1608120"/>
                <a:gridCol w="1608120"/>
              </a:tblGrid>
              <a:tr h="576000">
                <a:tc row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roposed methods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roposed methods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vie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limwoong</cp:lastModifiedBy>
  <cp:lastPrinted>2011-07-17T23:54:03Z</cp:lastPrinted>
  <dcterms:modified xsi:type="dcterms:W3CDTF">2013-01-11T05:46:59Z</dcterms:modified>
  <cp:revision>306</cp:revision>
  <dc:subject/>
  <dc:title>PowerPoint 프레젠테이션</dc:title>
</cp:coreProperties>
</file>