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AAE955-F330-4E45-A875-92AE650168BD}" type="datetime">
              <a:rPr b="0" lang="zh-CN" sz="12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5bab"/>
                </a:solidFill>
                <a:latin typeface="Calibri"/>
              </a:rPr>
              <a:t>Click to move the slide</a:t>
            </a:r>
            <a:endParaRPr b="0" lang="en-US" sz="3200" spc="-1" strike="noStrike">
              <a:solidFill>
                <a:srgbClr val="005bab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D639DA-4BF5-4944-A0C2-A0F9C0844A0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0FF746-D4E3-4481-A726-B32419234D5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343798-3E0B-4134-A56D-CC17B9D6A15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F701DA-663F-43B1-A6A7-9C11EBBBF76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5F93C-C781-46C1-99AE-D408B26604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5ba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CD96E-6D09-40D9-A949-CC6D95CFD4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5bab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34D6F-5314-49FA-AF05-4F690DBFEA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5bab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6DA8C-5533-4398-944B-54AE819F85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5bab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5ba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5bab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5bab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5bab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5bab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29EA5-BDF4-44BD-967A-4D0ECA29BD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5ba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5ba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5bab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5ba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5ba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5bab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5ba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5bab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5bab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5bab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0DFC2-DBB3-48A0-A540-4973185A3CE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5ba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5bab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5ba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5bab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5bab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5bab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5ba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5ba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5ba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8CF9A-098B-4B75-BB3D-8D79C38E6F1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5ba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5bab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5ba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5ba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5ba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5ba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5ba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5ba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5ba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FE35E-0166-44AA-8EA2-5D7BACF8F96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5bab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5ba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5ba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5bab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5ba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5ba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5ba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5bab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5ba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70749-AEEA-4E8C-B1A5-0078E783A70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5bab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5ba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B8045-A279-41D9-9E5C-91B4E41A4F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5ba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DF585-76B7-4C79-B56E-6D0F355968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5ba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0EF01-A7D3-4460-8DF5-6CAA9A39EE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5bab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5bab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图片 6" descr=""/>
          <p:cNvPicPr/>
          <p:nvPr/>
        </p:nvPicPr>
        <p:blipFill>
          <a:blip r:embed="rId3"/>
          <a:stretch/>
        </p:blipFill>
        <p:spPr>
          <a:xfrm>
            <a:off x="216000" y="6610320"/>
            <a:ext cx="504720" cy="169920"/>
          </a:xfrm>
          <a:prstGeom prst="rect">
            <a:avLst/>
          </a:prstGeom>
          <a:ln w="0">
            <a:noFill/>
          </a:ln>
        </p:spPr>
      </p:pic>
      <p:sp>
        <p:nvSpPr>
          <p:cNvPr id="3" name="文本框 7"/>
          <p:cNvSpPr/>
          <p:nvPr/>
        </p:nvSpPr>
        <p:spPr>
          <a:xfrm>
            <a:off x="846000" y="6595920"/>
            <a:ext cx="149076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© ZTE Corporation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303760" y="650664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638050-E7F8-4B01-B389-87DEFC959290}" type="slidenum">
              <a:rPr b="0" lang="zh-CN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1" descr=""/>
          <p:cNvPicPr/>
          <p:nvPr/>
        </p:nvPicPr>
        <p:blipFill>
          <a:blip r:embed="rId3"/>
          <a:stretch/>
        </p:blipFill>
        <p:spPr>
          <a:xfrm>
            <a:off x="7505640" y="358920"/>
            <a:ext cx="1243080" cy="417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1"/>
          <p:cNvSpPr/>
          <p:nvPr/>
        </p:nvSpPr>
        <p:spPr>
          <a:xfrm>
            <a:off x="0" y="636588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www.zte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5bab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5bab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3200" spc="-1" strike="noStrike">
                <a:solidFill>
                  <a:srgbClr val="005bab"/>
                </a:solidFill>
                <a:latin typeface="Calibri"/>
              </a:rPr>
              <a:t>3D-CE5.h related:</a:t>
            </a:r>
            <a:r>
              <a:rPr b="1" lang="en-US" sz="3200" spc="-1" strike="noStrike">
                <a:solidFill>
                  <a:srgbClr val="005bab"/>
                </a:solidFill>
                <a:latin typeface="Calibri"/>
              </a:rPr>
              <a:t>Early Termination of PU Prediction in Depth Intra Coding</a:t>
            </a:r>
            <a:br>
              <a:rPr sz="3200"/>
            </a:br>
            <a:r>
              <a:rPr b="1" lang="en-US" sz="3200" spc="-1" strike="noStrike">
                <a:solidFill>
                  <a:srgbClr val="005bab"/>
                </a:solidFill>
                <a:latin typeface="Calibri"/>
              </a:rPr>
              <a:t>(JCT3V-B0042)</a:t>
            </a:r>
            <a:endParaRPr b="0" lang="en-US" sz="3200" spc="-1" strike="noStrike">
              <a:solidFill>
                <a:srgbClr val="005bab"/>
              </a:solidFill>
              <a:latin typeface="Calibri"/>
            </a:endParaRPr>
          </a:p>
        </p:txBody>
      </p:sp>
      <p:sp>
        <p:nvSpPr>
          <p:cNvPr id="197" name="Text Box 21"/>
          <p:cNvSpPr/>
          <p:nvPr/>
        </p:nvSpPr>
        <p:spPr>
          <a:xfrm>
            <a:off x="4159440" y="5000760"/>
            <a:ext cx="100440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Dotum"/>
              </a:rPr>
              <a:t>2012-10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2"/>
          <p:cNvSpPr/>
          <p:nvPr/>
        </p:nvSpPr>
        <p:spPr>
          <a:xfrm>
            <a:off x="2428920" y="5391000"/>
            <a:ext cx="428616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Calibri"/>
              </a:rPr>
              <a:t>ZTE Corpor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Dotum"/>
              </a:rPr>
              <a:t>Hongwei Li, Ming Li, Ping W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Dotum"/>
              </a:rPr>
              <a:t>Yingjie Hong,Guoqiang Sha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-360" y="515520"/>
            <a:ext cx="697068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5bab"/>
                </a:solidFill>
                <a:latin typeface="Calibri"/>
              </a:rPr>
              <a:t>Outline</a:t>
            </a:r>
            <a:endParaRPr b="0" lang="en-US" sz="3200" spc="-1" strike="noStrike">
              <a:solidFill>
                <a:srgbClr val="005ba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715760" y="1600200"/>
            <a:ext cx="6970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26352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Dotum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Dotum"/>
              </a:rPr>
              <a:t>1. Summ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6040" indent="-26352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Dotum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Dotum"/>
              </a:rPr>
              <a:t>2. Motiv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6040" indent="-26352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Dotum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Dotum"/>
              </a:rPr>
              <a:t>3. Proposed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6040" indent="-26352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Dotum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Dotum"/>
              </a:rPr>
              <a:t>4. Experimental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6040" indent="-26352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Dotum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Dotum"/>
              </a:rPr>
              <a:t>5. Conclu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515520"/>
            <a:ext cx="697068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ummary</a:t>
            </a:r>
            <a:endParaRPr b="0" lang="en-US" sz="3200" spc="-1" strike="noStrike">
              <a:solidFill>
                <a:srgbClr val="005ba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715760" y="1600200"/>
            <a:ext cx="6970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roposed meth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 Unicode MS"/>
              </a:rPr>
              <a:t>Fully standard compliant, no syntax 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 Unicode MS"/>
              </a:rPr>
              <a:t>Perform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 Unicode MS"/>
              </a:rPr>
              <a:t>an early termination of PU prediction in depth intra prediction for DMM by three judgments condi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 intra-only configu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 Unicode MS"/>
              </a:rPr>
              <a:t>0.8% BD-rate change on “coded and synthesized view” on aver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 Unicode MS"/>
              </a:rPr>
              <a:t>The encoding and decoding runtime is reduced by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1.1% and 24.2% ,respectivel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-360" y="515520"/>
            <a:ext cx="697068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5bab"/>
                </a:solidFill>
                <a:latin typeface="Times New Roman"/>
                <a:ea typeface="Times New Roman"/>
              </a:rPr>
              <a:t>Motivation</a:t>
            </a:r>
            <a:endParaRPr b="0" lang="en-US" sz="3200" spc="-1" strike="noStrike">
              <a:solidFill>
                <a:srgbClr val="005ba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715760" y="1600200"/>
            <a:ext cx="6970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MM takes very high percentage of coding time while comparing with other intra coding mo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bigger the size of the block ,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nger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th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untime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fo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MM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possibility which the prediction mode of the big PU becomes the final prediction mode of this PU is smal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n the difference between maximum and minimum pixel values in a PU is less than 10, the possibility which DMM is selected as the final prediction mode is small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vidences show that DMM mainly is applied to a depth block containing an edge, and also this kind of block contains two different constant pixel regions at lea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515520"/>
            <a:ext cx="697068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5bab"/>
                </a:solidFill>
                <a:latin typeface="Arial"/>
                <a:ea typeface="Dotum"/>
              </a:rPr>
              <a:t>Proposed Method</a:t>
            </a:r>
            <a:endParaRPr b="0" lang="en-US" sz="3200" spc="-1" strike="noStrike">
              <a:solidFill>
                <a:srgbClr val="005bab"/>
              </a:solidFill>
              <a:latin typeface="Calibri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Object 12"/>
          <p:cNvGraphicFramePr/>
          <p:nvPr/>
        </p:nvGraphicFramePr>
        <p:xfrm>
          <a:off x="1795320" y="1114560"/>
          <a:ext cx="6970680" cy="523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5320" y="1114560"/>
                    <a:ext cx="6970680" cy="52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360" y="515520"/>
            <a:ext cx="697068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5bab"/>
                </a:solidFill>
                <a:latin typeface="Times New Roman"/>
                <a:ea typeface="Times New Roman"/>
              </a:rPr>
              <a:t>Experimental Results</a:t>
            </a:r>
            <a:endParaRPr b="0" lang="en-US" sz="3200" spc="-1" strike="noStrike">
              <a:solidFill>
                <a:srgbClr val="005ba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715760" y="1081080"/>
            <a:ext cx="6970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mental Resul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849320" y="1584360"/>
          <a:ext cx="6837480" cy="3078000"/>
        </p:xfrm>
        <a:graphic>
          <a:graphicData uri="http://schemas.openxmlformats.org/drawingml/2006/table">
            <a:tbl>
              <a:tblPr/>
              <a:tblGrid>
                <a:gridCol w="1125720"/>
                <a:gridCol w="952560"/>
                <a:gridCol w="950760"/>
                <a:gridCol w="952560"/>
                <a:gridCol w="952560"/>
                <a:gridCol w="950760"/>
                <a:gridCol w="952560"/>
              </a:tblGrid>
              <a:tr h="436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video on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synthesized onl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coded &amp; synthesiz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enc 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dec 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ren 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Ballo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Ken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Newspaperc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GhostTownF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PoznanHall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PoznanStre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ndoDan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1024x7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1920x10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ver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标题 3"/>
          <p:cNvSpPr/>
          <p:nvPr/>
        </p:nvSpPr>
        <p:spPr>
          <a:xfrm>
            <a:off x="1716120" y="4775040"/>
            <a:ext cx="69706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nfiguration: the intra-only configuration for CE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oftware version:HTM4.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5bab"/>
                </a:solidFill>
                <a:latin typeface="Calibri"/>
                <a:ea typeface="微软雅黑"/>
              </a:rPr>
              <a:t>Not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5bab"/>
                </a:solidFill>
                <a:latin typeface="Calibri"/>
                <a:ea typeface="微软雅黑"/>
              </a:rPr>
              <a:t>Compare “HTM4.0.1 without DMM” to “HTM4.0.1 with DMM”, Qp=2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1849320" y="5978520"/>
          <a:ext cx="4577040" cy="741240"/>
        </p:xfrm>
        <a:graphic>
          <a:graphicData uri="http://schemas.openxmlformats.org/drawingml/2006/table">
            <a:tbl>
              <a:tblPr/>
              <a:tblGrid>
                <a:gridCol w="1047960"/>
                <a:gridCol w="1496880"/>
                <a:gridCol w="2032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89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nc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89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c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89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Ballo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a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a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a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5bab"/>
                </a:solidFill>
                <a:latin typeface="Times New Roman"/>
                <a:ea typeface="Times New Roman"/>
              </a:rPr>
              <a:t>Conclusion</a:t>
            </a:r>
            <a:endParaRPr b="0" lang="en-US" sz="3200" spc="-1" strike="noStrike">
              <a:solidFill>
                <a:srgbClr val="005ba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ethod being tes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erform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early termination of PU prediction in depth intra prediction for DMM by three condi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o decoder change is need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 Unicode MS"/>
              </a:rPr>
              <a:t>The encoding and decoding runtime is reduced by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1.1% and 24.2% ,respectively 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-0.8% BD-rate gai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幻灯片编号占位符 4"/>
          <p:cNvSpPr/>
          <p:nvPr/>
        </p:nvSpPr>
        <p:spPr>
          <a:xfrm>
            <a:off x="8304120" y="6507000"/>
            <a:ext cx="763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655297-E93D-4CE4-8E82-27AEC7451ACE}" type="slidenum">
              <a:rPr b="0" lang="zh-CN" sz="9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6T07:18:37Z</dcterms:created>
  <dc:creator>user</dc:creator>
  <dc:description/>
  <dc:language>en-US</dc:language>
  <cp:lastModifiedBy>user</cp:lastModifiedBy>
  <dcterms:modified xsi:type="dcterms:W3CDTF">2012-10-10T02:48:11Z</dcterms:modified>
  <cp:revision>33</cp:revision>
  <dc:subject/>
  <dc:title>Early Termination of PU Prediction in Depth Intra for DMM</dc:title>
</cp:coreProperties>
</file>