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C4E-2357-4BF5-9BDB-6F8A717E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BF5F-A2CA-42AF-ADF6-EEDF0E46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2B83-1634-4FA6-A16A-7A36D64C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AD6-5A0F-485B-94E4-6EA37B4F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8A84-BC9D-4358-84E4-A2672B00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4534-83F8-400C-8A76-5580B04C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3E59-FF36-4A01-A2A3-7C82EFA3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6A9C-E0BA-4ED8-92A5-96BCB4A8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4BF4-B248-402E-88EF-087DC5A0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10C7-76B7-459E-BDA3-AB02F205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49EB-8E2E-4373-B029-81064239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3AB8-6B69-48E3-84D6-D236FF88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88FC-05EB-4DCC-A5EE-939EEF97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75E0-9E2A-4628-87F1-AC149AE1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7DDB-9989-4BBB-A4A9-8D244D4E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BBE5-93BA-47C7-8846-6D07E4F1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4266-6658-49A2-B31F-CAB69479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48E-505E-4696-8441-C6A7B040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8173-FDFD-4A81-9776-7DAA0F4B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402-3007-4066-8903-3066466D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61B-3009-450B-974B-1802FF17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28D6-3B7F-45A1-8183-1F8ED2A1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65F8-FE1B-4FF2-9B38-83814CF8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F0B-CF5E-4782-9A15-F427BB7A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85A0-DF33-4E36-9A2F-BA0A9822272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CT3V-B00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B786-9CE4-4294-B690-2B7FB52244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D610-BEA5-41F9-8442-226F97F18F7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CT3V-B00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48D6-2AC4-42AE-8BBC-96D95729A2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JCT3V-B003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HG7 3D-AVC: Loss Detection of Depth Parameter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Miska M. Hannuksela</a:t>
            </a:r>
            <a:br>
              <a:rPr sz="3200"/>
            </a:br>
            <a:r>
              <a:rPr b="0" lang="en-CA" sz="3200" spc="-1" strike="noStrike">
                <a:solidFill>
                  <a:srgbClr val="898989"/>
                </a:solidFill>
                <a:latin typeface="Calibri"/>
              </a:rPr>
              <a:t>Nokia Research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Problem Set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ability to detect DPS loss, usage of wrong D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ppens when a lost DPS re-used an dps_id value (ID1) that had already been used earlier by another D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equently, the decoder interprets any reference to the dps_id value ID1 to the previous DPS NAL unit using the same dps_id valu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3V-B00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2416680" y="4309920"/>
            <a:ext cx="77508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DPS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3306960" y="4309920"/>
            <a:ext cx="52812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V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3929760" y="4309920"/>
            <a:ext cx="77508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DPS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784760" y="4309920"/>
            <a:ext cx="52812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V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5358960" y="430992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5739480" y="4319640"/>
            <a:ext cx="77508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DPS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6585120" y="4319640"/>
            <a:ext cx="52812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V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Curved Connector 4"/>
          <p:cNvCxnSpPr>
            <a:stCxn id="91" idx="2"/>
            <a:endCxn id="90" idx="2"/>
          </p:cNvCxnSpPr>
          <p:nvPr/>
        </p:nvCxnSpPr>
        <p:spPr>
          <a:xfrm rot="5400000">
            <a:off x="3188160" y="4294800"/>
            <a:ext cx="13320" cy="767520"/>
          </a:xfrm>
          <a:prstGeom prst="curvedConnector5">
            <a:avLst>
              <a:gd name="adj1" fmla="val 1800000"/>
              <a:gd name="adj2" fmla="val 49976"/>
              <a:gd name="adj3" fmla="val 180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Curved Connector 13"/>
          <p:cNvCxnSpPr>
            <a:stCxn id="93" idx="2"/>
            <a:endCxn id="92" idx="2"/>
          </p:cNvCxnSpPr>
          <p:nvPr/>
        </p:nvCxnSpPr>
        <p:spPr>
          <a:xfrm rot="5400000">
            <a:off x="4682160" y="4311360"/>
            <a:ext cx="1080" cy="734040"/>
          </a:xfrm>
          <a:prstGeom prst="curvedConnector5">
            <a:avLst>
              <a:gd name="adj1" fmla="val 182950000"/>
              <a:gd name="adj2" fmla="val 50000"/>
              <a:gd name="adj3" fmla="val 1829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Curved Connector 16"/>
          <p:cNvCxnSpPr>
            <a:stCxn id="96" idx="2"/>
            <a:endCxn id="95" idx="2"/>
          </p:cNvCxnSpPr>
          <p:nvPr/>
        </p:nvCxnSpPr>
        <p:spPr>
          <a:xfrm rot="5400000">
            <a:off x="6487560" y="4327200"/>
            <a:ext cx="13320" cy="724680"/>
          </a:xfrm>
          <a:prstGeom prst="curvedConnector5">
            <a:avLst>
              <a:gd name="adj1" fmla="val 1800000"/>
              <a:gd name="adj2" fmla="val 50000"/>
              <a:gd name="adj3" fmla="val 180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0" name="TextBox 20"/>
          <p:cNvSpPr/>
          <p:nvPr/>
        </p:nvSpPr>
        <p:spPr>
          <a:xfrm>
            <a:off x="1001520" y="43131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o los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21"/>
          <p:cNvSpPr/>
          <p:nvPr/>
        </p:nvSpPr>
        <p:spPr>
          <a:xfrm>
            <a:off x="2464200" y="5362560"/>
            <a:ext cx="77508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DPS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22"/>
          <p:cNvSpPr/>
          <p:nvPr/>
        </p:nvSpPr>
        <p:spPr>
          <a:xfrm>
            <a:off x="3354480" y="5362560"/>
            <a:ext cx="52812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V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3975840" y="5362560"/>
            <a:ext cx="77508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DPS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4"/>
          <p:cNvSpPr/>
          <p:nvPr/>
        </p:nvSpPr>
        <p:spPr>
          <a:xfrm>
            <a:off x="4832280" y="5362560"/>
            <a:ext cx="52812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V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5"/>
          <p:cNvSpPr/>
          <p:nvPr/>
        </p:nvSpPr>
        <p:spPr>
          <a:xfrm>
            <a:off x="5406480" y="536256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6"/>
          <p:cNvSpPr/>
          <p:nvPr/>
        </p:nvSpPr>
        <p:spPr>
          <a:xfrm>
            <a:off x="5785560" y="5373720"/>
            <a:ext cx="77508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DPS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7"/>
          <p:cNvSpPr/>
          <p:nvPr/>
        </p:nvSpPr>
        <p:spPr>
          <a:xfrm>
            <a:off x="6632640" y="5373720"/>
            <a:ext cx="52812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V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Curved Connector 28"/>
          <p:cNvCxnSpPr>
            <a:stCxn id="102" idx="2"/>
            <a:endCxn id="101" idx="2"/>
          </p:cNvCxnSpPr>
          <p:nvPr/>
        </p:nvCxnSpPr>
        <p:spPr>
          <a:xfrm rot="5400000">
            <a:off x="3233880" y="5348880"/>
            <a:ext cx="13320" cy="767160"/>
          </a:xfrm>
          <a:prstGeom prst="curvedConnector5">
            <a:avLst>
              <a:gd name="adj1" fmla="val 1800000"/>
              <a:gd name="adj2" fmla="val 50000"/>
              <a:gd name="adj3" fmla="val 180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Curved Connector 29"/>
          <p:cNvCxnSpPr>
            <a:stCxn id="104" idx="2"/>
            <a:endCxn id="103" idx="2"/>
          </p:cNvCxnSpPr>
          <p:nvPr/>
        </p:nvCxnSpPr>
        <p:spPr>
          <a:xfrm rot="5400000">
            <a:off x="4728960" y="5366520"/>
            <a:ext cx="1080" cy="732600"/>
          </a:xfrm>
          <a:prstGeom prst="curvedConnector5">
            <a:avLst>
              <a:gd name="adj1" fmla="val 182950000"/>
              <a:gd name="adj2" fmla="val 50000"/>
              <a:gd name="adj3" fmla="val 1829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0" name="Curved Connector 30"/>
          <p:cNvCxnSpPr>
            <a:stCxn id="107" idx="2"/>
            <a:endCxn id="101" idx="2"/>
          </p:cNvCxnSpPr>
          <p:nvPr/>
        </p:nvCxnSpPr>
        <p:spPr>
          <a:xfrm flipV="1" rot="16200000">
            <a:off x="4868640" y="3714120"/>
            <a:ext cx="10080" cy="4045680"/>
          </a:xfrm>
          <a:prstGeom prst="curvedConnector5">
            <a:avLst>
              <a:gd name="adj1" fmla="val -4892592"/>
              <a:gd name="adj2" fmla="val 49995"/>
              <a:gd name="adj3" fmla="val -489259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1" name="TextBox 31"/>
          <p:cNvSpPr/>
          <p:nvPr/>
        </p:nvSpPr>
        <p:spPr>
          <a:xfrm>
            <a:off x="1046880" y="53672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alibri"/>
              </a:rPr>
              <a:t>Los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traight Connector 33"/>
          <p:cNvSpPr/>
          <p:nvPr/>
        </p:nvSpPr>
        <p:spPr>
          <a:xfrm>
            <a:off x="5923080" y="5229360"/>
            <a:ext cx="554040" cy="720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traight Connector 37"/>
          <p:cNvSpPr/>
          <p:nvPr/>
        </p:nvSpPr>
        <p:spPr>
          <a:xfrm flipV="1">
            <a:off x="5923080" y="5229000"/>
            <a:ext cx="554040" cy="647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42"/>
          <p:cNvSpPr/>
          <p:nvPr/>
        </p:nvSpPr>
        <p:spPr>
          <a:xfrm>
            <a:off x="5989320" y="59500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alibri"/>
              </a:rPr>
              <a:t>Decoder refers to wrong DPS</a:t>
            </a:r>
            <a:br>
              <a:rPr sz="1800"/>
            </a:br>
            <a:r>
              <a:rPr b="0" lang="fi-FI" sz="1800" spc="-1" strike="noStrike">
                <a:solidFill>
                  <a:srgbClr val="ff0000"/>
                </a:solidFill>
                <a:latin typeface="Calibri"/>
              </a:rPr>
              <a:t>without detecting the lo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pth Parameter Set 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n 3D-AVC Draf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rries depth range and VSP parameters (focal length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pth_parameter_set_id equal to 0 used for the parameters carried in the S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pth_parameter_set_id greater than 0 used in depth parameter set NAL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ps_id in slice header indicates which Depth Parameter Set is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3V-B00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PS Loss De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484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max_dps_id given in SPS: dps_id in DPS in the range of 1 to max_dps_id+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max_dps_id_diff given in SPS: a range of dps_id values that are considered “used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The range is relative to the maximum used dps_id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A DPS in the “used” range can be retransmitted (for error resilienc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A new DPS must use an dps_id from the “unused” range (usually increment by 1 in modulo arithmeti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hen maximum used dps_id value is updated, the DPSes that fall outside the window of “used dps_id values” are marked as unavailable – hence, no accidental re-use of a DPS can happ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traight Connector 4"/>
          <p:cNvSpPr/>
          <p:nvPr/>
        </p:nvSpPr>
        <p:spPr>
          <a:xfrm>
            <a:off x="900000" y="5292720"/>
            <a:ext cx="7344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751680" y="5292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7672680" y="529596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max_dps_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5069520" y="536580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Max used 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dps_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9"/>
          <p:cNvSpPr/>
          <p:nvPr/>
        </p:nvSpPr>
        <p:spPr>
          <a:xfrm flipV="1">
            <a:off x="5637240" y="5199120"/>
            <a:ext cx="0" cy="16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11"/>
          <p:cNvSpPr/>
          <p:nvPr/>
        </p:nvSpPr>
        <p:spPr>
          <a:xfrm flipV="1">
            <a:off x="2195640" y="5213520"/>
            <a:ext cx="0" cy="16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ight Brace 12"/>
          <p:cNvSpPr/>
          <p:nvPr/>
        </p:nvSpPr>
        <p:spPr>
          <a:xfrm rot="5400000">
            <a:off x="3772080" y="4363920"/>
            <a:ext cx="287280" cy="344016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3440160"/>
              <a:gd name="textAreaBottom" fmla="*/ 3432960 h 344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"/>
                  <a:pt x="10800" y="150"/>
                </a:cubicBezTo>
                <a:lnTo>
                  <a:pt x="10800" y="10650"/>
                </a:lnTo>
                <a:cubicBezTo>
                  <a:pt x="10800" y="10725"/>
                  <a:pt x="16200" y="10800"/>
                  <a:pt x="21600" y="10800"/>
                </a:cubicBezTo>
                <a:cubicBezTo>
                  <a:pt x="16200" y="10800"/>
                  <a:pt x="10800" y="10875"/>
                  <a:pt x="10800" y="10950"/>
                </a:cubicBezTo>
                <a:lnTo>
                  <a:pt x="10800" y="21450"/>
                </a:lnTo>
                <a:cubicBezTo>
                  <a:pt x="10800" y="2152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3053160" y="615636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max_dps_id_di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ight Brace 14"/>
          <p:cNvSpPr/>
          <p:nvPr/>
        </p:nvSpPr>
        <p:spPr>
          <a:xfrm rot="16200000">
            <a:off x="3772440" y="3283200"/>
            <a:ext cx="289080" cy="344016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3440160"/>
              <a:gd name="textAreaBottom" fmla="*/ 3432960 h 344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16200" y="10800"/>
                  <a:pt x="21600" y="10800"/>
                </a:cubicBezTo>
                <a:cubicBezTo>
                  <a:pt x="162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5"/>
          <p:cNvSpPr/>
          <p:nvPr/>
        </p:nvSpPr>
        <p:spPr>
          <a:xfrm>
            <a:off x="2873520" y="451332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used dps_id values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ight Brace 16"/>
          <p:cNvSpPr/>
          <p:nvPr/>
        </p:nvSpPr>
        <p:spPr>
          <a:xfrm rot="16200000">
            <a:off x="6810480" y="3724200"/>
            <a:ext cx="288720" cy="2578320"/>
          </a:xfrm>
          <a:custGeom>
            <a:avLst/>
            <a:gdLst>
              <a:gd name="textAreaLeft" fmla="*/ 0 w 288720"/>
              <a:gd name="textAreaRight" fmla="*/ 104040 w 288720"/>
              <a:gd name="textAreaTop" fmla="*/ 7200 h 2578320"/>
              <a:gd name="textAreaBottom" fmla="*/ 2571120 h 257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1"/>
                  <a:pt x="10800" y="202"/>
                </a:cubicBezTo>
                <a:lnTo>
                  <a:pt x="10800" y="10598"/>
                </a:lnTo>
                <a:cubicBezTo>
                  <a:pt x="10800" y="10699"/>
                  <a:pt x="16200" y="10800"/>
                  <a:pt x="21600" y="10800"/>
                </a:cubicBezTo>
                <a:cubicBezTo>
                  <a:pt x="16200" y="10800"/>
                  <a:pt x="10800" y="10901"/>
                  <a:pt x="10800" y="11002"/>
                </a:cubicBezTo>
                <a:lnTo>
                  <a:pt x="10800" y="21398"/>
                </a:lnTo>
                <a:cubicBezTo>
                  <a:pt x="10800" y="2149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ight Brace 17"/>
          <p:cNvSpPr/>
          <p:nvPr/>
        </p:nvSpPr>
        <p:spPr>
          <a:xfrm rot="16200000">
            <a:off x="1396800" y="4349160"/>
            <a:ext cx="289080" cy="130824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1308240"/>
              <a:gd name="textAreaBottom" fmla="*/ 1301040 h 13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9"/>
                  <a:pt x="10800" y="398"/>
                </a:cubicBezTo>
                <a:lnTo>
                  <a:pt x="10800" y="10402"/>
                </a:lnTo>
                <a:cubicBezTo>
                  <a:pt x="10800" y="10601"/>
                  <a:pt x="16200" y="10800"/>
                  <a:pt x="21600" y="10800"/>
                </a:cubicBezTo>
                <a:cubicBezTo>
                  <a:pt x="16200" y="10800"/>
                  <a:pt x="10800" y="10999"/>
                  <a:pt x="10800" y="11198"/>
                </a:cubicBezTo>
                <a:lnTo>
                  <a:pt x="10800" y="21202"/>
                </a:lnTo>
                <a:cubicBezTo>
                  <a:pt x="10800" y="214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6425280" y="4473720"/>
            <a:ext cx="10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unuse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1011960" y="4529160"/>
            <a:ext cx="10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unuse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ooter Placeholder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3V-B00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6150600" y="6156360"/>
            <a:ext cx="2803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Constraint: max_dps_id_diff * 2</a:t>
            </a:r>
            <a:br>
              <a:rPr sz="1600"/>
            </a:b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 shall be less than max_dps_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8T06:15:07Z</dcterms:created>
  <dc:creator>Miska Hannuksela</dc:creator>
  <dc:description/>
  <dc:language>en-US</dc:language>
  <cp:lastModifiedBy>Miska Hannuksela</cp:lastModifiedBy>
  <dcterms:modified xsi:type="dcterms:W3CDTF">2012-10-16T04:54:38Z</dcterms:modified>
  <cp:revision>26</cp:revision>
  <dc:subject/>
  <dc:title>JCTVC-I0069 APS error resilience and  partial upda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kiaConfidentiality">
    <vt:lpwstr>Public</vt:lpwstr>
  </property>
  <property fmtid="{D5CDD505-2E9C-101B-9397-08002B2CF9AE}" pid="3" name="TitusGUID">
    <vt:lpwstr>9ed3f25d-14e2-4d3b-b421-6c5e4c220879</vt:lpwstr>
  </property>
</Properties>
</file>