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1CF0-4E43-4FD0-A128-91E3A4978FD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3BBF-D1F6-435A-A85B-639CBC14ABB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D1D0-7A66-4CCF-8A5E-A62D34287566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F446-A6F7-4186-8E44-FAC9850E2206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D0A7-E71C-42B7-A315-1FE1CC2037D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9403-6E4E-4ED6-9DBB-939CDE71CFA1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8CCD-18DF-4A0A-84A3-74C407C55457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AD59-C6EE-4F48-BEC8-27BF09ED34A6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ADD2-F089-48F7-AD82-AA244D8C4766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6472-9E85-400B-A498-78FBAAD93467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D769-6530-4CA7-AB7E-8FAF9A5A2D6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C516-5300-45FE-9BC9-AD7FC3D7276E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2925-B125-46B1-AF63-FE831C30F056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910-F0CE-4A3A-AB89-9BF85EFB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739-6817-4D86-B520-89E58BF1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EB3-7439-4AB2-84A3-EF3791AA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11A0-F5A4-4F8A-B01B-052E42D6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EE78-D758-4BD3-92E6-EEDF2B14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C1C3-1192-4AFC-93C7-90F16323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3959-5385-45E9-BA29-C3C16780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E5AE-7093-4A9F-9A32-04A6D800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F6D8-AA00-4D6F-B8FD-EA4C72C6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0497-5559-4E1A-9DF0-6F1A3CBB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5675-C648-462E-8AC9-67E4FB44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75C-E081-4DDE-A910-1DF34A68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A3CC-89D6-4AA9-BFC5-95CF1B0A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62CB-1CC1-45FD-AD16-D108836E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9601-6F52-46D3-B00C-77BF5924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FC3F-2A65-4EED-8549-7827C0EF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1A95-CC7B-45F5-91B1-786880C4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C80DB-C808-4683-BCCD-E4A5F45B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BFFDE-764C-4680-AADD-E9F0E5F6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CC4AC-C3DE-4591-9EBE-CD7B48B2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9FF4A-6206-4BD5-80EB-9322F515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8F9EB-E566-40CB-80B7-0CAA4CD4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025-56D4-4F7F-97F3-567514EE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1E68-8D7D-4381-9767-7F45D507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5B90-A875-4414-8A60-7E283B63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F85DA-C456-42D9-A27A-C9FF0363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415B-6204-4739-80C1-CE40FFE8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923E-BCF5-4C91-981C-735AC39A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670FD-F02E-4B4E-9FB8-1E572868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724C-0092-4F77-9699-50EE6D31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7AC1A-723D-41A3-8DC7-D66BDEBE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F8A2B-DFCA-42FC-B266-754A7DAE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F0673-32E1-467E-88CD-567277C9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DAC-BB13-4B8B-8097-811E6B88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19255-1534-4DBA-B71F-4038BF53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ACCD0-ACA7-4659-B5C2-B0CBAB23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69958-37D9-448E-B8FB-BF3BE200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237FE-2528-43EF-8B8D-7A76521C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1CC4C-CF9A-44CB-B92C-202EA1B2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42205-7C08-44CF-9C63-23191AF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51E58-6316-4971-A32A-1838DD88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13CBA-0F06-49CE-AF18-F43F66D0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C2C9E-4B94-48B1-8DCE-56E78D82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31F41-C66A-44C9-B094-B2681CFA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381-393E-4F92-8389-19DC6724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F29EE-47C1-4B73-A4DE-3893B218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B4D5C-BBB8-424B-BCCD-A2F875F7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E471B-8154-4E5C-9796-5AF27CEF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1B2C8-0BFB-469C-95FF-82FA6D64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5EEB1-48E5-4932-BAC0-15944693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95E8-E369-4A5B-85D0-9ABE025A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C59EC-50D1-485E-82F2-BE08DA0D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D1F59-5A61-47A3-9731-AA15F8D3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D50F5-0A36-4A1D-A387-B4C20781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6BB4C-FE60-44CC-B447-CD42DF1B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B587-487C-470F-97CB-EA22258B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A1EAD-3AF3-4603-9EFC-CC1EB7CE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3A81F-0F68-43BA-B978-87ADB812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4EF9C-A232-43FD-85F7-E7AB0B36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11B1A-90D8-4446-8AF4-E4759A52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21DD2-0E9E-4336-AED1-414C0E70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EB839-E327-4040-91FA-F52BCCE3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D0068-4AC1-4235-AADF-FF41781B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2FC3B-94B0-4441-A31D-6D7F9901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EE749-D31C-4ACF-BFAA-5B80F9FE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BC263-FB94-4733-9033-13B8E754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341-3909-4BB5-BF8B-52A82208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F2DBE-9B54-4A42-9739-EF8987BF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3EA33-DF3E-4A94-B024-A999A4B6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E54C5-3036-460A-BB0B-A3A2168A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CEC66-39C0-40B6-9665-C8A39098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1D65C-8769-4C6F-8220-82061B64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CB2A4-EE51-4F2F-9CC1-69DE2545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C5D96-F47F-4AC4-A7A3-C9536709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95B21-502C-4724-BC26-593E2E92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A9E94-C991-4CBE-8DC3-1EBD1F0E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A0B9A-FC59-4ABE-ABDD-D78F695F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AFA-F171-40D9-AA8C-3F2BBCDF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33314-BE06-48FB-B0E5-7FCA3FB0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9393B-8D51-4901-B441-CF13A9E5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A985D-DDA3-4AAD-B634-B9865578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34FED-C72B-45D5-B56E-C8C929D1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B0D84-73C3-45EC-BA0E-DBE4E269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3BED4-6764-4060-B11E-390266E9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F4310-BECB-495A-A7B7-E6E4F976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42ABF-17A6-48F6-B411-2295FC7F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DF838-75F0-49D2-8CFB-226D65EC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FB097-8CC4-4F00-8261-7E7520A6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510-141A-488D-8AB6-EA5063CF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BF355-51DD-42BA-B8AD-C7AC4510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2D674-5401-47A2-B7ED-505CE460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AF5DB-8379-413B-885B-C978BC89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B61F5-3FE0-49F3-820E-87953605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A4C9A-6900-416E-8B70-DBD78DE3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3CFB1-F7E6-44DF-9987-6730964E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B618F-98FE-412B-B0F1-68A55B84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DD45-5AC6-4C8C-BA8B-715D45375989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9F75-04A1-4EFE-9A47-892CF195D1A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JohnChrisostomo\Desktop\71cc6ada1ee1f52fe8a3fc8772e90b0d.jpg"/>
          <p:cNvPicPr/>
          <p:nvPr/>
        </p:nvPicPr>
        <p:blipFill>
          <a:blip r:embed="rId3"/>
          <a:stretch/>
        </p:blipFill>
        <p:spPr>
          <a:xfrm>
            <a:off x="6156360" y="5646600"/>
            <a:ext cx="2735280" cy="112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F288-1FC1-4405-B98D-F69D08DF40EB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78A4-0BB7-4B55-9CB7-3C61410E024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F3D2-AD26-4F96-8F2F-6C0132B03ACD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807192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353B-05AB-4223-9D8B-E454A53C920A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62B5-A748-4525-AE93-0136AEA93105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06B2-0F52-446A-8268-4CDD1143242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F1B0-39A3-44EE-B1C4-B42755697B76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2AC7-B936-4543-B2A0-094F16BD209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A875-F218-4F7B-9112-5F64CD4D0038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745D-271D-4BB6-A7BD-0A2EB2D3043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801E-E80F-44DD-88C1-108B0CFF94DA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553E-5648-4CAC-80B8-E18485CDE06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348D-0FF7-402F-AB76-42C5C98C404F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4DDD-AA67-4DA7-B879-621160C8AC0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8000" y="1412640"/>
            <a:ext cx="90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rovement of the Rate Control for 3D Video Coding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556000" y="393372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. Lim, H. Choi, J. Nam, H. Jo, D. Si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.V. Baj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슬라이드 번호 개체 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8D2A-75B3-4B07-86BA-68D5955ACF53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직사각형 2"/>
          <p:cNvSpPr/>
          <p:nvPr/>
        </p:nvSpPr>
        <p:spPr>
          <a:xfrm>
            <a:off x="6732720" y="2979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CT3V-B0030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26638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605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umulated occupancy of virtual buffer (GTFly/R1)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C141-6B93-40BF-AC15-6FC753EA53F7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80" name="Picture 8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48720" cy="2520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"/>
          <p:cNvPicPr/>
          <p:nvPr/>
        </p:nvPicPr>
        <p:blipFill>
          <a:blip r:embed="rId2"/>
          <a:stretch/>
        </p:blipFill>
        <p:spPr>
          <a:xfrm>
            <a:off x="176040" y="3716280"/>
            <a:ext cx="8777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umulated occupancy of virtual buffer (Balloons/R1/R4)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FA15-EFBC-42CA-863D-28224D4104AD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324000" y="1116000"/>
            <a:ext cx="8416800" cy="2519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9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8397720" cy="2521080"/>
          </a:xfrm>
          <a:prstGeom prst="rect">
            <a:avLst/>
          </a:prstGeom>
          <a:ln w="0">
            <a:noFill/>
          </a:ln>
        </p:spPr>
      </p:pic>
      <p:sp>
        <p:nvSpPr>
          <p:cNvPr id="386" name="TextBox 5"/>
          <p:cNvSpPr/>
          <p:nvPr/>
        </p:nvSpPr>
        <p:spPr>
          <a:xfrm>
            <a:off x="5733000" y="11444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맑은 고딕"/>
              </a:rPr>
              <a:t>high-bitrat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5731560" y="386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맑은 고딕"/>
              </a:rPr>
              <a:t>low-bitrat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28400" y="119664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posed a rate control scheme for 3D multi-view video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mprovements by using the proposed QP setting (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ViewLayerQPOffset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67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moval of the sudden high generated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67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mprove the quality of the extended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67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erform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 the last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67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average bitrate accuracy 99.1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67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2.1 dB average PSNR degra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proposed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67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average bitrate accuracy 99.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67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1.22 dB average PSNR degra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67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99CA-DACD-44FC-BACC-71C111EE76D3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control for 3D video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ally, based on the existing rate control of HM 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67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CT-VC meeting (San José, CA, USA), a rate control for HEVC was introduced, JCTVC-H02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67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CT-VC meeting (Geneva, Switzerland), some improvement of the rate control was introduced, JCTVC-I00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view : the conventional rate control scheme of HM 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 view : additional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67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 of QP for the first frame of extended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67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th map-based inter-view MAD prediction for extended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5B21-A808-4C4A-8A18-DDA1B80677A1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blem of the contribution in the last meeting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4160" indent="-25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dden high generated bits in the extended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-wise (a) accumulated occupancy of virtual buffer and (b) actual generated bits for ‘Newspaper’ sequence (view 2, R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BED6-5A60-402D-B59A-C2FC865E598A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48" name="그림 8" descr=""/>
          <p:cNvPicPr/>
          <p:nvPr/>
        </p:nvPicPr>
        <p:blipFill>
          <a:blip r:embed="rId1"/>
          <a:stretch/>
        </p:blipFill>
        <p:spPr>
          <a:xfrm>
            <a:off x="1477800" y="1628640"/>
            <a:ext cx="6046920" cy="1809720"/>
          </a:xfrm>
          <a:prstGeom prst="rect">
            <a:avLst/>
          </a:prstGeom>
          <a:ln w="0">
            <a:noFill/>
          </a:ln>
        </p:spPr>
      </p:pic>
      <p:pic>
        <p:nvPicPr>
          <p:cNvPr id="349" name="그림 9" descr=""/>
          <p:cNvPicPr/>
          <p:nvPr/>
        </p:nvPicPr>
        <p:blipFill>
          <a:blip r:embed="rId2"/>
          <a:stretch/>
        </p:blipFill>
        <p:spPr>
          <a:xfrm>
            <a:off x="1474920" y="3716280"/>
            <a:ext cx="6046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tial QP decision for the first frame in an extended view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28400" y="1214280"/>
            <a:ext cx="8258040" cy="31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frame level, the QPs between base view and extended view are redundant to maintain the similar quality between base view and extended vie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ewLayerQPOff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QP offset between base view and extended views that pre-defined in the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ewLayerQPOff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initialization of frame level QP setting of the first frame of GOP of the extended view as fol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337E-9237-4AE5-8BC8-CDF0FA645068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개체 2"/>
              <p:cNvSpPr txBox="1"/>
              <p:nvPr/>
            </p:nvSpPr>
            <p:spPr>
              <a:xfrm>
                <a:off x="1042920" y="4221000"/>
                <a:ext cx="55245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iewLayerQPOffse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formance evalua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proposed rate control is evaluated wi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acces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on test condition (CTC) of the current 3D multi-view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mplemented on 3D-HTM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centage of error in the number of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67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ismatch ratio of target bits and actual achieved bits per sequ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NR degra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68B1-5E49-4485-9E52-67FFDAC7AF03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개체 1"/>
              <p:cNvSpPr txBox="1"/>
              <p:nvPr/>
            </p:nvSpPr>
            <p:spPr>
              <a:xfrm>
                <a:off x="1332000" y="5035680"/>
                <a:ext cx="38383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SNR</m:t>
                    </m:r>
                    <m:r>
                      <m:t xml:space="preserve">=</m:t>
                    </m:r>
                    <m:r>
                      <m:t xml:space="preserve">'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SN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TM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'-'PSN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개체 2"/>
              <p:cNvSpPr txBox="1"/>
              <p:nvPr/>
            </p:nvSpPr>
            <p:spPr>
              <a:xfrm>
                <a:off x="1403280" y="3645000"/>
                <a:ext cx="4108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_kbps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'bit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r>
                              <m:t xml:space="preserve">'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TM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'bit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TM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'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821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all view-wise bitrate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784A-0533-488C-BA7B-76EC2E594EF9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7000" y="949320"/>
          <a:ext cx="9072720" cy="5526000"/>
        </p:xfrm>
        <a:graphic>
          <a:graphicData uri="http://schemas.openxmlformats.org/drawingml/2006/table">
            <a:tbl>
              <a:tblPr/>
              <a:tblGrid>
                <a:gridCol w="963720"/>
                <a:gridCol w="642960"/>
                <a:gridCol w="628560"/>
                <a:gridCol w="745920"/>
                <a:gridCol w="744840"/>
                <a:gridCol w="745920"/>
                <a:gridCol w="744480"/>
                <a:gridCol w="744480"/>
                <a:gridCol w="746280"/>
                <a:gridCol w="744480"/>
                <a:gridCol w="728640"/>
                <a:gridCol w="892440"/>
              </a:tblGrid>
              <a:tr h="4572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arge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ate V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arge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ate 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arge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ate 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% k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rror V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% k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rror 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% k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rror 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overall kbps error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351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allo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527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76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11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4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72.8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10.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40.7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1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1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797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82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51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64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79.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48.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63.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48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78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1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76.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79.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7.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.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4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65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68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6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51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66.9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5.7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50.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5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3351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e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495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44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14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37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32.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07.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31.7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9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5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5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75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51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4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5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46.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47.6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57.7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7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9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23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57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1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5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56.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0.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4.6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5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55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6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54.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5.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8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0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3351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News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685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934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83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68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924.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79.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60.9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9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3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91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8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68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86.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75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64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.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.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5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53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7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95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8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66.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92.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6.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.5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.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6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57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54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52.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52.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7.7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.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.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.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.8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3351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Gtf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94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67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62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65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650.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622.2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649.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091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611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35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45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602.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34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42.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5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976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755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07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14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751.9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07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13.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4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74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66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52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56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64.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52.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56.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4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8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3351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Hall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366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0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71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86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02.4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57.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91.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8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0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57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44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11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15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41.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11.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15.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78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6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62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81.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62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63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.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.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.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67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3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4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99.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3.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4.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2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3351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Str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913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33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707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67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332.9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695.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54.7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2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7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355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9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0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56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85.7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96.0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4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4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6.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.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605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15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6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04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13.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6.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04.7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02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12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2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8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11.5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1.5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7.7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3351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a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653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593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002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944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578.1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988.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925.5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7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2736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996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81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5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990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81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360.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4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256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917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74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65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914.5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75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65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592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2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3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427.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3.4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80.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2134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0.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MS Mincho"/>
                        </a:rPr>
                        <a:t>1.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all view-wise PSNR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11280" y="1071720"/>
          <a:ext cx="7993080" cy="5554440"/>
        </p:xfrm>
        <a:graphic>
          <a:graphicData uri="http://schemas.openxmlformats.org/drawingml/2006/table">
            <a:tbl>
              <a:tblPr/>
              <a:tblGrid>
                <a:gridCol w="947520"/>
                <a:gridCol w="696960"/>
                <a:gridCol w="693720"/>
                <a:gridCol w="695520"/>
                <a:gridCol w="601560"/>
                <a:gridCol w="693720"/>
                <a:gridCol w="603360"/>
                <a:gridCol w="738000"/>
                <a:gridCol w="738360"/>
                <a:gridCol w="863640"/>
                <a:gridCol w="720720"/>
              </a:tblGrid>
              <a:tr h="4442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NR V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NR 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NR 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w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w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w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NRV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NR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NR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SN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1677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lo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2.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1.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1.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2.2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1.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9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8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1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7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2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6.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22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3.8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.5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.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.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8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8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1.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.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.6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2.7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1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4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1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1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.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0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8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9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6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6.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7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3.9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3.7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6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5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s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1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1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.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8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6.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9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9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8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4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6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5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6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.8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3.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3.5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6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0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5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1.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.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.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3.9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.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.5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9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tf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7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.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7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9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8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6.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6.2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6.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7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20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.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.4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9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3.0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.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.7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3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3.2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3.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4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znanHall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1.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1.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1.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2.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1.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1.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.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.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.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1.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.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.7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4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0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8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4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6.8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0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znanStr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8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9.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5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8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6.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9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6.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5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5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.2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3.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.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5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.6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7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7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1.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1.5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.6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3.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3.6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8144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6.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0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.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.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0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.7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.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.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.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1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.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1.7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3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.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3.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0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.0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.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1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.7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.9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2437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2560" y="333360"/>
            <a:ext cx="8893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umulated occupancy of virtual buffer (Balloons/R4)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5BCF-D50F-476E-BCE9-DC40A580B35F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72" name="Picture 8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397720" cy="2520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"/>
          <p:cNvPicPr/>
          <p:nvPr/>
        </p:nvPicPr>
        <p:blipFill>
          <a:blip r:embed="rId2"/>
          <a:stretch/>
        </p:blipFill>
        <p:spPr>
          <a:xfrm>
            <a:off x="468360" y="3710160"/>
            <a:ext cx="8397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821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umulated occupancy of virtual buffer (Kendo/R4)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43D3-CAF5-4E3F-A9C3-16C10A1F962B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76" name="Picture 9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97720" cy="2521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352440" y="3933720"/>
            <a:ext cx="8440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4:04:58Z</dcterms:created>
  <dc:creator>Microsoft Corporation</dc:creator>
  <dc:description/>
  <dc:language>en-US</dc:language>
  <cp:lastModifiedBy>limwoong</cp:lastModifiedBy>
  <cp:lastPrinted>2011-07-17T23:54:03Z</cp:lastPrinted>
  <dcterms:modified xsi:type="dcterms:W3CDTF">2012-10-13T07:51:23Z</dcterms:modified>
  <cp:revision>380</cp:revision>
  <dc:subject/>
  <dc:title>PowerPoint 프레젠테이션</dc:title>
</cp:coreProperties>
</file>