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1022-9078-4FC1-8793-42233899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9EE-477D-4A57-8758-F08B9DEA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E0A-1B81-4A5C-A943-45C2E80C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3098-AB19-4E7A-9FB3-FFD3165C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5224-C902-4764-B010-7053649C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1A6E-0AA3-43FD-AC96-7B487D24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AC01-043E-4A37-B9F4-26BAEEB0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B7E9-2CFB-4323-B9C3-84A0ED06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1F0D-FB12-43A7-94D3-1B076AA4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AAAD-1BE2-42C8-9D99-2A91E676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65D0-5936-4AF4-9493-CE6F328D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DE1-0FF3-42C5-AC95-8C845459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0BA8-7D1B-449D-AC2C-36381CA3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51EF-C514-4312-8439-C394AC07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E2F2-727C-4DBF-B432-DC69C364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FA04-8CF5-438C-B645-0D2B1F8C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00F6-711D-4143-89C8-FFD8AF6A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B8A8-1450-4BFD-A868-54C4823D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98B9-DC65-4217-B92B-0744E98F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7B9E-25BF-4D00-A8FE-C87B5378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1769-9BF0-4181-959D-88566652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F826-4738-49DD-B4EF-8A39F76B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A22-3B13-4B63-9EE2-A9B100B3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EFA2-239B-4C16-B999-BD7931E0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7FAA-B1F5-4FA6-BB6D-30B8B9A0F61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4937-D801-463D-9A50-BC318E1AB8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c"/>
          <p:cNvSpPr/>
          <p:nvPr/>
        </p:nvSpPr>
        <p:spPr>
          <a:xfrm>
            <a:off x="0" y="66420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5795-8B31-4726-A57E-17A19FB86C9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1CA9-7F69-424A-BFF9-A553115B96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JCTVC-J007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HG9 High-Level Syntax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PS loss det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Miska M. Hannuksela</a:t>
            </a:r>
            <a:br>
              <a:rPr sz="3200"/>
            </a:br>
            <a:r>
              <a:rPr b="0" lang="en-CA" sz="3200" spc="-1" strike="noStrike">
                <a:solidFill>
                  <a:srgbClr val="898989"/>
                </a:solidFill>
                <a:latin typeface="Calibri"/>
              </a:rPr>
              <a:t>Nokia Research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Problem Set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ability to detect APS loss, usage of wrong 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ppens when a lost APS re-used an aps_id value (ID1) that had already been used earlier by another 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equently, the decoder interprets any reference to the aps_id value ID1 to the previous APS NAL unit using the same aps_id valu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JCTVC-I0069: a constraint to the aps_id values that enabled to detect losses of APS NAL un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Re-proposed in this contrib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The proposed constraint is analogous to the max POC difference constra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n Geneva, JCTVC-I0069 received the comme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 problem for splicing, as the range in which the APS IDs would fall after the splice point is not under the control of the enco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An alternative loss detection suggestion was to send a parameter set checksum in an SEI mess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otivation for Re-propo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ssue with splicing has been solved similarly to what is done for POC, i.e. the aps_id constraint is “reset” at IDR and BLA access un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Proposed aps_id constraint and the parameter set checksum SEI have different streng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Proposed aps_id constraint provides a basic level of error resilience without implementation or RD c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Parameter set checksum SEI is optional for both encoders and decoders and is helpful only if both ends use the mechan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Parameter set checksum SEI may enable detecting parameter set losses quicker than the proposed aps_id constra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Decoders may deallocate memory based on parameter set checksum SE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i-FI" sz="1800" spc="-1" strike="noStrike">
                <a:solidFill>
                  <a:srgbClr val="000000"/>
                </a:solidFill>
                <a:latin typeface="Calibri"/>
              </a:rPr>
              <a:t>the mechanisms complement each oth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PS Loss De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max_aps_id given in SPS: aps_id has the range of 0 to max_aps_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max_aps_id_diff given in SPS: a range of aps_id values that are considered “used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The range is relative to the maximum used aps_id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An APS in the “used” range can be retransmitted (for error resilienc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A new APS must use an aps_id from the “unused” range (usually increment by 1 in modulo arithmeti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hen maximum used aps_id value is updated, the APSes that fall outside the window of “used aps_id values” are marked as unavailable – hence, no accidental re-use of an APS can happ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traight Connector 4"/>
          <p:cNvSpPr/>
          <p:nvPr/>
        </p:nvSpPr>
        <p:spPr>
          <a:xfrm>
            <a:off x="900000" y="5292720"/>
            <a:ext cx="73440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751680" y="52927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7673400" y="529596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max_aps_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5069520" y="536580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Max used 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aps_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traight Connector 9"/>
          <p:cNvSpPr/>
          <p:nvPr/>
        </p:nvSpPr>
        <p:spPr>
          <a:xfrm flipV="1">
            <a:off x="5637240" y="5199120"/>
            <a:ext cx="0" cy="16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traight Connector 11"/>
          <p:cNvSpPr/>
          <p:nvPr/>
        </p:nvSpPr>
        <p:spPr>
          <a:xfrm flipV="1">
            <a:off x="2195640" y="5213520"/>
            <a:ext cx="0" cy="163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ight Brace 12"/>
          <p:cNvSpPr/>
          <p:nvPr/>
        </p:nvSpPr>
        <p:spPr>
          <a:xfrm rot="5400000">
            <a:off x="3772080" y="4363920"/>
            <a:ext cx="287280" cy="344016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3440160"/>
              <a:gd name="textAreaBottom" fmla="*/ 3432960 h 344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"/>
                  <a:pt x="10800" y="150"/>
                </a:cubicBezTo>
                <a:lnTo>
                  <a:pt x="10800" y="10650"/>
                </a:lnTo>
                <a:cubicBezTo>
                  <a:pt x="10800" y="10725"/>
                  <a:pt x="16200" y="10800"/>
                  <a:pt x="21600" y="10800"/>
                </a:cubicBezTo>
                <a:cubicBezTo>
                  <a:pt x="16200" y="10800"/>
                  <a:pt x="10800" y="10875"/>
                  <a:pt x="10800" y="10950"/>
                </a:cubicBezTo>
                <a:lnTo>
                  <a:pt x="10800" y="21450"/>
                </a:lnTo>
                <a:cubicBezTo>
                  <a:pt x="10800" y="2152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3058560" y="615636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max_aps_id_di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ight Brace 14"/>
          <p:cNvSpPr/>
          <p:nvPr/>
        </p:nvSpPr>
        <p:spPr>
          <a:xfrm rot="16200000">
            <a:off x="3772440" y="3283200"/>
            <a:ext cx="289080" cy="344016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3440160"/>
              <a:gd name="textAreaBottom" fmla="*/ 3432960 h 344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16200" y="10800"/>
                  <a:pt x="21600" y="10800"/>
                </a:cubicBezTo>
                <a:cubicBezTo>
                  <a:pt x="162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2878920" y="451332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used aps_id values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ight Brace 16"/>
          <p:cNvSpPr/>
          <p:nvPr/>
        </p:nvSpPr>
        <p:spPr>
          <a:xfrm rot="16200000">
            <a:off x="6810480" y="3724200"/>
            <a:ext cx="288720" cy="2578320"/>
          </a:xfrm>
          <a:custGeom>
            <a:avLst/>
            <a:gdLst>
              <a:gd name="textAreaLeft" fmla="*/ 0 w 288720"/>
              <a:gd name="textAreaRight" fmla="*/ 104040 w 288720"/>
              <a:gd name="textAreaTop" fmla="*/ 7200 h 2578320"/>
              <a:gd name="textAreaBottom" fmla="*/ 2571120 h 257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1"/>
                  <a:pt x="10800" y="202"/>
                </a:cubicBezTo>
                <a:lnTo>
                  <a:pt x="10800" y="10598"/>
                </a:lnTo>
                <a:cubicBezTo>
                  <a:pt x="10800" y="10699"/>
                  <a:pt x="16200" y="10800"/>
                  <a:pt x="21600" y="10800"/>
                </a:cubicBezTo>
                <a:cubicBezTo>
                  <a:pt x="16200" y="10800"/>
                  <a:pt x="10800" y="10901"/>
                  <a:pt x="10800" y="11002"/>
                </a:cubicBezTo>
                <a:lnTo>
                  <a:pt x="10800" y="21398"/>
                </a:lnTo>
                <a:cubicBezTo>
                  <a:pt x="10800" y="2149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ight Brace 17"/>
          <p:cNvSpPr/>
          <p:nvPr/>
        </p:nvSpPr>
        <p:spPr>
          <a:xfrm rot="16200000">
            <a:off x="1396800" y="4349160"/>
            <a:ext cx="289080" cy="130824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1308240"/>
              <a:gd name="textAreaBottom" fmla="*/ 1301040 h 1308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9"/>
                  <a:pt x="10800" y="398"/>
                </a:cubicBezTo>
                <a:lnTo>
                  <a:pt x="10800" y="10402"/>
                </a:lnTo>
                <a:cubicBezTo>
                  <a:pt x="10800" y="10601"/>
                  <a:pt x="16200" y="10800"/>
                  <a:pt x="21600" y="10800"/>
                </a:cubicBezTo>
                <a:cubicBezTo>
                  <a:pt x="16200" y="10800"/>
                  <a:pt x="10800" y="10999"/>
                  <a:pt x="10800" y="11198"/>
                </a:cubicBezTo>
                <a:lnTo>
                  <a:pt x="10800" y="21202"/>
                </a:lnTo>
                <a:cubicBezTo>
                  <a:pt x="10800" y="214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6425280" y="4473720"/>
            <a:ext cx="10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unuse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1011960" y="4529160"/>
            <a:ext cx="10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unused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VC-J00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8T06:15:07Z</dcterms:created>
  <dc:creator>Miska Hannuksela</dc:creator>
  <dc:description/>
  <dc:language>en-US</dc:language>
  <cp:lastModifiedBy>Miska Hannuksela</cp:lastModifiedBy>
  <dcterms:modified xsi:type="dcterms:W3CDTF">2012-07-11T15:23:58Z</dcterms:modified>
  <cp:revision>18</cp:revision>
  <dc:subject/>
  <dc:title>JCTVC-I0069 APS error resilience and  partial upda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kiaConfidentiality">
    <vt:lpwstr>Public</vt:lpwstr>
  </property>
  <property fmtid="{D5CDD505-2E9C-101B-9397-08002B2CF9AE}" pid="3" name="TitusGUID">
    <vt:lpwstr>9ed3f25d-14e2-4d3b-b421-6c5e4c220879</vt:lpwstr>
  </property>
</Properties>
</file>