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9CF-B029-481B-B986-6B178D5B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248-98AC-4D62-B675-067E5161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64F-B299-48B9-B305-0F1D7E94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0E7-F3DA-42B5-83FB-6B208C7B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3AFE-650E-40C4-B3AB-8560D4DF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5FA0-DCF2-4236-BDCC-EA8EFF66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193F-F4AF-4D63-AF2E-2784EA43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876F-1BEC-4E1A-A122-AF325271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0262-80BA-4C03-A31F-6E7D24F9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7478-589A-4EC4-AE96-B03C9C3D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9ED0-97F0-4919-8105-0E862361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A8E-35F9-4F02-96C8-73966D72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C014-83F8-45A7-BEDD-2E0D9E4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968C-BD3B-4F87-8C06-98E12BCC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E721-CE85-4C06-A493-F81A6671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3B62-60CE-4B64-8CBA-310922A1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F543-674E-4118-9BF6-AAB9BEBB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F4E-EB80-46D8-A5DC-140C89DB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0D0-4053-42EA-B335-AA03783C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5DF-A726-4987-A276-F6350670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607-CE89-4AC0-8B2B-667206AC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5F6-FAF4-42F1-9B22-CF014E31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ECB-AD19-44AE-B2E2-3A5C1A46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B2B-AA32-4103-9776-FAFA7241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3F5A-0905-4620-9825-E2294C20017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AFC6-1FE6-4DDB-B8B5-37F2886554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8B4A-64D9-4FA2-963E-A3D4E80D18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E37D-C043-4944-8E10-86DA53ED4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JCTVC-J007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G9 High-Level Syntax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S loss det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Miska M. Hannuksela</a:t>
            </a:r>
            <a:br>
              <a:rPr sz="3200"/>
            </a:b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blem S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ability to detect APS loss, usage of wrong 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ppens when a lost APS re-used an aps_id value (ID1) that had already been used earlier by another 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equently, the decoder interprets any reference to the aps_id value ID1 to the previous APS NAL unit using the same aps_id valu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CTVC-I0069: a constraint to the aps_id values that enabled to detect losses of APS NAL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-proposed in this con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proposed constraint is analogous to the max POC difference constra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Geneva, JCTVC-I0069 received the comm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 problem for splicing, as the range in which the APS IDs would fall after the splice point is not under the control of the enco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 alternative loss detection suggestion was to send a parameter set checksum in an SEI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otivation for Re-prop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ssue with splicing has been solved similarly to what is done for POC, i.e. the aps_id constraint is “reset” at IDR and BLA access 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Proposed aps_id constraint and the parameter set checksum SEI have different streng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roposed aps_id constraint provides a basic level of error resilience without implementation or RD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arameter set checksum SEI is optional for both encoders and decoders and is helpful only if both ends use the mechan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arameter set checksum SEI may enable detecting parameter set losses quicker than the proposed aps_id constr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ecoders may deallocate memory based on parameter set checksum SE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i-FI" sz="1800" spc="-1" strike="noStrike">
                <a:solidFill>
                  <a:srgbClr val="000000"/>
                </a:solidFill>
                <a:latin typeface="Calibri"/>
              </a:rPr>
              <a:t>the mechanisms complement each o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PS Loss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aps_id given in SPS: aps_id has the range of 0 to max_aps_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aps_id_diff given in SPS: a range of aps_id values that are considered “used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he range is relative to the maximum used aps_id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n APS in the “used” range can be retransmitted (for error resilie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 new APS must use an aps_id from the “unused” range (usually increment by 1 in modulo arithmet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en maximum used aps_id value is updated, the APSes that fall outside the window of “used aps_id values” are marked as unavailable – hence, no accidental re-use of an APS can hap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900000" y="5292720"/>
            <a:ext cx="7344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751680" y="5292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7673400" y="529596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5069520" y="53658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 used 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a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9"/>
          <p:cNvSpPr/>
          <p:nvPr/>
        </p:nvSpPr>
        <p:spPr>
          <a:xfrm flipV="1">
            <a:off x="5637240" y="5199120"/>
            <a:ext cx="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1"/>
          <p:cNvSpPr/>
          <p:nvPr/>
        </p:nvSpPr>
        <p:spPr>
          <a:xfrm flipV="1">
            <a:off x="2195640" y="521352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ight Brace 12"/>
          <p:cNvSpPr/>
          <p:nvPr/>
        </p:nvSpPr>
        <p:spPr>
          <a:xfrm rot="5400000">
            <a:off x="3772080" y="4363920"/>
            <a:ext cx="287280" cy="34401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058560" y="6156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_di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ight Brace 14"/>
          <p:cNvSpPr/>
          <p:nvPr/>
        </p:nvSpPr>
        <p:spPr>
          <a:xfrm rot="16200000">
            <a:off x="3772440" y="3283200"/>
            <a:ext cx="289080" cy="34401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2878920" y="45133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sed aps_id valu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ight Brace 16"/>
          <p:cNvSpPr/>
          <p:nvPr/>
        </p:nvSpPr>
        <p:spPr>
          <a:xfrm rot="16200000">
            <a:off x="6810480" y="3724200"/>
            <a:ext cx="288720" cy="25783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2578320"/>
              <a:gd name="textAreaBottom" fmla="*/ 2571120 h 25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2"/>
                </a:cubicBezTo>
                <a:lnTo>
                  <a:pt x="10800" y="10598"/>
                </a:lnTo>
                <a:cubicBezTo>
                  <a:pt x="10800" y="10699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2"/>
                </a:cubicBezTo>
                <a:lnTo>
                  <a:pt x="10800" y="21398"/>
                </a:lnTo>
                <a:cubicBezTo>
                  <a:pt x="10800" y="2149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ight Brace 17"/>
          <p:cNvSpPr/>
          <p:nvPr/>
        </p:nvSpPr>
        <p:spPr>
          <a:xfrm rot="16200000">
            <a:off x="1396800" y="4349160"/>
            <a:ext cx="289080" cy="13082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1308240"/>
              <a:gd name="textAreaBottom" fmla="*/ 1301040 h 13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"/>
                  <a:pt x="10800" y="398"/>
                </a:cubicBezTo>
                <a:lnTo>
                  <a:pt x="10800" y="10402"/>
                </a:lnTo>
                <a:cubicBezTo>
                  <a:pt x="10800" y="10601"/>
                  <a:pt x="16200" y="10800"/>
                  <a:pt x="21600" y="10800"/>
                </a:cubicBezTo>
                <a:cubicBezTo>
                  <a:pt x="16200" y="10800"/>
                  <a:pt x="10800" y="10999"/>
                  <a:pt x="10800" y="11198"/>
                </a:cubicBezTo>
                <a:lnTo>
                  <a:pt x="10800" y="21202"/>
                </a:lnTo>
                <a:cubicBezTo>
                  <a:pt x="10800" y="214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6425280" y="447372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1011960" y="452916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6155280" y="6156360"/>
            <a:ext cx="2794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onstraint: max_aps_id_diff * 2</a:t>
            </a:r>
            <a:br>
              <a:rPr sz="1600"/>
            </a:b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 shall be less than max_aps_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6:15:07Z</dcterms:created>
  <dc:creator>Miska Hannuksela</dc:creator>
  <dc:description/>
  <dc:language>en-US</dc:language>
  <cp:lastModifiedBy>Miska Hannuksela</cp:lastModifiedBy>
  <dcterms:modified xsi:type="dcterms:W3CDTF">2012-07-14T12:31:22Z</dcterms:modified>
  <cp:revision>21</cp:revision>
  <dc:subject/>
  <dc:title>JCTVC-I0069 APS error resilience and  partial upda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Public</vt:lpwstr>
  </property>
  <property fmtid="{D5CDD505-2E9C-101B-9397-08002B2CF9AE}" pid="3" name="TitusGUID">
    <vt:lpwstr>9ed3f25d-14e2-4d3b-b421-6c5e4c220879</vt:lpwstr>
  </property>
</Properties>
</file>