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4C2C-F5D2-47EB-9F5A-21EB179B7D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A630-3D51-476A-8651-601FCB426630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364-730C-48B0-8739-7CDAA8B6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1CF-9CD2-40F7-9A0F-954914F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DAE-2B69-41F5-AB61-6C830E4C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72A-F768-47EA-9120-F32DA459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CDA4-CE4A-49C4-8488-80FF6D04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CB40-0BB6-4071-9E74-C492EF9A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B23-D3AB-4014-9FFC-0BB1C004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9494-76C9-48B1-979C-9FE16DD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EA1B-0BF8-4E25-B2F5-4A2000E6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08F-5D68-4423-B8CF-D5C58579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C9D-7FD8-4598-A62E-72C4819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DD8-6446-4058-824B-D8C85AA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CED-855D-4FD5-B0B7-C16E32D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27A-2D3B-4B36-96E8-47652BA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D0F-583E-40FE-B060-DB1501A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AAE9-77DE-415F-9849-61C7CB89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E7A3-047D-4751-9799-613EF5E1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D01C-C564-4798-B9D5-F46C8E5D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C1C9-67A6-486C-8CCD-8317AE3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2049-7D4F-4440-96D3-AD4AC92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1805-DF89-4219-A59B-2AD2EF1B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A208-375F-4261-8842-3208DE97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55A-1F39-470F-B6D9-E57F677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25002-8C08-485D-8F29-405AC47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C64B-E689-4D0D-9DC1-669377C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3CE0-955E-407D-8510-6EA4DE48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0239-D920-4690-B54E-963E4FF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6F02-0DA4-4157-B488-20B9E5D4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3ABB-4CF2-4D6F-B0D5-7B10983B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3F3C-B489-49E1-9893-F5F9977A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8B54-E02D-490E-9D7D-5302DCD9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BEF4-6735-4F68-A5BE-28606EC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B47A-3835-410A-8845-2E2EA59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847-52C5-4773-8A2E-4E9EF36C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B5FD-154C-4BF0-A998-09894AC0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20F7-BFC1-4650-9D38-6B977001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C14F-B161-4E02-8C7B-9F82636B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EAE9-AF92-4CB5-86C6-B328FAA0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B71B-F8BC-4615-835F-4E917813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979E-243F-4668-8545-4B508E4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37E9-5466-4FBA-9569-253C7FE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B3DC-954E-4FD6-8C21-00DF4A12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A88B-C4B7-4DCC-8FD6-13EAD465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A588-CD8D-48C5-9709-3DEBD42E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D3D-076C-4B8F-B673-7076DCCE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6542-D09F-4EEE-BECA-1B2AD77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4199-6463-45B4-91B1-6417C34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00A3-7966-48BA-9F0A-895DAD6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352B9-C5EB-429B-B655-9E6D6341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5533-55D9-40E4-BAE7-B3FB2DD9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7521A-12A0-43D9-82DE-DC60485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6CBF-2E88-419F-BC4C-BF15B13D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2DFD-ED1D-43C9-8E95-4FC8EB3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839B7-9C0B-4369-A39C-8EA3996D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6E0E7-9FFE-461B-B56F-8A21707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984-8ACD-4450-B220-D1C856A4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A0D3-6A68-45DD-B15F-180736E2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F802-A37F-4021-9A2F-930CD39B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EFC16-E9AF-43EF-BD7D-89D00D7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FAC80-9204-4872-811E-3EAFE53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6032-3541-49BB-A33F-1C58919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DE87-C241-45D7-9D37-EC9D229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724D-A69E-4227-B40B-C293D839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C6A40-76BF-434F-93DD-8791FD7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A3CDA-2AC7-494E-B436-B783B56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DEA2-F255-4DDD-B7CB-F2FF913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7AC-DA93-4014-A43F-5FE056D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F8FBD-5E6A-443D-B7F0-698C87F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0010-198E-4C31-B10E-BA7AB0C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C6BF-FCA1-47C3-B2D9-66D60135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2140-EFCB-44AE-A6FD-171F23CC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2E386-FADF-47A9-9988-0335AFF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3DD6-3910-4962-A0C5-3B4A4C98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1500-D0DD-4312-B27D-89C8145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BF12-8992-4292-B291-B197C698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621C1-077D-44EE-A952-1A0E3AA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1410-3E60-424B-AE40-8CE7BC6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E8C-BC78-4CC3-91EB-C09D22D2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F718-CA3E-4F13-8519-6C61FB3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D89E9-30F9-4CC0-8682-C9D542E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EB2E-3E3C-4144-88FD-EF34456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8191A-500C-473C-8326-A09D6696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711FE-81AC-4728-B94A-2E822EB1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0554-FAD3-4C73-B450-34D02B1C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79134-7285-4A82-9ED7-E519ACD6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C798B-9627-4B4F-B53E-304FEBA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EDCA4-6C11-45E4-9902-DE047E33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FB24-E0EC-44AA-B9EC-06238933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473-5D8D-4D30-910B-8B89C83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F544-2A64-440D-BDC6-70E9757C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B23A-3C5F-49D3-AD3C-5458A67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4055-B077-4E7E-898C-74DA440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2E70-7EAD-4294-81E8-F532949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0C37-8216-4D94-999B-E06BBBDE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C6629-A01A-4CE7-9FEC-55594895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9C7C7-38FA-417B-BD23-BD0F57CD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8E1E-B50D-4B04-A8AF-C97E3D4D1D5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00DE-AB1C-40DB-8AC8-AD55639E38D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76D5-4082-4355-99B5-8B6B5012550B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880-4C2D-4678-B8D5-496A8AA9130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C74A-2D3F-44BA-A1E2-17D2798B641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85C1-48BF-479F-9FCB-1014D0A6A49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60DC-0FB4-4CA6-AC60-4495E808CA1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5F3-CD2A-4C3C-A206-6A8E9888431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4AF-6D7A-45AC-B97E-22CB7C141195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F0E-D6F5-41D2-9881-376B7641F05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8BA-9AFA-4C51-918F-0092F4FD1B81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287A-0184-4092-918E-8898DB91923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481-60BB-47CC-9F67-23DE8598C718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28F8-7E84-4DC8-A175-099DB759B0F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A339-0885-47E8-BDFE-3187219D044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DAF5-889B-4BF8-8770-8E234799179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Lim, H. Choi, J. Nam, H. Jo, D. S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.V. Bajić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86A-0386-4E5B-896D-B44C64524D94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직사각형 2"/>
          <p:cNvSpPr/>
          <p:nvPr/>
        </p:nvSpPr>
        <p:spPr>
          <a:xfrm>
            <a:off x="6732720" y="2535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5966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21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view-wise bitrate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69D4-E03F-45D7-B6C0-696ABA767EEC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0" y="1197000"/>
          <a:ext cx="9144000" cy="5218200"/>
        </p:xfrm>
        <a:graphic>
          <a:graphicData uri="http://schemas.openxmlformats.org/drawingml/2006/table">
            <a:tbl>
              <a:tblPr/>
              <a:tblGrid>
                <a:gridCol w="971640"/>
                <a:gridCol w="647640"/>
                <a:gridCol w="633240"/>
                <a:gridCol w="752760"/>
                <a:gridCol w="750600"/>
                <a:gridCol w="750960"/>
                <a:gridCol w="750960"/>
                <a:gridCol w="750960"/>
                <a:gridCol w="750960"/>
                <a:gridCol w="750600"/>
                <a:gridCol w="733680"/>
                <a:gridCol w="900000"/>
              </a:tblGrid>
              <a:tr h="445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% 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rror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overall kbps error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526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4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8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3.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4.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8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1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.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0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5.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.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.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.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36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6.7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1.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8.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2.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5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.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7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3.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.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.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6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9.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6.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3.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0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94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5.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7.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.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6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4.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8.5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52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93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3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3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47.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26.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29.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8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1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00.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3.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5.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0.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6.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7.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7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3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2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3.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55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6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1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8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9.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67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2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7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2.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1.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9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9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6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8.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1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3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2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12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58.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41.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0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1.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7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20.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4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6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6.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1.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4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39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51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7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571.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.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3.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741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9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7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81.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6.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5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5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16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8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4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9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76.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62.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3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6.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2824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view-wise PSNR resul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31640" y="1071720"/>
          <a:ext cx="8172720" cy="5526000"/>
        </p:xfrm>
        <a:graphic>
          <a:graphicData uri="http://schemas.openxmlformats.org/drawingml/2006/table">
            <a:tbl>
              <a:tblPr/>
              <a:tblGrid>
                <a:gridCol w="947880"/>
                <a:gridCol w="696960"/>
                <a:gridCol w="693720"/>
                <a:gridCol w="695160"/>
                <a:gridCol w="601920"/>
                <a:gridCol w="693720"/>
                <a:gridCol w="603000"/>
                <a:gridCol w="827280"/>
                <a:gridCol w="828720"/>
                <a:gridCol w="863640"/>
                <a:gridCol w="720720"/>
              </a:tblGrid>
              <a:tr h="451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SNR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SNR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SNR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e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PSNR V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PSNR V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PSNR V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 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9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2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5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3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7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2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f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8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1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Hall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2.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2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8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Stre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83960">
                <a:tc row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an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4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8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9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0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1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0.9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212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CA3-809B-417F-AA11-2B08C53B02ED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619280" y="1336680"/>
            <a:ext cx="5689440" cy="1731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619280" y="3063960"/>
            <a:ext cx="5689440" cy="173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"/>
          <p:cNvPicPr/>
          <p:nvPr/>
        </p:nvPicPr>
        <p:blipFill>
          <a:blip r:embed="rId3"/>
          <a:stretch/>
        </p:blipFill>
        <p:spPr>
          <a:xfrm>
            <a:off x="1619280" y="4792680"/>
            <a:ext cx="5689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13C-CE63-4E15-AAF9-85C484D3C029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619280" y="1336680"/>
            <a:ext cx="5689440" cy="1731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5689440" cy="1733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1619280" y="4792680"/>
            <a:ext cx="5689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AEC5-072F-4412-A8AA-120767B287DD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620720" y="1341360"/>
            <a:ext cx="5668920" cy="1725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1619280" y="3067200"/>
            <a:ext cx="5670360" cy="1726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3"/>
          <a:stretch/>
        </p:blipFill>
        <p:spPr>
          <a:xfrm>
            <a:off x="1620720" y="4794120"/>
            <a:ext cx="5668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51C7-F957-4629-825C-86947700D532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97360" cy="172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5697360" cy="1735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1619280" y="4797360"/>
            <a:ext cx="56973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417B-5979-43E2-8B6D-8AE0B2A5C75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89440" cy="1665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689440" cy="1706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1620720" y="4714920"/>
            <a:ext cx="5688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C9B-ED5B-4559-BE1B-A53CE19C7EA7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89440" cy="1731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1612800" y="3068640"/>
            <a:ext cx="5688000" cy="1733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1619280" y="4792680"/>
            <a:ext cx="5689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ed occupancy of virtual buffe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7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4A2D-3EED-4CB2-A9F8-2E3AD92BA2D8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689440" cy="1731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1619280" y="3073320"/>
            <a:ext cx="5689440" cy="1731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1619280" y="4799160"/>
            <a:ext cx="5689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 rate control scheme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VC rate control scheme is applied to the b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ools for extended view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etting of QP for the first fram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verage bitrate accuracy was over 99%, with about 2.1dB average PSNR degrada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currently examining the reasons behind occasional sudden spikes in the number of bits in some cas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roblems should be fixed soon, and we will plan to update the scheme in the near future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33A-0B87-45BC-8B19-1BE72F16DCE5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3D multi-view video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, based on the existing rate control of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 (San José, CA, USA), a rate control for HEVC was introduced, JCTVC-H0213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 (Geneva, Switzerland), some improvement of the rate control was introduced, JCTVC-I0094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view : the conventional rate control scheme of HE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view : additional tool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etting of QP for the first frame of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lvl="2" marL="89532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map-based inter-view MAD prediction for extended view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8782-B7EE-4BDB-8673-0005B8491292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QP decision for the first frame in an extended view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HEVC rate control scheme, initial QP setting for the first frame is calculated based on the target bitrate in bits per pixel (bpp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5D3-7735-4CFF-8A7B-FC63DDACFBBF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개체 2"/>
              <p:cNvSpPr txBox="1"/>
              <p:nvPr/>
            </p:nvSpPr>
            <p:spPr>
              <a:xfrm>
                <a:off x="3635280" y="2421000"/>
                <a:ext cx="1873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f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xel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개체 5"/>
              <p:cNvSpPr txBox="1"/>
              <p:nvPr/>
            </p:nvSpPr>
            <p:spPr>
              <a:xfrm>
                <a:off x="2268360" y="3284640"/>
                <a:ext cx="4459320" cy="30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2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69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2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3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69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2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9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4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9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QP decision for the first frame in an extended view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frame of the extended view is coded as an inter frame (not intr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appropriate for the first frames of extended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LayerQPOff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 indicates the QP offset between view layer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the number of reference frames in a GOP, and the index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frame index among the reference fram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1A91-E4C7-437D-9502-4E5F9BE32252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개체 2"/>
              <p:cNvSpPr txBox="1"/>
              <p:nvPr/>
            </p:nvSpPr>
            <p:spPr>
              <a:xfrm>
                <a:off x="2700360" y="2276640"/>
                <a:ext cx="35272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iewLayerQPOff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Rectangle 1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개체 5"/>
              <p:cNvSpPr txBox="1"/>
              <p:nvPr/>
            </p:nvSpPr>
            <p:spPr>
              <a:xfrm>
                <a:off x="1476360" y="3357720"/>
                <a:ext cx="601488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OP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O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ref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개체 7"/>
              <p:cNvSpPr txBox="1"/>
              <p:nvPr/>
            </p:nvSpPr>
            <p:spPr>
              <a:xfrm>
                <a:off x="2627280" y="5445000"/>
                <a:ext cx="4105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ventional MAD predi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xture complexity in rate control is determined based on MA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control algorithm decides the best QP for the current unit by using the amount of error (MAD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prediction of MAD from the previous collocated uni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MAD predic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ded view has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tion of using the previously-encoded neighbouring view for MAD predi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s the corresponding region from the previously encoded and decoded base view by using depth map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571-EF85-46FF-A343-8CCBA9313530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FC1-AEE6-4114-890A-C8016793048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71640" y="1252440"/>
            <a:ext cx="72007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to disparity conver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os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eft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os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ight,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amera position of left and right view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distance between the view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erceived dep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ear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ar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: the nearest depth, the furthest dep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CA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v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maximum intensity of depth, average intensity of local dep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7E4-4635-4D27-B781-96376AD8D1F1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개체 5"/>
              <p:cNvSpPr txBox="1"/>
              <p:nvPr/>
            </p:nvSpPr>
            <p:spPr>
              <a:xfrm>
                <a:off x="2567160" y="1924200"/>
                <a:ext cx="38764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mPo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f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mPo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igh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2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개체 7"/>
              <p:cNvSpPr txBox="1"/>
              <p:nvPr/>
            </p:nvSpPr>
            <p:spPr>
              <a:xfrm>
                <a:off x="2565360" y="2476440"/>
                <a:ext cx="35067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ar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a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9001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epth map-based inter-view MAD predic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h to disparity conver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Local average dep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alL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Focal length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225-4866-4E03-A50E-21621AF5375A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오른쪽 화살표 5"/>
          <p:cNvSpPr/>
          <p:nvPr/>
        </p:nvSpPr>
        <p:spPr>
          <a:xfrm rot="10800000">
            <a:off x="4284360" y="1988640"/>
            <a:ext cx="863640" cy="576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개체 7"/>
              <p:cNvSpPr txBox="1"/>
              <p:nvPr/>
            </p:nvSpPr>
            <p:spPr>
              <a:xfrm>
                <a:off x="971640" y="1882800"/>
                <a:ext cx="302580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개체 9"/>
              <p:cNvSpPr txBox="1"/>
              <p:nvPr/>
            </p:nvSpPr>
            <p:spPr>
              <a:xfrm>
                <a:off x="1011240" y="2997360"/>
                <a:ext cx="33447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ocalLen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4" name="Picture 9" descr=""/>
          <p:cNvPicPr/>
          <p:nvPr/>
        </p:nvPicPr>
        <p:blipFill>
          <a:blip r:embed="rId1"/>
          <a:stretch/>
        </p:blipFill>
        <p:spPr>
          <a:xfrm>
            <a:off x="5292720" y="1374840"/>
            <a:ext cx="3600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rate control for multi-view video coding is estimated under the CBR condi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rate control is evaluated with the same condition of the common random access condition of the current 3D multi-view coding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centage of error in the number of bit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NR degrad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39F-6DBA-4C36-AE85-0A4339729150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개체 5"/>
              <p:cNvSpPr txBox="1"/>
              <p:nvPr/>
            </p:nvSpPr>
            <p:spPr>
              <a:xfrm>
                <a:off x="2314440" y="3753000"/>
                <a:ext cx="399420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_kbp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'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TM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bit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M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3"/>
          <p:cNvSpPr/>
          <p:nvPr/>
        </p:nvSpPr>
        <p:spPr>
          <a:xfrm>
            <a:off x="7848000" y="850680"/>
            <a:ext cx="129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4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개체 10"/>
              <p:cNvSpPr txBox="1"/>
              <p:nvPr/>
            </p:nvSpPr>
            <p:spPr>
              <a:xfrm>
                <a:off x="2411280" y="5013360"/>
                <a:ext cx="3816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SN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'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'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M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limwoong</cp:lastModifiedBy>
  <cp:lastPrinted>2011-07-17T23:54:03Z</cp:lastPrinted>
  <dcterms:modified xsi:type="dcterms:W3CDTF">2012-07-14T01:54:44Z</dcterms:modified>
  <cp:revision>286</cp:revision>
  <dc:subject/>
  <dc:title>PowerPoint 프레젠테이션</dc:title>
</cp:coreProperties>
</file>