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image8.jpeg" ContentType="image/jpeg"/>
  <Override PartName="/ppt/media/image29.jpeg" ContentType="image/jpeg"/>
  <Override PartName="/ppt/media/image10.jpeg" ContentType="image/jpeg"/>
  <Override PartName="/ppt/media/image27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5.jpeg" ContentType="image/jpeg"/>
  <Override PartName="/ppt/media/image32.jpeg" ContentType="image/jpeg"/>
  <Override PartName="/ppt/media/image26.jpeg" ContentType="image/jpeg"/>
  <Override PartName="/ppt/media/image28.jpeg" ContentType="image/jpeg"/>
  <Override PartName="/ppt/media/image7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907588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1"/>
          <p:cNvSpPr/>
          <p:nvPr/>
        </p:nvSpPr>
        <p:spPr>
          <a:xfrm>
            <a:off x="0" y="645336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" name="Picture 2" descr="D:\●2012\업무계획수립\과제별\슬로건 변경안\신규 Visual파일들\LGE Slogan 2012_Text_PPT용.jpg"/>
          <p:cNvPicPr/>
          <p:nvPr/>
        </p:nvPicPr>
        <p:blipFill>
          <a:blip r:embed="rId2"/>
          <a:stretch/>
        </p:blipFill>
        <p:spPr>
          <a:xfrm>
            <a:off x="272880" y="6600960"/>
            <a:ext cx="2880000" cy="160200"/>
          </a:xfrm>
          <a:prstGeom prst="rect">
            <a:avLst/>
          </a:prstGeom>
          <a:ln w="0">
            <a:noFill/>
          </a:ln>
        </p:spPr>
      </p:pic>
      <p:sp>
        <p:nvSpPr>
          <p:cNvPr id="2" name="Line 14"/>
          <p:cNvSpPr/>
          <p:nvPr/>
        </p:nvSpPr>
        <p:spPr>
          <a:xfrm>
            <a:off x="0" y="53496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" name="Picture 9" descr=""/>
          <p:cNvPicPr/>
          <p:nvPr/>
        </p:nvPicPr>
        <p:blipFill>
          <a:blip r:embed="rId3"/>
          <a:srcRect l="0" t="0" r="0" b="6299"/>
          <a:stretch/>
        </p:blipFill>
        <p:spPr>
          <a:xfrm>
            <a:off x="9064800" y="34920"/>
            <a:ext cx="761760" cy="468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그림 5" descr="백색바탕.png"/>
          <p:cNvPicPr/>
          <p:nvPr/>
        </p:nvPicPr>
        <p:blipFill>
          <a:blip r:embed="rId1"/>
          <a:stretch/>
        </p:blipFill>
        <p:spPr>
          <a:xfrm>
            <a:off x="8388360" y="6012000"/>
            <a:ext cx="1290600" cy="645840"/>
          </a:xfrm>
          <a:prstGeom prst="rect">
            <a:avLst/>
          </a:prstGeom>
          <a:ln w="0">
            <a:noFill/>
          </a:ln>
        </p:spPr>
      </p:pic>
      <p:grpSp>
        <p:nvGrpSpPr>
          <p:cNvPr id="41" name="Group 16"/>
          <p:cNvGrpSpPr/>
          <p:nvPr/>
        </p:nvGrpSpPr>
        <p:grpSpPr>
          <a:xfrm>
            <a:off x="198360" y="125280"/>
            <a:ext cx="1384200" cy="424080"/>
            <a:chOff x="198360" y="125280"/>
            <a:chExt cx="1384200" cy="424080"/>
          </a:xfrm>
        </p:grpSpPr>
        <p:pic>
          <p:nvPicPr>
            <p:cNvPr id="42" name="Picture 5" descr="LG No1_nomal_LG Red"/>
            <p:cNvPicPr/>
            <p:nvPr/>
          </p:nvPicPr>
          <p:blipFill>
            <a:blip r:embed="rId2"/>
            <a:srcRect l="0" t="32309" r="0" b="0"/>
            <a:stretch/>
          </p:blipFill>
          <p:spPr>
            <a:xfrm>
              <a:off x="198360" y="239760"/>
              <a:ext cx="1384200" cy="30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Oval 14"/>
            <p:cNvSpPr/>
            <p:nvPr/>
          </p:nvSpPr>
          <p:spPr>
            <a:xfrm>
              <a:off x="339480" y="125280"/>
              <a:ext cx="71280" cy="73080"/>
            </a:xfrm>
            <a:prstGeom prst="ellipse">
              <a:avLst/>
            </a:prstGeom>
            <a:solidFill>
              <a:srgbClr val="c500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15"/>
            <p:cNvSpPr/>
            <p:nvPr/>
          </p:nvSpPr>
          <p:spPr>
            <a:xfrm>
              <a:off x="550800" y="125280"/>
              <a:ext cx="71280" cy="73080"/>
            </a:xfrm>
            <a:prstGeom prst="ellipse">
              <a:avLst/>
            </a:prstGeom>
            <a:solidFill>
              <a:srgbClr val="c500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" name="Rectangle 2"/>
          <p:cNvSpPr/>
          <p:nvPr/>
        </p:nvSpPr>
        <p:spPr>
          <a:xfrm>
            <a:off x="1984320" y="1268280"/>
            <a:ext cx="5880240" cy="166068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돋움"/>
              </a:rPr>
              <a:t>CE8.h Depth distortion metric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돋움"/>
              </a:rPr>
              <a:t>with a weighted depth fidelity term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돋움"/>
              </a:rPr>
              <a:t>(JCT2-A0119, M26106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4074480" y="5378400"/>
            <a:ext cx="176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돋움"/>
              </a:rPr>
              <a:t>07. 15. 2012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Text Box 36"/>
          <p:cNvSpPr/>
          <p:nvPr/>
        </p:nvSpPr>
        <p:spPr>
          <a:xfrm>
            <a:off x="1738440" y="5756400"/>
            <a:ext cx="6429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돋움"/>
              </a:rPr>
              <a:t>Jiwook Jung, Sehoon Yea (L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230040" indent="-230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돋움"/>
              </a:rPr>
              <a:t>Seungchul Ryu, DongHyun Kim, Kwanghoon Sohn (Yonsei Univ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2"/>
          <p:cNvSpPr/>
          <p:nvPr/>
        </p:nvSpPr>
        <p:spPr>
          <a:xfrm>
            <a:off x="0" y="0"/>
            <a:ext cx="831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pth reconstruction sample – GT_Fly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0" y="1214280"/>
          <a:ext cx="9906120" cy="4643640"/>
        </p:xfrm>
        <a:graphic>
          <a:graphicData uri="http://schemas.openxmlformats.org/drawingml/2006/table">
            <a:tbl>
              <a:tblPr/>
              <a:tblGrid>
                <a:gridCol w="4952880"/>
                <a:gridCol w="4953240"/>
              </a:tblGrid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M25896 - ACf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opo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1" name="Picture 4" descr="C:\Users\jiwook.jung\Desktop\CE8_Ex - 복사본\v5\Samsung_HHI_ACfg\DepthRecon\S04.jpg"/>
          <p:cNvPicPr/>
          <p:nvPr/>
        </p:nvPicPr>
        <p:blipFill>
          <a:blip r:embed="rId1"/>
          <a:stretch/>
        </p:blipFill>
        <p:spPr>
          <a:xfrm>
            <a:off x="360360" y="2340000"/>
            <a:ext cx="4389480" cy="2487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C:\Users\jiwook.jung\Desktop\CE8_Ex - 복사본\v5\WVSO\DepthRecon\S04.jpg"/>
          <p:cNvPicPr/>
          <p:nvPr/>
        </p:nvPicPr>
        <p:blipFill>
          <a:blip r:embed="rId2"/>
          <a:stretch/>
        </p:blipFill>
        <p:spPr>
          <a:xfrm>
            <a:off x="5219640" y="2340000"/>
            <a:ext cx="438948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2"/>
          <p:cNvSpPr/>
          <p:nvPr/>
        </p:nvSpPr>
        <p:spPr>
          <a:xfrm>
            <a:off x="0" y="0"/>
            <a:ext cx="831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pth reconstruction sample – Kendo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0" y="1214280"/>
          <a:ext cx="9906120" cy="4643640"/>
        </p:xfrm>
        <a:graphic>
          <a:graphicData uri="http://schemas.openxmlformats.org/drawingml/2006/table">
            <a:tbl>
              <a:tblPr/>
              <a:tblGrid>
                <a:gridCol w="4952880"/>
                <a:gridCol w="4953240"/>
              </a:tblGrid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M25896 - ACf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opo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5" name="Picture 8" descr="C:\Users\jiwook.jung\Desktop\CE8_Ex - 복사본\v5\WVSO\DepthRecon\S05.jpg"/>
          <p:cNvPicPr/>
          <p:nvPr/>
        </p:nvPicPr>
        <p:blipFill>
          <a:blip r:embed="rId1"/>
          <a:stretch/>
        </p:blipFill>
        <p:spPr>
          <a:xfrm>
            <a:off x="5003640" y="1979640"/>
            <a:ext cx="4876920" cy="3657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C:\Users\jiwook.jung\Desktop\CE8_Ex - 복사본\v5\Samsung_HHI_ACfg\DepthRecon\S05.jpg"/>
          <p:cNvPicPr/>
          <p:nvPr/>
        </p:nvPicPr>
        <p:blipFill>
          <a:blip r:embed="rId2"/>
          <a:stretch/>
        </p:blipFill>
        <p:spPr>
          <a:xfrm>
            <a:off x="36360" y="197964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2"/>
          <p:cNvSpPr/>
          <p:nvPr/>
        </p:nvSpPr>
        <p:spPr>
          <a:xfrm>
            <a:off x="0" y="0"/>
            <a:ext cx="831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pth reconstruction sample – Balloons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0" y="1214280"/>
          <a:ext cx="9906120" cy="4643640"/>
        </p:xfrm>
        <a:graphic>
          <a:graphicData uri="http://schemas.openxmlformats.org/drawingml/2006/table">
            <a:tbl>
              <a:tblPr/>
              <a:tblGrid>
                <a:gridCol w="4952880"/>
                <a:gridCol w="4953240"/>
              </a:tblGrid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M25896 - ACf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opo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9" name="Picture 3" descr="C:\Users\jiwook.jung\Desktop\CE8_Ex - 복사본\v5\Samsung_HHI_ACfg\DepthRecon\S06.jpg"/>
          <p:cNvPicPr/>
          <p:nvPr/>
        </p:nvPicPr>
        <p:blipFill>
          <a:blip r:embed="rId1"/>
          <a:stretch/>
        </p:blipFill>
        <p:spPr>
          <a:xfrm>
            <a:off x="36360" y="1979640"/>
            <a:ext cx="4876920" cy="36576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C:\Users\jiwook.jung\Desktop\CE8_Ex - 복사본\v5\WVSO\DepthRecon\S06.jpg"/>
          <p:cNvPicPr/>
          <p:nvPr/>
        </p:nvPicPr>
        <p:blipFill>
          <a:blip r:embed="rId2"/>
          <a:stretch/>
        </p:blipFill>
        <p:spPr>
          <a:xfrm>
            <a:off x="5003640" y="197964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2"/>
          <p:cNvSpPr/>
          <p:nvPr/>
        </p:nvSpPr>
        <p:spPr>
          <a:xfrm>
            <a:off x="0" y="0"/>
            <a:ext cx="831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pth reconstruction sample – Newspaper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0" y="1214280"/>
          <a:ext cx="9906120" cy="4643640"/>
        </p:xfrm>
        <a:graphic>
          <a:graphicData uri="http://schemas.openxmlformats.org/drawingml/2006/table">
            <a:tbl>
              <a:tblPr/>
              <a:tblGrid>
                <a:gridCol w="4952880"/>
                <a:gridCol w="4953240"/>
              </a:tblGrid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M25896 - ACf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opo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3" name="Picture 2" descr="C:\Users\jiwook.jung\Desktop\CE8_Ex - 복사본\v5\Samsung_HHI_ACfg\DepthRecon\S08.jpg"/>
          <p:cNvPicPr/>
          <p:nvPr/>
        </p:nvPicPr>
        <p:blipFill>
          <a:blip r:embed="rId1"/>
          <a:stretch/>
        </p:blipFill>
        <p:spPr>
          <a:xfrm>
            <a:off x="0" y="1979640"/>
            <a:ext cx="4876920" cy="36576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C:\Users\jiwook.jung\Desktop\CE8_Ex - 복사본\v5\WVSO\DepthRecon\S08.jpg"/>
          <p:cNvPicPr/>
          <p:nvPr/>
        </p:nvPicPr>
        <p:blipFill>
          <a:blip r:embed="rId2"/>
          <a:stretch/>
        </p:blipFill>
        <p:spPr>
          <a:xfrm>
            <a:off x="5003640" y="197964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Box 2"/>
          <p:cNvSpPr/>
          <p:nvPr/>
        </p:nvSpPr>
        <p:spPr>
          <a:xfrm>
            <a:off x="0" y="0"/>
            <a:ext cx="831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SRS 3.5 Sample – Poznan_Hall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0" y="1214280"/>
          <a:ext cx="9906120" cy="4643640"/>
        </p:xfrm>
        <a:graphic>
          <a:graphicData uri="http://schemas.openxmlformats.org/drawingml/2006/table">
            <a:tbl>
              <a:tblPr/>
              <a:tblGrid>
                <a:gridCol w="4952880"/>
                <a:gridCol w="4953240"/>
              </a:tblGrid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M25896 - ACf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opo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7" name="Picture 20" descr="C:\Users\jiwook.jung\Desktop\CE8_Ex - 복사본\v5\WVSO\VSRS35\S01.jpg"/>
          <p:cNvPicPr/>
          <p:nvPr/>
        </p:nvPicPr>
        <p:blipFill>
          <a:blip r:embed="rId1"/>
          <a:stretch/>
        </p:blipFill>
        <p:spPr>
          <a:xfrm>
            <a:off x="5219640" y="2340000"/>
            <a:ext cx="4389480" cy="24876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1" descr="C:\Users\jiwook.jung\Desktop\CE8_Ex - 복사본\v5\Samsung_HHI_ACfg\VSRS35\S01.jpg"/>
          <p:cNvPicPr/>
          <p:nvPr/>
        </p:nvPicPr>
        <p:blipFill>
          <a:blip r:embed="rId2"/>
          <a:stretch/>
        </p:blipFill>
        <p:spPr>
          <a:xfrm>
            <a:off x="360360" y="2340000"/>
            <a:ext cx="4389480" cy="2487600"/>
          </a:xfrm>
          <a:prstGeom prst="rect">
            <a:avLst/>
          </a:prstGeom>
          <a:ln w="0">
            <a:noFill/>
          </a:ln>
        </p:spPr>
      </p:pic>
      <p:sp>
        <p:nvSpPr>
          <p:cNvPr id="109" name="타원 7"/>
          <p:cNvSpPr/>
          <p:nvPr/>
        </p:nvSpPr>
        <p:spPr>
          <a:xfrm>
            <a:off x="3952800" y="3143160"/>
            <a:ext cx="500040" cy="5716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2"/>
          <p:cNvSpPr/>
          <p:nvPr/>
        </p:nvSpPr>
        <p:spPr>
          <a:xfrm>
            <a:off x="0" y="0"/>
            <a:ext cx="831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SRS 3.5 Sample – Poznan_Stree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0" y="1214280"/>
          <a:ext cx="9906120" cy="4643640"/>
        </p:xfrm>
        <a:graphic>
          <a:graphicData uri="http://schemas.openxmlformats.org/drawingml/2006/table">
            <a:tbl>
              <a:tblPr/>
              <a:tblGrid>
                <a:gridCol w="4952880"/>
                <a:gridCol w="4953240"/>
              </a:tblGrid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M25896 - ACf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opo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2" name="Picture 3" descr="C:\Users\jiwook.jung\Desktop\CE8_Ex - 복사본\v5\Samsung_HHI_ACfg\VSRS35\S02.jpg"/>
          <p:cNvPicPr/>
          <p:nvPr/>
        </p:nvPicPr>
        <p:blipFill>
          <a:blip r:embed="rId1"/>
          <a:stretch/>
        </p:blipFill>
        <p:spPr>
          <a:xfrm>
            <a:off x="360360" y="2340000"/>
            <a:ext cx="4389480" cy="24876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C:\Users\jiwook.jung\Desktop\CE8_Ex - 복사본\v5\WVSO\VSRS35\S02.jpg"/>
          <p:cNvPicPr/>
          <p:nvPr/>
        </p:nvPicPr>
        <p:blipFill>
          <a:blip r:embed="rId2"/>
          <a:stretch/>
        </p:blipFill>
        <p:spPr>
          <a:xfrm>
            <a:off x="5219640" y="2340000"/>
            <a:ext cx="4389480" cy="2487600"/>
          </a:xfrm>
          <a:prstGeom prst="rect">
            <a:avLst/>
          </a:prstGeom>
          <a:ln w="0">
            <a:noFill/>
          </a:ln>
        </p:spPr>
      </p:pic>
      <p:sp>
        <p:nvSpPr>
          <p:cNvPr id="114" name="타원 6"/>
          <p:cNvSpPr/>
          <p:nvPr/>
        </p:nvSpPr>
        <p:spPr>
          <a:xfrm>
            <a:off x="595440" y="3143160"/>
            <a:ext cx="500040" cy="5000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2"/>
          <p:cNvSpPr/>
          <p:nvPr/>
        </p:nvSpPr>
        <p:spPr>
          <a:xfrm>
            <a:off x="0" y="0"/>
            <a:ext cx="831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SRS 3.5 Sample – Undo_Dancer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0" y="1214280"/>
          <a:ext cx="9906120" cy="4643640"/>
        </p:xfrm>
        <a:graphic>
          <a:graphicData uri="http://schemas.openxmlformats.org/drawingml/2006/table">
            <a:tbl>
              <a:tblPr/>
              <a:tblGrid>
                <a:gridCol w="4952880"/>
                <a:gridCol w="4953240"/>
              </a:tblGrid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M25896 - ACf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opo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7" name="그림 2" descr="C:\Users\jiwook.jung\Documents\3DV_Ours\DepthMetric\MPEG101\JPG\Anchor_VSRS35_frame000040.jpg"/>
          <p:cNvPicPr/>
          <p:nvPr/>
        </p:nvPicPr>
        <p:blipFill>
          <a:blip r:embed="rId1"/>
          <a:stretch/>
        </p:blipFill>
        <p:spPr>
          <a:xfrm>
            <a:off x="360360" y="2340000"/>
            <a:ext cx="4362480" cy="2487600"/>
          </a:xfrm>
          <a:prstGeom prst="rect">
            <a:avLst/>
          </a:prstGeom>
          <a:ln w="0">
            <a:noFill/>
          </a:ln>
        </p:spPr>
      </p:pic>
      <p:pic>
        <p:nvPicPr>
          <p:cNvPr id="118" name="그림 7" descr="C:\Users\jiwook.jung\Documents\3DV_Ours\DepthMetric\MPEG101\JPG\WVSO_VSRS35_frame000040.jpg"/>
          <p:cNvPicPr/>
          <p:nvPr/>
        </p:nvPicPr>
        <p:blipFill>
          <a:blip r:embed="rId2"/>
          <a:stretch/>
        </p:blipFill>
        <p:spPr>
          <a:xfrm>
            <a:off x="5219640" y="2340000"/>
            <a:ext cx="4376880" cy="2487600"/>
          </a:xfrm>
          <a:prstGeom prst="rect">
            <a:avLst/>
          </a:prstGeom>
          <a:ln w="0">
            <a:noFill/>
          </a:ln>
        </p:spPr>
      </p:pic>
      <p:sp>
        <p:nvSpPr>
          <p:cNvPr id="119" name="타원 11"/>
          <p:cNvSpPr/>
          <p:nvPr/>
        </p:nvSpPr>
        <p:spPr>
          <a:xfrm>
            <a:off x="4381560" y="2571840"/>
            <a:ext cx="500040" cy="18572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2"/>
          <p:cNvSpPr/>
          <p:nvPr/>
        </p:nvSpPr>
        <p:spPr>
          <a:xfrm>
            <a:off x="0" y="0"/>
            <a:ext cx="831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SRS 3.5 Sample – GT_Fly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0" y="1214280"/>
          <a:ext cx="9906120" cy="4643640"/>
        </p:xfrm>
        <a:graphic>
          <a:graphicData uri="http://schemas.openxmlformats.org/drawingml/2006/table">
            <a:tbl>
              <a:tblPr/>
              <a:tblGrid>
                <a:gridCol w="4952880"/>
                <a:gridCol w="4953240"/>
              </a:tblGrid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M25896 - ACf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opo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2" name="Picture 3" descr="C:\Users\jiwook.jung\Desktop\CE8_Ex - 복사본\v5\Samsung_HHI_ACfg\VSRS35\S04.jpg"/>
          <p:cNvPicPr/>
          <p:nvPr/>
        </p:nvPicPr>
        <p:blipFill>
          <a:blip r:embed="rId1"/>
          <a:stretch/>
        </p:blipFill>
        <p:spPr>
          <a:xfrm>
            <a:off x="360360" y="2340000"/>
            <a:ext cx="4389480" cy="2487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C:\Users\jiwook.jung\Desktop\CE8_Ex - 복사본\v5\WVSO\VSRS35\S04.jpg"/>
          <p:cNvPicPr/>
          <p:nvPr/>
        </p:nvPicPr>
        <p:blipFill>
          <a:blip r:embed="rId2"/>
          <a:stretch/>
        </p:blipFill>
        <p:spPr>
          <a:xfrm>
            <a:off x="5219640" y="2340000"/>
            <a:ext cx="4389480" cy="2487600"/>
          </a:xfrm>
          <a:prstGeom prst="rect">
            <a:avLst/>
          </a:prstGeom>
          <a:ln w="0">
            <a:noFill/>
          </a:ln>
        </p:spPr>
      </p:pic>
      <p:sp>
        <p:nvSpPr>
          <p:cNvPr id="124" name="타원 6"/>
          <p:cNvSpPr/>
          <p:nvPr/>
        </p:nvSpPr>
        <p:spPr>
          <a:xfrm>
            <a:off x="4024440" y="2357280"/>
            <a:ext cx="500040" cy="1857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타원 7"/>
          <p:cNvSpPr/>
          <p:nvPr/>
        </p:nvSpPr>
        <p:spPr>
          <a:xfrm>
            <a:off x="1166760" y="2509920"/>
            <a:ext cx="500040" cy="18572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2"/>
          <p:cNvSpPr/>
          <p:nvPr/>
        </p:nvSpPr>
        <p:spPr>
          <a:xfrm>
            <a:off x="0" y="0"/>
            <a:ext cx="831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SRS 3.5 Sample – Kendo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0" y="1214280"/>
          <a:ext cx="9906120" cy="4643640"/>
        </p:xfrm>
        <a:graphic>
          <a:graphicData uri="http://schemas.openxmlformats.org/drawingml/2006/table">
            <a:tbl>
              <a:tblPr/>
              <a:tblGrid>
                <a:gridCol w="4952880"/>
                <a:gridCol w="4953240"/>
              </a:tblGrid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M25896 - ACf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opo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8" name="Picture 3" descr="C:\Users\jiwook.jung\Desktop\CE8_Ex - 복사본\v5\Samsung_HHI_ACfg\VSRS35\S05.jpg"/>
          <p:cNvPicPr/>
          <p:nvPr/>
        </p:nvPicPr>
        <p:blipFill>
          <a:blip r:embed="rId1"/>
          <a:stretch/>
        </p:blipFill>
        <p:spPr>
          <a:xfrm>
            <a:off x="36360" y="1979640"/>
            <a:ext cx="4876920" cy="36576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C:\Users\jiwook.jung\Desktop\CE8_Ex - 복사본\v5\WVSO\VSRS35\S05.jpg"/>
          <p:cNvPicPr/>
          <p:nvPr/>
        </p:nvPicPr>
        <p:blipFill>
          <a:blip r:embed="rId2"/>
          <a:stretch/>
        </p:blipFill>
        <p:spPr>
          <a:xfrm>
            <a:off x="5003640" y="1979640"/>
            <a:ext cx="4876920" cy="3657600"/>
          </a:xfrm>
          <a:prstGeom prst="rect">
            <a:avLst/>
          </a:prstGeom>
          <a:ln w="0">
            <a:noFill/>
          </a:ln>
        </p:spPr>
      </p:pic>
      <p:sp>
        <p:nvSpPr>
          <p:cNvPr id="130" name="타원 7"/>
          <p:cNvSpPr/>
          <p:nvPr/>
        </p:nvSpPr>
        <p:spPr>
          <a:xfrm>
            <a:off x="2452680" y="3143160"/>
            <a:ext cx="500040" cy="6526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2"/>
          <p:cNvSpPr/>
          <p:nvPr/>
        </p:nvSpPr>
        <p:spPr>
          <a:xfrm>
            <a:off x="0" y="0"/>
            <a:ext cx="831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SRS 3.5 Sample – Balloons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0" y="1214280"/>
          <a:ext cx="9906120" cy="4643640"/>
        </p:xfrm>
        <a:graphic>
          <a:graphicData uri="http://schemas.openxmlformats.org/drawingml/2006/table">
            <a:tbl>
              <a:tblPr/>
              <a:tblGrid>
                <a:gridCol w="4952880"/>
                <a:gridCol w="4953240"/>
              </a:tblGrid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M25896 - ACf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opo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3" name="Picture 20" descr="C:\Users\jiwook.jung\Desktop\CE8_Ex - 복사본\v5\Samsung_HHI_ACfg\VSRS35\S06.jpg"/>
          <p:cNvPicPr/>
          <p:nvPr/>
        </p:nvPicPr>
        <p:blipFill>
          <a:blip r:embed="rId1"/>
          <a:stretch/>
        </p:blipFill>
        <p:spPr>
          <a:xfrm>
            <a:off x="36360" y="1979640"/>
            <a:ext cx="4876920" cy="36576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1" descr="C:\Users\jiwook.jung\Desktop\CE8_Ex - 복사본\v5\WVSO\VSRS35\S06.jpg"/>
          <p:cNvPicPr/>
          <p:nvPr/>
        </p:nvPicPr>
        <p:blipFill>
          <a:blip r:embed="rId2"/>
          <a:stretch/>
        </p:blipFill>
        <p:spPr>
          <a:xfrm>
            <a:off x="5003640" y="1979640"/>
            <a:ext cx="4876920" cy="3657600"/>
          </a:xfrm>
          <a:prstGeom prst="rect">
            <a:avLst/>
          </a:prstGeom>
          <a:ln w="0">
            <a:noFill/>
          </a:ln>
        </p:spPr>
      </p:pic>
      <p:sp>
        <p:nvSpPr>
          <p:cNvPr id="135" name="타원 7"/>
          <p:cNvSpPr/>
          <p:nvPr/>
        </p:nvSpPr>
        <p:spPr>
          <a:xfrm>
            <a:off x="1166760" y="3071880"/>
            <a:ext cx="357120" cy="3571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타원 8"/>
          <p:cNvSpPr/>
          <p:nvPr/>
        </p:nvSpPr>
        <p:spPr>
          <a:xfrm>
            <a:off x="6167520" y="3071880"/>
            <a:ext cx="357120" cy="3571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57"/>
          <p:cNvSpPr/>
          <p:nvPr/>
        </p:nvSpPr>
        <p:spPr>
          <a:xfrm>
            <a:off x="237960" y="785880"/>
            <a:ext cx="92869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돋움"/>
              </a:rPr>
              <a:t>Problem of current depth metric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돋움"/>
              </a:rPr>
              <a:t>Under the CTC of 3DV, depth distortion metric is measured indirectly in the specific virtual view position and VSO renderer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돋움"/>
              </a:rPr>
              <a:t>Moreover, view interpolation scenario is assumed in the VSO configuration. So, the asymmetric depth quality was generated depending on the base view position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돋움"/>
              </a:rPr>
              <a:t>For this reason, the coded-depth property can be biased to specific view synthesis conditions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돋움"/>
              </a:rPr>
              <a:t>The undesirable artifacts can be generated using only synthesis domain metric in various synthesis conditions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7920" y="0"/>
            <a:ext cx="657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Rectangle 17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Rectangle 17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Rectangle 17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17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2"/>
          <p:cNvSpPr/>
          <p:nvPr/>
        </p:nvSpPr>
        <p:spPr>
          <a:xfrm>
            <a:off x="0" y="0"/>
            <a:ext cx="831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SRS 3.5 Sample – Newspaper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0" y="1214280"/>
          <a:ext cx="9906120" cy="4643640"/>
        </p:xfrm>
        <a:graphic>
          <a:graphicData uri="http://schemas.openxmlformats.org/drawingml/2006/table">
            <a:tbl>
              <a:tblPr/>
              <a:tblGrid>
                <a:gridCol w="4952880"/>
                <a:gridCol w="4953240"/>
              </a:tblGrid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M25896 - ACf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opo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9" name="Picture 2" descr="C:\Users\jiwook.jung\Desktop\CE8_Ex - 복사본\v5\Samsung_HHI_ACfg\VSRS35\S08.jpg"/>
          <p:cNvPicPr/>
          <p:nvPr/>
        </p:nvPicPr>
        <p:blipFill>
          <a:blip r:embed="rId1"/>
          <a:stretch/>
        </p:blipFill>
        <p:spPr>
          <a:xfrm>
            <a:off x="36360" y="1979640"/>
            <a:ext cx="4876920" cy="36576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C:\Users\jiwook.jung\Desktop\CE8_Ex - 복사본\v5\WVSO\VSRS35\S08.jpg"/>
          <p:cNvPicPr/>
          <p:nvPr/>
        </p:nvPicPr>
        <p:blipFill>
          <a:blip r:embed="rId2"/>
          <a:stretch/>
        </p:blipFill>
        <p:spPr>
          <a:xfrm>
            <a:off x="5003640" y="1979640"/>
            <a:ext cx="4876920" cy="3657600"/>
          </a:xfrm>
          <a:prstGeom prst="rect">
            <a:avLst/>
          </a:prstGeom>
          <a:ln w="0">
            <a:noFill/>
          </a:ln>
        </p:spPr>
      </p:pic>
      <p:sp>
        <p:nvSpPr>
          <p:cNvPr id="141" name="타원 6"/>
          <p:cNvSpPr/>
          <p:nvPr/>
        </p:nvSpPr>
        <p:spPr>
          <a:xfrm>
            <a:off x="2309760" y="3714840"/>
            <a:ext cx="642960" cy="1000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Box 1"/>
          <p:cNvSpPr/>
          <p:nvPr/>
        </p:nvSpPr>
        <p:spPr>
          <a:xfrm>
            <a:off x="0" y="0"/>
            <a:ext cx="657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57"/>
          <p:cNvSpPr/>
          <p:nvPr/>
        </p:nvSpPr>
        <p:spPr>
          <a:xfrm>
            <a:off x="237960" y="785880"/>
            <a:ext cx="92869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돋움"/>
              </a:rPr>
              <a:t>Under the CTC of 3DV, Depth distortion metric can cause undesirable artifacts in various synthesis scenarios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돋움"/>
              </a:rPr>
              <a:t>The undesirable depth distortion can be mitigated by adding a weighted depth fidelity term into depth metric function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돋움"/>
              </a:rPr>
              <a:t>The average synthesis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D-rate changes of proposed method were 0.4% and -2.4% when the renderer is VSRS1DFast and VSRS3.5, respectivel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Especially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돋움"/>
              </a:rPr>
              <a:t>average synthesis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D-rate changes of Undo_Dancer and GT_Fly were      -9.5% and -5.1% using VSRS3.5 as renderer, respectively. And, the depth fidelity and synthesis results were highly improved subjectively and objectively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돋움"/>
              </a:rPr>
              <a:t>The weighting factor had been not well adjusted. The subjective and objective results can be improved by tuning the weighting factor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돋움"/>
              </a:rPr>
              <a:t>In this proposal, the utility of adding a depth fidelity term is reported subjectively and objectively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57"/>
          <p:cNvSpPr/>
          <p:nvPr/>
        </p:nvSpPr>
        <p:spPr>
          <a:xfrm>
            <a:off x="237960" y="785880"/>
            <a:ext cx="9286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돋움"/>
              </a:rPr>
              <a:t>Depth distortion metric with a weighted depth fidelity term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돋움"/>
              </a:rPr>
              <a:t>In this proposal, a depth fidelity term which is SAD/SSE in depth domain is combined with the synthesis domain distortion term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돋움"/>
              </a:rPr>
              <a:t>The depth fidelity term is not biase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돋움"/>
              </a:rPr>
              <a:t>to specific view synthesis conditions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돋움"/>
              </a:rPr>
              <a:t>The depth distortion metric function is modified as follows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돋움"/>
              </a:rPr>
              <a:t>Where,                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돋움"/>
              </a:rPr>
              <a:t>:  The total depth distortion for mode decisio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돋움"/>
              </a:rPr>
              <a:t>: Distortions in synthesis and depth domains, respectivel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돋움"/>
              </a:rPr>
              <a:t>: Weights for distortions in synthesis and depth domains, respectivel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돋움"/>
              </a:rPr>
              <a:t>The weight of depth distortion is determined heuristically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7920" y="0"/>
            <a:ext cx="657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oposed Method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Rectangle 17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170"/>
              <p:cNvSpPr txBox="1"/>
              <p:nvPr/>
            </p:nvSpPr>
            <p:spPr>
              <a:xfrm>
                <a:off x="2695680" y="2786040"/>
                <a:ext cx="411480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ept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istrotion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ynth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ynth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epth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ept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8" name="Rectangle 17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172"/>
              <p:cNvSpPr txBox="1"/>
              <p:nvPr/>
            </p:nvSpPr>
            <p:spPr>
              <a:xfrm>
                <a:off x="2023920" y="3286080"/>
                <a:ext cx="1071720" cy="3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ept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istrotion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0" name="Rectangle 17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Object 174"/>
              <p:cNvSpPr txBox="1"/>
              <p:nvPr/>
            </p:nvSpPr>
            <p:spPr>
              <a:xfrm>
                <a:off x="1238400" y="3584520"/>
                <a:ext cx="107136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ynth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ept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2" name="Rectangle 17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176"/>
              <p:cNvSpPr txBox="1"/>
              <p:nvPr/>
            </p:nvSpPr>
            <p:spPr>
              <a:xfrm>
                <a:off x="1238400" y="3879720"/>
                <a:ext cx="100008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ynth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ept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2"/>
          <p:cNvSpPr/>
          <p:nvPr/>
        </p:nvSpPr>
        <p:spPr>
          <a:xfrm>
            <a:off x="0" y="0"/>
            <a:ext cx="657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bjective result using VSRS 1D Fas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4"/>
          <p:cNvSpPr/>
          <p:nvPr/>
        </p:nvSpPr>
        <p:spPr>
          <a:xfrm>
            <a:off x="666720" y="785880"/>
            <a:ext cx="764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chor : Samsung &amp; HHI (M25896) A Cfg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1"/>
              <p:cNvSpPr txBox="1"/>
              <p:nvPr/>
            </p:nvSpPr>
            <p:spPr>
              <a:xfrm>
                <a:off x="728640" y="1143000"/>
                <a:ext cx="286704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H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SO</m:t>
                            </m:r>
                          </m:sub>
                        </m:sSub>
                      </m:sub>
                    </m:sSub>
                    <m:r>
                      <m:t xml:space="preserve">: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AI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DO</m:t>
                            </m:r>
                          </m:sub>
                        </m:sSub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epth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:</m:t>
                    </m:r>
                    <m:r>
                      <m:t xml:space="preserve">1</m:t>
                    </m:r>
                    <m:r>
                      <m:t xml:space="preserve">: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67" name=""/>
          <p:cNvGraphicFramePr/>
          <p:nvPr/>
        </p:nvGraphicFramePr>
        <p:xfrm>
          <a:off x="738360" y="1428840"/>
          <a:ext cx="8643600" cy="4500360"/>
        </p:xfrm>
        <a:graphic>
          <a:graphicData uri="http://schemas.openxmlformats.org/drawingml/2006/table">
            <a:tbl>
              <a:tblPr/>
              <a:tblGrid>
                <a:gridCol w="1284120"/>
                <a:gridCol w="758880"/>
                <a:gridCol w="760320"/>
                <a:gridCol w="758880"/>
                <a:gridCol w="992160"/>
                <a:gridCol w="936720"/>
                <a:gridCol w="1050840"/>
                <a:gridCol w="1050840"/>
                <a:gridCol w="1050840"/>
              </a:tblGrid>
              <a:tr h="50148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video 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video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video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video on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ynthesized onl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coded &amp; synthesiz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enc t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ec t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Ballo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1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1.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0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8268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Ken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1.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2.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3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1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232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Newspaperc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0.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184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GhostTownF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9.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268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PoznanHall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1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2.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9.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232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PoznanStre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2.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9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76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UndoDanc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1.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9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24x7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1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1.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0.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996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920x10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1.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9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aver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.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1.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2"/>
          <p:cNvSpPr/>
          <p:nvPr/>
        </p:nvSpPr>
        <p:spPr>
          <a:xfrm>
            <a:off x="0" y="0"/>
            <a:ext cx="657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bjective result using VSRS 3.5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TextBox 4"/>
          <p:cNvSpPr/>
          <p:nvPr/>
        </p:nvSpPr>
        <p:spPr>
          <a:xfrm>
            <a:off x="666720" y="785880"/>
            <a:ext cx="764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chor : Samsung &amp; HHI (M25896) A Cfg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1"/>
              <p:cNvSpPr txBox="1"/>
              <p:nvPr/>
            </p:nvSpPr>
            <p:spPr>
              <a:xfrm>
                <a:off x="728640" y="1143000"/>
                <a:ext cx="286704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H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SO</m:t>
                            </m:r>
                          </m:sub>
                        </m:sSub>
                      </m:sub>
                    </m:sSub>
                    <m:r>
                      <m:t xml:space="preserve">: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AI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DO</m:t>
                            </m:r>
                          </m:sub>
                        </m:sSub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epth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:</m:t>
                    </m:r>
                    <m:r>
                      <m:t xml:space="preserve">1</m:t>
                    </m:r>
                    <m:r>
                      <m:t xml:space="preserve">: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71" name=""/>
          <p:cNvGraphicFramePr/>
          <p:nvPr/>
        </p:nvGraphicFramePr>
        <p:xfrm>
          <a:off x="738360" y="1428840"/>
          <a:ext cx="8643600" cy="4500360"/>
        </p:xfrm>
        <a:graphic>
          <a:graphicData uri="http://schemas.openxmlformats.org/drawingml/2006/table">
            <a:tbl>
              <a:tblPr/>
              <a:tblGrid>
                <a:gridCol w="1295280"/>
                <a:gridCol w="765000"/>
                <a:gridCol w="765360"/>
                <a:gridCol w="765000"/>
                <a:gridCol w="1001880"/>
                <a:gridCol w="942840"/>
                <a:gridCol w="1060560"/>
                <a:gridCol w="1058760"/>
                <a:gridCol w="988920"/>
              </a:tblGrid>
              <a:tr h="50148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video 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video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video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video on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ynthesized onl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coded &amp; synthesiz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enc t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ec t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Ballo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1.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0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8268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Ken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1.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3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1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232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Newspaperc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3.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1.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0.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184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GhostTownF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5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3.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9.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268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PoznanHall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2.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9.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232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PoznanStre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2.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9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76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UndoDanc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9.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6.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1.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9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24x7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1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1.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0.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996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920x10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3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2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1.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9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aver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2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1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1.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17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Rectangle 17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Rectangle 17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Rectangle 17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7"/>
          <p:cNvSpPr/>
          <p:nvPr/>
        </p:nvSpPr>
        <p:spPr>
          <a:xfrm>
            <a:off x="1166760" y="1944720"/>
            <a:ext cx="7500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Subjective Sample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QP_T : 30, QP_D : 39 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Position : 0.25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enderer : VSRS3.5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2"/>
          <p:cNvSpPr/>
          <p:nvPr/>
        </p:nvSpPr>
        <p:spPr>
          <a:xfrm>
            <a:off x="0" y="0"/>
            <a:ext cx="831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pth reconstruction sample – Poznan_Hall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0" y="1214280"/>
          <a:ext cx="9906120" cy="4643640"/>
        </p:xfrm>
        <a:graphic>
          <a:graphicData uri="http://schemas.openxmlformats.org/drawingml/2006/table">
            <a:tbl>
              <a:tblPr/>
              <a:tblGrid>
                <a:gridCol w="4952880"/>
                <a:gridCol w="4953240"/>
              </a:tblGrid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M25896 - ACf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opo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9" name="Picture 2" descr="C:\Users\jiwook.jung\Desktop\CE8_Ex - 복사본\v5\Samsung_HHI_ACfg\DepthRecon\S01.jpg"/>
          <p:cNvPicPr/>
          <p:nvPr/>
        </p:nvPicPr>
        <p:blipFill>
          <a:blip r:embed="rId1"/>
          <a:stretch/>
        </p:blipFill>
        <p:spPr>
          <a:xfrm>
            <a:off x="360360" y="2340000"/>
            <a:ext cx="4389480" cy="2487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C:\Users\jiwook.jung\Desktop\CE8_Ex - 복사본\v5\WVSO\DepthRecon\S01.jpg"/>
          <p:cNvPicPr/>
          <p:nvPr/>
        </p:nvPicPr>
        <p:blipFill>
          <a:blip r:embed="rId2"/>
          <a:stretch/>
        </p:blipFill>
        <p:spPr>
          <a:xfrm>
            <a:off x="5219640" y="2340000"/>
            <a:ext cx="438948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2"/>
          <p:cNvSpPr/>
          <p:nvPr/>
        </p:nvSpPr>
        <p:spPr>
          <a:xfrm>
            <a:off x="0" y="0"/>
            <a:ext cx="831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pth reconstruction sample – Poznan_Stree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0" y="1214280"/>
          <a:ext cx="9906120" cy="4643640"/>
        </p:xfrm>
        <a:graphic>
          <a:graphicData uri="http://schemas.openxmlformats.org/drawingml/2006/table">
            <a:tbl>
              <a:tblPr/>
              <a:tblGrid>
                <a:gridCol w="4952880"/>
                <a:gridCol w="4953240"/>
              </a:tblGrid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M25896 - ACf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opo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3" name="Picture 5" descr="C:\Users\jiwook.jung\Desktop\CE8_Ex - 복사본\v5\Samsung_HHI_ACfg\DepthRecon\S02.jpg"/>
          <p:cNvPicPr/>
          <p:nvPr/>
        </p:nvPicPr>
        <p:blipFill>
          <a:blip r:embed="rId1"/>
          <a:stretch/>
        </p:blipFill>
        <p:spPr>
          <a:xfrm>
            <a:off x="360360" y="2340000"/>
            <a:ext cx="4389480" cy="24876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C:\Users\jiwook.jung\Desktop\CE8_Ex - 복사본\v5\WVSO\DepthRecon\S02.jpg"/>
          <p:cNvPicPr/>
          <p:nvPr/>
        </p:nvPicPr>
        <p:blipFill>
          <a:blip r:embed="rId2"/>
          <a:stretch/>
        </p:blipFill>
        <p:spPr>
          <a:xfrm>
            <a:off x="5219640" y="2340000"/>
            <a:ext cx="438948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2"/>
          <p:cNvSpPr/>
          <p:nvPr/>
        </p:nvSpPr>
        <p:spPr>
          <a:xfrm>
            <a:off x="0" y="0"/>
            <a:ext cx="831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pth reconstruction sample – Undo_Dancer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0" y="1214280"/>
          <a:ext cx="9906120" cy="4643640"/>
        </p:xfrm>
        <a:graphic>
          <a:graphicData uri="http://schemas.openxmlformats.org/drawingml/2006/table">
            <a:tbl>
              <a:tblPr/>
              <a:tblGrid>
                <a:gridCol w="4952880"/>
                <a:gridCol w="4953240"/>
              </a:tblGrid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M25896 - ACf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opo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7" name="그림 1" descr="C:\Users\jiwook.jung\Documents\3DV_Ours\DepthMetric\MPEG101\JPG\Anchor_LDepth_frame000040.jpg"/>
          <p:cNvPicPr/>
          <p:nvPr/>
        </p:nvPicPr>
        <p:blipFill>
          <a:blip r:embed="rId1"/>
          <a:stretch/>
        </p:blipFill>
        <p:spPr>
          <a:xfrm>
            <a:off x="360360" y="2340000"/>
            <a:ext cx="4390920" cy="2487600"/>
          </a:xfrm>
          <a:prstGeom prst="rect">
            <a:avLst/>
          </a:prstGeom>
          <a:ln w="0">
            <a:noFill/>
          </a:ln>
        </p:spPr>
      </p:pic>
      <p:pic>
        <p:nvPicPr>
          <p:cNvPr id="88" name="그림 5" descr="C:\Users\jiwook.jung\Documents\3DV_Ours\DepthMetric\MPEG101\JPG\WVSO_LDepth_frame000040.jpg"/>
          <p:cNvPicPr/>
          <p:nvPr/>
        </p:nvPicPr>
        <p:blipFill>
          <a:blip r:embed="rId2"/>
          <a:stretch/>
        </p:blipFill>
        <p:spPr>
          <a:xfrm>
            <a:off x="5219640" y="2340000"/>
            <a:ext cx="439272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6T05:44:28Z</dcterms:created>
  <dc:creator>admin</dc:creator>
  <dc:description/>
  <dc:language>en-US</dc:language>
  <cp:lastModifiedBy>정지욱/연구원/Convergence(연)ATS그룹(jiwook.jung@lge.com)</cp:lastModifiedBy>
  <dcterms:modified xsi:type="dcterms:W3CDTF">2012-07-19T05:55:35Z</dcterms:modified>
  <cp:revision>909</cp:revision>
  <dc:subject/>
  <dc:title>슬라이드 1</dc:title>
</cp:coreProperties>
</file>