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964D-AA90-4890-B114-F36D1337E5F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2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9DEE-A078-40D8-87E0-2D6624B37B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006D-61EF-42DF-AA28-3FB97E3B07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5F9D-7E20-421C-812B-075AAA8907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CC56-F4A4-4F1D-963A-EACEEBA493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0416E-EB8F-4A37-808B-C8B6CCE08F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A5C5-DE72-4F91-85F4-1B5E2795B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4DFC-E90A-434B-A5F8-3BA3F34354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DFFF-ED23-41C2-B41C-EC7F2E102C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0F9C7-4FA1-4676-A07B-6AFB9CB7E9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B63F-234C-47CC-A091-F276C44B09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85A4-7523-4B9E-840F-FEAC926473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D5ED-D21D-4773-8C00-AF0E396DF7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5288-42BA-4A27-BDF3-5EEC5B906C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1366920" y="228600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1366920" y="380988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" name="Line 11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37" descr="C:\Users\jongpo.choi\Desktop\3D_Logo_Tagline.jpg"/>
          <p:cNvPicPr/>
          <p:nvPr/>
        </p:nvPicPr>
        <p:blipFill>
          <a:blip r:embed="rId2"/>
          <a:stretch/>
        </p:blipFill>
        <p:spPr>
          <a:xfrm>
            <a:off x="7924680" y="6248520"/>
            <a:ext cx="114300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1368360" y="228600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368360" y="380988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37" descr="C:\Users\jongpo.choi\Desktop\3D_Logo_Tagline.jpg"/>
          <p:cNvPicPr/>
          <p:nvPr/>
        </p:nvPicPr>
        <p:blipFill>
          <a:blip r:embed="rId2"/>
          <a:stretch/>
        </p:blipFill>
        <p:spPr>
          <a:xfrm>
            <a:off x="3998880" y="6248520"/>
            <a:ext cx="1147680" cy="566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366920" y="228600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366920" y="380988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380880" y="838080"/>
            <a:ext cx="838224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37" descr="C:\Users\jongpo.choi\Desktop\3D_Logo_Tagline.jpg"/>
          <p:cNvPicPr/>
          <p:nvPr/>
        </p:nvPicPr>
        <p:blipFill>
          <a:blip r:embed="rId2"/>
          <a:stretch/>
        </p:blipFill>
        <p:spPr>
          <a:xfrm>
            <a:off x="7924680" y="6248520"/>
            <a:ext cx="1143000" cy="566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Num" idx="1"/>
          </p:nvPr>
        </p:nvSpPr>
        <p:spPr>
          <a:xfrm>
            <a:off x="4190760" y="6324480"/>
            <a:ext cx="6109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59595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12E-80E8-409A-ACBE-BB63F65E9631}" type="slidenum">
              <a:rPr b="0" lang="ko-KR" sz="2400" spc="-1" strike="noStrike">
                <a:solidFill>
                  <a:srgbClr val="595959"/>
                </a:solidFill>
                <a:latin typeface="Calibri"/>
                <a:ea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rbel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2060"/>
              </a:solidFill>
              <a:latin typeface="Corbe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Corbe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Corbe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Corbe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Corbe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366920" y="228600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366920" y="380988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80880" y="1143000"/>
            <a:ext cx="7239240" cy="0"/>
          </a:xfrm>
          <a:prstGeom prst="line">
            <a:avLst/>
          </a:prstGeom>
          <a:ln w="7632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37" descr="C:\Users\jongpo.choi\Desktop\3D_Logo_Tagline.jpg"/>
          <p:cNvPicPr/>
          <p:nvPr/>
        </p:nvPicPr>
        <p:blipFill>
          <a:blip r:embed="rId2"/>
          <a:stretch/>
        </p:blipFill>
        <p:spPr>
          <a:xfrm>
            <a:off x="7763040" y="347760"/>
            <a:ext cx="1152360" cy="566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SEI message for signaling of 360-degree video information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jin Oh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h.D.</a:t>
            </a: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G Electronics</a:t>
            </a: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30592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rbel"/>
              </a:rPr>
              <a:t>Abstract</a:t>
            </a:r>
            <a:endParaRPr b="1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52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rbel"/>
              </a:rPr>
              <a:t>This contribution proposes to indicate following properties of 360-degree video information:</a:t>
            </a:r>
            <a:endParaRPr b="1" lang="en-US" sz="2800" spc="-1" strike="noStrike">
              <a:solidFill>
                <a:srgbClr val="333399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rbel"/>
              </a:rPr>
              <a:t>Projection format indicator  </a:t>
            </a:r>
            <a:endParaRPr b="0" lang="en-US" sz="2400" spc="-1" strike="noStrike">
              <a:solidFill>
                <a:srgbClr val="00206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rbel"/>
              </a:rPr>
              <a:t>Indicator whether the picture is coded mono or stereo</a:t>
            </a:r>
            <a:endParaRPr b="0" lang="en-US" sz="2400" spc="-1" strike="noStrike">
              <a:solidFill>
                <a:srgbClr val="00206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rbel"/>
              </a:rPr>
              <a:t>The spherical surface area to which the coded picture is projected</a:t>
            </a:r>
            <a:endParaRPr b="0" lang="en-US" sz="2400" spc="-1" strike="noStrike">
              <a:solidFill>
                <a:srgbClr val="002060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rbel"/>
              </a:rPr>
              <a:t>Cube face packing parameters when the cube map projection is applied</a:t>
            </a:r>
            <a:endParaRPr b="0" lang="en-US" sz="2400" spc="-1" strike="noStrike">
              <a:solidFill>
                <a:srgbClr val="002060"/>
              </a:solidFill>
              <a:latin typeface="Corbel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4191120" y="6324480"/>
            <a:ext cx="610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3F37-71D1-4F35-BB5C-1CF9B6891353}" type="slidenum">
              <a:rPr b="0" lang="ko-KR" sz="1200" spc="-1" strike="noStrike">
                <a:solidFill>
                  <a:srgbClr val="595959"/>
                </a:solidFill>
                <a:latin typeface="Calibri"/>
                <a:ea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30592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rbel"/>
              </a:rPr>
              <a:t>A partial range of 360-degree video</a:t>
            </a:r>
            <a:endParaRPr b="1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52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rbel"/>
              </a:rPr>
              <a:t>Depending on applications, some of 360-degree videos only capture and include a partial range, e.g., 180 x 180 degree, of the sphere. </a:t>
            </a: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lvl="1" marL="743040" indent="-285840"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rbel"/>
              </a:rPr>
              <a:t>The 180-degree video is more used for sports events in a fixed setup, such as a stadium, whereas the 360-view is more used for documentary, news and music video clips.</a:t>
            </a:r>
            <a:endParaRPr b="0" lang="en-US" sz="2400" spc="-1" strike="noStrike">
              <a:solidFill>
                <a:srgbClr val="002060"/>
              </a:solidFill>
              <a:latin typeface="Corbel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4191120" y="6324480"/>
            <a:ext cx="610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EBD9-FE42-4F5B-8379-119341741108}" type="slidenum">
              <a:rPr b="0" lang="ko-KR" sz="1200" spc="-1" strike="noStrike">
                <a:solidFill>
                  <a:srgbClr val="595959"/>
                </a:solidFill>
                <a:latin typeface="Calibri"/>
                <a:ea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그림 2" descr="maxresdefault"/>
          <p:cNvPicPr/>
          <p:nvPr/>
        </p:nvPicPr>
        <p:blipFill>
          <a:blip r:embed="rId1"/>
          <a:stretch/>
        </p:blipFill>
        <p:spPr>
          <a:xfrm>
            <a:off x="2057400" y="3429000"/>
            <a:ext cx="4991040" cy="2286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1869120" y="5725080"/>
            <a:ext cx="540900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Figure 1. Example of stereoscopic 180 vide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30592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rbel"/>
              </a:rPr>
              <a:t>Cube Map Projection</a:t>
            </a:r>
            <a:endParaRPr b="1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52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3399"/>
                </a:solidFill>
                <a:latin typeface="Corbel"/>
              </a:rPr>
              <a:t>Flow of cube map projection </a:t>
            </a:r>
            <a:r>
              <a:rPr b="1" lang="en-US" sz="2400" spc="-1" strike="noStrike">
                <a:solidFill>
                  <a:srgbClr val="333399"/>
                </a:solidFill>
                <a:latin typeface="Corbel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rbel"/>
              </a:rPr>
              <a:t>Could be various different ways to map cube faces to regions of a coded picture</a:t>
            </a: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4191120" y="6324480"/>
            <a:ext cx="610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421B-D5FC-4A29-B6EA-CEAB8D969CF7}" type="slidenum">
              <a:rPr b="0" lang="ko-KR" sz="1200" spc="-1" strike="noStrike">
                <a:solidFill>
                  <a:srgbClr val="595959"/>
                </a:solidFill>
                <a:latin typeface="Calibri"/>
                <a:ea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78840" cy="2436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2666880" y="4267080"/>
            <a:ext cx="3519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30592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rbel"/>
              </a:rPr>
              <a:t>Cube Face Packing Arrangement</a:t>
            </a:r>
            <a:endParaRPr b="1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520" y="9140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rbel"/>
              </a:rPr>
              <a:t>Even with the same layout, there can be different mapping between the regions of coded picture and cube faces</a:t>
            </a: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rbel"/>
              </a:rPr>
              <a:t>Need to indicate how regions of a coded picture are projected from certain cube surfaces. </a:t>
            </a:r>
            <a:endParaRPr b="1" lang="en-US" sz="2400" spc="-1" strike="noStrike">
              <a:solidFill>
                <a:srgbClr val="333399"/>
              </a:solidFill>
              <a:latin typeface="Corbel"/>
            </a:endParaRPr>
          </a:p>
          <a:p>
            <a:pPr lvl="1" marL="690840" indent="-2656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The number of rows and columns of cube faces in the coded picture </a:t>
            </a:r>
            <a:endParaRPr b="0" lang="en-US" sz="2000" spc="-1" strike="noStrike">
              <a:solidFill>
                <a:srgbClr val="002060"/>
              </a:solidFill>
              <a:latin typeface="Corbel"/>
            </a:endParaRPr>
          </a:p>
          <a:p>
            <a:pPr lvl="1" marL="690840" indent="-2656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Correspondence between regions of a coded picture and cube faces </a:t>
            </a:r>
            <a:endParaRPr b="0" lang="en-US" sz="2000" spc="-1" strike="noStrike">
              <a:solidFill>
                <a:srgbClr val="002060"/>
              </a:solidFill>
              <a:latin typeface="Corbel"/>
            </a:endParaRPr>
          </a:p>
          <a:p>
            <a:pPr lvl="1" marL="690840" indent="-2656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Optionally the rotation information if it is rotated</a:t>
            </a:r>
            <a:endParaRPr b="0" lang="en-US" sz="2000" spc="-1" strike="noStrike">
              <a:solidFill>
                <a:srgbClr val="002060"/>
              </a:solidFill>
              <a:latin typeface="Corbel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4191120" y="6324480"/>
            <a:ext cx="610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3946-3718-4868-8E6C-68AAB8C44D78}" type="slidenum">
              <a:rPr b="0" lang="ko-KR" sz="1200" spc="-1" strike="noStrike">
                <a:solidFill>
                  <a:srgbClr val="595959"/>
                </a:solidFill>
                <a:latin typeface="Calibri"/>
                <a:ea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-7632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77880" y="1905120"/>
            <a:ext cx="3701880" cy="2197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4568760" y="1751040"/>
            <a:ext cx="38131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30592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rbel"/>
              </a:rPr>
              <a:t>Proposed VR information SEI syntax</a:t>
            </a:r>
            <a:endParaRPr b="1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960480"/>
          <a:ext cx="5257800" cy="5897520"/>
        </p:xfrm>
        <a:graphic>
          <a:graphicData uri="http://schemas.openxmlformats.org/drawingml/2006/table">
            <a:tbl>
              <a:tblPr/>
              <a:tblGrid>
                <a:gridCol w="3962520"/>
                <a:gridCol w="1295280"/>
              </a:tblGrid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info (payloadSize) {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scripto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info_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info_cancel_fla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06280"/>
                          <a:tab algn="l" pos="22860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f( !vr_info_cancel_flag ) {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vr_projection_form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3360"/>
                          <a:tab algn="l" pos="22860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stereo_fla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3360"/>
                          <a:tab algn="l" pos="22860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full_spherical_fla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if (!full_spherical_flag ) {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vr_area_min_ya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vr_area_max_ya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vr_area_min_pitc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vr_area_max_pitc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rbel"/>
                        </a:rPr>
                        <a:t>}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f (vr_projection_format == 2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56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ube_face_packing_arrangemen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20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um_regions_minus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or( i = 0; i &lt;= num_regions_minus1; i++ ) {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8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gion_left_offset[i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gion_top_offset[i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gion_width[i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gion_height[i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p_face_id[i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3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8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mp_face_rotation[i]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6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info_persistence_fla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}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97" name="직사각형 5"/>
          <p:cNvSpPr/>
          <p:nvPr/>
        </p:nvSpPr>
        <p:spPr>
          <a:xfrm>
            <a:off x="3352680" y="2362320"/>
            <a:ext cx="76320" cy="19047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직사각형 6"/>
          <p:cNvSpPr/>
          <p:nvPr/>
        </p:nvSpPr>
        <p:spPr>
          <a:xfrm>
            <a:off x="3352680" y="1981080"/>
            <a:ext cx="76320" cy="228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직사각형 7"/>
          <p:cNvSpPr/>
          <p:nvPr/>
        </p:nvSpPr>
        <p:spPr>
          <a:xfrm>
            <a:off x="5943600" y="23623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rbel"/>
              </a:rPr>
              <a:t>The concept is already considered even though detailed syntax is not determined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0" name="직선 화살표 연결선 9"/>
          <p:cNvCxnSpPr>
            <a:stCxn id="197" idx="3"/>
          </p:cNvCxnSpPr>
          <p:nvPr/>
        </p:nvCxnSpPr>
        <p:spPr>
          <a:xfrm>
            <a:off x="3428640" y="3314880"/>
            <a:ext cx="2515320" cy="1800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30592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rbel"/>
              </a:rPr>
              <a:t>Proposed VR information SEI syntax</a:t>
            </a:r>
            <a:endParaRPr b="1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960480"/>
          <a:ext cx="5486400" cy="5745240"/>
        </p:xfrm>
        <a:graphic>
          <a:graphicData uri="http://schemas.openxmlformats.org/drawingml/2006/table">
            <a:tbl>
              <a:tblPr/>
              <a:tblGrid>
                <a:gridCol w="4433760"/>
                <a:gridCol w="105264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info (payloadSize) {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scripto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info_i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info_cancel_fla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06280"/>
                          <a:tab algn="l" pos="22860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	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f( !vr_info_cancel_flag ) {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projection_forma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3360"/>
                          <a:tab algn="l" pos="22860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stereo_fla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3360"/>
                          <a:tab algn="l" pos="22860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ull_spherical_flag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f (!full_spherical_flag ) {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area_min_ya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(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area_max_ya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(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area_min_pit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(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area_max_pitc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(v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}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f (vr_projection_format == 2) {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cube_face_packing_arrange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366840" indent="164880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num_regions_minus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for( i = 0; i &lt;= num_regions_minus1; i++ ) {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region_left_offset[i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region_top_offset[i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region_width[i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region_height[i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e(v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cmp_face_id[i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3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cmp_face_rotation[i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6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orbel"/>
                        </a:rPr>
                        <a:t>}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vr_info_persistence_fla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(1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}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136440"/>
                          <a:tab algn="l" pos="228600"/>
                          <a:tab algn="l" pos="272880"/>
                          <a:tab algn="l" pos="411120"/>
                          <a:tab algn="l" pos="457200"/>
                          <a:tab algn="l" pos="547560"/>
                          <a:tab algn="l" pos="685800"/>
                          <a:tab algn="l" pos="822240"/>
                          <a:tab algn="l" pos="91440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}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30592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Corbel"/>
              </a:rPr>
              <a:t>Question?</a:t>
            </a:r>
            <a:endParaRPr b="1" lang="en-US" sz="32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204" name="내용 개체 틀 7" descr=""/>
          <p:cNvPicPr/>
          <p:nvPr/>
        </p:nvPicPr>
        <p:blipFill>
          <a:blip r:embed="rId1"/>
          <a:stretch/>
        </p:blipFill>
        <p:spPr>
          <a:xfrm>
            <a:off x="750960" y="1600200"/>
            <a:ext cx="3211560" cy="4700520"/>
          </a:xfrm>
          <a:prstGeom prst="rect">
            <a:avLst/>
          </a:prstGeom>
          <a:ln w="0">
            <a:noFill/>
          </a:ln>
        </p:spPr>
      </p:pic>
      <p:sp>
        <p:nvSpPr>
          <p:cNvPr id="205" name="슬라이드 번호 개체 틀 3"/>
          <p:cNvSpPr/>
          <p:nvPr/>
        </p:nvSpPr>
        <p:spPr>
          <a:xfrm>
            <a:off x="4191120" y="6324480"/>
            <a:ext cx="610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6456-E4D4-42CA-970D-9F342BE9EC6F}" type="slidenum">
              <a:rPr b="0" lang="ko-KR" sz="1200" spc="-1" strike="noStrike">
                <a:solidFill>
                  <a:srgbClr val="595959"/>
                </a:solidFill>
                <a:latin typeface="Calibri"/>
                <a:ea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직사각형 5"/>
          <p:cNvSpPr/>
          <p:nvPr/>
        </p:nvSpPr>
        <p:spPr>
          <a:xfrm>
            <a:off x="1447920" y="2726640"/>
            <a:ext cx="73911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989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jin Oh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h.D.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989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989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ef Research Engine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989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ced Standard R&amp;D Lab.,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989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G Electronic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989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989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 : sjin.oh@lge.co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989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: +82-10-5054-416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23:47:36Z</dcterms:created>
  <dc:creator>Sejin Oh</dc:creator>
  <dc:description/>
  <dc:language>en-US</dc:language>
  <cp:lastModifiedBy>Sejin Oh</cp:lastModifiedBy>
  <dcterms:modified xsi:type="dcterms:W3CDTF">2017-01-18T14:34:42Z</dcterms:modified>
  <cp:revision>1347</cp:revision>
  <dc:subject/>
  <dc:title>ATSC 3.0</dc:title>
</cp:coreProperties>
</file>