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7012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0388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0388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0E8-A2CE-4A21-BDD7-6C21282CE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00240" y="7016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14720" y="890424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B94-25F4-4CC6-9CA9-44516A87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754-BAE4-444E-AE69-807C48B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29E-D635-4A83-A613-9CB46A92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B62-96B5-4C72-AE2B-2E96E47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0C8-6B86-47F5-BB9D-0AC5F46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3E3-DD69-4A2D-83A0-45B6351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C0D-275C-457A-9068-731226EF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6EC-FA42-4867-AF23-1FD5F4E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D1A-2324-4662-AA8E-058C117C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41E-16FD-4CFE-B410-5194323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63F-769C-4E42-8E91-D50ED75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F71-91A4-4B20-9C9B-0923A2C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4920" indent="-30636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9560" indent="-304920">
              <a:lnSpc>
                <a:spcPct val="110000"/>
              </a:lnSpc>
              <a:spcBef>
                <a:spcPts val="700"/>
              </a:spcBef>
              <a:buClr>
                <a:srgbClr val="4068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93040" indent="-27612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4520" indent="-262440">
              <a:lnSpc>
                <a:spcPct val="110000"/>
              </a:lnSpc>
              <a:spcBef>
                <a:spcPts val="700"/>
              </a:spcBef>
              <a:buClr>
                <a:srgbClr val="8b39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42640" indent="-256680">
              <a:lnSpc>
                <a:spcPct val="110000"/>
              </a:lnSpc>
              <a:spcBef>
                <a:spcPts val="700"/>
              </a:spcBef>
              <a:buClr>
                <a:srgbClr val="6fffd2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42640" indent="-2566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42640" indent="-2566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DF7-B2BA-4D7E-9E8E-870AA6A9E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LG issu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51814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33520" y="32004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epared by Jack Ho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iaison from the ICC to SC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1 February 20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BFC-9959-44E8-86BC-A74E442C2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68600" cy="230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4368960" cy="23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378320" cy="2309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4368960" cy="230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8520" y="2971800"/>
            <a:ext cx="31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DR reference image on SDR dis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0120" y="297180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LG image on SDR display, exposure 0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4440" y="617220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LG image on SDR display, exposure 0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4520" y="6172200"/>
            <a:ext cx="36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LG image on SDR display, exposure 0-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ETF exposure scaling incorrec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 presented use different exposure scaling for 2020 and HLG OE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f exposure has no effect on image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HLG exposure range scaling for backward compatibility is approximately 0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uch HDR capability in highl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0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9891-B000-4111-9BCF-2093BECC76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mbiguities in reference display specific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luminance upper limit is specified but then not required to be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upper limit on peak lum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s cited for background and surround specifications are not appli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ent lighting tolerances are imprac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0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164-5991-437D-9A5F-050546CFF5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ormative specification of OETF, EOTF and OOT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verly restrictive and creates potential for confli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OTF should be normatively spec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OETFs and OOTFs may be provided informatively, but should not be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creators need to be able to control the look of the content commun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OTF is simple Y gamma with RGB ratio preserv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8284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applying tone curves to RGB channels produces results that are preferred to applying gamma to luminance and preserving RGB rat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380-0BE7-4ADB-AC69-B73233722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159440" cy="2192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8120" y="5791320"/>
            <a:ext cx="37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Y gamma with RGB ratio preser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9880" y="57913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ES system OO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59080" cy="21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fusion regarding purpose of OOT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OOTF accounts for differences between scene and display viewing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159440" cy="2192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32080" cy="217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89880" y="57913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ES system OO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8120" y="5791320"/>
            <a:ext cx="37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ene-referred image in display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nclear where scene and artistic adjustments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s HLG images are scene-referred and display 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y are scene-referred, the only camera control allowed is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exposure choices may depend on expected display dynamic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s all that is needed to match images on displays with different dynamic ranges and viewing environments is a simple gamma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OTF specification vari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TF incorporated in EO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TF gamma prescribed to change with peak luminanc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TF gamma allowed to change additionally with viewing environment, but no pr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reate content with unknown EOT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scene-referred, but this precludes creativ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onvert to and from other HDR encodings with unknown HLG EOT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isplay compensation experiments flaw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2362320"/>
            <a:ext cx="803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ly const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s presented to subjects from same exposure range with only simple gamm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extension of exposure range, the defining characteristic of H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s only allowed to adjust ga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s tradeoff between mid-tone luminanc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redo experiments with proper subject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ppropriate display compensation method is presented in same document as HL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not use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ckward compatibility question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3416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see an image if the 1886 EOTF is used, but it won’t look like the HLG image or the 2020 OETF - 1886 EOTF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0280" indent="-3416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he backward compatible result might be useful in a video truck to see where a camera is pointed or if there is a clipping problem, presenting it to end-users would be a huge step backwards in imag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339840">
              <a:lnSpc>
                <a:spcPct val="90000"/>
              </a:lnSpc>
              <a:spcBef>
                <a:spcPts val="499"/>
              </a:spcBef>
              <a:buClr>
                <a:srgbClr val="4068a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we want this kind of “backward” compati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k Holm</dc:creator>
  <dc:description/>
  <cp:keywords/>
  <dc:language>en-US</dc:language>
  <cp:lastModifiedBy>Jack Holm</cp:lastModifiedBy>
  <dcterms:modified xsi:type="dcterms:W3CDTF">2016-02-21T15:57:27Z</dcterms:modified>
  <cp:revision>32</cp:revision>
  <dc:subject/>
  <dc:title>HPA PQ-HLG panel - Holm</dc:title>
</cp:coreProperties>
</file>