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09A0DF5-DDB5-4879-B056-DDE9983F35E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ACA7E34-CF41-4A87-9144-26C8875A12D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AD59E32-47D6-47DA-8ED0-40A1D170776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C9FCC53-5D81-4537-A445-8852237E90F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12ECDA3-FD03-458C-ACA9-C23DC7C3D53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6083294-D24C-442C-A40B-145F3B3193E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047CC78-A4B4-4398-8B0E-CF0ECE1A53B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B34FAA3-D274-4FD8-A668-D59EE1C35CF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BE7EFF0-04BA-4B8A-A9A5-E775653066B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9575C51-C6E4-4B92-B5E8-507F3AF68C8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CF8FE8E-4D9A-4174-B4FD-E2EEA0FE477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D3C9DB7-D5C0-4B4F-80FB-8BE40B3DDF1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E1FF189-B890-432F-8F47-E10D41EF90B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A98DE54-6991-4947-A809-D5EE903F1F1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3CB4-592C-4932-B31B-ABA18F7E3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498B-8D7F-4374-8302-BE3BF71ED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46ED-0174-4A81-8D05-94622D3C1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5161-8E94-4D77-A161-C588DF633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2D5D-6768-4677-A31D-46D03D28CE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A1CD-4911-4A2C-B3F9-0BFE2902B1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147D-7DD3-4BF0-9CD5-00DEB00A2A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B4AD-F6EA-4ECA-93AF-59C2A2D948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4511-CF92-4F4E-980D-44FA9D44DE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895D-200B-493A-BA70-9245A4AF39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8EA7-4B3C-4859-A136-852BA0772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4893-1A1B-438F-9228-ED9D6771E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44A7-3F8A-4C3C-B440-DC163F715C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55EF-A08C-459D-B128-02C2C979D0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7BF9-34F9-413F-B9BA-AB7EE31ED6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EF34-DD6E-4FBD-B2C1-09407514D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FB17-EB47-44DF-8F2B-151B793CDB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CA8-4912-4C40-A2A8-FBE49CE37B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750-8175-4FC3-A222-6A5A905315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671-CA2E-44C2-A04E-EE5C60CE8E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502-6CDC-4AA7-BA65-4B9ADBC110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1A2-9656-4CEB-8BCF-F891D3812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4A70-B6CD-48C2-BC74-D68B806FC1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6AF-D5AB-406A-BCC1-D87A8183D2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2E4-8C9A-4BCF-859D-1BF5042603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5F9-765B-4203-A7A6-D916194CD1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2A5-EE30-455E-9AE4-5D43F53397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99D-0039-4A65-89E1-A02A739D0A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C1A-1DC6-4724-908A-8F452F7FA1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AAB-8B51-4049-85B7-1200592CDA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EFDF8-F485-45D4-858D-392BF7F494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54E87-1E21-4ED0-9F09-079F60DF8B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06AF8-BE28-4837-9698-84563A63B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B1FE-29F5-405B-B857-6D43A06FEF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BFF05-39C9-44C9-AF4A-6717FB6E9B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5953A-8AEE-4E27-9041-EEC64962BD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8FD35-707B-49F2-999D-8AEBC6245F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3454C-5344-471A-A7D5-4FFE0399F6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31D53-AB65-4672-B8E6-43FD47A356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AA851-274C-4743-B9DA-2E2F7625D9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159D0-2D93-401D-BCAB-DB5C7CA046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0B505-E345-4353-92B2-41E9FF9D65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B7673-956C-4C65-AF26-60B10707A91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6B63-1756-4F23-A73E-19B1ADA59B4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D93C-9350-4973-8B67-44617731460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814F1-225C-4E0B-A483-D67BA7F330D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4BBD9-DCEA-4248-A4B3-0BCAF150FF6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B0D77-5721-45EC-B98A-CDBB84AD2D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1916F-0C8B-4031-8CC6-E88287EC08E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C10B0-8D90-4C96-85DE-5B8A40FC111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26434-F642-4233-9303-C185B23EFEB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98A00-F0D4-4510-B80F-04C5DF30710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8851E-C6F8-4E69-987C-4A99392F449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A832-5240-4F55-B7D9-D94A54044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0791-450D-41BB-AAE4-E276AAE413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423CE-5B91-4E0D-8F56-D795170B29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20346-9C2D-4667-A914-783C07F2AF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BA8B6-8938-448D-AB21-1DE078B872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1BD1-0172-46F9-84A3-8EEF5C1E87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0AD8-199F-4235-B691-B86F32122B5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4A2C-F4A2-4AE4-A0EB-5A4BCFE8AF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4CDC-C2EF-4DA2-91E4-50A54E63B86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6BE4-1140-4324-999F-A7D2EF01065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75C3-4345-41FA-90DF-CE538AED22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E123-4B8C-457A-BD22-A438F4E49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9718-0E2D-467E-8C72-0AB06DBD06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9B70-D2DA-4601-B2B0-2094F0714D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344A-A86F-4894-8728-4A5D85E206E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A680-CC41-43F4-8ABA-2E88ACF6A8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560E-727B-4774-BEDF-69239CD66B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F06A-4656-4914-A5EA-A0BF30462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3613-224B-4F9D-BA98-43F2BF049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8DB5-9325-42BD-BAC1-420F817362EB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F3A1-C83D-424E-B70C-DBEAF0BB8163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768B-DE38-4F40-B102-C5B4439114B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E57B-AFFD-4B10-8555-B961AE09A4C2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1D76-9414-4247-901A-4843AB6271AE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7A29-1B89-40F5-A24A-ACBA2C0580BD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4D03-E8CE-4846-A507-6E553D7A90ED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2A16-30CA-40A6-81B9-9A5CC51B6C30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2E56-5CDD-4A94-AA8C-A0119B898E9F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C8DF-347B-45B9-A950-1D6019CC800D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35900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W0042</a:t>
            </a:r>
            <a:br>
              <a:rPr sz="4400"/>
            </a:br>
            <a:r>
              <a:rPr b="0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CC Encoder Improv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751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Po-Han Lin, </a:t>
            </a:r>
            <a:br>
              <a:rPr sz="2800"/>
            </a:b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Chun-Lung Lin, Jih-Sheng Tu and Ching-Chieh 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an Diego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eb.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內容版面配置區 2"/>
          <p:cNvSpPr/>
          <p:nvPr/>
        </p:nvSpPr>
        <p:spPr>
          <a:xfrm>
            <a:off x="331920" y="1511280"/>
            <a:ext cx="8454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urrent SCM6.0: If CU siz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x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(N=3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, then skips the checking of the smaller TU sizes for ACT-enabled intra prediction mode in 444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f N is set to the other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BF39-3721-4E32-8189-8E3665B5D26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標題 1"/>
          <p:cNvSpPr/>
          <p:nvPr/>
        </p:nvSpPr>
        <p:spPr>
          <a:xfrm>
            <a:off x="0" y="19836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upplemental test results for the current SCM6.0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69920" y="3537000"/>
          <a:ext cx="8812080" cy="2673360"/>
        </p:xfrm>
        <a:graphic>
          <a:graphicData uri="http://schemas.openxmlformats.org/drawingml/2006/table">
            <a:tbl>
              <a:tblPr/>
              <a:tblGrid>
                <a:gridCol w="3228840"/>
                <a:gridCol w="584280"/>
                <a:gridCol w="453960"/>
                <a:gridCol w="453960"/>
                <a:gridCol w="455760"/>
                <a:gridCol w="453960"/>
                <a:gridCol w="453960"/>
                <a:gridCol w="455760"/>
                <a:gridCol w="453960"/>
                <a:gridCol w="453960"/>
                <a:gridCol w="453960"/>
                <a:gridCol w="455760"/>
                <a:gridCol w="45396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ble U0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-lossy coding, 444 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GM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Summary (1/2)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9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6C4B-F73F-4AE6-8E9C-B8D041CC136A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32920" y="1246320"/>
            <a:ext cx="8683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is contribution applies the adopted method of JCTVC-U0095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non-444 chrom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CTVC-U0095: skip the checking of the smaller TU sizes in Intra Prediction Mode with ACT in 444 chroma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3% / 1% / 1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encoding time saving compared to SCM6.0 anchor in AI / RA / LB conditions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-0.1% / 0.0% / 0.2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D-rate change, resp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Summary (2/2)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2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7C94-EEFD-4343-8FD4-F4976609F2C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32920" y="1246320"/>
            <a:ext cx="8683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is contribution tests the adopted method of JCTVC-U0095 for different CU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CTVC-U0095: skip the checking of the smaller TU sizes in Intra Prediction Mode with ACT in 444 chroma format if CU siz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≥ N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CU siz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≥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16x16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3% / 1% / 1% encoding time savin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to SCM6.0 anchor in AI / RA / LB conditions with -0.1  ~ 0.1% BD-rate change, resp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22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.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00" y="252000"/>
            <a:ext cx="91188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HEVC-SCC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3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4431-99DE-4EDD-8836-D87332DB946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36680" y="1661760"/>
            <a:ext cx="84549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daptive color transform (ACT) is adopted into HEVC-SCC to convert residues from one color-space to anoth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mprove the coding efficiency by reducing the correlations among three color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pplied to intra prediction mode, inter predic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 algn="just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Enabled in 444 chroma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00" y="-360"/>
            <a:ext cx="91188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Intra prediction mode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414-2156-42E6-92E1-01D35C87491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52360" y="1417320"/>
            <a:ext cx="84549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444 chroma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ra Prediction Mo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withou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ra Prediction Mo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with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Non-444 chrom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ra Prediction Mo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withou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00" y="-360"/>
            <a:ext cx="91188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dopted method in JCTVC-U0095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6218-4C1A-4C9B-8953-96B2BA0186C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5840" y="1176480"/>
            <a:ext cx="845496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lvl="1" marL="95760" indent="-957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JCTVC-U0095: it was adopted to skip the checking of the smaller TU sizes for Intra Prediction Mode with ACT if CU siz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32x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60" indent="-9576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bstantially reduce the encoder complex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60" indent="-95760" algn="just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Effective to 444 chroma format on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checking of the smaller TU sizes is also complicated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ra Prediction Mod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non-444 chroma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is contribution applies the same method to Intra Prediction Mode i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non-444 chroma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00" y="267840"/>
            <a:ext cx="91188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The proposed modification</a:t>
            </a:r>
            <a:br>
              <a:rPr sz="4800"/>
            </a:b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in non-444 chroma formats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5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7E65-423F-4622-956C-716EAB25E5D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44520" y="2023560"/>
            <a:ext cx="84549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f CU 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32x32, then skips the checking of the smaller TU sizes for Intra Prediction Mode i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 non-444 chrom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just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內容版面配置區 2"/>
          <p:cNvSpPr/>
          <p:nvPr/>
        </p:nvSpPr>
        <p:spPr>
          <a:xfrm>
            <a:off x="357120" y="1528920"/>
            <a:ext cx="84549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SCM 6.0 anc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p to 3.2% encoding time is saved with 0.1% coding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ank Microsoft for cross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D795-822F-4CEF-98BE-82545D4BFFD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825480" y="3257640"/>
          <a:ext cx="7518600" cy="2195280"/>
        </p:xfrm>
        <a:graphic>
          <a:graphicData uri="http://schemas.openxmlformats.org/drawingml/2006/table">
            <a:tbl>
              <a:tblPr/>
              <a:tblGrid>
                <a:gridCol w="3737160"/>
                <a:gridCol w="901440"/>
                <a:gridCol w="731880"/>
                <a:gridCol w="855720"/>
                <a:gridCol w="1292400"/>
              </a:tblGrid>
              <a:tr h="31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17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1" name="標題 1"/>
          <p:cNvSpPr/>
          <p:nvPr/>
        </p:nvSpPr>
        <p:spPr>
          <a:xfrm>
            <a:off x="25560" y="1764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20 chrom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內容版面配置區 2"/>
          <p:cNvSpPr/>
          <p:nvPr/>
        </p:nvSpPr>
        <p:spPr>
          <a:xfrm>
            <a:off x="357120" y="1528920"/>
            <a:ext cx="84549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SCM 6.0 anc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p to 1.6% encoding time is saved without any BD-r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ank Microsoft for cross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426F-48F9-4797-AE61-62E0819AD081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5480" y="3257640"/>
          <a:ext cx="7518600" cy="2195280"/>
        </p:xfrm>
        <a:graphic>
          <a:graphicData uri="http://schemas.openxmlformats.org/drawingml/2006/table">
            <a:tbl>
              <a:tblPr/>
              <a:tblGrid>
                <a:gridCol w="3737160"/>
                <a:gridCol w="901440"/>
                <a:gridCol w="731880"/>
                <a:gridCol w="855720"/>
                <a:gridCol w="1292400"/>
              </a:tblGrid>
              <a:tr h="31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17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5" name="標題 1"/>
          <p:cNvSpPr/>
          <p:nvPr/>
        </p:nvSpPr>
        <p:spPr>
          <a:xfrm>
            <a:off x="25560" y="1764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RA Lossy, 420 chrom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內容版面配置區 2"/>
          <p:cNvSpPr/>
          <p:nvPr/>
        </p:nvSpPr>
        <p:spPr>
          <a:xfrm>
            <a:off x="357120" y="1528920"/>
            <a:ext cx="84549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SCM 6.0 anc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p to 1.5% encoding time is saved with 0.2%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D-r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ank Microsoft for cross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C4C1-79A2-40FD-8A8C-BA143193415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5480" y="3257640"/>
          <a:ext cx="7518600" cy="2195280"/>
        </p:xfrm>
        <a:graphic>
          <a:graphicData uri="http://schemas.openxmlformats.org/drawingml/2006/table">
            <a:tbl>
              <a:tblPr/>
              <a:tblGrid>
                <a:gridCol w="3737160"/>
                <a:gridCol w="901440"/>
                <a:gridCol w="731880"/>
                <a:gridCol w="855720"/>
                <a:gridCol w="1292400"/>
              </a:tblGrid>
              <a:tr h="31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17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9" name="標題 1"/>
          <p:cNvSpPr/>
          <p:nvPr/>
        </p:nvSpPr>
        <p:spPr>
          <a:xfrm>
            <a:off x="25560" y="1764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B Lossy, 420 chrom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內容版面配置區 2"/>
          <p:cNvSpPr/>
          <p:nvPr/>
        </p:nvSpPr>
        <p:spPr>
          <a:xfrm>
            <a:off x="331920" y="1528920"/>
            <a:ext cx="84549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urrent SCM6.0: If CU siz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x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(N=3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, then skips the checking of the smaller TU sizes for ACT-enabled intra prediction mode in 444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f N=16: 1% ~ 3% coding time saving with -0.1% ~ 0.1% BD-r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48FD-7D08-41C5-B81F-DDABA129389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標題 1"/>
          <p:cNvSpPr/>
          <p:nvPr/>
        </p:nvSpPr>
        <p:spPr>
          <a:xfrm>
            <a:off x="0" y="19836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upplemental test results for the current SCM6.0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98320" y="3924360"/>
          <a:ext cx="7921800" cy="2673360"/>
        </p:xfrm>
        <a:graphic>
          <a:graphicData uri="http://schemas.openxmlformats.org/drawingml/2006/table">
            <a:tbl>
              <a:tblPr/>
              <a:tblGrid>
                <a:gridCol w="3434040"/>
                <a:gridCol w="620640"/>
                <a:gridCol w="484200"/>
                <a:gridCol w="482400"/>
                <a:gridCol w="484200"/>
                <a:gridCol w="482760"/>
                <a:gridCol w="484200"/>
                <a:gridCol w="482400"/>
                <a:gridCol w="484200"/>
                <a:gridCol w="48276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6, 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6, 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6, 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y coding, 444 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GM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6-02-22T01:12:20Z</dcterms:modified>
  <cp:revision>1486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