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9560" cy="384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C382571-4593-449D-9784-280F2B5317C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FFAEEBD-6EE2-4124-A828-BEECF6015C1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96FE071-8990-46F6-882E-0B5E9BFA2BE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52A979F-98C1-4F71-8962-6C5E016E83F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6553EB8-72E1-4257-B85D-4FB801B32738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1730A6E-9FC3-4915-A03C-A12C53680AD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38FF638-98C1-4300-AC35-DC44888651D5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F29D7F0-759A-430A-9592-33E8EB356D3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704B36D-BBA1-490D-89EC-C336A63ECE6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41856D4-609A-44F5-BFD7-7F6542E782E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01DDDC7-8F80-4F8C-98F9-B82AAC050B9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20D5537-653E-48EE-ABA1-CB88BCA3ED0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A06C9E2-BBF7-49D7-A674-2D962EC4049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6D5A27C-EDAF-4AA9-A79E-7E60764581C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E4CBF-A6EA-40C2-A994-C8CE59A09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124FC-1753-4F1E-B832-1587A3957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58B9-DC23-42F9-B267-1582BBCC2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E0C48-0DF2-4E69-95A8-6EBAB1D5BF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9D64A-7BE1-4121-B836-AD1BE74483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38F7D-2F21-420F-A5D3-5D8E840953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2DDED-B4B1-40D2-B078-95D0C4E95D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7C07B-3C56-4AC9-AFDF-216D6D03F4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3357D-D61D-41A9-8CA9-291AC8B7DE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1A16E-7064-47BB-81EC-4BE9CAC26A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78AE3-B710-49F0-BDAA-46AC984EC9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F400F-FDDC-492C-8BCF-CFF7813D3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3629E-428D-46F4-BCD8-19A3DCA262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7A935-CCF8-439F-B4C4-83398C2166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09B02-7F11-483D-87DA-DA76D790C2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FF194-3050-4699-9649-DEE0E78E2B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E4C4A-E575-4805-9F58-153963E7122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F3E1-837B-44C1-AE9A-95D192E220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1DB5-3CA8-4BE5-B922-F9D984D032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2BB6-155E-4226-96D0-247C1B6BA9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515-A30F-4E28-B713-0FAFF0C760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CAE2-D1B0-4343-964A-E174846367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2C9C2-93E0-4D7B-AA2B-D2EAD86C05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EEF2-C874-4D61-9D54-CE7045B9B6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38DE-8807-4C5F-87CF-141155A2A1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9D76-3A78-4D9A-A60D-867AA5D524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05B8-8C36-41EF-86F2-F8BD8609CDC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4DF-9176-41A0-848A-1103297C8F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925-4DF3-4389-ABFF-7527F84746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70D8-4CB6-4C5F-9A70-69744B711BF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A0744-6BBB-4F31-A0B1-4004488CBF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0BC99-584A-4338-94B9-A2E6BCBAC25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B29F7-A85F-48E4-9EF9-50B951419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AAC25-1184-4F11-9381-FBA9B32EA3C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4DCA6-B4FB-42F9-B96A-8811524369E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A7171-3D5A-4C5E-9606-A738B664AA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ECC8A-2C2B-4F7D-BBAD-64941127581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891A4-7736-4370-8D4E-BEC5FE33BF5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282F3-03C4-4A7B-93E5-1B6F8A9A4E8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76271-3356-48CD-9FD7-E6E6A5DEE0A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A6A39-6215-48AE-91F3-7DF93E33EB1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6900B-3B5F-4CEF-81E6-A4682A2778D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35005-87A5-472E-B3E6-282B7B49E3D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E9A98-AF86-4159-92B4-55CF60670E0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FC152-BB81-4C27-868B-B43A433EA88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54EC2-ADFF-4FCD-840F-A7376668E26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080B4-519C-4E26-AFDF-427D3E4B927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A0AE4-8AFB-4DF2-8149-8C1EB1D9561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53E82-C03A-460E-A62D-955D56DCBD7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72ABE-8711-446D-AEEA-F10105AEF7A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6198F-7215-49CC-AA7D-6EE28CAF10C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BC7F1-386C-48B9-B025-0152EF8CF95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2106A-0163-4190-842A-9948F21CF7E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9E11C-E6B0-4B58-9015-7E5EBD74A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5AEB0-B80A-481A-AABD-F7BDF29E80A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7988C-F266-426A-A38D-9CF743311C3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29E30-3476-45C7-8A20-D50AE30C316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82174-3C20-4B76-B834-8863D591E64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40AB-1279-4C11-AB60-BA630D00C37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11B0-DADC-4703-A1CB-2E5D4936521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1018-DBB9-4603-948D-604B3365628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41E5-4793-47E1-AFB8-7965A0FF0BB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CACD-8460-40BA-BC81-0D7083BD0C6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EC37-6E4E-4C20-A13F-7F28BA26599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5BEC-4430-4114-910C-D9B8EF892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1F3AE-986F-4826-A717-C220713D63B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E5C2-D3E7-4136-8D6D-13349CB9D30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02A3-37CD-4C7C-80FE-7C71DA23232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4635-5598-4826-BB87-5C9C0FCD316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C075-8703-4E19-91C4-1B4DB5EC3EA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7DBF-C502-4CC6-BE08-E9DFD7D4E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90A4-2460-4F82-AB1B-7C7C7A6D3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F762-0519-4C75-AD44-F57DC31A4D14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3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F42C-328F-43F5-BBA2-3E97F666C1FE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9576-84F4-4657-8483-782818E63509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D69C-1067-4244-9392-406792CFC5F9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0C49-D856-4223-A76E-D33EE190F0E1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F997-0B2D-4F9B-BF4B-D2B360BF4E2E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4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2D22-7207-4D49-B848-4EFA6B851BD3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AAE0-29CB-4690-8AEA-F519BFAFF21C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5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764B-1C05-4DE5-8D36-EF86ED958785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6"/>
          </p:nvPr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99BD-D23F-4D0D-91F9-401FE74534BE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1359000"/>
            <a:ext cx="914400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JCTVC-W0042</a:t>
            </a:r>
            <a:br>
              <a:rPr sz="4400"/>
            </a:br>
            <a:r>
              <a:rPr b="0" lang="en-CA" sz="4400" spc="-1" strike="noStrike">
                <a:solidFill>
                  <a:srgbClr val="154da9"/>
                </a:solidFill>
                <a:latin typeface="Arial"/>
                <a:ea typeface="新細明體"/>
              </a:rPr>
              <a:t>SCC Encoder Improvemen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3751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ecf"/>
                </a:solidFill>
                <a:latin typeface="Arial"/>
                <a:ea typeface="新細明體"/>
              </a:rPr>
              <a:t>Yao-Jen Chang, Po-Han Lin, Chun-Lung Lin, Jih-Sheng Tu and Ching-Chieh 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727000" y="5713560"/>
            <a:ext cx="346068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an Diego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Feb.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內容版面配置區 2"/>
          <p:cNvSpPr/>
          <p:nvPr/>
        </p:nvSpPr>
        <p:spPr>
          <a:xfrm>
            <a:off x="331920" y="1511280"/>
            <a:ext cx="845496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7000"/>
          </a:bodyPr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dopted method: If the CU siz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NxN, then skips the checking of the smaller 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On top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SCM 6.0 anchor (N = 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00FC-E272-4C52-9E02-1DA513F6943C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標題 1"/>
          <p:cNvSpPr/>
          <p:nvPr/>
        </p:nvSpPr>
        <p:spPr>
          <a:xfrm>
            <a:off x="0" y="198360"/>
            <a:ext cx="91184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-tests of adopted method in JCTVC-U0095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633240" y="3156120"/>
          <a:ext cx="7921800" cy="2673360"/>
        </p:xfrm>
        <a:graphic>
          <a:graphicData uri="http://schemas.openxmlformats.org/drawingml/2006/table">
            <a:tbl>
              <a:tblPr/>
              <a:tblGrid>
                <a:gridCol w="3434040"/>
                <a:gridCol w="620640"/>
                <a:gridCol w="484200"/>
                <a:gridCol w="482400"/>
                <a:gridCol w="484200"/>
                <a:gridCol w="482760"/>
                <a:gridCol w="484200"/>
                <a:gridCol w="482400"/>
                <a:gridCol w="484200"/>
                <a:gridCol w="482760"/>
              </a:tblGrid>
              <a:tr h="2203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16, 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16, 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16, L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sy coding, 444 fo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GM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GM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840" y="50400"/>
            <a:ext cx="9118800" cy="119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54da9"/>
                </a:solidFill>
                <a:latin typeface="Arial"/>
                <a:ea typeface="新細明體"/>
              </a:rPr>
              <a:t>Summary (1)</a:t>
            </a:r>
            <a:endParaRPr b="0" lang="en-US" sz="48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39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C705-B729-40B0-83BF-BB557EE6E9F6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32920" y="1246320"/>
            <a:ext cx="86835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-1508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is contribution applies the adopted method of JCTVC-U0095 to Intra Prediction Mode without ACT i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新細明體"/>
              </a:rPr>
              <a:t> non-444 chroma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-1256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JCTVC-U0095: skip the checking of the smaller TU sizes in Intra Prediction Mode with ACT in 444 chroma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 simulation results show that there are 3% / 1% / 1% encoding time saving compared to SCM6.0 anchor in AI / RA / LB conditions, respectively, with -0.1% ~ 0.2% coding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840" y="50400"/>
            <a:ext cx="9118800" cy="119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54da9"/>
                </a:solidFill>
                <a:latin typeface="Arial"/>
                <a:ea typeface="新細明體"/>
              </a:rPr>
              <a:t>Summary (2)</a:t>
            </a:r>
            <a:endParaRPr b="0" lang="en-US" sz="48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42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4D8D-4BDF-4F59-BCA4-06C10EA7C14B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32920" y="1246320"/>
            <a:ext cx="86835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is contribution re-tests the adopted method of JCTVC-U0095 for different CU s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4080" indent="-128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JCTVC-U0095: skip the checking of the smaller TU sizes in Intra Prediction Mode with ACT in 444 chroma format if CU siz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≥ Nx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 simulation results show that there are 3% / 1% / 1% encoding time saving compared to SCM6.0 anchor in AI / RA / LB conditions, respectively, with -0.1 ~ 0.1% coding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22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Thank you.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00" y="252000"/>
            <a:ext cx="9118800" cy="11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54da9"/>
                </a:solidFill>
                <a:latin typeface="Arial"/>
                <a:ea typeface="新細明體"/>
              </a:rPr>
              <a:t>HEVC-SCC</a:t>
            </a:r>
            <a:endParaRPr b="0" lang="en-US" sz="48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3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04EA-D53D-4B91-A8C3-C6766BFE805E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36680" y="1661760"/>
            <a:ext cx="8454960" cy="8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0320" indent="-1303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Adaptive color transform (ACT) is adopted into HEVC-SCC to convert one color-space to another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mprove the coding efficiency by reducing the correlations among three color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pplied to intra prediction mode, inter predic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ffective to 444 chroma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00" y="-360"/>
            <a:ext cx="9118800" cy="11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54da9"/>
                </a:solidFill>
                <a:latin typeface="Arial"/>
                <a:ea typeface="新細明體"/>
              </a:rPr>
              <a:t>Intra prediction mode</a:t>
            </a:r>
            <a:endParaRPr b="0" lang="en-US" sz="48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7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00F7-0EB3-44F2-8296-747BAE718354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52360" y="1417320"/>
            <a:ext cx="8454960" cy="8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-1026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444 chroma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8568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ntra Prediction Mod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without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8568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ntra Prediction Mod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with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Non-444 chroma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8568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ntra Prediction Mod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without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8568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85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00" y="-360"/>
            <a:ext cx="9118800" cy="11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Adopted method in JCTVC-U0095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11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5B48-2389-4B13-8E69-DC4121BA33F8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85840" y="1176480"/>
            <a:ext cx="8454960" cy="89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lvl="1" marL="116640" indent="-116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JCTVC-U0095 was adopted to skip the checking of the smaller TU sizes for Intra Prediction Mode with ACT if the CU sizes are greater than 16x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640" indent="-1166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Substantially improve the encoder complex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640" indent="-116640" algn="just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Effective to 444 chroma format on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checking of the smaller TU sizes is also complicated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ntra Prediction Mode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non-444 chroma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is contribution applies the adopted method in JCTVC-U0095 to Intra Prediction Mode i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 non-444 chroma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00" y="267840"/>
            <a:ext cx="9118800" cy="11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54da9"/>
                </a:solidFill>
                <a:latin typeface="Arial"/>
                <a:ea typeface="新細明體"/>
              </a:rPr>
              <a:t>The proposed modification in non-444 chroma formats</a:t>
            </a:r>
            <a:endParaRPr b="0" lang="en-US" sz="48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15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D83E-E603-41D7-A716-E1DD475D3101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44520" y="2023560"/>
            <a:ext cx="8454960" cy="8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-178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f the CU size is greater than 16x16, then skips the checking of the smaller TU sizes for Intra Prediction Mode without AC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新細明體"/>
              </a:rPr>
              <a:t>in non-444 chroma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6280" indent="-1483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 large CU coded by intra prediction mode usually implies the content in the area is not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內容版面配置區 2"/>
          <p:cNvSpPr/>
          <p:nvPr/>
        </p:nvSpPr>
        <p:spPr>
          <a:xfrm>
            <a:off x="357120" y="1528920"/>
            <a:ext cx="84549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7000"/>
          </a:bodyPr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On top of SCM 6.0 anc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ompared to SCM6.0 anchor, up to 3.2% encoding time is saved with 0.1 coding 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Thank xxxxx for crossche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6DED-9CEB-45E6-BC99-D687409E93D9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825480" y="3257640"/>
          <a:ext cx="7518600" cy="2195280"/>
        </p:xfrm>
        <a:graphic>
          <a:graphicData uri="http://schemas.openxmlformats.org/drawingml/2006/table">
            <a:tbl>
              <a:tblPr/>
              <a:tblGrid>
                <a:gridCol w="3737160"/>
                <a:gridCol w="901440"/>
                <a:gridCol w="731880"/>
                <a:gridCol w="855720"/>
                <a:gridCol w="1292400"/>
              </a:tblGrid>
              <a:tr h="31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 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170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GM, 1080p &amp; 720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314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, 1440p &amp; 1080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314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14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1" name="標題 1"/>
          <p:cNvSpPr/>
          <p:nvPr/>
        </p:nvSpPr>
        <p:spPr>
          <a:xfrm>
            <a:off x="25560" y="17640"/>
            <a:ext cx="91184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AI Lossy, 420 chroma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內容版面配置區 2"/>
          <p:cNvSpPr/>
          <p:nvPr/>
        </p:nvSpPr>
        <p:spPr>
          <a:xfrm>
            <a:off x="357120" y="1528920"/>
            <a:ext cx="84549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7000"/>
          </a:bodyPr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On top of SCM 6.0 anc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ompared to SCM6.0 anchor, up to 1.6% encoding time is saved without any coding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Thank xxxxx for crossche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688D-CA8A-4E3E-9C49-BF25E15CB5F8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825480" y="3257640"/>
          <a:ext cx="7518600" cy="2195280"/>
        </p:xfrm>
        <a:graphic>
          <a:graphicData uri="http://schemas.openxmlformats.org/drawingml/2006/table">
            <a:tbl>
              <a:tblPr/>
              <a:tblGrid>
                <a:gridCol w="3737160"/>
                <a:gridCol w="901440"/>
                <a:gridCol w="731880"/>
                <a:gridCol w="855720"/>
                <a:gridCol w="1292400"/>
              </a:tblGrid>
              <a:tr h="31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 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170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GM, 1080p &amp; 720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314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, 1440p &amp; 1080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314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14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5" name="標題 1"/>
          <p:cNvSpPr/>
          <p:nvPr/>
        </p:nvSpPr>
        <p:spPr>
          <a:xfrm>
            <a:off x="25560" y="17640"/>
            <a:ext cx="91184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RA Lossy, 420 chroma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內容版面配置區 2"/>
          <p:cNvSpPr/>
          <p:nvPr/>
        </p:nvSpPr>
        <p:spPr>
          <a:xfrm>
            <a:off x="357120" y="1528920"/>
            <a:ext cx="84549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7000"/>
          </a:bodyPr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On top of SCM 6.0 anc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ompared to SCM6.0 anchor, up to 1.5% encoding time is saved with 0.2% coding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Thank Microsoft for crossche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D35D-57C8-4BD9-A277-3D1C0DFD26C8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825480" y="3257640"/>
          <a:ext cx="7518600" cy="2195280"/>
        </p:xfrm>
        <a:graphic>
          <a:graphicData uri="http://schemas.openxmlformats.org/drawingml/2006/table">
            <a:tbl>
              <a:tblPr/>
              <a:tblGrid>
                <a:gridCol w="3737160"/>
                <a:gridCol w="901440"/>
                <a:gridCol w="731880"/>
                <a:gridCol w="855720"/>
                <a:gridCol w="1292400"/>
              </a:tblGrid>
              <a:tr h="31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 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170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GM, 1080p &amp; 720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314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, 1440p &amp; 1080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314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14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9" name="標題 1"/>
          <p:cNvSpPr/>
          <p:nvPr/>
        </p:nvSpPr>
        <p:spPr>
          <a:xfrm>
            <a:off x="25560" y="17640"/>
            <a:ext cx="91184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LB Lossy, 420 chroma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內容版面配置區 2"/>
          <p:cNvSpPr/>
          <p:nvPr/>
        </p:nvSpPr>
        <p:spPr>
          <a:xfrm>
            <a:off x="331920" y="1511280"/>
            <a:ext cx="845496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7000"/>
          </a:bodyPr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dopted method: If the CU siz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NxN, then skips the checking of the smaller 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On top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SCM 6.0 anchor (N = 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334E-908C-4A80-817D-ABF3ABC6D318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標題 1"/>
          <p:cNvSpPr/>
          <p:nvPr/>
        </p:nvSpPr>
        <p:spPr>
          <a:xfrm>
            <a:off x="0" y="198360"/>
            <a:ext cx="91184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-tests of adopted method in JCTVC-U0095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52280" y="3164040"/>
          <a:ext cx="8812440" cy="2673360"/>
        </p:xfrm>
        <a:graphic>
          <a:graphicData uri="http://schemas.openxmlformats.org/drawingml/2006/table">
            <a:tbl>
              <a:tblPr/>
              <a:tblGrid>
                <a:gridCol w="3229200"/>
                <a:gridCol w="583920"/>
                <a:gridCol w="455760"/>
                <a:gridCol w="45396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3960"/>
              </a:tblGrid>
              <a:tr h="2206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bl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-lossy coding, 444 fo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GM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GM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3:22:15Z</dcterms:created>
  <dc:creator>john</dc:creator>
  <dc:description/>
  <dc:language>en-US</dc:language>
  <cp:lastModifiedBy>張耀仁</cp:lastModifiedBy>
  <cp:lastPrinted>2013-05-17T00:59:36Z</cp:lastPrinted>
  <dcterms:modified xsi:type="dcterms:W3CDTF">2016-02-16T06:15:09Z</dcterms:modified>
  <cp:revision>1471</cp:revision>
  <dc:subject/>
  <dc:title>3D-HEV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85</vt:lpwstr>
  </property>
</Properties>
</file>