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2"/>
          </p:nvPr>
        </p:nvSpPr>
        <p:spPr>
          <a:xfrm>
            <a:off x="414648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973080" y="4562640"/>
            <a:ext cx="536904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4"/>
          </p:nvPr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4B36-5D64-4E9F-AE08-CEF9E00BE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9093-018F-4DF1-BA93-D11F2C7BA0E9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73080" y="4562640"/>
            <a:ext cx="53690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1515-3D06-4C41-80E5-4B029C9F9A3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73080" y="4562640"/>
            <a:ext cx="53690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51AF-8786-4B3C-B5C2-D5615A8D49D9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73080" y="4562640"/>
            <a:ext cx="53690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0B2FA-BD52-4ECC-8B64-D2BAA23761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E26D7-AAA8-4924-9CF7-0D51803115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B431E-A3F7-4A64-9250-8063CC03A9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CA870-A90B-4865-B08C-9C630C4352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8CD1D-1AFF-4700-8533-73E86579EF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006CF-47AE-4FBD-BD53-39E21636C7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8D89F-985B-475A-A9B4-BA1280FC3D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29870-B55B-478A-A917-676F12E895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A2DE0-DDE4-474C-84CD-F8057F1039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4D21F-8813-4FA9-9DFE-57EBBF434C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2CD7F-816D-4E92-856A-3AF99BA4F2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C4D38-2BA3-4F00-9532-C78C4DE449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2" name="Line 4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24" name="Group 26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25" name="Line 27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9" name="Line 51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0" name="Line 52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1" name="Line 53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" name="Line 54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3" name="Line 55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54" name="Rectangle 56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5" name="Picture 57" descr="Tongji2"/>
          <p:cNvPicPr/>
          <p:nvPr/>
        </p:nvPicPr>
        <p:blipFill>
          <a:blip r:embed="rId3"/>
          <a:stretch/>
        </p:blipFill>
        <p:spPr>
          <a:xfrm>
            <a:off x="-76320" y="0"/>
            <a:ext cx="1828800" cy="5144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sldNum" idx="1"/>
          </p:nvPr>
        </p:nvSpPr>
        <p:spPr>
          <a:xfrm>
            <a:off x="7092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8C8F-7806-4799-BB33-10409BF7D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Picture 61" descr="paint"/>
          <p:cNvPicPr/>
          <p:nvPr/>
        </p:nvPicPr>
        <p:blipFill>
          <a:blip r:embed="rId4"/>
          <a:stretch/>
        </p:blipFill>
        <p:spPr>
          <a:xfrm>
            <a:off x="0" y="512640"/>
            <a:ext cx="9144000" cy="131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4" descr=""/>
          <p:cNvPicPr/>
          <p:nvPr/>
        </p:nvPicPr>
        <p:blipFill>
          <a:blip r:embed="rId5"/>
          <a:stretch/>
        </p:blipFill>
        <p:spPr>
          <a:xfrm>
            <a:off x="7059600" y="0"/>
            <a:ext cx="2084400" cy="52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5" descr="Tongji2"/>
          <p:cNvPicPr/>
          <p:nvPr/>
        </p:nvPicPr>
        <p:blipFill>
          <a:blip r:embed="rId2"/>
          <a:stretch/>
        </p:blipFill>
        <p:spPr>
          <a:xfrm>
            <a:off x="-76320" y="0"/>
            <a:ext cx="1828800" cy="514440"/>
          </a:xfrm>
          <a:prstGeom prst="rect">
            <a:avLst/>
          </a:prstGeom>
          <a:ln w="0">
            <a:noFill/>
          </a:ln>
        </p:spPr>
      </p:pic>
      <p:pic>
        <p:nvPicPr>
          <p:cNvPr id="96" name="WordArt 76" descr=""/>
          <p:cNvPicPr/>
          <p:nvPr/>
        </p:nvPicPr>
        <p:blipFill>
          <a:blip r:embed="rId3"/>
          <a:stretch/>
        </p:blipFill>
        <p:spPr>
          <a:xfrm>
            <a:off x="7759800" y="19080"/>
            <a:ext cx="1292040" cy="52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2"/>
          <p:cNvSpPr/>
          <p:nvPr/>
        </p:nvSpPr>
        <p:spPr>
          <a:xfrm>
            <a:off x="7058160" y="62294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9589-5FB2-496E-9B26-D101A7B0F7B8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611280" y="3465360"/>
            <a:ext cx="792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alibri"/>
              </a:rPr>
              <a:t>JCTVC-V0097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alibri"/>
              </a:rPr>
              <a:t>15 Oct. – 21 Oct. 201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alibri"/>
              </a:rPr>
              <a:t>Tao Li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alibri"/>
              </a:rPr>
              <a:t>Tongji Univers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250920" y="130500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A new SCC test sequence with ClearType text rendering for consideration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3348000" y="-243000"/>
            <a:ext cx="266544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539640" y="549360"/>
            <a:ext cx="860436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0720" indent="-45072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ery large portion of typical screen content is text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08200" indent="-177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 and smooth text display is very importa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08200" indent="-177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aliasing technique such as Clear Type is widely us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000160" y="2097000"/>
            <a:ext cx="2290680" cy="2854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111640" y="2097000"/>
            <a:ext cx="2286000" cy="2857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338560" y="1989000"/>
            <a:ext cx="169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r Type off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5398920" y="1989000"/>
            <a:ext cx="1692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r Type 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627200" y="4495680"/>
            <a:ext cx="2895480" cy="23623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4751280" y="4495680"/>
            <a:ext cx="2895840" cy="23623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504120" y="6016680"/>
            <a:ext cx="609480" cy="612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3379680" y="6019920"/>
            <a:ext cx="609840" cy="610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2087640" y="3105000"/>
            <a:ext cx="395280" cy="324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2482920" y="3429000"/>
            <a:ext cx="2052720" cy="107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53840" y="3392640"/>
            <a:ext cx="431640" cy="1116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5183280" y="3105000"/>
            <a:ext cx="395280" cy="324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5578560" y="3429000"/>
            <a:ext cx="2052720" cy="107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749480" y="3392640"/>
            <a:ext cx="431640" cy="1116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3348000" y="-243000"/>
            <a:ext cx="266544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250920" y="692280"/>
            <a:ext cx="8713800" cy="28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0720" indent="-45072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ClearType like text rendering is turned on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36036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45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additional colorful pixels are generat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36036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45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cantly degrade coding efficienc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36036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45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ette needs to spend a lot of bits to code many very short index ru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36036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45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C hardly can find a good matching bloc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276720" y="3681360"/>
            <a:ext cx="2895480" cy="2362320"/>
            <a:chOff x="3276720" y="3681360"/>
            <a:chExt cx="2895480" cy="236232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3276720" y="3681360"/>
              <a:ext cx="289548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5029200" y="5202000"/>
              <a:ext cx="609120" cy="6130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3348000" y="-243000"/>
            <a:ext cx="266544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50920" y="549360"/>
            <a:ext cx="871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0720" indent="-45072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xample of coding performance comparis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0" y="800280"/>
          <a:ext cx="9144000" cy="2074680"/>
        </p:xfrm>
        <a:graphic>
          <a:graphicData uri="http://schemas.openxmlformats.org/drawingml/2006/table">
            <a:tbl>
              <a:tblPr/>
              <a:tblGrid>
                <a:gridCol w="468360"/>
                <a:gridCol w="971640"/>
                <a:gridCol w="718920"/>
                <a:gridCol w="684360"/>
                <a:gridCol w="755640"/>
                <a:gridCol w="1011240"/>
                <a:gridCol w="682560"/>
                <a:gridCol w="755640"/>
                <a:gridCol w="684360"/>
                <a:gridCol w="755640"/>
                <a:gridCol w="828720"/>
                <a:gridCol w="826920"/>
              </a:tblGrid>
              <a:tr h="482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QP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learType off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learType On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D-rat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322.08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4.90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4.13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4.22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988.8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5.85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4.58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4.26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6.98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3.69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5.55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225.60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9.56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8.30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9.03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561.12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8.76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8.2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7.47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369.60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3.61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1.31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2.48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3651.36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3.16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57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88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861.76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8.05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.22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.44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773.4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.05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82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65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67" name="Rectangle 3"/>
          <p:cNvSpPr/>
          <p:nvPr/>
        </p:nvSpPr>
        <p:spPr>
          <a:xfrm>
            <a:off x="216000" y="2960640"/>
            <a:ext cx="8713800" cy="31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0720" indent="-45072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ClearType on, BD-rate more than doub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Type like rendering is a very common practi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greatly affects users’ visual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ery challenging issue that advanced SCC technology needs to solv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of all, a proper test sequence is need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647640" y="0"/>
            <a:ext cx="712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Propos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250920" y="620640"/>
            <a:ext cx="8675640" cy="49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0720" indent="-450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name: ClearTypeSpreadsheet_1920x1080_30_8bit_rgb.rgb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808200" indent="-177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0 x 108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08200" indent="-177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fp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08200" indent="-177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fra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ee BD-rate calculation spreadsheet windows side by sid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lapped by RD-curve char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ries of common actions like resizing and moving windows and chart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647640" y="0"/>
            <a:ext cx="712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Propos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0920" y="620640"/>
            <a:ext cx="86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0720" indent="-45072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10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ame is shown belo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1089000"/>
            <a:ext cx="1018872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3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6BD1-2803-4C76-9418-4E8CAA91974C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1079640" y="944640"/>
            <a:ext cx="669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Recommend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24000" y="1557360"/>
            <a:ext cx="842472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C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dd this new sequence in SCC CTC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ake the test sequence available in JCTVC site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3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F2D7-E3C5-4AEF-AA04-D87A050E7C49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0" y="2637000"/>
            <a:ext cx="91440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40458c"/>
                </a:solidFill>
                <a:latin typeface="Times New Roman"/>
              </a:rPr>
              <a:t>THANK  YOU</a:t>
            </a:r>
            <a:endParaRPr b="0" lang="en-US" sz="8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7T03:13:52Z</dcterms:created>
  <dc:creator>tao lin</dc:creator>
  <dc:description/>
  <dc:language>en-US</dc:language>
  <cp:lastModifiedBy>n</cp:lastModifiedBy>
  <dcterms:modified xsi:type="dcterms:W3CDTF">2015-10-18T09:44:27Z</dcterms:modified>
  <cp:revision>1703</cp:revision>
  <dc:subject/>
  <dc:title>Slide 1</dc:title>
</cp:coreProperties>
</file>