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2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4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6E6B-EDDF-4FED-9568-A884221D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F3B-E5DB-4D90-97B6-F964FF433E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90A0-E9B8-4670-9D53-2733DC8F4FC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2A7-3893-4613-A0B2-BCCA2ACD56C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3080" y="4562640"/>
            <a:ext cx="536904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699A-FABF-478E-B3E0-E4AC2D24A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0C82-B6E5-4F04-8667-3BE7B4A50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A2B2-7E27-4920-AA6E-F236954FE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78A9-85C1-4D3F-8E07-10BEF5DA5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6CA8-6039-4F31-80CC-8ED8E5537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527-21AC-4DEE-9DC6-50E332FE7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CD60-7BF0-43B5-B365-6860A816E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D9FA-1B5B-4299-9B1A-E68BE3660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CBE0-49EC-4AFD-BAD4-E028B9C7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06C4-9569-4C69-9396-A3EA95CBC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0621-AF0E-4921-9C85-20F82E5BE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48BD-CAB2-40C4-9117-8F59EA35F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Line 27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54" name="Rectangle 56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5" name="Picture 57" descr="Tongji2"/>
          <p:cNvPicPr/>
          <p:nvPr/>
        </p:nvPicPr>
        <p:blipFill>
          <a:blip r:embed="rId3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ldNum" idx="1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8789-A697-4223-827F-60E96C483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61" descr="paint"/>
          <p:cNvPicPr/>
          <p:nvPr/>
        </p:nvPicPr>
        <p:blipFill>
          <a:blip r:embed="rId4"/>
          <a:stretch/>
        </p:blipFill>
        <p:spPr>
          <a:xfrm>
            <a:off x="0" y="512640"/>
            <a:ext cx="9144000" cy="131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4" descr=""/>
          <p:cNvPicPr/>
          <p:nvPr/>
        </p:nvPicPr>
        <p:blipFill>
          <a:blip r:embed="rId5"/>
          <a:stretch/>
        </p:blipFill>
        <p:spPr>
          <a:xfrm>
            <a:off x="7059600" y="0"/>
            <a:ext cx="208440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5" descr="Tongji2"/>
          <p:cNvPicPr/>
          <p:nvPr/>
        </p:nvPicPr>
        <p:blipFill>
          <a:blip r:embed="rId2"/>
          <a:stretch/>
        </p:blipFill>
        <p:spPr>
          <a:xfrm>
            <a:off x="-76320" y="0"/>
            <a:ext cx="1828800" cy="51444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76" descr=""/>
          <p:cNvPicPr/>
          <p:nvPr/>
        </p:nvPicPr>
        <p:blipFill>
          <a:blip r:embed="rId3"/>
          <a:stretch/>
        </p:blipFill>
        <p:spPr>
          <a:xfrm>
            <a:off x="7759800" y="19080"/>
            <a:ext cx="129204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2"/>
          <p:cNvSpPr/>
          <p:nvPr/>
        </p:nvSpPr>
        <p:spPr>
          <a:xfrm>
            <a:off x="7058160" y="62294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8DA8-4B2A-4C08-8182-6D3FF26E062D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80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dvanced SCC tool using Pseudo 2D String Matching (P2SM) integrated into HM16.6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76360" y="4365720"/>
            <a:ext cx="79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V009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15 Oct. – 21 Oct. 201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alibri"/>
              </a:rPr>
              <a:t>Tao L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Tongji Univers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263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Significantly improving coding performance of Clear Type texts and translucently blended screen content by P2SM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39640" y="19882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alibri"/>
              </a:rPr>
              <a:t>JCTVC-V009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9794-C27D-4873-AB97-5C0C1207565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1079640" y="115920"/>
            <a:ext cx="66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Recommend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0" y="568440"/>
            <a:ext cx="9144000" cy="53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t special emphasis on</a:t>
            </a: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ak intra picture coding bitrate when evaluating SCC tools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opt P2SM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a branch in JEM for P2SM softw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 initially proposed in Jan. of 2012 at SJ and is matu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most important and widely used computer display features: ClearType and translucently blending (Aero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visual effects, but increase bitrate greatly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ion of P2SM is the only way to make SCC standard a real superior and competitive standard product in the real market of emerging cloud-computing and interactive TV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灯片编号占位符 3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CF9-558B-4A21-9E5B-40996F49203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2637000"/>
            <a:ext cx="914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58c"/>
                </a:solidFill>
                <a:latin typeface="Times New Roman"/>
              </a:rPr>
              <a:t>THANK  YOU</a:t>
            </a:r>
            <a:endParaRPr b="0" lang="en-US" sz="8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9640" y="549360"/>
            <a:ext cx="8604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and comprehensiveness of screen cont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istinct col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s of matching patter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216072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53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s of matching patter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01800" y="6640560"/>
            <a:ext cx="54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01800" y="1574640"/>
            <a:ext cx="0" cy="506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6459480"/>
            <a:ext cx="25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Number of distinct color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46160"/>
            <a:ext cx="1836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egree of pattern matchabilit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20720" y="6518160"/>
            <a:ext cx="471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933800" y="6554880"/>
            <a:ext cx="1324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6338880"/>
            <a:ext cx="6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5440" y="1735200"/>
            <a:ext cx="5763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938160" y="1647720"/>
            <a:ext cx="43488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27240" y="2117880"/>
            <a:ext cx="869760" cy="867960"/>
            <a:chOff x="1227240" y="2117880"/>
            <a:chExt cx="869760" cy="867960"/>
          </a:xfrm>
        </p:grpSpPr>
        <p:sp>
          <p:nvSpPr>
            <p:cNvPr id="157" name=""/>
            <p:cNvSpPr/>
            <p:nvPr/>
          </p:nvSpPr>
          <p:spPr>
            <a:xfrm>
              <a:off x="122724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960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960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2724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96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468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468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96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704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940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940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704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212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448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3448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6212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0720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7956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956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0720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724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9960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9960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724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7196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468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468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196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1704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8940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940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1704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212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3448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3448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212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0720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7956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7956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0720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2724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960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960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2724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7196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468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4468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7196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1704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940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940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704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6212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3448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3448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6212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0720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7956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7956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720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724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960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960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2724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196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468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468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196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1704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940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8940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704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6212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3448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448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6212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720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7956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7956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0720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724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960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9960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2724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7196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468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4468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96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1704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8940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8940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1704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6212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448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448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212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0720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7956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7956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0720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2724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960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960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2724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196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468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468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7196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1704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940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8940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1704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6212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3448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448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6212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0720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7956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7956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0720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1920" y="21178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24640" y="21178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24640" y="21902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51920" y="21902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51920" y="22626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24640" y="22626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24640" y="23349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51920" y="23349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51920" y="24073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4640" y="24073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24640" y="24796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920" y="24796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51920" y="25520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4640" y="25520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4640" y="262440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51920" y="262440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51920" y="269676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4640" y="269676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4640" y="276912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51920" y="276912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51920" y="2841480"/>
              <a:ext cx="72360" cy="72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24640" y="2841480"/>
              <a:ext cx="72360" cy="72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4640" y="2913840"/>
              <a:ext cx="72360" cy="7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51920" y="2913840"/>
              <a:ext cx="72360" cy="7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603520" y="403560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843200" y="3021120"/>
            <a:ext cx="993600" cy="9936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218040" y="5048280"/>
            <a:ext cx="1072800" cy="1447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303800" y="461484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3"/>
          <p:cNvSpPr/>
          <p:nvPr/>
        </p:nvSpPr>
        <p:spPr>
          <a:xfrm>
            <a:off x="3384720" y="2960640"/>
            <a:ext cx="558000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450720"/>
                <a:tab algn="l" pos="90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exible coding tool is necessar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lly explore 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539640" y="549360"/>
            <a:ext cx="86043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ry large portion of typical screen content is text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smooth text display is very importa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aliasing technique such as Clear Type is widely u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12880" y="2097000"/>
            <a:ext cx="2290680" cy="2854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24360" y="209700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15092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Type 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39560" y="4495680"/>
            <a:ext cx="289584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3564000" y="44956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16480" y="6016680"/>
            <a:ext cx="609480" cy="612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192400" y="6019920"/>
            <a:ext cx="609480" cy="610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66560" y="3392640"/>
            <a:ext cx="43200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3995640" y="3105000"/>
            <a:ext cx="395280" cy="32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390920" y="3429000"/>
            <a:ext cx="2052720" cy="107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562200" y="3392640"/>
            <a:ext cx="432000" cy="111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443640" y="2205000"/>
            <a:ext cx="27003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5680" indent="-355680">
              <a:lnSpc>
                <a:spcPct val="10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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exible coding tool is necessar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35568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lly explore pattern match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3348000" y="-243000"/>
            <a:ext cx="2665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539640" y="549360"/>
            <a:ext cx="69487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action is involve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-comp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loud-TV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deskto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735280" cy="1550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5867280" y="3935520"/>
            <a:ext cx="2098800" cy="15732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488360" y="3575160"/>
            <a:ext cx="420480" cy="1403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859280" y="2638440"/>
            <a:ext cx="884160" cy="2482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5"/>
          <a:stretch/>
        </p:blipFill>
        <p:spPr>
          <a:xfrm>
            <a:off x="5129280" y="2854440"/>
            <a:ext cx="231840" cy="43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6"/>
          <a:stretch/>
        </p:blipFill>
        <p:spPr>
          <a:xfrm>
            <a:off x="5219640" y="4222800"/>
            <a:ext cx="139680" cy="539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580000" y="3322800"/>
            <a:ext cx="273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t processing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7956720" y="3719520"/>
            <a:ext cx="11872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transfer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635280" y="3251160"/>
            <a:ext cx="11876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transfer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4606920" y="253044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967280" y="472752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d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576360" y="5661000"/>
            <a:ext cx="856764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latency &lt; 1 frame perio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intra-picture bit-rate is the most important facto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647640" y="0"/>
            <a:ext cx="7128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Propos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24000" y="765000"/>
            <a:ext cx="88200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exible SCC tool: Pseudo 2D String Matching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ubmo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826920" y="1736640"/>
            <a:ext cx="83170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mode, equivalent to old ISC or PPC too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B (Secondary Reference Buffer) only (SRBonly) mode,  has all advantages of PLT and m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string (BS) mode, has all advantages of IBC and mor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U has only one string or two equal-size string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2732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tching residuals are co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68360" y="4761000"/>
            <a:ext cx="867564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SM search window (reference string location) :F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size restriction (low limi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08200" indent="-177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32 pixels outside of current and LEFT C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or less memory bandwidth than IB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C test sequ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79280" y="1233360"/>
          <a:ext cx="8785080" cy="4230720"/>
        </p:xfrm>
        <a:graphic>
          <a:graphicData uri="http://schemas.openxmlformats.org/drawingml/2006/table">
            <a:tbl>
              <a:tblPr/>
              <a:tblGrid>
                <a:gridCol w="4905360"/>
                <a:gridCol w="1293840"/>
                <a:gridCol w="1292040"/>
                <a:gridCol w="12938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chor: HM16.6+SCM5.2 FF IBC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Intr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sted HM16.6+P2SM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/Y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/U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/V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text &amp; graphics with motion, 1080p &amp;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mixed content, 1440p &amp;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Animation,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GB, camera captured,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text &amp; graphics with motion, 1080p &amp;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7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mixed content, 1440p &amp;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Animation, 72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UV, camera captured, 1080p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VALUE!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%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095880" cy="28576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08000" y="584280"/>
            <a:ext cx="90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47840" indent="-447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ear Type spreadsheet snapsh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0" y="3824280"/>
          <a:ext cx="9144000" cy="2913120"/>
        </p:xfrm>
        <a:graphic>
          <a:graphicData uri="http://schemas.openxmlformats.org/drawingml/2006/table">
            <a:tbl>
              <a:tblPr/>
              <a:tblGrid>
                <a:gridCol w="546120"/>
                <a:gridCol w="774720"/>
                <a:gridCol w="815760"/>
                <a:gridCol w="563760"/>
                <a:gridCol w="652320"/>
                <a:gridCol w="563760"/>
                <a:gridCol w="873000"/>
                <a:gridCol w="596880"/>
                <a:gridCol w="600120"/>
                <a:gridCol w="596880"/>
                <a:gridCol w="838080"/>
                <a:gridCol w="836640"/>
                <a:gridCol w="8859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M16.6+SCM5.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M16.6+P2SM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G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PISlic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988.8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8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5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2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219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3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9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2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0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39.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305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561.1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7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2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47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030.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8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n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651.3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1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7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8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401.1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773.44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0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8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6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138.2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.1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22.0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9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13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4.2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665.6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.0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5.0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9.6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25.6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5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8.3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03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51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.8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6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9.6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f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369.60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3.61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31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8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422.7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.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0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5.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861.76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05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22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.44 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811.5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1.6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1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3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179280" y="692280"/>
            <a:ext cx="89647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earTypeSpreadsheet test sequ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D-rate calculation spreadsheet windows side by si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ed by RD-curve ch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ries of common actions like resizing and moving windows and char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3213000"/>
          <a:ext cx="9144000" cy="2419560"/>
        </p:xfrm>
        <a:graphic>
          <a:graphicData uri="http://schemas.openxmlformats.org/drawingml/2006/table">
            <a:tbl>
              <a:tblPr/>
              <a:tblGrid>
                <a:gridCol w="1079640"/>
                <a:gridCol w="396720"/>
                <a:gridCol w="900000"/>
                <a:gridCol w="611280"/>
                <a:gridCol w="612720"/>
                <a:gridCol w="611280"/>
                <a:gridCol w="865080"/>
                <a:gridCol w="647640"/>
                <a:gridCol w="611280"/>
                <a:gridCol w="612720"/>
                <a:gridCol w="755640"/>
                <a:gridCol w="720720"/>
                <a:gridCol w="7192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nchor (HM16.6+SCM5.2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sted1 (HM16.6+P2SM)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D-rate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P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bps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 psnr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earTypeSpreadsheet_1920x1080_60_8bit_rg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96.5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9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8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9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3.3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1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4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6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6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35.7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7.4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3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76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75.9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9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31.3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0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7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0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96.6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5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4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8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48.8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1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0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.8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50.0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3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2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7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835280" y="-243000"/>
            <a:ext cx="511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0" bIns="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xperimental Resul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79280" y="476280"/>
            <a:ext cx="896472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itstreamAnalyzer test sequ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720" indent="-36036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45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ucently blending a original image, CU structure grids, and coding modes in different col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511280" y="1700280"/>
            <a:ext cx="6095880" cy="285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0" y="4761000"/>
          <a:ext cx="9144000" cy="1984320"/>
        </p:xfrm>
        <a:graphic>
          <a:graphicData uri="http://schemas.openxmlformats.org/drawingml/2006/table">
            <a:tbl>
              <a:tblPr/>
              <a:tblGrid>
                <a:gridCol w="971640"/>
                <a:gridCol w="399960"/>
                <a:gridCol w="968400"/>
                <a:gridCol w="611280"/>
                <a:gridCol w="612720"/>
                <a:gridCol w="612720"/>
                <a:gridCol w="863640"/>
                <a:gridCol w="611280"/>
                <a:gridCol w="612720"/>
                <a:gridCol w="647640"/>
                <a:gridCol w="720720"/>
                <a:gridCol w="755640"/>
                <a:gridCol w="755640"/>
              </a:tblGrid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itstreamAnalyzer_1920x1080_60_8bit_rgb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9898.4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3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5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18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9028.4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4.39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8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2.43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4.4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5.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imes New Roman"/>
                          <a:ea typeface="Arial"/>
                        </a:rPr>
                        <a:t>-25.8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7088.61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9.02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6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3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573.6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9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.25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.5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2217.5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29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5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.4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991.6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7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3.06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6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3253.20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34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25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93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385.21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22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2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1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700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03:13:52Z</dcterms:created>
  <dc:creator>tao lin</dc:creator>
  <dc:description/>
  <dc:language>en-US</dc:language>
  <cp:lastModifiedBy>n</cp:lastModifiedBy>
  <dcterms:modified xsi:type="dcterms:W3CDTF">2015-10-20T09:48:14Z</dcterms:modified>
  <cp:revision>1697</cp:revision>
  <dc:subject/>
  <dc:title>Slide 1</dc:title>
</cp:coreProperties>
</file>