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2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4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4D5C-2ADE-4EEE-97A8-884FFBC63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0F97-6266-49BD-AE80-03EC7465F8A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F8A7-1DD0-4E7D-B419-2D26EA455A3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B8E8-EFC0-4961-88B5-407DC280701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67DD-A7D4-4C1D-9F7B-46E80909F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DC88-2BBF-4ECC-A482-31652CA53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15B2-225E-4F5B-9E33-4F4D6C9EA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9C20-1E4D-4282-8A96-2B022EB54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1390-1F48-4D68-9D57-2C24904F9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0A3E-5D2A-4DA8-BD42-2DA10990E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2FBD-D3E6-4A33-9395-AE9EE2BAB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EC63-EA0D-4AF6-96D8-A5AA6ABAF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8910-D5A0-4863-8E23-A93111DF7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F66C-88C2-44F1-9488-9DC6EB771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7616-30B1-438A-A8DC-6332062C9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0C3E-6847-4C03-AC94-3AFC815E3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Line 27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4" name="Rectangle 56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" name="Picture 57" descr="Tongji2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8D6A-32DA-4E4F-863A-35E365A3E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61" descr="paint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4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5" descr="Tongji2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76" descr=""/>
          <p:cNvPicPr/>
          <p:nvPr/>
        </p:nvPicPr>
        <p:blipFill>
          <a:blip r:embed="rId3"/>
          <a:stretch/>
        </p:blipFill>
        <p:spPr>
          <a:xfrm>
            <a:off x="7759800" y="19080"/>
            <a:ext cx="129204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2"/>
          <p:cNvSpPr/>
          <p:nvPr/>
        </p:nvSpPr>
        <p:spPr>
          <a:xfrm>
            <a:off x="7058160" y="62294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EC07-B32C-454E-93F9-3F84C9DFE3A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80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dvanced SCC tool using Pseudo 2D String Matching (P2SM) integrated into HM16.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76360" y="4365720"/>
            <a:ext cx="79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V009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5 Oct. – 21 Oct. 201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Tongji Univers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2637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ignificantly improving coding performance of Clear Type texts and translucently blended screen content by P2SM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39640" y="19882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V009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7E6D-3319-423D-9856-61AB8DBFA61C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0" y="568440"/>
            <a:ext cx="9144000" cy="53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ut special emphasis on</a:t>
            </a:r>
            <a:r>
              <a:rPr b="1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ak intra picture coding bitrate when evaluating SCC tools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opt P2SM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a branch in JEM for P2SM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 initially proposed in Jan. of 2012 at SJ and is matu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ost important and widely used computer display features: ClearType and translucently blending (Aero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visual effects, but increase bitrate greatly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ion of P2SM is the only way to make SCC standard a real superior and competitive standard product in the real market of emerging cloud-computing and interactive TV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F449-8BAF-4DB7-9C5B-AF645D9D2ED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39640" y="549360"/>
            <a:ext cx="8604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ty and comprehensiveness of screen cont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216072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53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istinct col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16072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53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 match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16072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53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s of matching patter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16072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53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s of matching patter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01800" y="6640560"/>
            <a:ext cx="54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01800" y="1574640"/>
            <a:ext cx="0" cy="506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6459480"/>
            <a:ext cx="25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Number of distinct colo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046160"/>
            <a:ext cx="1836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egree of pattern matchabilit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720720" y="6518160"/>
            <a:ext cx="471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933800" y="6554880"/>
            <a:ext cx="1324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89080" y="6338880"/>
            <a:ext cx="6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25440" y="1735200"/>
            <a:ext cx="5763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938160" y="1647720"/>
            <a:ext cx="434880" cy="43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27240" y="2117880"/>
            <a:ext cx="869760" cy="867960"/>
            <a:chOff x="1227240" y="2117880"/>
            <a:chExt cx="869760" cy="867960"/>
          </a:xfrm>
        </p:grpSpPr>
        <p:sp>
          <p:nvSpPr>
            <p:cNvPr id="157" name=""/>
            <p:cNvSpPr/>
            <p:nvPr/>
          </p:nvSpPr>
          <p:spPr>
            <a:xfrm>
              <a:off x="122724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960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960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2724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96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468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468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96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704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8940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940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704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6212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3448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3448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6212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0720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7956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956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0720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724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9960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960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2724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7196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468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468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7196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1704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940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940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704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212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3448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3448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212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0720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7956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7956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0720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2724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960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9960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2724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7196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468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468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96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1704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8940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8940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704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6212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3448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3448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6212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0720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7956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7956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720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724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960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960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2724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7196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468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468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196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1704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8940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8940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704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6212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3448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448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6212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0720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7956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7956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0720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724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9960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9960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724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7196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4468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4468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196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1704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8940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8940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1704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6212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3448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448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6212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0720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7956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7956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0720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2724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960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960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2724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7196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468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4468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7196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1704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940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8940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1704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6212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3448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3448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6212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0720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7956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7956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0720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5192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2464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2464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5192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5192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2464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2464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5192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5192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2464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2464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92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5192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2464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464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5192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5192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2464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464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5192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5192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2464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2464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5192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603520" y="4035600"/>
            <a:ext cx="988920" cy="988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843200" y="3021120"/>
            <a:ext cx="993600" cy="993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218040" y="5048280"/>
            <a:ext cx="1072800" cy="1447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4303800" y="461484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3384720" y="2960640"/>
            <a:ext cx="55800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450720"/>
                <a:tab algn="l" pos="90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exible coding tool is necessar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03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lly explore pattern match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539640" y="549360"/>
            <a:ext cx="86043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ry large portion of typical screen content is tex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and smooth text display is very importa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aliasing technique such as Clear Type is widely u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12880" y="2097000"/>
            <a:ext cx="2290680" cy="2854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24360" y="2097000"/>
            <a:ext cx="2286000" cy="28576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150920" y="198900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Type off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198900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Type 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39560" y="4495680"/>
            <a:ext cx="2895840" cy="2362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564000" y="44956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16480" y="6016680"/>
            <a:ext cx="609480" cy="612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192400" y="6019920"/>
            <a:ext cx="609480" cy="610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3105000"/>
            <a:ext cx="395280" cy="32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3429000"/>
            <a:ext cx="2052720" cy="107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66560" y="3392640"/>
            <a:ext cx="432000" cy="111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3995640" y="3105000"/>
            <a:ext cx="395280" cy="32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390920" y="3429000"/>
            <a:ext cx="2052720" cy="107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562200" y="3392640"/>
            <a:ext cx="432000" cy="111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443640" y="2205000"/>
            <a:ext cx="27003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5680" indent="-35568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exible coding tool is necessar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2732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lly explore pattern match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539640" y="549360"/>
            <a:ext cx="694872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-computer interaction is involve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-comp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loud-TV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 deskto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2735280" cy="15508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867280" y="3935520"/>
            <a:ext cx="2098800" cy="15732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488360" y="3575160"/>
            <a:ext cx="420480" cy="1403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859280" y="2638440"/>
            <a:ext cx="884160" cy="2482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5129280" y="2854440"/>
            <a:ext cx="231840" cy="43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5219640" y="4222800"/>
            <a:ext cx="139680" cy="539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580000" y="3322800"/>
            <a:ext cx="27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 processing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7956720" y="3719520"/>
            <a:ext cx="118728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transfer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635280" y="3251160"/>
            <a:ext cx="11876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transfer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4606920" y="2530440"/>
            <a:ext cx="13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967280" y="4727520"/>
            <a:ext cx="13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d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576360" y="5661000"/>
            <a:ext cx="85676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latency &lt; 1 frame perio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intra-picture bit-rate is the most important fact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ropos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24000" y="765000"/>
            <a:ext cx="88200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lexible SCC tool: Pseudo 2D String Matching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submo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826920" y="1736640"/>
            <a:ext cx="831708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mode, equivalent to old ISC or PPC too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B (Secondary Reference Buffer) only (SRBonly) mode,  has all advantages of PLT and mo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string (BS) mode, has all advantages of IBC and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2732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U has only one string or two equal-size string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2732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tching residuals are co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468360" y="4761000"/>
            <a:ext cx="867564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SM search window (reference string location) :F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ize restriction (low limi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32 pixels outside of current and LEFT C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or less memory bandwidth than IB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08000" y="584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C test sequ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79280" y="1233360"/>
          <a:ext cx="8785080" cy="4230720"/>
        </p:xfrm>
        <a:graphic>
          <a:graphicData uri="http://schemas.openxmlformats.org/drawingml/2006/table">
            <a:tbl>
              <a:tblPr/>
              <a:tblGrid>
                <a:gridCol w="4905360"/>
                <a:gridCol w="1293840"/>
                <a:gridCol w="1292040"/>
                <a:gridCol w="12938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chor: HM16.6+SCM5.2 FF IBC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ed HM16.6+P2S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, text &amp; graphics with motion, 1080p &amp; 72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, mixed content, 1440p &amp; 108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UV, text &amp; graphics with motion, 1080p &amp; 72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UV, mixed content, 1440p &amp; 108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095880" cy="28576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08000" y="584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ear Type spreadsheet snapsho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3824280"/>
          <a:ext cx="9144000" cy="2913120"/>
        </p:xfrm>
        <a:graphic>
          <a:graphicData uri="http://schemas.openxmlformats.org/drawingml/2006/table">
            <a:tbl>
              <a:tblPr/>
              <a:tblGrid>
                <a:gridCol w="546120"/>
                <a:gridCol w="774720"/>
                <a:gridCol w="815760"/>
                <a:gridCol w="563760"/>
                <a:gridCol w="652320"/>
                <a:gridCol w="563760"/>
                <a:gridCol w="873000"/>
                <a:gridCol w="596880"/>
                <a:gridCol w="600120"/>
                <a:gridCol w="596880"/>
                <a:gridCol w="838080"/>
                <a:gridCol w="836640"/>
                <a:gridCol w="8859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M16.6+SCM5.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M16.6+P2SM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D-ra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PISlic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bp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bp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ea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988.8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85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58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2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219.5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3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9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2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9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30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9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30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9.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30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561.12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7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2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47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030.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8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6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651.3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1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7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88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401.1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5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773.44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05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82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65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138.2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1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ea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322.08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9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13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22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665.6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2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.0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.0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.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25.6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5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.3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03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51.5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1.8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6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6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ff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369.6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.61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31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48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22.7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0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861.7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05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22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44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811.5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6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1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3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179280" y="692280"/>
            <a:ext cx="89647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earTypeSpreadsheet test sequ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BD-rate calculation spreadsheet windows side by si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y RD-curve char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common actions like resizing and moving windows and char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3213000"/>
          <a:ext cx="9144000" cy="2419560"/>
        </p:xfrm>
        <a:graphic>
          <a:graphicData uri="http://schemas.openxmlformats.org/drawingml/2006/table">
            <a:tbl>
              <a:tblPr/>
              <a:tblGrid>
                <a:gridCol w="1079640"/>
                <a:gridCol w="396720"/>
                <a:gridCol w="900000"/>
                <a:gridCol w="611280"/>
                <a:gridCol w="612720"/>
                <a:gridCol w="611280"/>
                <a:gridCol w="865080"/>
                <a:gridCol w="647640"/>
                <a:gridCol w="611280"/>
                <a:gridCol w="612720"/>
                <a:gridCol w="755640"/>
                <a:gridCol w="720720"/>
                <a:gridCol w="7192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chor (HM16.6+SCM5.2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sted1 (HM16.6+P2SM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D-rat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bp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bp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earTypeSpreadsheet_1920x1080_60_8bit_rgb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96.5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9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8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9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23.3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1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4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6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5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5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5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7.4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9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3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7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75.9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3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9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4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31.3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0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7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0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96.6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5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4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8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48.8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1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.0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8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50.0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3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2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7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79280" y="476280"/>
            <a:ext cx="89647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itstreamAnalyzer test sequ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ucently blending a original image, CU structure grids, and coding modes in different col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511280" y="1700280"/>
            <a:ext cx="6095880" cy="285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0" y="4761000"/>
          <a:ext cx="9144000" cy="1984320"/>
        </p:xfrm>
        <a:graphic>
          <a:graphicData uri="http://schemas.openxmlformats.org/drawingml/2006/table">
            <a:tbl>
              <a:tblPr/>
              <a:tblGrid>
                <a:gridCol w="971640"/>
                <a:gridCol w="399960"/>
                <a:gridCol w="968400"/>
                <a:gridCol w="611280"/>
                <a:gridCol w="612720"/>
                <a:gridCol w="612720"/>
                <a:gridCol w="863640"/>
                <a:gridCol w="611280"/>
                <a:gridCol w="612720"/>
                <a:gridCol w="647640"/>
                <a:gridCol w="720720"/>
                <a:gridCol w="755640"/>
                <a:gridCol w="755640"/>
              </a:tblGrid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tstreamAnalyzer_1920x1080_60_8bit_rgb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9898.4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3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5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1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9028.4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3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8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4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24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25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25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7088.6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0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6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3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573.6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9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2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5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2217.5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2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5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4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991.6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7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0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6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253.2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3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2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9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385.2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2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1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n</cp:lastModifiedBy>
  <dcterms:modified xsi:type="dcterms:W3CDTF">2015-10-20T09:48:14Z</dcterms:modified>
  <cp:revision>1697</cp:revision>
  <dc:subject/>
  <dc:title>Slide 1</dc:title>
</cp:coreProperties>
</file>