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1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1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C02B1A6-99C1-4749-AF14-794F14FE58E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eed some improvements for the third bul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A623FAE-2516-4907-95FA-4FEA7B07ACC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30DF-4943-42E7-BCEA-EC71EFD47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F617-5F91-411B-8168-3AD382801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D465-558A-46AC-8BDC-1E03A45E5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EE29-DA1D-4718-9ACB-9427751F8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C555-E5C4-4DF6-8BB8-B5890BAD51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412D-C091-4DCC-A94B-556BFB6CF3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6984-0599-4721-908B-120925158C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6E0A-9948-44F2-BC7F-4C2C89A782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E171-0FA5-490C-9579-17856C4F67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6AD3-D4AE-4741-B6C9-984E21AD6E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8761-EC21-45F2-BC35-B90EFF9A7A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8539-780E-4834-A652-EC429BF53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A5EB-6390-4BFC-B8D0-84A81119C2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3ADE-B040-4127-8898-46C7DDB5C1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60BA-24AB-43CD-A2B4-FDC3B9994D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0407-96B7-43FA-BBB5-A52925B676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8882-4184-4784-9157-7B9567D2B9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857-915D-498F-9363-DAC6BF3D6D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6BF-28CE-4306-BE52-176A41C0C0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4F2-6003-4BDC-A249-861DFBC2D2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B60-65FD-4032-9259-AC99C81191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3CB-CFF4-464E-A086-E209F99EB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3CA3-EF65-4B7A-AB39-58FEF5CDEC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A33-D289-4E53-8AD3-C233023103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137-20A7-4330-9BE4-56B7F8350D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E15-F2CD-4D75-A03B-6C11DCA92F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235-418D-4B35-B052-764EC39F40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934-E340-460F-9C04-7B899CD233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94B-80B6-49AC-B13A-810217EAFE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F4B-3321-4A92-A12A-949C278A0E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6FE4-6239-4624-91A3-10B49F5DBA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C2DD2-7A9B-4970-A64A-4522945DB6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F0AFF-4A7A-4EF5-BCE8-E8C94665D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B760-5727-4953-98D3-69DECD81A7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A0B1C-F258-4962-998A-6822117504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6FFE6-F6FE-47BC-A7F4-7E3086E78F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69EF2-AF3C-4BA7-8E39-99BE7226E7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6633E-9F3E-46A5-9FE4-613E85FD32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676ED-9192-4703-BD81-FC0952286E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6BE87-E503-4043-85B5-5B19AF4091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CBD53-920A-4294-8430-6EBA25A920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8EA7C-72BF-4DDF-9C13-0D3BA00A06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C25B3-C9D1-4266-9351-1B51748F2A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30B8-4802-4A8E-BCD8-AECEC5AE28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7058-0C1D-4A76-B9C9-2AF954EE24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CC853-5666-47ED-B0C8-AB083AA6C54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2720A-0A72-49B2-97BB-2ACC07A4CF0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DD47F-9656-4551-A7AD-68D8426B2C9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E38C8-A1E4-4076-BDE7-27C025DF86A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BC866-9377-4310-AE66-2C8CFB9A37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E3C10-9B05-4DA8-8D19-C0ABE6FF53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62C99-291C-4F01-B489-AF1A4AA3C4B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9A5EC-18AC-4D5A-BBE0-75356832096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D3756-ABBF-46CA-92C5-72BBDC38D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FAC0-19A3-4560-9584-FCFBF8D98B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F0E63-C9D0-40F9-ADE7-BAE50A4FBE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C729-B088-40F3-95E6-F545F1913D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1CE11-111A-4A0E-A0EE-B22E35C058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9894D-EE6C-4312-B9DF-D57E702A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21FD1-414C-49C7-BE94-B6906BB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94506-30B1-4E69-89AF-B04191F4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2B24E-2140-4152-9A47-9CED4E4D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725B7-8569-494D-AF76-6C5971A7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14FAE-9E23-456F-9E04-BEB3C5D8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82750-603B-4B96-8A62-8AD64E8A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F1F0-947B-4BC9-A001-13F41596006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FA6D7-0C88-4654-B967-EF031278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47574-830F-42E1-B76D-6E871271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F4D22-55AE-4162-AD47-91FF74D4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0FCCE-0E75-4BC8-B179-B15E0A68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30161-8B1E-430D-9721-ABE4D0A5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5958-4A10-4E5A-9E1A-ABFABF249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250-6B84-4828-82BE-9B9D23ECD704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1E98-AD35-40F3-BE5A-BAFF5A5C7DD7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F585-3D86-4CED-90DB-927598DC1125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14AE-C59D-43CA-AD41-7443CE32A7E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1367-5FDD-4162-BBD0-A179D47F340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2716-CA8C-4B0C-A7B0-936B4D2C9D57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A45B-48DC-492F-A47B-AE470205463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FB79-4E12-40E0-AB0A-48A1A36FABD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1A62-C190-4A51-BD77-FDCCF44DE62E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8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EB8C-DD69-492E-9B47-87831AD65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139400"/>
            <a:ext cx="9144000" cy="24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V0061</a:t>
            </a:r>
            <a:br>
              <a:rPr sz="4400"/>
            </a:br>
            <a:r>
              <a:rPr b="1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implification for the index of the MSB in the paletteRun binariz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4562640"/>
            <a:ext cx="64008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 , </a:t>
            </a:r>
            <a:r>
              <a:rPr b="1" lang="en-US" sz="2800" spc="-1" strike="noStrike" u="sng">
                <a:solidFill>
                  <a:srgbClr val="28aecf"/>
                </a:solidFill>
                <a:uFillTx/>
                <a:latin typeface="Arial"/>
                <a:ea typeface="新細明體"/>
              </a:rPr>
              <a:t>Ching-Chieh Lin </a:t>
            </a: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, Chun-Lung Lin and Jih-Sheng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133800" y="5896080"/>
            <a:ext cx="2867040" cy="4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字方塊 1"/>
          <p:cNvSpPr/>
          <p:nvPr/>
        </p:nvSpPr>
        <p:spPr>
          <a:xfrm>
            <a:off x="3875760" y="63165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ctober, 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</a:t>
            </a:r>
            <a:endParaRPr b="0" lang="en-US" sz="8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B8E3-C69B-45CE-946C-36EFDA47DD51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ummary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01880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 Warsaw meeting, there were com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Performance results for another modification, modifying one context-coded bi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palette_run_msb_id_plus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s one bypass-coded bin, were not provided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o analyzing results were provided to evaluate whether the method has measurable benefit in the overall complexity of the decoding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our experimental results and the percentage of the reduced context coded bins ar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y removing three context coded bins, it can save up to 10.5% context coded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ith 0.1% BD-rates change o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ndex map coding in palette mo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alette run type flag and palette run value are signalled for index map 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alette run value is derived by the most significant bit(MSB) index and the  refinement b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run_msb_id_plu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run_refinement_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ssues on coding the palette run valu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five bins of MSB index are context co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f the context-coded bins are getting less, the processing time could be getting shorter in hardware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63520" y="3222720"/>
          <a:ext cx="8796240" cy="731880"/>
        </p:xfrm>
        <a:graphic>
          <a:graphicData uri="http://schemas.openxmlformats.org/drawingml/2006/table">
            <a:tbl>
              <a:tblPr/>
              <a:tblGrid>
                <a:gridCol w="4795920"/>
                <a:gridCol w="706320"/>
                <a:gridCol w="601560"/>
                <a:gridCol w="601920"/>
                <a:gridCol w="603000"/>
                <a:gridCol w="628920"/>
                <a:gridCol w="858600"/>
              </a:tblGrid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ette_run_type_flag = COPY_ABOVE_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ette_run_type_flag = COPY_INDEX_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3936960" y="2852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able 9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Modifications(1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1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F3BE-96D9-42BE-A3A1-9FE4D7CB683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字方塊 7"/>
          <p:cNvSpPr/>
          <p:nvPr/>
        </p:nvSpPr>
        <p:spPr>
          <a:xfrm>
            <a:off x="3936960" y="2243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able 9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114560" y="2897280"/>
          <a:ext cx="6914880" cy="731880"/>
        </p:xfrm>
        <a:graphic>
          <a:graphicData uri="http://schemas.openxmlformats.org/drawingml/2006/table">
            <a:tbl>
              <a:tblPr/>
              <a:tblGrid>
                <a:gridCol w="3973320"/>
                <a:gridCol w="711360"/>
                <a:gridCol w="450720"/>
                <a:gridCol w="450720"/>
                <a:gridCol w="451080"/>
                <a:gridCol w="877680"/>
              </a:tblGrid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_above_palette_indices_flag = 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_above_palette_indices_flag = 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文字方塊 7"/>
          <p:cNvSpPr/>
          <p:nvPr/>
        </p:nvSpPr>
        <p:spPr>
          <a:xfrm>
            <a:off x="3938400" y="4824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able 9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009800" y="5478480"/>
          <a:ext cx="6662520" cy="731880"/>
        </p:xfrm>
        <a:graphic>
          <a:graphicData uri="http://schemas.openxmlformats.org/drawingml/2006/table">
            <a:tbl>
              <a:tblPr/>
              <a:tblGrid>
                <a:gridCol w="4095720"/>
                <a:gridCol w="731880"/>
                <a:gridCol w="465120"/>
                <a:gridCol w="465120"/>
                <a:gridCol w="904680"/>
              </a:tblGrid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_above_palette_indices_flag = 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_above_palette_indices_flag = 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Modifications(2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3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difica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76D0-8242-41E0-BF58-F0FA3B5E6AE9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字方塊 7"/>
          <p:cNvSpPr/>
          <p:nvPr/>
        </p:nvSpPr>
        <p:spPr>
          <a:xfrm>
            <a:off x="3936960" y="2243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able 9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字方塊 7"/>
          <p:cNvSpPr/>
          <p:nvPr/>
        </p:nvSpPr>
        <p:spPr>
          <a:xfrm>
            <a:off x="3938400" y="4824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able 9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488960" y="2987640"/>
          <a:ext cx="6166080" cy="731880"/>
        </p:xfrm>
        <a:graphic>
          <a:graphicData uri="http://schemas.openxmlformats.org/drawingml/2006/table">
            <a:tbl>
              <a:tblPr/>
              <a:tblGrid>
                <a:gridCol w="3803760"/>
                <a:gridCol w="790560"/>
                <a:gridCol w="720720"/>
                <a:gridCol w="851040"/>
              </a:tblGrid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_above_palette_indices_flag = 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_above_palette_indices_flag = 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490760" y="5353200"/>
          <a:ext cx="6162480" cy="731520"/>
        </p:xfrm>
        <a:graphic>
          <a:graphicData uri="http://schemas.openxmlformats.org/drawingml/2006/table">
            <a:tbl>
              <a:tblPr/>
              <a:tblGrid>
                <a:gridCol w="3994200"/>
                <a:gridCol w="1334880"/>
                <a:gridCol w="833400"/>
              </a:tblGrid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_above_palette_indices_flag = 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_above_palette_indices_flag = 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,4,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Y-BD-rate comparisons for four modificat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25360" y="2203560"/>
          <a:ext cx="8634600" cy="3097080"/>
        </p:xfrm>
        <a:graphic>
          <a:graphicData uri="http://schemas.openxmlformats.org/drawingml/2006/table">
            <a:tbl>
              <a:tblPr/>
              <a:tblGrid>
                <a:gridCol w="4411800"/>
                <a:gridCol w="1055520"/>
                <a:gridCol w="1055880"/>
                <a:gridCol w="1055520"/>
                <a:gridCol w="1055880"/>
              </a:tblGrid>
              <a:tr h="25848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-BD-rate results for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.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.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.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.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D31-1260-4CA3-ABDF-315C1A62AAE6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nalysis for our modificat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1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20CE-669A-4BA8-AFBB-616A211DE759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bins changed from context mode to bypass mode over all context-coded bins of all cod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95120" y="3817800"/>
          <a:ext cx="8769600" cy="1795680"/>
        </p:xfrm>
        <a:graphic>
          <a:graphicData uri="http://schemas.openxmlformats.org/drawingml/2006/table">
            <a:tbl>
              <a:tblPr/>
              <a:tblGrid>
                <a:gridCol w="4122720"/>
                <a:gridCol w="1162080"/>
                <a:gridCol w="1160640"/>
                <a:gridCol w="1162080"/>
                <a:gridCol w="1162080"/>
              </a:tblGrid>
              <a:tr h="576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C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d.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C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5</a:t>
                      </a:r>
                      <a:r>
                        <a:rPr b="1" lang="en-C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d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C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5</a:t>
                      </a:r>
                      <a:r>
                        <a:rPr b="1" lang="en-C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d.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C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5</a:t>
                      </a:r>
                      <a:r>
                        <a:rPr b="1" lang="en-CA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d. 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our modifications for coding the MSB id of the palate run value are evaluated to clarify the proposed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or Modification 3, our analysis shows that it could save up to 10.5% context coded bins, with small BD-rate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Nokia for cro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ITRI Jack</cp:lastModifiedBy>
  <cp:lastPrinted>2013-05-17T00:59:36Z</cp:lastPrinted>
  <dcterms:modified xsi:type="dcterms:W3CDTF">2015-10-15T13:27:00Z</dcterms:modified>
  <cp:revision>1199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