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9744379-D94E-491E-945A-0B1B9DB21E3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EB0426D-71E1-4928-A815-C499B4A3EDCB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2F4E470-0480-4C1A-88A6-F6653ABE633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EE1A6A5-067F-4B95-B9C2-60D48E40DE5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C8FC2CD-BB49-4936-B87C-FC5971E9076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C347775-09E6-4BFA-937E-CD6FC2C8999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6ADA3DD-D604-41F5-B254-29B43D2E846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3AA1A17-50A4-4CA2-8F58-0B5EC485B8C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F72A022-0077-4CA8-9DD6-940604F99F3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BA986A5-BF09-4EEB-9349-7C0444DB85B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EF350FC-3A50-4FB5-90DF-7A829DB29B8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6012577-236B-48BE-A55A-42132CB6BF4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10937F0-4A04-4005-A666-2D462F51FD5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AFD76-34CF-4BFD-A80B-B93DD9627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2D24-86D5-4701-BFD7-F85D02049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D8B6-DED1-476B-AA04-2AC0D31BA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2568-22C8-46F8-B4A2-19D08ED2D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4E1B2-D2A6-45B3-B287-93F7B7FC2B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37874-9D0A-4C56-8832-A90E310861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90672-0269-450D-BDB3-ECED02A326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02AEF-2534-4276-9E3A-7206E44696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36F2D-B695-417B-BD9B-25211E0B57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153A7-8516-4E1F-9E22-B2319887E8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7535B-9101-49EF-89F1-1F79FD74C0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0F3D-64F9-4C6E-BA9C-24478C409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AFF4D-BD3F-46E9-AD13-39FB1AC485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F5803-38A8-45CB-BBE3-ACB7EB56E6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22AAA-80BD-4B5F-968C-0B95D7E299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452F8-841E-42BF-A66E-1D4143A442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5EFA2-F765-43B9-ACF5-F266E6C464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A246-2D95-46C0-9501-2BF0C520EB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B205-E730-4473-AEEF-C6D7EAD990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82D3-9B76-416B-893A-A4FAA3ACF3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7F8-4FAC-4355-8FA5-CF9E145D94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263-2363-460C-BBB1-AE8C3BEFC0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3FE4-35F0-4DD9-831E-5CF5BD369E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357-6675-45C5-AB6D-22A4B24DE2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EAF-89AE-49B9-A96A-6C5068CA86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2C1-3658-440E-8644-A7B6260E83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DBF2-17EC-4ADF-88DB-AB8021D16C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893-45DE-474A-8D19-5EBA874B3E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8383-43F9-42E8-8609-20FFBFDEAF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B3F-800C-4DEA-8FEA-BDAF1FD18E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09A5F-BB2F-40AC-A5FA-90F5FA9464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C2DA3-FD4F-414E-894D-F1645A450EC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62936-C886-4681-A0BA-5C1DE94F7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3178-F540-480D-BC2B-6D8679B3CE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BD389-A13C-4201-9A3B-EF472071BA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26126-0255-4654-8317-307330ED83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1DB99-FB8E-4FD4-A442-83B596AFF1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A88C2-3D91-436C-948E-99844C5B3A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F081F-F90D-404E-8FD1-FE49CFFD28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6F928-FE59-410A-8858-DBFA670622B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9BDA1-8BAA-43E3-9B14-474553D03F0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10235-29C3-4FAE-9702-913ECA0C32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8C0BB-F09A-44D4-A4F0-B88EB11619A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FAA0-5608-4B97-93BF-53F7BDBA5D2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98EA-382F-4D0B-8B3E-BCA5ECD7F62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ED6FF-E4A5-487C-8B5D-03309CD3201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BF5A6-6B16-43CD-A161-B7A9CA1675B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3DF7C-CD99-429E-BC14-80CDB12F0F6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9466C-0747-4BF4-87AC-6CA67871F40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D78BC-BB1D-4AD6-935E-8F4F6705C7E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7B705-6521-438B-AEC1-B2C65BEC2B3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49618-6904-434B-BAB8-7FAF98B3A84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ACE32-D2C1-4DC0-84D2-0EAE3A1E955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2270B-72DA-4F90-A24E-022B2249B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33AB-2E8C-4A26-957F-2D48F06A02D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C3C6C-B2B3-4550-9948-8E2E72316D2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D9EDD-36E0-4319-B3FD-EE039638556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6D8AB-7991-4EE4-9AFC-ED21492980E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4230-F3ED-4238-968C-7AC5AC8C89A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012D-E952-4D42-8D35-182C109F052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42BC-BB2E-47FF-BFA9-886A3AB0069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C2A3-50C8-452A-BF3A-F4E0D1420BB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2906-FBCC-4F07-952D-6E414A6F245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FB22-0E57-4593-8BEB-94CB7818F10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00AA-2BB2-4152-92D5-FB0588BB6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F38E6-6CB0-4018-947D-F4209CBFBA3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BF0A-D0F8-4FB6-AB4D-C6C1AF1741B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59C0-E0BF-4BFA-8DF0-61643D3B23F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643D-55B3-451B-9E6D-52F7A47AA4D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1EF4-10C9-4C2D-9C69-0FFD73C5D4D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A137-119C-4262-9E51-243931338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2BBC-136C-45E7-8EB2-8E30E994E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8972-7CAA-47D4-A747-8BCFFE05DFDE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5679-2699-4CB6-8AF5-AC541F86B7C3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67E2-479D-48B6-B04F-EA5DDF072C69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1C91-7EF6-4D52-B6C3-71926878009E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5301-FAA2-487D-8F88-8E79104B1CC2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B9E9-1498-4ECE-92EC-7709503E2ABF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4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DC1C-A4CB-4AC0-A76A-13B160673CA9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F70D-AF9A-473B-98D9-CAFA62B9911B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5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DAA5-F8BF-4727-B441-376FC6E31D3A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6"/>
          </p:nvPr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85A5-5D7C-414F-A283-7AE2C0CC91F8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359000"/>
            <a:ext cx="914400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JCTVC-V0047</a:t>
            </a:r>
            <a:br>
              <a:rPr sz="4400"/>
            </a:br>
            <a:r>
              <a:rPr b="0" lang="en-CA" sz="4400" spc="-1" strike="noStrike">
                <a:solidFill>
                  <a:srgbClr val="154da9"/>
                </a:solidFill>
                <a:latin typeface="Arial"/>
                <a:ea typeface="新細明體"/>
              </a:rPr>
              <a:t>On the parsing process for the palette mo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2084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Yao-Jen Chang, Chun-Lung Lin, Ching-Chieh Lin and Jih-Sheng 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727000" y="5713560"/>
            <a:ext cx="346068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eneva,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Oct.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200" y="205920"/>
            <a:ext cx="91184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54da9"/>
                </a:solidFill>
                <a:latin typeface="Arial"/>
                <a:ea typeface="新細明體"/>
              </a:rPr>
              <a:t>Proposed parsing order of the first four flags on top of JCTVC-V0046</a:t>
            </a:r>
            <a:endParaRPr b="0" lang="en-US" sz="36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E189-5BC5-4561-A58B-0A85C4BC6B37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12400" y="1254240"/>
            <a:ext cx="8931240" cy="8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54720" indent="-547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Flag D: Palette_Escape_Val_Present_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55960" indent="-36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Only 1 bit to signal this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Flag B: Num_Signaled_Pal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55960" indent="-36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10 bits at most to signal this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If (Num_Signaled_Palet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8800" indent="-45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Flag C: Palette_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55960" indent="-363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18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bits at most to signal this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If (Num_Signaled_Palette &lt; Palette_Max_Si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8800" indent="-45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Flag A: Palette_Predictor_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55960" indent="-36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Num_Predicted_Pa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55960" indent="-36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Palette_Size = Num_Signaled_Palette + Num_Predicted_Pa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55960" indent="-363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192 bits at most to signal this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55960" indent="-363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The bit length is highly uncertain due to using run-length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8800" indent="-4572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2124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y in CTC </a:t>
            </a:r>
            <a:br>
              <a:rPr sz="4400"/>
            </a:b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for Method 2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44" name="投影片編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5EEE-D911-4879-ADB3-47FE8B882B25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39680" y="1843200"/>
          <a:ext cx="8864640" cy="2673360"/>
        </p:xfrm>
        <a:graphic>
          <a:graphicData uri="http://schemas.openxmlformats.org/drawingml/2006/table">
            <a:tbl>
              <a:tblPr/>
              <a:tblGrid>
                <a:gridCol w="3997440"/>
                <a:gridCol w="539640"/>
                <a:gridCol w="541440"/>
                <a:gridCol w="541080"/>
                <a:gridCol w="540000"/>
                <a:gridCol w="541080"/>
                <a:gridCol w="541440"/>
                <a:gridCol w="541440"/>
                <a:gridCol w="539640"/>
                <a:gridCol w="541440"/>
              </a:tblGrid>
              <a:tr h="2206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46" name="文字方塊 1"/>
          <p:cNvSpPr/>
          <p:nvPr/>
        </p:nvSpPr>
        <p:spPr>
          <a:xfrm>
            <a:off x="2228400" y="5253120"/>
            <a:ext cx="46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Thank MediaTek for cross-che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523880" y="5996160"/>
            <a:ext cx="568512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37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Accurate coding time is not available due to performing in heterogeneous clu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840" y="50400"/>
            <a:ext cx="91188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54da9"/>
                </a:solidFill>
                <a:latin typeface="Arial"/>
                <a:ea typeface="新細明體"/>
              </a:rPr>
              <a:t>Summary: Method 2</a:t>
            </a:r>
            <a:endParaRPr b="0" lang="en-US" sz="48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49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B135-1B0F-4232-BDEF-F1FAE31057A7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232920" y="904680"/>
            <a:ext cx="868356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-116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ov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lag A “Palette_Predictor_Run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behi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lag C “Palette_Ent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ov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lag D “Palette_Escape_Val_ Present_Flag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o the first position priori t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lag B “Num_Signaled_Palet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-96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lag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lag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are put together with no parsing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-96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lag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lag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are put together with no parsing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-96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crease the flexibility of the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No change on coding perform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Thank you!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2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F036-AA32-4688-980C-1FEC3A679B97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1359000"/>
            <a:ext cx="914400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Full results for Method 1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371600" y="42084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Yao-Jen Chang, Chun-Lung Lin, Ching-Chieh Lin and Jih-Sheng 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727000" y="5713560"/>
            <a:ext cx="346068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eneva,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Oct.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y, 444-Chroma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7" name="投影片編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2230-4F46-4423-877E-8B0A8DC17F5C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39680" y="1012680"/>
          <a:ext cx="8864640" cy="2673360"/>
        </p:xfrm>
        <a:graphic>
          <a:graphicData uri="http://schemas.openxmlformats.org/drawingml/2006/table">
            <a:tbl>
              <a:tblPr/>
              <a:tblGrid>
                <a:gridCol w="3997440"/>
                <a:gridCol w="539640"/>
                <a:gridCol w="541440"/>
                <a:gridCol w="541080"/>
                <a:gridCol w="540000"/>
                <a:gridCol w="541080"/>
                <a:gridCol w="541440"/>
                <a:gridCol w="541440"/>
                <a:gridCol w="539640"/>
                <a:gridCol w="541440"/>
              </a:tblGrid>
              <a:tr h="2206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IBC se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39680" y="3840120"/>
          <a:ext cx="8864640" cy="2673360"/>
        </p:xfrm>
        <a:graphic>
          <a:graphicData uri="http://schemas.openxmlformats.org/drawingml/2006/table">
            <a:tbl>
              <a:tblPr/>
              <a:tblGrid>
                <a:gridCol w="3997440"/>
                <a:gridCol w="539640"/>
                <a:gridCol w="541440"/>
                <a:gridCol w="541080"/>
                <a:gridCol w="540000"/>
                <a:gridCol w="541080"/>
                <a:gridCol w="541440"/>
                <a:gridCol w="541440"/>
                <a:gridCol w="539640"/>
                <a:gridCol w="541440"/>
              </a:tblGrid>
              <a:tr h="2206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x4 CTU IBC se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420-Chroma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61" name="投影片編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B462-33C1-44D0-8E64-DDE586D49AAD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19160" y="1359000"/>
          <a:ext cx="8864640" cy="1558800"/>
        </p:xfrm>
        <a:graphic>
          <a:graphicData uri="http://schemas.openxmlformats.org/drawingml/2006/table">
            <a:tbl>
              <a:tblPr/>
              <a:tblGrid>
                <a:gridCol w="3997080"/>
                <a:gridCol w="540000"/>
                <a:gridCol w="541080"/>
                <a:gridCol w="541440"/>
                <a:gridCol w="539640"/>
                <a:gridCol w="541440"/>
                <a:gridCol w="541440"/>
                <a:gridCol w="541440"/>
                <a:gridCol w="539640"/>
                <a:gridCol w="541440"/>
              </a:tblGrid>
              <a:tr h="2203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sy 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imation, 720p &amp; 768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136440" y="3868560"/>
          <a:ext cx="8855280" cy="1733760"/>
        </p:xfrm>
        <a:graphic>
          <a:graphicData uri="http://schemas.openxmlformats.org/drawingml/2006/table">
            <a:tbl>
              <a:tblPr/>
              <a:tblGrid>
                <a:gridCol w="2851200"/>
                <a:gridCol w="500040"/>
                <a:gridCol w="501840"/>
                <a:gridCol w="500040"/>
                <a:gridCol w="500040"/>
                <a:gridCol w="500040"/>
                <a:gridCol w="500040"/>
                <a:gridCol w="500040"/>
                <a:gridCol w="500040"/>
                <a:gridCol w="501480"/>
                <a:gridCol w="500400"/>
                <a:gridCol w="500040"/>
                <a:gridCol w="500040"/>
              </a:tblGrid>
              <a:tr h="2066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Delay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sless co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t &amp; graphics with motion, 1080p &amp;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xed content, 1440p &amp;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imation, 720p &amp; 768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2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less, 444-Chroma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65" name="投影片編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5ED6-8664-41FF-A7CC-6193C916A262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44360" y="1353960"/>
          <a:ext cx="8855280" cy="2732400"/>
        </p:xfrm>
        <a:graphic>
          <a:graphicData uri="http://schemas.openxmlformats.org/drawingml/2006/table">
            <a:tbl>
              <a:tblPr/>
              <a:tblGrid>
                <a:gridCol w="2851200"/>
                <a:gridCol w="500040"/>
                <a:gridCol w="501840"/>
                <a:gridCol w="500040"/>
                <a:gridCol w="500040"/>
                <a:gridCol w="500040"/>
                <a:gridCol w="500040"/>
                <a:gridCol w="500040"/>
                <a:gridCol w="500040"/>
                <a:gridCol w="501840"/>
                <a:gridCol w="500040"/>
                <a:gridCol w="500040"/>
                <a:gridCol w="500040"/>
              </a:tblGrid>
              <a:tr h="2066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Delay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6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1359000"/>
            <a:ext cx="914400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Full results for Method 2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371600" y="42084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Yao-Jen Chang, Chun-Lung Lin, Ching-Chieh Lin and Jih-Sheng 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727000" y="5713560"/>
            <a:ext cx="346068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eneva,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Oct.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y, 444-Chroma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71" name="投影片編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1036-DE97-46E3-B23A-E8E0EE596E4C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39680" y="1012680"/>
          <a:ext cx="8864640" cy="2673360"/>
        </p:xfrm>
        <a:graphic>
          <a:graphicData uri="http://schemas.openxmlformats.org/drawingml/2006/table">
            <a:tbl>
              <a:tblPr/>
              <a:tblGrid>
                <a:gridCol w="3997440"/>
                <a:gridCol w="539640"/>
                <a:gridCol w="541440"/>
                <a:gridCol w="541080"/>
                <a:gridCol w="540000"/>
                <a:gridCol w="541080"/>
                <a:gridCol w="541440"/>
                <a:gridCol w="541440"/>
                <a:gridCol w="539640"/>
                <a:gridCol w="541440"/>
              </a:tblGrid>
              <a:tr h="2206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IBC se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139680" y="3840120"/>
          <a:ext cx="8864640" cy="2673360"/>
        </p:xfrm>
        <a:graphic>
          <a:graphicData uri="http://schemas.openxmlformats.org/drawingml/2006/table">
            <a:tbl>
              <a:tblPr/>
              <a:tblGrid>
                <a:gridCol w="3997440"/>
                <a:gridCol w="539640"/>
                <a:gridCol w="541440"/>
                <a:gridCol w="541080"/>
                <a:gridCol w="540000"/>
                <a:gridCol w="541080"/>
                <a:gridCol w="541440"/>
                <a:gridCol w="541440"/>
                <a:gridCol w="539640"/>
                <a:gridCol w="541440"/>
              </a:tblGrid>
              <a:tr h="2206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x4 CTU IBC se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200" y="205920"/>
            <a:ext cx="91184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54da9"/>
                </a:solidFill>
                <a:latin typeface="Arial"/>
                <a:ea typeface="新細明體"/>
              </a:rPr>
              <a:t>Parsing order of the first four flags in the current palette mode</a:t>
            </a:r>
            <a:endParaRPr b="0" lang="en-US" sz="36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3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D0F5-C815-491A-B5E8-255C2DC82BF5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12400" y="1254240"/>
            <a:ext cx="8931240" cy="8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 marL="51120" indent="-511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Flag A: Palette_Predictor_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39760" indent="-3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Num_Predicted_Pa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39760" indent="-3420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192 bits at most to signal this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39760" indent="-3420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The bit length is highly uncertain due to using run-length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If (Num_Predicted_Palette &lt; Palette_Max_Si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Flag B: Num_Signaled_Pal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39760" indent="-3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Palette_Size = Num_Signaled_Palette + Num_Predicted_Pa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39760" indent="-3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10 bits at most to signal this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If (Num_Signaled_Palet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Flag C: Palette_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39760" indent="-3420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18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bits at most to signal this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If (Palette_Size !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Flag D: Palette_Escape_Val_Present_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39760" indent="-3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Only 1 bit to signal this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420-Chroma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75" name="投影片編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E420-69DC-4E24-8F0D-99E693062072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19160" y="1359000"/>
          <a:ext cx="8864640" cy="1558800"/>
        </p:xfrm>
        <a:graphic>
          <a:graphicData uri="http://schemas.openxmlformats.org/drawingml/2006/table">
            <a:tbl>
              <a:tblPr/>
              <a:tblGrid>
                <a:gridCol w="3997080"/>
                <a:gridCol w="540000"/>
                <a:gridCol w="541080"/>
                <a:gridCol w="541440"/>
                <a:gridCol w="539640"/>
                <a:gridCol w="541440"/>
                <a:gridCol w="541440"/>
                <a:gridCol w="541440"/>
                <a:gridCol w="539640"/>
                <a:gridCol w="541440"/>
              </a:tblGrid>
              <a:tr h="2203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sy 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imation, 720p &amp; 768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136440" y="3868560"/>
          <a:ext cx="8855280" cy="1733760"/>
        </p:xfrm>
        <a:graphic>
          <a:graphicData uri="http://schemas.openxmlformats.org/drawingml/2006/table">
            <a:tbl>
              <a:tblPr/>
              <a:tblGrid>
                <a:gridCol w="2851200"/>
                <a:gridCol w="500040"/>
                <a:gridCol w="501840"/>
                <a:gridCol w="500040"/>
                <a:gridCol w="500040"/>
                <a:gridCol w="500040"/>
                <a:gridCol w="500040"/>
                <a:gridCol w="500040"/>
                <a:gridCol w="500040"/>
                <a:gridCol w="501480"/>
                <a:gridCol w="500400"/>
                <a:gridCol w="500040"/>
                <a:gridCol w="500040"/>
              </a:tblGrid>
              <a:tr h="2066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Delay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sless co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t &amp; graphics with motion, 1080p &amp;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xed content, 1440p &amp;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imation, 720p &amp; 768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2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less, 444-Chroma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79" name="投影片編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EEFD-A205-49D8-B435-97763D133C12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44360" y="1353960"/>
          <a:ext cx="8855280" cy="2732400"/>
        </p:xfrm>
        <a:graphic>
          <a:graphicData uri="http://schemas.openxmlformats.org/drawingml/2006/table">
            <a:tbl>
              <a:tblPr/>
              <a:tblGrid>
                <a:gridCol w="2851200"/>
                <a:gridCol w="500040"/>
                <a:gridCol w="501840"/>
                <a:gridCol w="500040"/>
                <a:gridCol w="500040"/>
                <a:gridCol w="500040"/>
                <a:gridCol w="500040"/>
                <a:gridCol w="500040"/>
                <a:gridCol w="500040"/>
                <a:gridCol w="501840"/>
                <a:gridCol w="500040"/>
                <a:gridCol w="500040"/>
                <a:gridCol w="500040"/>
              </a:tblGrid>
              <a:tr h="2066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Delay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6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-360" y="169560"/>
            <a:ext cx="911844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Issues of the current desig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7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A779-3157-4D69-8240-E35ECC8E0CAC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47840" y="1333080"/>
            <a:ext cx="803592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lvl="1" marL="178200" indent="-1782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Flag 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Flag 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 will take more processing time than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Flag B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Flag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ssue: impossible to pars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lag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lag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ncurrent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8200" indent="-1782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There are parsing dependency between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Flag 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Flag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200" y="20160"/>
            <a:ext cx="911844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54da9"/>
                </a:solidFill>
                <a:latin typeface="Arial"/>
                <a:ea typeface="新細明體"/>
              </a:rPr>
              <a:t>Proposed method 1</a:t>
            </a:r>
            <a:endParaRPr b="0" lang="en-US" sz="36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1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5223-AA79-4DB2-A28D-569D0F8AD386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12400" y="1139400"/>
            <a:ext cx="893124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0"/>
          </a:bodyPr>
          <a:p>
            <a:pPr marL="68400" indent="-68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Mov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lag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o the position behi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lag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320" indent="-5688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Flag B: Num_Signaled_Pal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320" indent="-5688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Flag C: Palette_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320" indent="-5688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Flag A: Palette_Predictor_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320" indent="-5688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Flag D: Palette_Escape_Val_Present_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Benef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320" indent="-5688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No parsing dependency due to no need to know the information from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Flag 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 while parsing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Flag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320" indent="-5688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Flag 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Flag C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can be parsed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320" indent="-5688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Increase the flexibility of th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200" y="205920"/>
            <a:ext cx="91184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54da9"/>
                </a:solidFill>
                <a:latin typeface="Arial"/>
                <a:ea typeface="新細明體"/>
              </a:rPr>
              <a:t>Proposed parsing order of the first four flags</a:t>
            </a:r>
            <a:endParaRPr b="0" lang="en-US" sz="36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5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231E-C0E8-40DF-93FE-0D48E5F4310B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2400" y="1254240"/>
            <a:ext cx="8931240" cy="8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 marL="51120" indent="-511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Flag B: Num_Signaled_Pal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39760" indent="-3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10 bits at most to signal this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If (Num_Signaled_Palet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Flag C: Palette_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39760" indent="-3420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18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bits at most to signal this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If (Num_Signaled_Palette &lt; Palette_Max_Si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Flag A: Palette_Predictor_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39760" indent="-3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Num_Predicted_Pa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39760" indent="-3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Palette_Size = Num_Signaled_Palette + Num_Predicted_Pa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39760" indent="-3420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192 bits at most to signal this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39760" indent="-3420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The bit length is highly uncertain due to using run-length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If (Palette_Size !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Flag D: Palette_Escape_Val_Present_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39760" indent="-3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Only 1 bit to signal this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字方塊 1"/>
          <p:cNvSpPr/>
          <p:nvPr/>
        </p:nvSpPr>
        <p:spPr>
          <a:xfrm>
            <a:off x="5425920" y="1846440"/>
            <a:ext cx="3718080" cy="916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They can be parsed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Increase the flexibility of th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直線單箭頭接點 6"/>
          <p:cNvCxnSpPr>
            <a:stCxn id="318" idx="1"/>
          </p:cNvCxnSpPr>
          <p:nvPr/>
        </p:nvCxnSpPr>
        <p:spPr>
          <a:xfrm flipH="1">
            <a:off x="3925080" y="2307960"/>
            <a:ext cx="1500840" cy="3862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0" name="直線單箭頭接點 7"/>
          <p:cNvCxnSpPr/>
          <p:nvPr/>
        </p:nvCxnSpPr>
        <p:spPr>
          <a:xfrm flipH="1">
            <a:off x="4987080" y="2768400"/>
            <a:ext cx="1861560" cy="99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124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y in CTC </a:t>
            </a:r>
            <a:br>
              <a:rPr sz="4400"/>
            </a:b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for Method 1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2" name="投影片編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FDF3-ECC9-4290-A5FD-C980DB358A73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39680" y="1843200"/>
          <a:ext cx="8864640" cy="2673360"/>
        </p:xfrm>
        <a:graphic>
          <a:graphicData uri="http://schemas.openxmlformats.org/drawingml/2006/table">
            <a:tbl>
              <a:tblPr/>
              <a:tblGrid>
                <a:gridCol w="3997440"/>
                <a:gridCol w="539640"/>
                <a:gridCol w="541440"/>
                <a:gridCol w="541080"/>
                <a:gridCol w="540000"/>
                <a:gridCol w="541080"/>
                <a:gridCol w="541440"/>
                <a:gridCol w="541440"/>
                <a:gridCol w="539640"/>
                <a:gridCol w="541440"/>
              </a:tblGrid>
              <a:tr h="2206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4" name="文字方塊 1"/>
          <p:cNvSpPr/>
          <p:nvPr/>
        </p:nvSpPr>
        <p:spPr>
          <a:xfrm>
            <a:off x="2228400" y="5253120"/>
            <a:ext cx="46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Thank MediaTek for cross-che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840" y="50400"/>
            <a:ext cx="9118800" cy="11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54da9"/>
                </a:solidFill>
                <a:latin typeface="Arial"/>
                <a:ea typeface="新細明體"/>
              </a:rPr>
              <a:t>Summary: Method 1</a:t>
            </a:r>
            <a:endParaRPr b="0" lang="en-US" sz="48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6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0652-3106-489B-A44A-11533AF6D8E9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32920" y="1246320"/>
            <a:ext cx="86835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-106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hod 1 proposes to mov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lag A “Palette_Predictor_Run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behi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lag C “Palette_Entry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lag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lag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are put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4240" indent="-705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wo flags with longest bit length among first four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no parsing dependency betwee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y can be parsed concur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885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crease the flexibility of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No change on coding perform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200" y="205920"/>
            <a:ext cx="91184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54da9"/>
                </a:solidFill>
                <a:latin typeface="Arial"/>
                <a:ea typeface="新細明體"/>
              </a:rPr>
              <a:t>Parsing order of the first four flags on top of JCTVC-V0046</a:t>
            </a:r>
            <a:endParaRPr b="0" lang="en-US" sz="36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9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914A-0B9B-4FB1-A94D-A97E9578CED5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12400" y="1254240"/>
            <a:ext cx="8931240" cy="8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 marL="51120" indent="-511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Flag A: Palette_Predictor_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39760" indent="-3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Num_Predicted_Pa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39760" indent="-3420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192 bits at most to signal this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39760" indent="-3420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The bit length is highly uncertain due to using run-length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If (Num_Predicted_Palette &lt; Palette_Max_Si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Flag B: Num_Signaled_Pal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39760" indent="-3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Palette_Size = Num_Signaled_Palette + Num_Predicted_Pa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39760" indent="-3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10 bits at most to signal this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If (Num_Signaled_Palet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Flag C: Palette_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39760" indent="-3420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18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bits at most to signal this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If (Palette_Size !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  <a:ea typeface="新細明體"/>
              </a:rPr>
              <a:t>Flag D: Palette_Escape_Val_Present_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39760" indent="-3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Only 1 bit to signal this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線接點 5"/>
          <p:cNvSpPr/>
          <p:nvPr/>
        </p:nvSpPr>
        <p:spPr>
          <a:xfrm flipV="1">
            <a:off x="555480" y="5668560"/>
            <a:ext cx="4175280" cy="11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字方塊 1"/>
          <p:cNvSpPr/>
          <p:nvPr/>
        </p:nvSpPr>
        <p:spPr>
          <a:xfrm>
            <a:off x="6124680" y="5008680"/>
            <a:ext cx="2931840" cy="642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One condition check is removed in JCTVC-V0046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直線單箭頭接點 3"/>
          <p:cNvCxnSpPr>
            <a:stCxn id="333" idx="1"/>
          </p:cNvCxnSpPr>
          <p:nvPr/>
        </p:nvCxnSpPr>
        <p:spPr>
          <a:xfrm flipH="1">
            <a:off x="4998240" y="5330880"/>
            <a:ext cx="1126440" cy="349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200" y="169560"/>
            <a:ext cx="911844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54da9"/>
                </a:solidFill>
                <a:latin typeface="Arial"/>
                <a:ea typeface="新細明體"/>
              </a:rPr>
              <a:t>Proposed method 2 on top of JCTVC-V0046</a:t>
            </a:r>
            <a:endParaRPr b="0" lang="en-US" sz="36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6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3AF8-1B50-4BE6-8536-C94E33E4F4F2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12400" y="1139400"/>
            <a:ext cx="893124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 marL="51120" indent="-51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Mov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lag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o the position behi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lag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Mov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lag 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o the first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Flag D: Palette_Escape_Val_Present_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Flag B: Num_Signaled_Pal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Flag C: Palette_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Flag A: Palette_Predictor_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Benef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No parsing dependency betwee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Flag 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Flag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1360" indent="-342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Flag C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Flag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can be parsed concur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No parsing dependency betwee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Flag 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Flag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1360" indent="-342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Flag D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Flag B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can be parsed concur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Increase the flexibility of th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3:22:15Z</dcterms:created>
  <dc:creator>john</dc:creator>
  <dc:description/>
  <dc:language>en-US</dc:language>
  <cp:lastModifiedBy>張耀仁</cp:lastModifiedBy>
  <cp:lastPrinted>2013-05-17T00:59:36Z</cp:lastPrinted>
  <dcterms:modified xsi:type="dcterms:W3CDTF">2015-10-15T10:05:57Z</dcterms:modified>
  <cp:revision>1503</cp:revision>
  <dc:subject/>
  <dc:title>3D-HEV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