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6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8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5B58289-CF01-4510-9599-CA7DC003266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 this case the decoder behaviour is undefined, and the decoder may cra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B9ABF89-077B-4FE6-A510-4E1A605E427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proposed change doesn’t affect the performance results. Therefore, it no needs to show the simulation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D3E0CDD-A3E8-4318-B94E-C911A1683C4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89ABDA0-A5C5-483F-B013-FC3AF37DD30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5A11-F4B7-4AC6-A0C9-C8AAA9728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8238-CAAC-4183-BCBF-9ED74A4BC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1E94-0C81-4679-8AB7-9DAC16CED3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C4D8-69D7-40C2-9C73-948E63974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788B-A67E-4986-8FED-7AAF1E0B09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0CA8-184F-4451-B2B1-8782DBCAC6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2686-467D-499A-AC12-1017593BF4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70E49-A824-40DD-9B25-6E9A32D30E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DF2B-E180-4282-8410-42BC349CC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41C8-2307-4FE6-9FED-FF3A0DDCA9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E449-6089-4DAE-B28F-38E1E7F1E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286C-D082-4430-A02B-559176FDB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1FE8-DA50-4748-9F22-F17AC7365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89C3-CED2-4C1D-9A06-79C25BA9EF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7E55-C38D-4F16-8749-A67979A63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124F-DB46-4151-AFCE-3B48D81BF6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C22E-B7F5-4A09-90A7-042A706726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43E-65E2-457F-AD77-D8CE3071E9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E92-54C6-458D-99AE-60597F9DA6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B91-DA97-496E-9928-24E0CF9852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26F-A036-4822-9E11-26ECF5850A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FD7-0122-4F73-B58A-18941AE2E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AF02-179F-408A-9450-7313B38FBC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0BBE-06D0-4BB0-A88C-90B554584C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B93-6D6F-4427-A321-D72E6D30FA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068-1180-4F41-873E-5554E0E20A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395-7BCB-4C74-8755-30303FBB35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B452-B1A9-4807-AAFA-847DA1DD7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D19-01C2-44C4-A402-59476822FB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6C0-92DF-46A7-A913-95D1E0A1B9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3A516-1193-484C-9644-3D282BF1DF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E5A84-FC3E-4876-A871-63C7113A07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93E46-DDDF-4825-B71E-F01AE2572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1907-80C9-48BA-A1A5-170BFDA781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58D1D-5729-4DA9-8554-D9D6334F47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E9447-8512-4F32-B215-B9FCFC42F8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BEB6A-8B28-4A62-917B-5F9CE856F4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822B5-7677-4188-BADB-206EEB01DA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A892E-C9BD-4404-AD56-C12169992E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61F07-E12E-4FB8-ADCD-E943AD6585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B4C43-2638-4D40-9B22-1053542435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2E07-DC41-40FE-AC2D-9E851CB6EF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683F-C886-47BF-91CD-07E1EE5CA3E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4C7D-638C-4475-93A3-9696B4CA85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CEA7-F5D2-490B-A111-F1E53F9004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9615-857B-42AC-B44B-34B5450E15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FBA3F-CDA8-4E27-A6C2-458D5234B6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15FAB-2BEB-4DA3-BB7F-94B20621319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C4665-A75D-4619-9617-A0AE470C7C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678F6-7FF9-488D-B5EC-1916E55190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4F480-A5D1-4599-BB49-AEF2D6DA7CB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493A-8B2F-4905-9C85-95370AF7BB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3746-7AC2-40E1-9874-430C719F9F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20C8-435A-4630-8E9F-06B8F2E4B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0275-FBDF-4595-8F9E-AB49132E536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BFD08-B02F-43DE-B754-00346D80B6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25CA9-C1D1-4F91-99CC-D3848C5A860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1D807-A765-4448-94E7-5285E1688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E6A0-4016-4291-8543-CDAE93C2A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0D89-43EB-4965-AA87-3B71DE372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A919-E4D9-4381-82FF-40286175A3B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341A-7E19-434B-8942-D0BC001B8A42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666-6755-4215-957A-64914546C1D3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74C1-554A-4662-99E5-122746E9106A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2A6-BB59-493C-A1A7-A6951806439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0398-B092-4F7F-A9C4-B4EB8E8B543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0D2F-6B9A-49A5-A09A-93174ABE767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2D1-18C8-4494-9AF6-5EDAD0A6A7C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B8D0-7810-4495-899B-9EBA6DF1BA5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V0046</a:t>
            </a:r>
            <a:br>
              <a:rPr sz="4400"/>
            </a:b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n the CU-level escape flag in the palette mo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4152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Jih-Sheng Tu, Chun-Lung Lin and</a:t>
            </a:r>
            <a:r>
              <a:rPr b="0" lang="zh-TW" sz="2800" spc="-1" strike="noStrike">
                <a:solidFill>
                  <a:srgbClr val="28aecf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Ching-Chieh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Oct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escape flag in palette mode(1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 current HEVC-SC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765000" y="2514600"/>
          <a:ext cx="6048720" cy="852480"/>
        </p:xfrm>
        <a:graphic>
          <a:graphicData uri="http://schemas.openxmlformats.org/drawingml/2006/table">
            <a:tbl>
              <a:tblPr/>
              <a:tblGrid>
                <a:gridCol w="6048720"/>
              </a:tblGrid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 CurrentPaletteSize  !=  0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escape_val_present_f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cxnSp>
        <p:nvCxnSpPr>
          <p:cNvPr id="264" name="直線單箭頭接點 7"/>
          <p:cNvCxnSpPr/>
          <p:nvPr/>
        </p:nvCxnSpPr>
        <p:spPr>
          <a:xfrm flipH="1" flipV="1">
            <a:off x="4606560" y="3103200"/>
            <a:ext cx="1944000" cy="388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65" name="文字方塊 8"/>
          <p:cNvSpPr/>
          <p:nvPr/>
        </p:nvSpPr>
        <p:spPr>
          <a:xfrm>
            <a:off x="6022440" y="34146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新細明體"/>
              </a:rPr>
              <a:t>escap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9"/>
          <p:cNvSpPr/>
          <p:nvPr/>
        </p:nvSpPr>
        <p:spPr>
          <a:xfrm>
            <a:off x="887400" y="4308480"/>
            <a:ext cx="7215120" cy="12841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肘形接點 11"/>
          <p:cNvCxnSpPr>
            <a:stCxn id="266" idx="1"/>
          </p:cNvCxnSpPr>
          <p:nvPr/>
        </p:nvCxnSpPr>
        <p:spPr>
          <a:xfrm rot="10800000">
            <a:off x="764280" y="2940840"/>
            <a:ext cx="123120" cy="2010600"/>
          </a:xfrm>
          <a:prstGeom prst="bentConnector3">
            <a:avLst>
              <a:gd name="adj1" fmla="val 286803"/>
            </a:avLst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268" name="文字方塊 14"/>
          <p:cNvSpPr/>
          <p:nvPr/>
        </p:nvSpPr>
        <p:spPr>
          <a:xfrm>
            <a:off x="1090800" y="4492800"/>
            <a:ext cx="69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ndition check was added in HEVC SCC Draft 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o prevent getting the invalid syntax value while palett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nd escape flag are equal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直線單箭頭接點 15"/>
          <p:cNvCxnSpPr/>
          <p:nvPr/>
        </p:nvCxnSpPr>
        <p:spPr>
          <a:xfrm flipH="1">
            <a:off x="3095280" y="2295000"/>
            <a:ext cx="2162880" cy="219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70" name="文字方塊 18"/>
          <p:cNvSpPr/>
          <p:nvPr/>
        </p:nvSpPr>
        <p:spPr>
          <a:xfrm>
            <a:off x="5225400" y="2124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rial"/>
                <a:ea typeface="新細明體"/>
              </a:rPr>
              <a:t>palett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escape flag in palette mode(2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However, in current design(HEVC SCC Draft Text 4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f the palette size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e mode flag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alette index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alette run  -&gt; NxN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no invalid syntax valu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parsing proces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condition check is redu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move the condition check while parsin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escap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表格 3" descr=""/>
          <p:cNvPicPr/>
          <p:nvPr/>
        </p:nvPicPr>
        <p:blipFill>
          <a:blip r:embed="rId1"/>
          <a:stretch/>
        </p:blipFill>
        <p:spPr>
          <a:xfrm>
            <a:off x="914400" y="4108320"/>
            <a:ext cx="61927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4280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proposed syntax modification can remove one redundant condi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ake the syntax simpler and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!</a:t>
            </a:r>
            <a:endParaRPr b="0" lang="en-US" sz="8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9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977D-6C94-4E58-BFAA-2FB792D4F90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10-15T07:56:40Z</dcterms:modified>
  <cp:revision>1157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