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9560" cy="3840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 type="sldNum" idx="9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3BCBE8D9-31A2-4E0F-B4BE-2A6DF0330BC4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620D1C07-7D2D-4CB0-82BA-D259531C6C7E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B1B671C3-8831-4297-8A81-ACB67EAD6F41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6C7D032F-5EAB-4856-B2FF-EEA607F6DF37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A867613A-4EAD-41FC-8D01-1668BAC43190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450BF7A1-5D62-420A-9A21-2558BB171C4F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455205A8-CA16-4942-A09E-E542725EDDF2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90B2B-75B7-47C5-8513-32A2F6DCBE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9D5D7-E862-47A4-9E30-907A11CC51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14F27-37C3-4DF7-B90B-656B2AA91D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E322E-BF01-4289-A077-03AD757713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C7D74-6768-4E2F-958D-4049451629E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1E042-DE25-4AD9-BDFF-BE11D901A10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0F5E7-B5CA-41CF-8E5F-4C68C2B72FB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C91DF-0CA5-4D34-B319-A5AA2D375F0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BAFB5-C9B3-482E-A47A-A584772573C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2260D-40A0-43F1-97A2-4C9595BDB38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512CD-221B-4D16-B143-5CF091F6EF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0F6EB-A071-46BD-BC93-D6A7504802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95192-F190-40EC-9C01-8DA66EF4EC3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DABE6-5118-4D3A-8D7C-87772A08873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79EE9-8853-4C65-A944-7CCDB26709F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227D6-E028-4D45-A573-C280E0F9987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9E0C1-BEDD-4B96-89AB-720390816AF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241E-B6DF-4338-BCBE-DFE1B5930FA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1183-BCD7-459B-96C8-20E4A12B35C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3938-B4C8-4CAB-9128-E40B005B87B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454F-5549-42CC-97AB-6BBAC9E5321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7DC3-0422-4582-A4E8-8B2A797A6C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00FC4-E700-4E2F-95B5-EB934D4F309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6983-51E7-4A23-A402-C3F43DFFD2A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9F4E-56E9-4C75-9B9F-691435F9697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08C2-D327-4F87-A306-9017AC54090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4BD9-3ABD-49C4-B592-72B8CC3B203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306B-2B69-468F-AB6A-3495472A96E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7804-995D-4431-964E-43F86C3679F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4A4D-FE10-401C-9136-4962C2CE6AB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E2AE48-89B7-488F-B30E-1C28DF0377E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DE28CF-5245-40B1-BB09-308A049172E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474C31-E877-4767-81A4-95B282C1D0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D1799-AB85-41EB-8640-BFB958C911E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4E2B84-F6DC-4089-A341-B6666886354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1FD462-ABAA-4271-B183-7D79DD3A976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67CF88-EAEA-402E-A5F6-DCA4FE13669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92CFCB-7573-4A5F-BFED-30A20EF5D2E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9E8F45-B61E-4734-BBAC-F50455F403D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9204A5-891D-468D-9572-7CA18742186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A250EC-1116-47DD-8DEA-E5ED2EEFD12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8FC7BD-43D0-491D-8289-3E9F61F8DE7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5665B6-316D-408F-A371-2E3DFD56696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0C2F9-D8C6-4E25-B5AB-18A73A3142F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B9223-244A-4B62-9046-8345AF9C80D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D68E92-4EB2-48F4-86F0-C899FDA3D7D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1D8618-CD84-46FD-91DD-F674B428B65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FC5004-B3F9-4AC6-8C01-4EFB3AB7AF6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F648ED-4EFC-4E95-BBED-24FAA166E42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F4E5C4-DF29-4B33-93FE-7D778FFBFBF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7CE580-B0C2-4917-86EC-A23F89078D4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2A3031-9C56-450F-B8FE-647DD640047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B9C5AF-BFAE-46F9-9B9E-ED597AF4266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5EC6A4-6FA5-4523-A19E-B2AD4BFB79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DF09E-D2C9-4748-982C-AC5D525E909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C67FFB-90F3-47A0-97EB-4C117148455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73B56B-9CBD-4D8B-9307-9FFD30DAF7B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BE9598-1624-4F9B-9B4B-CB712D12D07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23E60-78B2-45CA-98A0-86142E4BAC5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A049D-CA09-4D58-8CDF-6CE8256835C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36C65-89A7-489F-BBD9-068134A3CE0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31C45-B63E-4416-B3F4-C4D56620004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7B371-160B-4D50-A3E3-FD9F025230F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C925E-C4E2-4850-8C01-71A851F801C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6893F-5D7E-48B8-B59A-FD6759C7DC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80F1A-2880-467B-899A-F48C0DAA930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4803B-A007-44A8-A237-163656082F6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0BC28-74D7-49CF-BB95-2B9F8DA1CED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F1385-E130-4827-8033-76FE12DFC71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664D3-5CED-4FA2-B828-196934D95BB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9A050-28E8-4947-8E0B-3426DEA685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1FDAD-FA05-490B-94AB-6F6E4649AF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6ECFA-A512-4287-8921-8BA312773846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4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"/>
          <p:cNvPicPr/>
          <p:nvPr/>
        </p:nvPicPr>
        <p:blipFill>
          <a:blip r:embed="rId3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lide Number Placeholder 5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5D7D5-3AA4-47DE-AB16-4FC7560FF89D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95BFB-05FF-4298-8409-31587E05A18A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5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E4805-1979-449F-A99F-E1C3750368E6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3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78C99-8139-487B-A690-7856E300EF43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24F1D-3422-46A9-B892-BDBC3F230163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4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F9DDF-BF3B-479F-A2CF-545DFD7E174E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5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BDAFE-B081-4D06-9E99-E4A8180E6387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5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F52A7-00E1-4B08-94EE-45D039196993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Num" idx="6"/>
          </p:nvPr>
        </p:nvSpPr>
        <p:spPr>
          <a:xfrm>
            <a:off x="8615520" y="6492960"/>
            <a:ext cx="528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12F5F-3D30-4C77-AC69-AE81DE8E1B63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1154160"/>
            <a:ext cx="9144000" cy="22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JCTVC-V0040</a:t>
            </a:r>
            <a:br>
              <a:rPr sz="4400"/>
            </a:br>
            <a:r>
              <a:rPr b="0" lang="en-CA" sz="4400" spc="-1" strike="noStrike">
                <a:solidFill>
                  <a:srgbClr val="154da9"/>
                </a:solidFill>
                <a:latin typeface="Arial"/>
                <a:ea typeface="新細明體"/>
              </a:rPr>
              <a:t>Performance of the SCM with the macro “SCM_U0095_FAST_INTRA_ACT” enabled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371600" y="42084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aecf"/>
                </a:solidFill>
                <a:latin typeface="Arial"/>
                <a:ea typeface="新細明體"/>
              </a:rPr>
              <a:t>Yao-Jen Chang, Chun-Lung Lin, Jih-Sheng Tu and Ching-Chieh 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2727000" y="5713560"/>
            <a:ext cx="3460680" cy="55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Geneva, 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Oct.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5200" y="20160"/>
            <a:ext cx="9118440" cy="11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Status of JCTVC-U0095 in SCM 5.2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03" name="投影片編號版面配置區 3"/>
          <p:cNvSpPr/>
          <p:nvPr/>
        </p:nvSpPr>
        <p:spPr>
          <a:xfrm>
            <a:off x="2643120" y="6597720"/>
            <a:ext cx="2133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360D9-3A28-4121-9045-866134EB3D24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85560" y="1279080"/>
            <a:ext cx="8072280" cy="89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JCTVC-U0095: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isallow the TU splitting for the ACT-enabled intra prediction when the CU sizes are 64x64 and 32x32 in the en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59920" indent="-9972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t was reported that this method improves 4% saving of encoding time in AI-lossy condition on top of SCM 4.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59920" indent="-9972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t was also commented that it is desirable to test this method on top of adoption of JCTVC-U0106 (TU-based AC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59920" indent="-99720" algn="just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0000"/>
                </a:solidFill>
                <a:latin typeface="Arial"/>
              </a:rPr>
              <a:t>The final decision: Adopt the method of JCTVC-U0095 into the next version of SCM and set the macro of this method as OFF in default for C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9880" indent="-119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9880" indent="-119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9880" indent="-119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9880" indent="-119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59920" indent="-99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5200" y="20160"/>
            <a:ext cx="9118440" cy="11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This contribution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07" name="投影片編號版面配置區 3"/>
          <p:cNvSpPr/>
          <p:nvPr/>
        </p:nvSpPr>
        <p:spPr>
          <a:xfrm>
            <a:off x="2643120" y="6597720"/>
            <a:ext cx="2133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46A53-D3EE-403E-B294-D409FD496204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85560" y="1279080"/>
            <a:ext cx="8072280" cy="89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4000"/>
          </a:bodyPr>
          <a:p>
            <a:pPr marL="150840" indent="-1508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Understand the performance of the method of JCTVC-U0095 on top of JCTVC-U0106 (TU-based A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26880" indent="-1256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nable the macro of this method “SCM_U0095_FAST_INTRA_ACT” in SCM 5.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26880" indent="-1256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onfiguration parameter CUNoSplitIntraACT should be set as “true” accordingly to enable the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26880" indent="-1256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te that JCTVC-U0106 (TU-based ACT) is already integrated into SCM 5.2, and has been set as “ON” as default for C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0840" indent="-1508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0840" indent="-1508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0840" indent="-1508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26880" indent="-1256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5840" y="50400"/>
            <a:ext cx="9118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4da9"/>
                </a:solidFill>
                <a:latin typeface="Arial"/>
                <a:ea typeface="新細明體"/>
              </a:rPr>
              <a:t>Results of AI Lossy, 444, FF-IBC search</a:t>
            </a:r>
            <a:endParaRPr b="0" lang="en-US" sz="32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11" name="投影片編號版面配置區 3"/>
          <p:cNvSpPr/>
          <p:nvPr/>
        </p:nvSpPr>
        <p:spPr>
          <a:xfrm>
            <a:off x="2643120" y="6597720"/>
            <a:ext cx="2133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B532D-17C4-4AA2-A3A8-186C4DB77AEE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142560" y="1099800"/>
            <a:ext cx="8862840" cy="94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新細明體"/>
              </a:rPr>
              <a:t>The performance of the proposed method in JCTVC-U0095 is the same no matter whether the TU-based ACT is enabled or 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25560" y="1917720"/>
          <a:ext cx="9118440" cy="3603600"/>
        </p:xfrm>
        <a:graphic>
          <a:graphicData uri="http://schemas.openxmlformats.org/drawingml/2006/table">
            <a:tbl>
              <a:tblPr/>
              <a:tblGrid>
                <a:gridCol w="2809800"/>
                <a:gridCol w="739800"/>
                <a:gridCol w="739800"/>
                <a:gridCol w="739800"/>
                <a:gridCol w="1042920"/>
                <a:gridCol w="716040"/>
                <a:gridCol w="579240"/>
                <a:gridCol w="777960"/>
                <a:gridCol w="973080"/>
              </a:tblGrid>
              <a:tr h="7372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, Loss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M 4.0 anchor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Without</a:t>
                      </a:r>
                      <a:r>
                        <a:rPr b="0" lang="en-CA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-based ACT of </a:t>
                      </a: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CTVC-U01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oding time [%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M 5.2 anchor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With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U-based A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 </a:t>
                      </a: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CTVC-U01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oding time [%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939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30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TGM, 1080p &amp; 720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</a:tr>
              <a:tr h="2530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mixed, 1440p &amp; 1080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</a:tr>
              <a:tr h="2530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Animation, 720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</a:tr>
              <a:tr h="2530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camera captured, 1080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</a:tr>
              <a:tr h="2530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TGM, 1080p &amp; 720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</a:tr>
              <a:tr h="2530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mixed, 1440p &amp; 1080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</a:tr>
              <a:tr h="2530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Animation, 720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</a:tr>
              <a:tr h="2530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camera captured, 1080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530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30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14" name="文字方塊 1"/>
          <p:cNvSpPr/>
          <p:nvPr/>
        </p:nvSpPr>
        <p:spPr>
          <a:xfrm>
            <a:off x="2433240" y="6119640"/>
            <a:ext cx="42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新細明體"/>
              </a:rPr>
              <a:t>Thank Microsoft (MSRA) for crosschec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5840" y="50400"/>
            <a:ext cx="9118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4da9"/>
                </a:solidFill>
                <a:latin typeface="Arial"/>
                <a:ea typeface="新細明體"/>
              </a:rPr>
              <a:t>Results of AI Lossy, 444, 1x4 CTU IBC search</a:t>
            </a:r>
            <a:endParaRPr b="0" lang="en-US" sz="32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16" name="投影片編號版面配置區 3"/>
          <p:cNvSpPr/>
          <p:nvPr/>
        </p:nvSpPr>
        <p:spPr>
          <a:xfrm>
            <a:off x="2643120" y="6597720"/>
            <a:ext cx="2133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D2B11-1E73-4A92-B712-28662A20D5AB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142560" y="1099800"/>
            <a:ext cx="8862840" cy="94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新細明體"/>
              </a:rPr>
              <a:t>The performance of the proposed method in JCTVC-U0095 is the same no matter whether the TU-based ACT is enabled or 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25560" y="1952640"/>
          <a:ext cx="9118440" cy="3603600"/>
        </p:xfrm>
        <a:graphic>
          <a:graphicData uri="http://schemas.openxmlformats.org/drawingml/2006/table">
            <a:tbl>
              <a:tblPr/>
              <a:tblGrid>
                <a:gridCol w="2809800"/>
                <a:gridCol w="739800"/>
                <a:gridCol w="739800"/>
                <a:gridCol w="739800"/>
                <a:gridCol w="1042920"/>
                <a:gridCol w="716040"/>
                <a:gridCol w="579240"/>
                <a:gridCol w="777960"/>
                <a:gridCol w="973080"/>
              </a:tblGrid>
              <a:tr h="7372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, Loss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M 4.0 anchor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Without</a:t>
                      </a:r>
                      <a:r>
                        <a:rPr b="0" lang="en-CA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-based ACT of </a:t>
                      </a: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CTVC-U01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oding time [%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M 5.2 anchor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With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U-based A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 </a:t>
                      </a: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CTVC-U01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oding time [%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939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30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TGM, 1080p &amp; 720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</a:tr>
              <a:tr h="2530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mixed, 1440p &amp; 1080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</a:tr>
              <a:tr h="2530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Animation, 720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</a:tr>
              <a:tr h="2530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camera captured, 1080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</a:tr>
              <a:tr h="2530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TGM, 1080p &amp; 720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</a:tr>
              <a:tr h="2530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mixed, 1440p &amp; 1080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</a:tr>
              <a:tr h="2530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Animation, 720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</a:tr>
              <a:tr h="2530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camera captured, 1080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530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30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19" name="文字方塊 1"/>
          <p:cNvSpPr/>
          <p:nvPr/>
        </p:nvSpPr>
        <p:spPr>
          <a:xfrm>
            <a:off x="2433240" y="6119640"/>
            <a:ext cx="42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新細明體"/>
              </a:rPr>
              <a:t>Thank Microsoft (MSRA) for crosschec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840" y="50400"/>
            <a:ext cx="9118800" cy="119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54da9"/>
                </a:solidFill>
                <a:latin typeface="Arial"/>
                <a:ea typeface="新細明體"/>
              </a:rPr>
              <a:t>Summary</a:t>
            </a:r>
            <a:endParaRPr b="0" lang="en-US" sz="48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21" name="投影片編號版面配置區 3"/>
          <p:cNvSpPr/>
          <p:nvPr/>
        </p:nvSpPr>
        <p:spPr>
          <a:xfrm>
            <a:off x="2643120" y="6597720"/>
            <a:ext cx="2133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0FA0E-8087-49A6-B091-0943DC933F02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232920" y="1246320"/>
            <a:ext cx="868356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4000"/>
          </a:bodyPr>
          <a:p>
            <a:pPr marL="150840" indent="-1508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新細明體"/>
              </a:rPr>
              <a:t>This contribution enables the macro “SCM_U0095_FAST_INTRA_ACT” to test the adopted method of JCTVC-U0095 on top of the SCM 5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26880" indent="-1256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新細明體"/>
              </a:rPr>
              <a:t>SCM5.2 includes the TU-based ACT (JCTVC-U0106) adopted in the last meet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0840" indent="-1508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新細明體"/>
              </a:rPr>
              <a:t>It is reported 4% saving of encoding time in AI-lossy condi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26880" indent="-1256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he number of the saving on top of the SCM 5.2 is the same as that on top of the SCM 4.0, where the TU-based ACT is not included y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03:22:15Z</dcterms:created>
  <dc:creator>john</dc:creator>
  <dc:description/>
  <dc:language>en-US</dc:language>
  <cp:lastModifiedBy>張耀仁</cp:lastModifiedBy>
  <cp:lastPrinted>2013-05-17T00:59:36Z</cp:lastPrinted>
  <dcterms:modified xsi:type="dcterms:W3CDTF">2015-10-15T07:36:01Z</dcterms:modified>
  <cp:revision>1464</cp:revision>
  <dc:subject/>
  <dc:title>3D-HEVC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385</vt:lpwstr>
  </property>
</Properties>
</file>