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2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4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50F4-B5E0-463D-A8EF-26E44E412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D393-5CF3-4B60-87FB-96690BFCDF9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D1BC-329E-48CF-9447-90E54472CFC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2B90-EA02-4675-8405-17DD1412818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F5B0-F626-4205-94ED-2CA5945BEE1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4D48-E69F-4B36-B376-054721B86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DD2B-9C82-4582-88EE-BB1EB13A8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0CEE-8301-4266-B8A3-3530D6858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210D-0096-4B00-BBEC-3B4F78BEF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A031-0524-4080-8E88-CF432532F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5F87-F551-47E3-8D1E-D6B4D08B3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0585-7D62-4944-A57E-244246912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F1B8-9DC4-4E86-9B21-AE6A5F20F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37DB-0C89-42DC-B173-FF94FDA47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0E3D-B3A8-456F-8F4A-C59D68F5B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8B31-E336-48C8-9673-3875EC9BD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6DB4-5B42-4539-ABFC-DD6459E01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Line 27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" name="Rectangle 56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" name="Picture 57" descr="Tongji2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B9C6-B793-4EF7-A607-71757E243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61" descr="paint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5" descr="Tongji2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76" descr=""/>
          <p:cNvPicPr/>
          <p:nvPr/>
        </p:nvPicPr>
        <p:blipFill>
          <a:blip r:embed="rId3"/>
          <a:stretch/>
        </p:blipFill>
        <p:spPr>
          <a:xfrm>
            <a:off x="7759800" y="19080"/>
            <a:ext cx="12920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2"/>
          <p:cNvSpPr/>
          <p:nvPr/>
        </p:nvSpPr>
        <p:spPr>
          <a:xfrm>
            <a:off x="7093080" y="5514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4BB4-A452-45AE-ADF3-050C8F299BBC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1916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lexible coding tools to significantly improve SCC performance in cloud and mobile computing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11280" y="361476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U018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9 June – 26 June 20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Tongji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8F19-872E-4B80-9AC2-D5F9FCB7C23C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-144360" y="800280"/>
            <a:ext cx="9396360" cy="59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contents cover a very wide range of a variety of pictures with very different characteristic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ially, in cloud-computing and cloud-mobile comp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using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size block as basic copy unit are NOT flexible to code general screen cont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using variable length string as basic copy unit but only limited to the current CU are also NOT flexible to code general screen cont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using flexible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py unit are needed to provide up-to-date coding perform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posal provides a few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and typical screen snapshots in cloud computing and cloud-mobile comp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620640"/>
            <a:ext cx="9144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VC BD-rate excel sheet we use in our daily work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snapshot is shown bel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00360" y="1952640"/>
            <a:ext cx="6095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620640"/>
            <a:ext cx="9144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VC BD-rate excel sheet we use in our daily work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snapshot is shown bel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1952640"/>
            <a:ext cx="6096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620640"/>
            <a:ext cx="9144000" cy="29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C bit-stream analyzer GU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all coding modes (intra, inter, IBC, palette) using different col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 CU grids and MV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ucent image of the original pictu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snapshot is shown bel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6095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0" y="620640"/>
            <a:ext cx="9144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performance eval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M40 vs PPC (U011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6000" y="1700280"/>
          <a:ext cx="8928000" cy="2728800"/>
        </p:xfrm>
        <a:graphic>
          <a:graphicData uri="http://schemas.openxmlformats.org/drawingml/2006/table">
            <a:tbl>
              <a:tblPr/>
              <a:tblGrid>
                <a:gridCol w="1008000"/>
                <a:gridCol w="431640"/>
                <a:gridCol w="773280"/>
                <a:gridCol w="588960"/>
                <a:gridCol w="555480"/>
                <a:gridCol w="515880"/>
                <a:gridCol w="811440"/>
                <a:gridCol w="552240"/>
                <a:gridCol w="590760"/>
                <a:gridCol w="590400"/>
                <a:gridCol w="797040"/>
                <a:gridCol w="855720"/>
                <a:gridCol w="857160"/>
              </a:tblGrid>
              <a:tr h="307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_HEVC_BD-rate_excel_1st1920x1080.yu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F IB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515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882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7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7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6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7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521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943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CTU PP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5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124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33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406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CTU IB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978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709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7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0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0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9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444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793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CTU PP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731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927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898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849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0" y="549360"/>
            <a:ext cx="9144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performance eval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M40 vs PPC (U011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is Propos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376280"/>
          <a:ext cx="8856720" cy="5529240"/>
        </p:xfrm>
        <a:graphic>
          <a:graphicData uri="http://schemas.openxmlformats.org/drawingml/2006/table">
            <a:tbl>
              <a:tblPr/>
              <a:tblGrid>
                <a:gridCol w="1117440"/>
                <a:gridCol w="433440"/>
                <a:gridCol w="827280"/>
                <a:gridCol w="504720"/>
                <a:gridCol w="501840"/>
                <a:gridCol w="502920"/>
                <a:gridCol w="828720"/>
                <a:gridCol w="503280"/>
                <a:gridCol w="539640"/>
                <a:gridCol w="541440"/>
                <a:gridCol w="900360"/>
                <a:gridCol w="826920"/>
                <a:gridCol w="828720"/>
              </a:tblGrid>
              <a:tr h="307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_HEVC_BD-rate_excel_2nd1920x1080.yu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F IB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484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364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12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1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2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248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844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CTU IS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595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664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880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98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CTU IB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384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75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Arial"/>
                        </a:rPr>
                        <a:t>-37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Arial"/>
                        </a:rPr>
                        <a:t>-37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Arial"/>
                        </a:rPr>
                        <a:t>-37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132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194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CTU IS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831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890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353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330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_scc_analyzer1920x1080.yu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F IB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2477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904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7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15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5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15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791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734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CTU IS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098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0058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060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367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CTU IB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4786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1784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7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7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22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639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943.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CTU IS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8842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427.7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.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552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006.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A75-2A8F-40EA-A00C-A3886F2A3735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/Recommend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568440"/>
            <a:ext cx="9252000" cy="60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wrong with the snapshots and the result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wrong with PPC? Why it is not adopted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1: Needs 4CTU SR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M is a commodity in IC, like logic ga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modern chips have more than 50% area of SR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M is as cheap as logic gates, 4CTU=0.23% of a deco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 2: Schedule is tight, no confidence in PP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it now and if anything wrong is found between now and the next meeting, then remove 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worthwhile to take a small risk for a high performance tool (up to 38%) like PP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ADC3-DCE7-49B7-878B-32C58E20C45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/Recommend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568440"/>
            <a:ext cx="9144000" cy="60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C can significantly improve SCC performance by up to 3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PPC, HEVC SCC version has a extremely high risk to be NOT competitiv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pe everybody here to make a historically correct deci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se three snapshot pictures into SCC CTC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PPC (U0116) subject to the condition that if any serious problem is found between now and the next meeting, it is removed from the draf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CE to do further syntax harmonization of PPC with existing palette cod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5-06-25T06:45:52Z</dcterms:modified>
  <cp:revision>1677</cp:revision>
  <dc:subject/>
  <dc:title>Slide 1</dc:title>
</cp:coreProperties>
</file>