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2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4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7CDA-9BB1-4241-868A-7EBBABFD7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A1F5-4DAE-4EF9-828B-0E1285BD064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7271-CB23-48F6-846F-5469A5F0D9C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37DA-1021-4A22-B004-192B350E74B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35F6-8DAF-4553-B26A-68F2B779890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BBD0-12A3-47A7-AE57-05366F054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988E-684C-4AE8-B937-4ECF2CFC1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783A-33B9-4587-988C-25333B045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D577-B04B-4CA8-B9C6-F34AA0DA6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D5E0-74E6-4C74-87AA-0629C8816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EDA6-04C1-4E0A-8325-EA9FBBC2B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7390-67EC-444D-A637-4C58DDBD1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2170-9CCA-479E-872E-B770202F3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7D65-7899-47FE-9DC4-C1930E433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1B75-8B08-4A48-BA4C-B5CA7129A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6D60-B94B-4A34-8DAE-C188CC29B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1314-A17E-4CCB-8892-00A75A01D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Line 27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4" name="Rectangle 56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" name="Picture 57" descr="Tongji2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799E-CCBB-44C0-BF61-CF6C1D853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61" descr="paint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4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5" descr="Tongji2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76" descr=""/>
          <p:cNvPicPr/>
          <p:nvPr/>
        </p:nvPicPr>
        <p:blipFill>
          <a:blip r:embed="rId3"/>
          <a:stretch/>
        </p:blipFill>
        <p:spPr>
          <a:xfrm>
            <a:off x="7759800" y="19080"/>
            <a:ext cx="129204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2"/>
          <p:cNvSpPr/>
          <p:nvPr/>
        </p:nvSpPr>
        <p:spPr>
          <a:xfrm>
            <a:off x="7093080" y="5514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6150-9E1B-4868-867C-88C90E61492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191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66"/>
                </a:solidFill>
                <a:latin typeface="Times New Roman"/>
              </a:rPr>
              <a:t>Non-CE1: Enhancement to Palette Coding by Palette with Pixel Copy (PPC) Coding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11280" y="361476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U01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9 June – 26 June 201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Tongji Univers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108000" y="47628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le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PC syntax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42920" y="981000"/>
          <a:ext cx="8750160" cy="5791320"/>
        </p:xfrm>
        <a:graphic>
          <a:graphicData uri="http://schemas.openxmlformats.org/drawingml/2006/table">
            <a:tbl>
              <a:tblPr/>
              <a:tblGrid>
                <a:gridCol w="7308720"/>
                <a:gridCol w="1441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xPPCRun = nCbS * nCbS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ScanPos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7932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 maxPPCRun &gt; 0 ) {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2560"/>
                          <a:tab algn="l" pos="685800"/>
                          <a:tab algn="l" pos="822240"/>
                          <a:tab algn="l" pos="8352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alette_run_msb_id_plus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7932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 palette_run_msb_id_plus1 &gt; 1 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1612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alette_run_refinement_bit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73200"/>
                          <a:tab algn="l" pos="685800"/>
                          <a:tab algn="l" pos="822240"/>
                          <a:tab algn="l" pos="835200"/>
                          <a:tab algn="l" pos="94608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2560"/>
                          <a:tab algn="l" pos="685800"/>
                          <a:tab algn="l" pos="822240"/>
                          <a:tab algn="l" pos="8352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………………………………………………………………………………………………………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..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8352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ndexCopyPos = 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73200"/>
                          <a:tab algn="l" pos="685800"/>
                          <a:tab algn="l" pos="822240"/>
                          <a:tab algn="l" pos="835200"/>
                          <a:tab algn="l" pos="94608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while (indexCopyPos &lt;= paletteRun) {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xR = travScan[ppcScanPos][0]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yR = travScan[ppcScanPos][1]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ParaFlag [xR][yR] = 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for( cIdx = 0; cIdx &lt; numComps; cIdx++ 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ParaVal [cIdx] [xR][yR] = CurrentPaletteEntries[cIdx][ ppcIndex]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73200"/>
                          <a:tab algn="l" pos="685800"/>
                          <a:tab algn="l" pos="822240"/>
                          <a:tab algn="l" pos="8352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ndexCopyPos ++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73200"/>
                          <a:tab algn="l" pos="685800"/>
                          <a:tab algn="l" pos="822240"/>
                          <a:tab algn="l" pos="8352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ScanPos ++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73200"/>
                          <a:tab algn="l" pos="685800"/>
                          <a:tab algn="l" pos="822240"/>
                          <a:tab algn="l" pos="8352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IndexPrev = ppcIndex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pyTypePrev = COPY_LEF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2872-3A80-4663-9821-87A0295664E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Rectangle 659"/>
          <p:cNvSpPr/>
          <p:nvPr/>
        </p:nvSpPr>
        <p:spPr>
          <a:xfrm>
            <a:off x="142920" y="765000"/>
            <a:ext cx="90010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nchor: SCM40 CTC, 2 test conditions of reference ran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24000" y="1449360"/>
          <a:ext cx="6589800" cy="2827440"/>
        </p:xfrm>
        <a:graphic>
          <a:graphicData uri="http://schemas.openxmlformats.org/drawingml/2006/table">
            <a:tbl>
              <a:tblPr/>
              <a:tblGrid>
                <a:gridCol w="2232000"/>
                <a:gridCol w="2305080"/>
                <a:gridCol w="20527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b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I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b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PP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bebd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Test condition 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Full-fram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1x2-CTU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Test condition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1x4-CTU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1x4-CTU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B4FD-1590-4CA2-AE19-B346057A8C5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Rectangle 659"/>
          <p:cNvSpPr/>
          <p:nvPr/>
        </p:nvSpPr>
        <p:spPr>
          <a:xfrm>
            <a:off x="324000" y="765000"/>
            <a:ext cx="6949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C1: FF IBC vs 2CTU PPC, loss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2920" y="1305000"/>
          <a:ext cx="8750160" cy="4211640"/>
        </p:xfrm>
        <a:graphic>
          <a:graphicData uri="http://schemas.openxmlformats.org/drawingml/2006/table">
            <a:tbl>
              <a:tblPr/>
              <a:tblGrid>
                <a:gridCol w="2387520"/>
                <a:gridCol w="708120"/>
                <a:gridCol w="706320"/>
                <a:gridCol w="706320"/>
                <a:gridCol w="708120"/>
                <a:gridCol w="706680"/>
                <a:gridCol w="706320"/>
                <a:gridCol w="706320"/>
                <a:gridCol w="708120"/>
                <a:gridCol w="7063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chor_Tested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GB, TGM, 1080p &amp; 72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GB, MC, 1440p &amp; 108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GB, Ani, 72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GB, CC, 108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UV, TGM, 1080p &amp; 72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UV, MC, 1440p &amp; 108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UV, Ani, 72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UV, CC, 108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7" name="Rectangle 473"/>
          <p:cNvSpPr/>
          <p:nvPr/>
        </p:nvSpPr>
        <p:spPr>
          <a:xfrm>
            <a:off x="128520" y="5666400"/>
            <a:ext cx="83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ding time ratio is quite accurate and reliab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cross-checkers (Huawei and NCTU) report almost the same numb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B2E0-CB8F-43A3-B089-3BE304CF22E0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Rectangle 659"/>
          <p:cNvSpPr/>
          <p:nvPr/>
        </p:nvSpPr>
        <p:spPr>
          <a:xfrm>
            <a:off x="324000" y="765000"/>
            <a:ext cx="6949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C1: 4CTU IBC and 4CTU PPC, loss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42920" y="1449360"/>
          <a:ext cx="8858160" cy="4678560"/>
        </p:xfrm>
        <a:graphic>
          <a:graphicData uri="http://schemas.openxmlformats.org/drawingml/2006/table">
            <a:tbl>
              <a:tblPr/>
              <a:tblGrid>
                <a:gridCol w="2403360"/>
                <a:gridCol w="717480"/>
                <a:gridCol w="717840"/>
                <a:gridCol w="715680"/>
                <a:gridCol w="717840"/>
                <a:gridCol w="717480"/>
                <a:gridCol w="717480"/>
                <a:gridCol w="716040"/>
                <a:gridCol w="717480"/>
                <a:gridCol w="7174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chor_Tested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GB, TGM, 1080p &amp; 72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GB, MC, 1440p &amp; 108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GB, Ani, 72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GB, CC, 108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UV, TGM, 1080p &amp; 72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UV, MC, 1440p &amp; 108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UV, Ani, 72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UV, CC, 1080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2F1D-43D3-44A3-9E23-19065CAFC5CA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Rectangle 659"/>
          <p:cNvSpPr/>
          <p:nvPr/>
        </p:nvSpPr>
        <p:spPr>
          <a:xfrm>
            <a:off x="324000" y="765000"/>
            <a:ext cx="6949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C1: FF IBC and 2CTU PPC, lossle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2920" y="1413000"/>
          <a:ext cx="8785080" cy="4916520"/>
        </p:xfrm>
        <a:graphic>
          <a:graphicData uri="http://schemas.openxmlformats.org/drawingml/2006/table">
            <a:tbl>
              <a:tblPr/>
              <a:tblGrid>
                <a:gridCol w="1512720"/>
                <a:gridCol w="612720"/>
                <a:gridCol w="574920"/>
                <a:gridCol w="576360"/>
                <a:gridCol w="576000"/>
                <a:gridCol w="576360"/>
                <a:gridCol w="576360"/>
                <a:gridCol w="610920"/>
                <a:gridCol w="576360"/>
                <a:gridCol w="576360"/>
                <a:gridCol w="576360"/>
                <a:gridCol w="684000"/>
                <a:gridCol w="755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chors_Tested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　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 (Total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 (Avg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n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 (Max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 (Total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 (Avg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n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 (Max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 (Total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 (Avg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n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-rate change (Max)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　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, TGM, 1080p &amp; 720p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4.8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.6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4.9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.5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0.2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6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.6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, MC, 1440p &amp; 1080p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, A, 720p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B, CC, 1080p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V, TGM, 1080p &amp; 720p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5.2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6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5.4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.9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10.5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6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3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-7.5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V, MC, 1440p &amp; 1080p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V, A, 720p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V, CC, 1080p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CAF9-2748-4209-861E-743E01769DF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8000" y="1160640"/>
            <a:ext cx="9036000" cy="56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PPC decoder have memory bandwidth problem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t a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reference pixel range is in SR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st case SRAM BW and throughput is 1.25cycles/pix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cycles/pixel is way below any decoder does due to many other restrictions in a decoder, e.g. caba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 pred. mode seems have more than 7 bins per pixe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ly, the best a decoder can do is 3-4 bins per cyc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, Inv-trans/Dequan, etc. also need at least 1.5cycles/pix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171 provides a PPC HW decoder reference desig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lock is 330MHz for 4K decoding (249Mpixels/se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0" y="657360"/>
            <a:ext cx="925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few questions one may ask on PPC deco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DA29-CE75-4FA9-A85C-7F47C28EDB11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08000" y="944640"/>
            <a:ext cx="903600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PPC have extra SRAM cost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t a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C also needs the same reference pixel SRAM to reduce DDR bandwidth and power consump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 4CTU SRAM (4x64x64x24=384 kbits) has a silicon area of 0.08217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28nm high performance CMOS IC proce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$3000 per 12 inch wafer and 80% utilization, the cost of one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licon area is 0.05142 US$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CTU SRAM costs 0.004225 US$ = 0.4225 US penn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4K decoder has 2Million gates = 35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licon area and costs 1.8 US$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CTU is 0.23% of a decoder, and really neglig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4K FF is 2025CTU, FF SARM will cost 2.14 US$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584280"/>
            <a:ext cx="925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few questions one may ask on PPC deco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5D55-2D84-4DD7-8358-BC922513505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8000" y="1160640"/>
            <a:ext cx="9036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PC decoder complicated and hard to desig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t a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U0171 provides a PPC decoder reference desig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 module is Address Generator to copy pixels from one location of SRAM to another location of SR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PC decoder gate count is 6.2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0.31% of a 4K decod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han one thousand lines of verilog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one man-week to complete the desig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probably the simplest module in HEVC decod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0" y="657360"/>
            <a:ext cx="925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few questions one may ask on PPC deco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DEA3-9DB7-40AF-B075-D2EBA86AA0D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08000" y="1160640"/>
            <a:ext cx="9036000" cy="55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challenge to design a PPC enco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sign any high-performance and commercially competitive HEVC encoder is always extremely challeng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esigning a 4K high performance PPC encoder is feas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hallenging part is String Search Eng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ritical bottleneck is pixel read bandwidt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unately, these are all common design challeng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plenty of solutions to deal with th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ring Search Engine Architecture Ref. Design will be d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C encoder is estimated to be 2-3% of entire HEVC encod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fully we will be able to submit a document about it in the next few days if people are really interested in it and PP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0" y="657360"/>
            <a:ext cx="925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few questions one may ask on PPC enco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0587-5EF8-4E09-9937-8DF217CEAEFF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079640" y="11592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568440"/>
            <a:ext cx="9252000" cy="61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C is a natural extension of palette coding to bring back some of the big loss due to th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asibility of FF IBC real-time enco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-rate reduction is 4.2% in FF IBC vs 2CTU PPC c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-rate reduction is close to 8% in both 4CTU c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C decoder has no memory bandwidth iss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C decoder is simple and costs 0.31% of a 4K deco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C decoder design can be done with very little eff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C encoder is doable and costs 2-3% of a 4K enco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ly recommend to adopt U0116 and PPC. It is really a no-brai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-144360" y="800280"/>
            <a:ext cx="9396360" cy="59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frame search of either IBC or ISC is not feas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search, all reference pixels have to be in SR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ly, common maximum search range is 4C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4CTU case, half of IBC gain is lost (see JCTVC-U017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olution of good performance in 4CTU is desperately needed for broader acceptance of HEVC in real world SCC applic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ing palette coding to neighbor is a natural solu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ing pixel out of CU is necessa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y copying pixel in traditional palette mode may break effective “index redundancy removal” mechanis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nother palette mode, specially focusing on pixel cop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tte with Pixel Copy (PPC) is such a sol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DE42-9DE3-4230-AA57-7C4672AC363D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234936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NK  Huawei and NCTU for cross-checking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91FE-745B-4383-9E16-10DC5BEE8E6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-144360" y="800280"/>
            <a:ext cx="939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PC sub-mode is added under traditional palette mo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palette mode becomes a sub-mode in parallel with the added PPC sub-m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PC, a string is either a palette color string or a pixel string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palette color string, an  index and a run are co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pixel string, an offset and a length are co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lette color string is always a LEFT copy st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nmatched pixel is coded using max palette index+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range of pixel string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TU + a few left C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sidual is code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alette with Pixel Co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657360"/>
            <a:ext cx="939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AC throughp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1268280"/>
          <a:ext cx="8389800" cy="5451480"/>
        </p:xfrm>
        <a:graphic>
          <a:graphicData uri="http://schemas.openxmlformats.org/drawingml/2006/table">
            <a:tbl>
              <a:tblPr/>
              <a:tblGrid>
                <a:gridCol w="3889440"/>
                <a:gridCol w="2950920"/>
                <a:gridCol w="1549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rediction Mod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新細明體"/>
                        </a:rPr>
                        <a:t>PP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Note: CU Size = 8x8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yntax Element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ode 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u_transquant_bypass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u_skip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lette_mode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pc_submode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pc_scan_mode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pc_palette_color_present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pc_unmatched_pixel_present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rti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V or B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pc_pixel_string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pc_above_string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pc_offsetX_zero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pc_offsetY_zero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pc_length_minus1_prefix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esidual (4 4x4 TBs, 3 Color Components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/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2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umber of Context-coded Bin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ns per Pixe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.1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alette with Pixel Co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08000" y="58428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le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31640" y="1160640"/>
          <a:ext cx="8317080" cy="3352680"/>
        </p:xfrm>
        <a:graphic>
          <a:graphicData uri="http://schemas.openxmlformats.org/drawingml/2006/table">
            <a:tbl>
              <a:tblPr/>
              <a:tblGrid>
                <a:gridCol w="5029200"/>
                <a:gridCol w="3287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1112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sps_scc_extension( ) {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Descripto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0840"/>
                          <a:tab algn="l" pos="228600"/>
                          <a:tab algn="l" pos="301680"/>
                          <a:tab algn="l" pos="452520"/>
                          <a:tab algn="l" pos="457200"/>
                          <a:tab algn="l" pos="603360"/>
                          <a:tab algn="l" pos="685800"/>
                          <a:tab algn="l" pos="754200"/>
                          <a:tab algn="l" pos="905040"/>
                          <a:tab algn="l" pos="914400"/>
                          <a:tab algn="l" pos="1055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curr_pic_as_ref_enabled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8760"/>
                          <a:tab algn="l" pos="228600"/>
                          <a:tab algn="l" pos="45720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palette_mode_enabled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1112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if( palette_mode_enabled_flag ) {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1112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palette_max_siz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1112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delta_palette_max_predictor_siz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1112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ppc_reference_range_left_ctu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u(2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1112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1112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CA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motion_vector_resolution_control_id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u(2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1112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intra_boundary_filtering_disabled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1112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alette with Pixel Co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08000" y="58428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le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11280" y="1197000"/>
          <a:ext cx="7524720" cy="5364000"/>
        </p:xfrm>
        <a:graphic>
          <a:graphicData uri="http://schemas.openxmlformats.org/drawingml/2006/table">
            <a:tbl>
              <a:tblPr/>
              <a:tblGrid>
                <a:gridCol w="5868720"/>
                <a:gridCol w="165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alette_coding(x0, y0, nCbS) 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submode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ppc_submode_flag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palette_color_present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ppc_palette_color_present_flag | | ! ppc_submode_flag)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alettePredictionFinished = 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…………………………………………………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ette_entr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ppc_submode_flag)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coding(x0, y0, nCbS 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} else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1508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 CurrentPaletteSize  !=  0 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1508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ahoma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PC syntax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8000" y="58428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le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2920" y="1015920"/>
          <a:ext cx="8678880" cy="1676520"/>
        </p:xfrm>
        <a:graphic>
          <a:graphicData uri="http://schemas.openxmlformats.org/drawingml/2006/table">
            <a:tbl>
              <a:tblPr/>
              <a:tblGrid>
                <a:gridCol w="7153200"/>
                <a:gridCol w="1525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c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_coding (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x0,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y0,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CbS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1508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unmatched_pixel_present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1508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scan_mode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IndexMax = 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IndexPrev = 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42920" y="2838600"/>
          <a:ext cx="8677080" cy="4022640"/>
        </p:xfrm>
        <a:graphic>
          <a:graphicData uri="http://schemas.openxmlformats.org/drawingml/2006/table">
            <a:tbl>
              <a:tblPr/>
              <a:tblGrid>
                <a:gridCol w="7129440"/>
                <a:gridCol w="154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000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while(ppcScanPos &lt; nCbS * nCbS ) 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000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ppc_palette_color_present_flag | | ppc_unmatched_pixel_present_flag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pixel_string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ppc_pixel_string_flag)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length_minus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e(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above_string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!ppc_above_string_flag)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offsetY_zero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ppc_offsetY_zero_flag)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!ppc_scan_mode_flag &amp;&amp; 1 == (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vScan[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c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canPos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[1]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&amp; 0x1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 |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scan_mode_flag 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offsetX_sig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(1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08000" y="58428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le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160640"/>
          <a:ext cx="7993080" cy="4022640"/>
        </p:xfrm>
        <a:graphic>
          <a:graphicData uri="http://schemas.openxmlformats.org/drawingml/2006/table">
            <a:tbl>
              <a:tblPr/>
              <a:tblGrid>
                <a:gridCol w="684036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!ppc_palette_color_present_flag)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0644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xR = travScan[ppcScanPos][0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0644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yR = travScan[ppcScanPos][1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ParaFlag [xR][yR] = 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for( cIdx = 0; cIdx &lt; numComps; cIdx++ ){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unmatched_pixel_va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ParaVal [cIdx] [xR][yR] = ppc_unmatched_pixel_va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CopyTypePrev = COPY_NON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ScanPos++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IndexPrev = 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PC syntax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108000" y="47628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le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884160"/>
          <a:ext cx="8461440" cy="6004080"/>
        </p:xfrm>
        <a:graphic>
          <a:graphicData uri="http://schemas.openxmlformats.org/drawingml/2006/table">
            <a:tbl>
              <a:tblPr/>
              <a:tblGrid>
                <a:gridCol w="7729560"/>
                <a:gridCol w="731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else{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ppcScanPos &amp;&amp; ppcCopyTypePrev== COPY_LEFT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IndexMax--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ppcIndexMax &gt;1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index_adjuste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ppcScanPos &amp;&amp; ppcCopyTypePrev== COPY_LEFT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IndexMax++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f( ppc_unmatched_pixel_present_flag&amp;&amp; ((ppcIndexCurrMax &lt;CurrentPaletteSize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&amp;&amp; ppcIndex==(ppcIndexCurrMax+1)) | | (ppcIndex==CurrentPaletteSize)) ){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0644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xR = travScan[ppcScanPos][0]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0644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yR = travScan[ppcScanPos][1]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ParaFlag [xR][yR] = 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for( cIdx = 0; cIdx &lt; numComps; cIdx++ ){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_unmatched_pixel_va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ParaVal [cIdx] [xR][yR] = ppc_unmatched_pixel_va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711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CopyTypePrev = COPY_NON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ScanPos++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cIndexPrev = 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} else{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PC syntax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n</cp:lastModifiedBy>
  <dcterms:modified xsi:type="dcterms:W3CDTF">2015-06-20T06:28:51Z</dcterms:modified>
  <cp:revision>1657</cp:revision>
  <dc:subject/>
  <dc:title>Slide 1</dc:title>
</cp:coreProperties>
</file>