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ABFB3E3-0A5F-4BAE-AD85-5D2964E8AD1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A4A706E-A6BC-4C8D-B613-CF6D648CCE0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B975-63B3-43C4-8C1E-3C516F5CE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E1B4-A390-4513-BE7E-2C27E2F6A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C2C2-2D4E-4D10-AF30-A99B066D3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DE84-C374-40B2-AFF6-2A717E1DC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71EB-D148-4503-A2F5-4F737EA50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99E9-DECB-42ED-AB8C-6D86D3498D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2512-5C97-4ACE-AA2C-41D8220EA2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56C4-9743-4880-B0BE-D005B22567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7BA3-1C93-4D5F-BF7D-E8FD9A3960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4552-D6CF-426C-AF4A-63153D776D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E609-BAF0-40BA-A2D1-9F781E57A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5841-7964-4826-B8CC-DC93B2899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B1A2-1814-472F-BF6E-5C817AB72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4929-0577-4957-837E-2F5291EDF2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3EF1-829C-49B4-86B8-DB83856843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5308-DCE9-488B-884A-05C7658414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C5BD-24B0-461D-B8B4-C7E7400CD2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D66-E1CA-4255-BFA6-0FA1599C16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2FF-0AEF-4A84-80B0-A8D488DD31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2AE-19B4-4C5D-883E-79EE5B2755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1E5-4698-461F-9763-199A3A6F6C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C90-4290-495A-90E2-9C8DB8634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C3CD-D09B-4FED-BD2A-D2392B0BAA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968-FD13-4B3B-AC34-8B51B3D30D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AF2-A729-4DC3-8D64-B1E13BE5F5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225-2B6F-449C-8C91-585EB4BCB0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755-86B5-4F0E-8D1F-8744BC13B2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98C-F217-4686-AE4D-7D407DD1BD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135-9BAE-4F2F-9C6F-B706FD4827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759-D887-4D8B-BEF4-6A211F8314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3B1ED-31EE-45C6-A233-74E53BC250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F5D3D-26B8-4645-ABCC-CB0E8FD14FF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9495F-2639-42DB-8E33-3A8CBA8F8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7CB19-4489-477C-A426-225E10F021A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69468-226B-4F04-9CAF-F74BA95CF5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7868B-247E-4A08-A60C-4917004829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A307E-036E-41FF-BF50-C114CFCF94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0AF4C-3077-4CE7-906A-818509FB2B2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8E223-0DD8-4CD7-9317-CF483EFA5A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47222-E5C4-42FC-934E-60B4C1DD0A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CA0FC-C376-42C0-BBB6-4B3A8DAF68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9B0E0-0349-4464-9B7C-EB8646D9F6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E6F48-2CA9-48F4-80A5-678A73BAE6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3F88-820D-48DE-95E2-477C34CC3C5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0391-E027-49BA-B502-685336AA54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85C0B-9B35-4A68-8471-9A9EF11500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3E926-4F72-459F-9826-F37BDBC5C1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ADDB9-DD30-4A17-9D8D-39D8D4AD5EA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543DB-4BE0-419B-B883-6156A1B555F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F809F-FBC5-45AB-A162-AA0256069E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3702B-2149-4DAA-BC08-658B9C527F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FE06A-2F16-4881-9B86-B5CB28C30E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E6259-83A4-4D22-9BCB-CE76C9BB704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F6B76-8B43-4CF0-8BAF-B506E979A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A2F7-1FE8-4D92-8D4E-08F21C4B6A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88CB3-FBC3-477F-831C-EDA935C5EA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5323-A448-4416-80EB-E70763D877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2F30-2B20-4329-94B8-31FA22C0B8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3A94F-8D7B-4A17-A01A-A7D49A67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0F99-54A4-41D9-9212-54BBB55D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8767E-8DDC-404A-A617-838EDEA0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54995-AEC3-43C1-AC37-AA531E7F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5EF5F-0A19-4C9E-AE95-70103755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B0025-7854-4A21-A1BA-E9F74BE3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EF995-B780-432B-847D-2A99859C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0EEB-6232-464A-A650-F722A176B3C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F969E-CCBF-4F27-AA67-DEB7CDDF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6BE37-6D82-4639-834E-82B00CF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EA19E-7C95-4D0B-BB26-275E5608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32E7F-1BB9-477B-861B-3859C36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0CDE8-F2BE-4405-9A7B-67003B5D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F40CB-64B2-44E1-8E12-D8BE22E2F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0CEE-90DA-4F90-98E1-E65B3D93FE9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8C33-5C08-4BA6-AE33-5B1A28D1E9A1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3D7B-630F-48AF-8FA3-2AA3CA264C6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8A46-4F8E-4B18-82D2-7FF17C188BC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F3C6-FA39-4C26-8B82-10679B576C99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14D4-EE02-4B88-B83E-B9AFBC9FC32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B543-83CD-4A99-98B7-3298F8A1B7F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D50B-BEC9-4E13-9445-D1FA03E4061B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64A5-CD83-46DA-B363-B3E2231089DB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8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4E3A-DC48-4505-ABA6-BD0D54F370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139400"/>
            <a:ext cx="914400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U0109</a:t>
            </a:r>
            <a:br>
              <a:rPr sz="4400"/>
            </a:br>
            <a:r>
              <a:rPr b="1" lang="en-CA" sz="4400" spc="-1" strike="noStrike">
                <a:solidFill>
                  <a:srgbClr val="154da9"/>
                </a:solidFill>
                <a:latin typeface="Arial"/>
                <a:ea typeface="新細明體"/>
              </a:rPr>
              <a:t>Non-CE1: Simplification for parsing the index of the most significant bit in the paletteRun binariz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152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 , Chun-Lung Lin, Ching-Chieh Lin, Jih-Sheng Tu and William Digon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133800" y="5896080"/>
            <a:ext cx="2867040" cy="4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Warsaw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字方塊 1"/>
          <p:cNvSpPr/>
          <p:nvPr/>
        </p:nvSpPr>
        <p:spPr>
          <a:xfrm>
            <a:off x="3880800" y="631656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June, 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</a:t>
            </a:r>
            <a:endParaRPr b="0" lang="en-US" sz="8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6DB8-8EFB-43FD-A603-CCC373CB775B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ppendi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2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674F-9491-4216-B3FD-C03683642344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imulation results for lossy codin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TC with constrained IBC sear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投影片編號版面配置區 1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B912-8A88-41E1-9787-A54564F279E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圖片 2" descr=""/>
          <p:cNvPicPr/>
          <p:nvPr/>
        </p:nvPicPr>
        <p:blipFill>
          <a:blip r:embed="rId1"/>
          <a:stretch/>
        </p:blipFill>
        <p:spPr>
          <a:xfrm>
            <a:off x="0" y="2876400"/>
            <a:ext cx="918216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bability of the binary representation for the 4</a:t>
            </a:r>
            <a:r>
              <a:rPr b="0" lang="en-US" sz="4400" spc="-1" strike="noStrike" baseline="30000">
                <a:solidFill>
                  <a:srgbClr val="154da9"/>
                </a:solidFill>
                <a:latin typeface="Arial"/>
                <a:ea typeface="新細明體"/>
              </a:rPr>
              <a:t>th</a:t>
            </a: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 &amp; 5</a:t>
            </a:r>
            <a:r>
              <a:rPr b="0" lang="en-US" sz="4400" spc="-1" strike="noStrike" baseline="30000">
                <a:solidFill>
                  <a:srgbClr val="154da9"/>
                </a:solidFill>
                <a:latin typeface="Arial"/>
                <a:ea typeface="新細明體"/>
              </a:rPr>
              <a:t>th</a:t>
            </a: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 bin of palette MSB index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805-E9E5-45BC-B151-625FDED9908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圖片 4" descr=""/>
          <p:cNvPicPr/>
          <p:nvPr/>
        </p:nvPicPr>
        <p:blipFill>
          <a:blip r:embed="rId1"/>
          <a:stretch/>
        </p:blipFill>
        <p:spPr>
          <a:xfrm>
            <a:off x="866880" y="1701720"/>
            <a:ext cx="7408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154da9"/>
              </a:solidFill>
              <a:latin typeface="Arial"/>
              <a:ea typeface="新細明體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103F-5A16-4536-AF0B-C5A01870CC2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圖片 5" descr=""/>
          <p:cNvPicPr/>
          <p:nvPr/>
        </p:nvPicPr>
        <p:blipFill>
          <a:blip r:embed="rId1"/>
          <a:stretch/>
        </p:blipFill>
        <p:spPr>
          <a:xfrm>
            <a:off x="95400" y="100080"/>
            <a:ext cx="6591240" cy="6657840"/>
          </a:xfrm>
          <a:prstGeom prst="rect">
            <a:avLst/>
          </a:prstGeom>
          <a:ln w="0">
            <a:noFill/>
          </a:ln>
        </p:spPr>
      </p:pic>
      <p:sp>
        <p:nvSpPr>
          <p:cNvPr id="345" name="文字方塊 6"/>
          <p:cNvSpPr/>
          <p:nvPr/>
        </p:nvSpPr>
        <p:spPr>
          <a:xfrm>
            <a:off x="7058160" y="10008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32x32 CU, QP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ndex map coding in palette mo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 run type flag and palette run value are signalled for index map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 run value is derived by the most significant bit(MSB) index and the  refinement b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run_msb_id_plu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run_refinement_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s on coding the palette run value(1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five bins of MSB index are context co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ince larger CU will have more palette runs, the number of context coded bins will influence the CABAC through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63520" y="3222720"/>
          <a:ext cx="8796240" cy="731880"/>
        </p:xfrm>
        <a:graphic>
          <a:graphicData uri="http://schemas.openxmlformats.org/drawingml/2006/table">
            <a:tbl>
              <a:tblPr/>
              <a:tblGrid>
                <a:gridCol w="4795920"/>
                <a:gridCol w="706320"/>
                <a:gridCol w="601560"/>
                <a:gridCol w="601920"/>
                <a:gridCol w="603000"/>
                <a:gridCol w="628920"/>
                <a:gridCol w="85860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run_type_flag = COPY_ABOVE_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run_type_flag = COPY_INDEX_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文字方塊 10"/>
          <p:cNvSpPr/>
          <p:nvPr/>
        </p:nvSpPr>
        <p:spPr>
          <a:xfrm>
            <a:off x="3936960" y="2852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s on coding the palette run value(2/2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27440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fourth and the fifth bin has approximately equal occurring probability on binary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圖片 2" descr=""/>
          <p:cNvPicPr/>
          <p:nvPr/>
        </p:nvPicPr>
        <p:blipFill>
          <a:blip r:embed="rId1"/>
          <a:stretch/>
        </p:blipFill>
        <p:spPr>
          <a:xfrm>
            <a:off x="1708200" y="2840040"/>
            <a:ext cx="573084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Proposed simplifica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three bins of MSB index are context co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fourth and the fifth bins of MSB index is coded by bypass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mprove the CABAC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roposed WD ch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3527-94BE-4FF9-8C50-29D2CD3C00B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792000" y="5452920"/>
          <a:ext cx="7562880" cy="731880"/>
        </p:xfrm>
        <a:graphic>
          <a:graphicData uri="http://schemas.openxmlformats.org/drawingml/2006/table">
            <a:tbl>
              <a:tblPr/>
              <a:tblGrid>
                <a:gridCol w="4794480"/>
                <a:gridCol w="708120"/>
                <a:gridCol w="601560"/>
                <a:gridCol w="601560"/>
                <a:gridCol w="857160"/>
              </a:tblGrid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run_type_flag = COPY_ABOVE_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ette_run_type_flag = COPY_INDEX_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文字方塊 7"/>
          <p:cNvSpPr/>
          <p:nvPr/>
        </p:nvSpPr>
        <p:spPr>
          <a:xfrm>
            <a:off x="3936960" y="50817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able 9-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Simulation results for lossy codin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0136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TC with full frame IBC searc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InterDigital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投影片編號版面配置區 1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932-357C-48C6-B778-990D4B7A3A2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682720"/>
          <a:ext cx="9144000" cy="3073680"/>
        </p:xfrm>
        <a:graphic>
          <a:graphicData uri="http://schemas.openxmlformats.org/drawingml/2006/table">
            <a:tbl>
              <a:tblPr/>
              <a:tblGrid>
                <a:gridCol w="3670200"/>
                <a:gridCol w="608040"/>
                <a:gridCol w="608040"/>
                <a:gridCol w="608040"/>
                <a:gridCol w="608040"/>
                <a:gridCol w="608040"/>
                <a:gridCol w="609480"/>
                <a:gridCol w="608040"/>
                <a:gridCol w="608040"/>
                <a:gridCol w="608040"/>
              </a:tblGrid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34280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implification for coding the MSB id of the palate run value is pro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mprove CABAC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void the bins with approximately equal probability on binary representation are coded by context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D-rate changes are negligible for AI lossy test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nditions with full frame IBC search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adopting this proposal for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InterDigital for cross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6-20T13:14:21Z</dcterms:modified>
  <cp:revision>1173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