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BBD2246-65FC-48F0-AF37-8D2F6578756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F767C2F-FAF1-42B2-A8AE-BDB20DA26AD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E5B951-C94F-4B88-8659-E63FC83397C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3F6F-E5EC-4B64-B8A2-7AFE5F913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2137-CDDF-4FDF-A202-E719A6E1B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5FE7-39A6-4518-825A-3C78DD805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EC69-6935-4BC8-BD46-71D3C43BA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4555-CF53-4E13-B9F9-BCD9F65C16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4790-D79E-44B4-9514-EED9ED0C8C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A6C2-5089-4E93-9F56-9A8B32823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B743-2952-49D8-8458-9FEEF662F1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547C-FB7D-458E-869D-74880FEE4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0A4F-B9D8-4AC0-BD09-6537D06D7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2B74-EA34-41F9-AD68-94826F520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A96A-F618-4B70-8888-573699025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7C07-C04B-4321-8ED0-47A321EED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E486-F4C5-4D7D-BF59-B56AF7B1E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C783-F32E-420A-825F-79D7ECB73B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30B5-7981-4767-8B84-1D9085BA80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B61D-F6C3-4AA4-8E13-333305CD6F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BB2-7F9C-4463-AFBA-072C33C936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ABC-365E-428E-A951-18FCBAC6AD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9CF-B16E-4163-9137-EDAEAA7F78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3B3-B6E8-4723-A7CE-D2D43E8928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953-769E-4817-A879-ED5903DA4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5412-7D32-42D4-9B2B-542A583676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9B8-C8C1-4823-9AC5-91320A4733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466-706A-4209-9C18-EA485FD70B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039-3F42-49FA-94B7-31C98D8F94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18A-99F7-47A4-BEA5-D48E345F4B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3CF-2306-4877-8FB5-8297697943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308-C38D-4186-A625-79EB476084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410-7661-44C1-A3D4-A56CBC96A7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43CFB-6AF3-4B9F-9393-9E1F62CF7F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3BA4-95D6-4281-A1AC-C8394ADA55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69D46-C06D-4D19-BFFD-E8244BAD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D8E4-62EF-4688-B760-00B0EB0406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D53A3-0E36-411F-A986-3AA6BFD7FD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AE45D-A7EA-49B1-925B-BF3704C0D3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E683-9F20-42F7-AFCC-6C993390A2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1C438-6EFD-4DA5-BE41-3D09E14D6D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B8FEA-01E6-40CC-94F6-C78C954846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65D52-7C58-4B8D-9885-C9E797CBD7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69C6E-AD1E-4A4B-B762-30CF4ED9A6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2445E-C37B-4F22-8D8F-D594070BF7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349A7-714A-47DB-8D62-B056E22DA46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BDCA-68C4-4BE4-898C-B3B22AB12C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24E4-18E3-4640-932E-354571E05B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34C07-FCF1-486A-A21B-071F13BF71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3AB2F-5502-4A5F-AABD-F853A3D084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C935-9057-4B41-9F50-7BA4D0AF1A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2FA13-7091-44EC-A2FC-B5B0F6915C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32B8C-6B08-487E-9383-0459C16C9D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FFB67-D750-4B68-B845-AB155BF9812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5917D-53B2-486B-881E-D8C4EB52E1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23D46-E51F-4A68-AF2C-17EB2108DB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18FF6-6F35-4B89-95C7-AE9C4E723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C4C7-8633-4C85-A0B5-58A59AE42D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CFE21-183A-4C5E-BCD8-39EF159F262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45D2E-1A74-4BE2-9770-4F48A65B62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3AE96-FC5F-44AE-9522-EE93C5B4D7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70C5-9976-43AF-B394-58C1D4B5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FC0EB-2B50-4BD8-B8E4-5A5ADD0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E36A1-C8A8-4F6A-8176-EA18090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266F1-0840-4DAE-B375-F8C0BF2F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2D73C-4BFA-4B99-984A-3462ED4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42708-23C3-4268-80A7-4F875FAA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9A208-C045-4412-91F9-E135F58C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A218-33BB-4BCB-B8B8-51A0CDDDC1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ED8B8-4F8E-4FBC-BDAD-8E65F27B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6EC43-6AE4-4D6C-8990-F193337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1361C-2ACA-475C-BAD1-F4171139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095F4-E72B-470F-A8E3-0F8692E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A6E61-EB1C-45A1-B8B7-7EDBB24B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959F-B4FA-4853-B84A-D4FC8BB3D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19CB-C657-493B-9F8C-9B92F7E55DC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3C6-4ABE-4D73-8A63-2DC7B99EB21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10C-BB9A-41E7-B359-2EA592769D6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F665-0D6F-41A9-B610-62132D820DFD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314-8C3F-42B6-9642-3BAB0E72139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D51-89D7-4D07-873A-9093836C336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3CE7-FE32-4380-8BD0-97FB182B6D8C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B1DF-5F85-4894-9BE0-75E40933621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E04C-5716-415F-AFF8-7CEB3ABDD05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9DB9-F6FA-4C55-B4B7-4A1EC5D4D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U0097</a:t>
            </a:r>
            <a:br>
              <a:rPr sz="4400"/>
            </a:br>
            <a:r>
              <a:rPr b="1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CE1: On maximum palette predictor siz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52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ing-Chieh Lin, Chun-Lung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133800" y="5895720"/>
            <a:ext cx="28670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字方塊 1"/>
          <p:cNvSpPr/>
          <p:nvPr/>
        </p:nvSpPr>
        <p:spPr>
          <a:xfrm>
            <a:off x="3817800" y="63342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June, 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ulation results for max. palette predictor size of 80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TC with full frame IBC 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ossy coding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投影片編號版面配置區 1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A41-C79A-4907-A142-FCA41BE41E2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08000" y="3195720"/>
          <a:ext cx="8894880" cy="2595600"/>
        </p:xfrm>
        <a:graphic>
          <a:graphicData uri="http://schemas.openxmlformats.org/drawingml/2006/table">
            <a:tbl>
              <a:tblPr/>
              <a:tblGrid>
                <a:gridCol w="3483000"/>
                <a:gridCol w="601560"/>
                <a:gridCol w="601560"/>
                <a:gridCol w="600120"/>
                <a:gridCol w="601920"/>
                <a:gridCol w="601560"/>
                <a:gridCol w="601560"/>
                <a:gridCol w="600120"/>
                <a:gridCol w="601560"/>
                <a:gridCol w="601920"/>
              </a:tblGrid>
              <a:tr h="215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 (1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ur constraints on maximum palette predictor size are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cleanup fo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redictorPaletteSize i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performance impact for the three different max. palette predictor size wer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(2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max. palette predictor size is 9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egligible BD-rate change for AI Lossy tes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ditions with full frame IBC search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25% on-chip memory chip reduction for palette predictors compared with SCM4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新細明體"/>
              </a:rPr>
              <a:t>1% coding time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adopting constraint 1.2 and cleanup in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Sharp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BB50-F084-4B1E-A307-F5AE86F25B1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4E9A-652C-40CE-88B3-4D2AC7053B50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 on PaletteMaxPredictorSiz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aximum palette predictor size is deriv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No upper limitation of palette predictor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Huge value may be signalled by en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equire large buffer for the palette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crease the number of the matching process for updating the palette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6"/>
          <p:cNvSpPr/>
          <p:nvPr/>
        </p:nvSpPr>
        <p:spPr>
          <a:xfrm>
            <a:off x="817560" y="2924280"/>
            <a:ext cx="750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新細明體"/>
              </a:rPr>
              <a:t>PaletteMaxPredictorSize = palette_max_size +</a:t>
            </a:r>
            <a:br>
              <a:rPr sz="2000"/>
            </a:b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               delta_palette_max_predictor_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constraint on PaletteMaxPredictorSize (1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pic>
        <p:nvPicPr>
          <p:cNvPr id="309" name="內容版面配置區 4" descr=""/>
          <p:cNvPicPr/>
          <p:nvPr/>
        </p:nvPicPr>
        <p:blipFill>
          <a:blip r:embed="rId1"/>
          <a:stretch/>
        </p:blipFill>
        <p:spPr>
          <a:xfrm>
            <a:off x="317520" y="1066680"/>
            <a:ext cx="8369280" cy="5681880"/>
          </a:xfrm>
          <a:prstGeom prst="rect">
            <a:avLst/>
          </a:prstGeom>
          <a:ln w="0">
            <a:noFill/>
          </a:ln>
        </p:spPr>
      </p:pic>
      <p:sp>
        <p:nvSpPr>
          <p:cNvPr id="31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A3FA-63E0-4BA5-8892-FAC6962D74F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constraint on PaletteMaxPredictorSize (2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pic>
        <p:nvPicPr>
          <p:cNvPr id="312" name="內容版面配置區 4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369280" cy="4792680"/>
          </a:xfrm>
          <a:prstGeom prst="rect">
            <a:avLst/>
          </a:prstGeom>
          <a:ln w="0">
            <a:noFill/>
          </a:ln>
        </p:spPr>
      </p:pic>
      <p:sp>
        <p:nvSpPr>
          <p:cNvPr id="31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D8CB-4BA5-4987-A60D-05293B3630B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字方塊 5"/>
          <p:cNvSpPr/>
          <p:nvPr/>
        </p:nvSpPr>
        <p:spPr>
          <a:xfrm>
            <a:off x="853920" y="4751280"/>
            <a:ext cx="7180560" cy="37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leanup on </a:t>
            </a:r>
            <a:r>
              <a:rPr b="0" lang="en-GB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edictorPaletteSiz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pic>
        <p:nvPicPr>
          <p:cNvPr id="316" name="內容版面配置區 4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618400" cy="4792680"/>
          </a:xfrm>
          <a:prstGeom prst="rect">
            <a:avLst/>
          </a:prstGeom>
          <a:ln w="0">
            <a:noFill/>
          </a:ln>
        </p:spPr>
      </p:pic>
      <p:sp>
        <p:nvSpPr>
          <p:cNvPr id="317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9D6-59F5-4DB9-B8CC-642922DC8B9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dditional solutions for the issue on PaletteMaxPredictorSiz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slice level flag to control the maximum palette predictor size based on the qp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sing a doubled number of the averaged palette size from the previous slices to set up the maximum palette predicto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EAF-0AAF-4614-A2E7-48AB64001E2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erformance evaluation on PaletteMaxPredictorSiz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CM4.0 sets the maximum palette predictor size as 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ree maximum palette predictor size values were tested : 112, 96, and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B14D-4ABF-4727-BEF2-2F0439E4792F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57040" y="4121280"/>
          <a:ext cx="8601120" cy="2014560"/>
        </p:xfrm>
        <a:graphic>
          <a:graphicData uri="http://schemas.openxmlformats.org/drawingml/2006/table">
            <a:tbl>
              <a:tblPr/>
              <a:tblGrid>
                <a:gridCol w="2346480"/>
                <a:gridCol w="2038320"/>
                <a:gridCol w="2303640"/>
                <a:gridCol w="191268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alette predicto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ory s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8-112)/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8-96)/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8-80)/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ulation results for max. palette predictor size of 112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TC with full frame IBC 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ossy coding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1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61F9-E4BB-4F12-8451-2566E4A6D95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68280" y="3429000"/>
          <a:ext cx="8445600" cy="2536920"/>
        </p:xfrm>
        <a:graphic>
          <a:graphicData uri="http://schemas.openxmlformats.org/drawingml/2006/table">
            <a:tbl>
              <a:tblPr/>
              <a:tblGrid>
                <a:gridCol w="3322800"/>
                <a:gridCol w="568080"/>
                <a:gridCol w="569880"/>
                <a:gridCol w="568440"/>
                <a:gridCol w="569880"/>
                <a:gridCol w="569880"/>
                <a:gridCol w="568440"/>
                <a:gridCol w="569880"/>
                <a:gridCol w="568440"/>
                <a:gridCol w="569880"/>
              </a:tblGrid>
              <a:tr h="210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ulation results for max. palette predictor size of 96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TC with full frame IBC 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ossy coding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1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BFBD-EA7C-4AE7-9533-6A1589F09E0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圖片 3" descr=""/>
          <p:cNvPicPr/>
          <p:nvPr/>
        </p:nvPicPr>
        <p:blipFill>
          <a:blip r:embed="rId1"/>
          <a:stretch/>
        </p:blipFill>
        <p:spPr>
          <a:xfrm>
            <a:off x="204840" y="3247920"/>
            <a:ext cx="87375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6-19T13:33:14Z</dcterms:modified>
  <cp:revision>1175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