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6375A5-5986-4A6A-9D6B-D9615142456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872EAA9-118A-4E78-ACA5-05951406EA3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EE74E7A-B3DA-47B0-B7A8-DD186423F61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AB0A76-E356-4698-A690-70AA15B49C6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C31DC58-9E87-440F-A918-1398062A55B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998584A-8386-424D-AE91-72324F38313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8F16A43-82E6-493F-A90E-487882E3713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6E8DD6B-8FC2-4A8D-94CC-9B87FDF5DB3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72B5234-D237-4459-8400-D3CF984C81C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2880B72-B844-4CD2-8741-9ECD5DBD66F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0286055-259B-4AE3-8929-75CEC8C9AB4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BD88D99-718B-40B9-886A-FD9C24E72BB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20909EE-F267-4C08-BEEA-5CECD3B41AA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DBEADCC-6DCD-493A-A6C7-94E000BE82D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9D20-0DC8-46D8-B9B7-983AFAA15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719E-6087-422E-BCAF-9CF1DD957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0797-A727-4B98-B37B-EAD191B55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32BC-0013-4214-9BD7-811DE2F8E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FBA3-7CBB-45C9-BE1A-6A79066F02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6F9C-6BAA-4458-9906-C74812DC15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F1BF-111A-4E36-8F41-21D033D23D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3D95-1FB9-488C-BC10-DA58057D98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C8B2-1887-4720-B71C-5353544753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5E64-461B-48F0-9E2C-20588FFE44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0DB0-6092-44E5-9AA3-E4E927310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0245-8F52-4F62-A01D-BA64265D8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51BC-9EBC-44CC-93D5-49A4A1724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1F50-C3C2-4CA4-AD04-1C5A9BF59F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FA9B-C603-4E33-87D1-4253BDC21C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0EDD-DF93-4968-9E73-2B5838FBB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510E-A0C8-4983-AC3A-F2EEFF9DA1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287-EDCC-4E7C-AA06-301411109B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A6C-077C-43A6-A831-8F6A98EBF0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8EB-7456-4D5F-B6DC-ED5DF4D687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0BF-1FF3-481D-BC7A-2B65240C6B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A83-A4EB-47B7-9829-BC7313D88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5D37-2790-4EF0-86FC-903C4ECDA3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DDA-FFDE-4891-B0B3-2D7430C4CC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ECC-A97D-4838-B389-A14F6F1D91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1F8-C889-48AB-8BDA-AF388B6B3E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245-5328-441B-8829-E6FABCB133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052-B392-486D-9071-1874DB7CBC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0E4-7665-4A64-AAE2-90F2C042F4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622-A5A6-4502-BDFB-2F0D1DA751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928A9-D3A0-4C1A-B6DD-B8C353838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39644-132B-4D9F-97C6-22749B1EC1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5682C-6EDD-4553-B8C1-684CA971B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B371-72C5-4442-B8AC-B5D2087FDE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36FA0-F902-471D-BEA9-E0A5390204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3569F-4507-42AE-85D0-AC492BAE50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4713D-A3D6-4C7E-8345-0DFEF1000B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C3609-E7B1-4643-93B4-801B675A44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A3B63-46D3-479F-A358-31D8C007B9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B99C8-98C7-4A1D-8DE3-F7D78CA043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E982D-4D7C-498D-A6E5-141AD301D8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20775-7DAE-49F3-B9AB-959B44A818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5522-570D-4DDB-AF73-82B72353CC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2D29-F55F-4B05-B80A-75FAA2078E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22E3-34BE-4C01-B24B-8B0A0FD8A0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3F66-0E48-40A1-967B-A8AD8626C9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C811-5993-4397-A46A-3A649DEBFD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4D840-DBB3-49D6-9920-F3F15B0480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4F73F-912B-442C-B68F-556C2843F8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A9F6C-8E66-42DB-84A3-98C6D46BFC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5C4E4-7187-45A7-A181-0613F52138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EA504-8FA0-437A-A627-14E2723DFB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38CD8-F873-426B-BD7C-C52F9B37EB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B9206-504E-4FF0-8E05-3F23E692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95D6-156B-40F8-AD4E-896A910A0C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1D7E0-38F5-454E-AF5E-FCCB165AA5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929E-3814-4B7E-91CC-DC7A07F692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05D1A-8D46-4F91-93D2-472D74FCA7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E72C-77D1-4787-935D-BBE831CD4D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38CF-DCDB-4455-B07B-A3859E8E11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F8B6-2058-4BC4-B727-DA0A8C9CF9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5EE8-83AF-4AA9-8FC3-E1E9DF7B00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65AB-ED21-4088-98AA-801296CC7E6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D277-1C5A-460D-B997-355B5CD9F6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C2C-D485-44CE-972F-DCC8DF6FB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C460-6100-4340-9EA5-EC40B0029B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D658-07E6-47F2-90BC-513DAF3C8A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8F31-39FE-470E-BFB1-8E354F38DD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C4DB-3149-447B-AF3D-0EC0D5B24C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152-7AEB-4A96-A1C4-CAC95226ED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85AC-CB58-448F-8684-B6D66BC77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4B26-81C4-4E14-9A98-877449555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8008-086D-47EC-A290-28BED3965EF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1E1C-4A3D-4715-BEF5-48319B874E6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B5A-3B8E-4FEB-AB10-FC04DD49752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EBB-B47D-4E96-BB8D-31445C0E5424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A742-6AB8-40A0-B01C-DF8E0D34D01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003E-46DD-4932-A1CD-6B5234E6402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CD1-C336-4EAD-ACC4-B29F1660222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0E4-14D9-4DE6-9BCD-1DD5EFCE570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BB39-0666-4351-A2BB-68F3223519D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A3BE-2FBE-4954-8C15-3BB2735E4E6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U0095</a:t>
            </a:r>
            <a:br>
              <a:rPr sz="4400"/>
            </a:b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CE: Encoder modification for intra prediction mode using adaptive colour transform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208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Jih-Sheng Tu and Ching-Chieh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June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9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A9D-7345-4AB5-A7C4-9E05F416FA51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ppendi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43E-BC50-4CCC-AF53-D422F0838C9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, 444,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691-5113-4375-9DE1-8E8FF32FBB8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6440" y="3868560"/>
          <a:ext cx="8855280" cy="273240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480"/>
                <a:gridCol w="500400"/>
                <a:gridCol w="500040"/>
                <a:gridCol w="50004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: N = 16x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23840" y="998640"/>
          <a:ext cx="8854920" cy="273204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480"/>
                <a:gridCol w="500040"/>
                <a:gridCol w="500040"/>
                <a:gridCol w="500400"/>
                <a:gridCol w="500040"/>
                <a:gridCol w="500040"/>
                <a:gridCol w="500040"/>
                <a:gridCol w="501480"/>
                <a:gridCol w="500040"/>
                <a:gridCol w="500040"/>
                <a:gridCol w="500040"/>
              </a:tblGrid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: N = 32x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, 444, 4CTU-IBC 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7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A4E-DDCD-465D-8CAE-3A5E2C905F71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: N = 32x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: N = 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, 420,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81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2253-8EF1-4655-91DD-A9261698D45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39680" y="1012680"/>
          <a:ext cx="8864640" cy="15591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: N = 32x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39680" y="3840120"/>
          <a:ext cx="8864640" cy="155880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: N = 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, 420,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85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AA7-213F-4B19-9BB5-F11CFA77951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6440" y="3868560"/>
          <a:ext cx="8855280" cy="173376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480"/>
                <a:gridCol w="500400"/>
                <a:gridCol w="500040"/>
                <a:gridCol w="50004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: N = 16x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23840" y="998640"/>
          <a:ext cx="8854920" cy="173340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480"/>
                <a:gridCol w="500040"/>
                <a:gridCol w="500040"/>
                <a:gridCol w="500400"/>
                <a:gridCol w="500040"/>
                <a:gridCol w="500040"/>
                <a:gridCol w="500040"/>
                <a:gridCol w="501480"/>
                <a:gridCol w="500040"/>
                <a:gridCol w="500040"/>
                <a:gridCol w="500040"/>
              </a:tblGrid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: N = 32x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840" y="50760"/>
            <a:ext cx="911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4-CTU IBC search 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8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1C2-9952-4CF9-9BE9-38387D681FB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560" y="1047600"/>
            <a:ext cx="886284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est 1: Modification 1 + Modification 2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 = 32x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est 2: Modification 1 + Modification 2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 = 16x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42920" y="2576520"/>
          <a:ext cx="8862840" cy="3743280"/>
        </p:xfrm>
        <a:graphic>
          <a:graphicData uri="http://schemas.openxmlformats.org/drawingml/2006/table">
            <a:tbl>
              <a:tblPr/>
              <a:tblGrid>
                <a:gridCol w="4890960"/>
                <a:gridCol w="662040"/>
                <a:gridCol w="662040"/>
                <a:gridCol w="662040"/>
                <a:gridCol w="662040"/>
                <a:gridCol w="662040"/>
                <a:gridCol w="66168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3BA-F2DD-4732-BC0A-31CD88A274D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菱形 3"/>
          <p:cNvSpPr/>
          <p:nvPr/>
        </p:nvSpPr>
        <p:spPr>
          <a:xfrm>
            <a:off x="1249200" y="1135080"/>
            <a:ext cx="1584360" cy="936720"/>
          </a:xfrm>
          <a:prstGeom prst="diamond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字方塊 4"/>
          <p:cNvSpPr/>
          <p:nvPr/>
        </p:nvSpPr>
        <p:spPr>
          <a:xfrm>
            <a:off x="1206000" y="12812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s colour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G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3422520" y="271440"/>
            <a:ext cx="136692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6"/>
          <p:cNvSpPr/>
          <p:nvPr/>
        </p:nvSpPr>
        <p:spPr>
          <a:xfrm>
            <a:off x="3422520" y="2071800"/>
            <a:ext cx="1366920" cy="863640"/>
          </a:xfrm>
          <a:prstGeom prst="rect">
            <a:avLst/>
          </a:prstGeom>
          <a:solidFill>
            <a:srgbClr val="bfbfbf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"/>
          <p:cNvSpPr/>
          <p:nvPr/>
        </p:nvSpPr>
        <p:spPr>
          <a:xfrm>
            <a:off x="5397480" y="271440"/>
            <a:ext cx="1368360" cy="863640"/>
          </a:xfrm>
          <a:prstGeom prst="rect">
            <a:avLst/>
          </a:prstGeom>
          <a:solidFill>
            <a:srgbClr val="bfbfbf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"/>
          <p:cNvSpPr/>
          <p:nvPr/>
        </p:nvSpPr>
        <p:spPr>
          <a:xfrm>
            <a:off x="5397480" y="207180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9"/>
          <p:cNvSpPr/>
          <p:nvPr/>
        </p:nvSpPr>
        <p:spPr>
          <a:xfrm>
            <a:off x="7380360" y="120816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肘形接點 10"/>
          <p:cNvCxnSpPr>
            <a:stCxn id="393" idx="0"/>
            <a:endCxn id="395" idx="1"/>
          </p:cNvCxnSpPr>
          <p:nvPr/>
        </p:nvCxnSpPr>
        <p:spPr>
          <a:xfrm flipH="1" flipV="1" rot="5400000">
            <a:off x="2516040" y="228240"/>
            <a:ext cx="432360" cy="1381680"/>
          </a:xfrm>
          <a:prstGeom prst="bentConnector2">
            <a:avLst/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401" name="肘形接點 15"/>
          <p:cNvCxnSpPr>
            <a:stCxn id="393" idx="2"/>
            <a:endCxn id="396" idx="1"/>
          </p:cNvCxnSpPr>
          <p:nvPr/>
        </p:nvCxnSpPr>
        <p:spPr>
          <a:xfrm flipH="1" rot="16200000">
            <a:off x="2516040" y="1596600"/>
            <a:ext cx="432360" cy="1381680"/>
          </a:xfrm>
          <a:prstGeom prst="bentConnector2">
            <a:avLst/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402" name="肘形接點 18"/>
          <p:cNvCxnSpPr>
            <a:stCxn id="397" idx="3"/>
            <a:endCxn id="399" idx="0"/>
          </p:cNvCxnSpPr>
          <p:nvPr/>
        </p:nvCxnSpPr>
        <p:spPr>
          <a:xfrm>
            <a:off x="6765480" y="703440"/>
            <a:ext cx="1299240" cy="505440"/>
          </a:xfrm>
          <a:prstGeom prst="bentConnector2">
            <a:avLst/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sp>
        <p:nvSpPr>
          <p:cNvPr id="403" name="文字方塊 19"/>
          <p:cNvSpPr/>
          <p:nvPr/>
        </p:nvSpPr>
        <p:spPr>
          <a:xfrm>
            <a:off x="3452400" y="3808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without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字方塊 20"/>
          <p:cNvSpPr/>
          <p:nvPr/>
        </p:nvSpPr>
        <p:spPr>
          <a:xfrm>
            <a:off x="5575680" y="3808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with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字方塊 21"/>
          <p:cNvSpPr/>
          <p:nvPr/>
        </p:nvSpPr>
        <p:spPr>
          <a:xfrm>
            <a:off x="3556440" y="216540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with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字方塊 22"/>
          <p:cNvSpPr/>
          <p:nvPr/>
        </p:nvSpPr>
        <p:spPr>
          <a:xfrm>
            <a:off x="5418360" y="216540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without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字方塊 23"/>
          <p:cNvSpPr/>
          <p:nvPr/>
        </p:nvSpPr>
        <p:spPr>
          <a:xfrm>
            <a:off x="7524000" y="13287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肘形接點 29"/>
          <p:cNvCxnSpPr>
            <a:stCxn id="398" idx="3"/>
            <a:endCxn id="399" idx="2"/>
          </p:cNvCxnSpPr>
          <p:nvPr/>
        </p:nvCxnSpPr>
        <p:spPr>
          <a:xfrm flipV="1">
            <a:off x="6765480" y="2071080"/>
            <a:ext cx="1299240" cy="432360"/>
          </a:xfrm>
          <a:prstGeom prst="bentConnector2">
            <a:avLst/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409" name="直線單箭頭接點 33"/>
          <p:cNvCxnSpPr/>
          <p:nvPr/>
        </p:nvCxnSpPr>
        <p:spPr>
          <a:xfrm>
            <a:off x="4801680" y="250308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410" name="直線單箭頭接點 36"/>
          <p:cNvCxnSpPr/>
          <p:nvPr/>
        </p:nvCxnSpPr>
        <p:spPr>
          <a:xfrm>
            <a:off x="4801680" y="70596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11" name="文字方塊 34"/>
          <p:cNvSpPr/>
          <p:nvPr/>
        </p:nvSpPr>
        <p:spPr>
          <a:xfrm>
            <a:off x="2727000" y="21654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字方塊 38"/>
          <p:cNvSpPr/>
          <p:nvPr/>
        </p:nvSpPr>
        <p:spPr>
          <a:xfrm>
            <a:off x="2657520" y="3412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直線單箭頭接點 24"/>
          <p:cNvCxnSpPr/>
          <p:nvPr/>
        </p:nvCxnSpPr>
        <p:spPr>
          <a:xfrm>
            <a:off x="661680" y="158868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14" name="文字方塊 25"/>
          <p:cNvSpPr/>
          <p:nvPr/>
        </p:nvSpPr>
        <p:spPr>
          <a:xfrm>
            <a:off x="442080" y="11937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菱形 27"/>
          <p:cNvSpPr/>
          <p:nvPr/>
        </p:nvSpPr>
        <p:spPr>
          <a:xfrm>
            <a:off x="2019240" y="4175280"/>
            <a:ext cx="1584360" cy="936360"/>
          </a:xfrm>
          <a:prstGeom prst="diamond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字方塊 4"/>
          <p:cNvSpPr/>
          <p:nvPr/>
        </p:nvSpPr>
        <p:spPr>
          <a:xfrm>
            <a:off x="1976040" y="43196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s colour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G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9"/>
          <p:cNvSpPr/>
          <p:nvPr/>
        </p:nvSpPr>
        <p:spPr>
          <a:xfrm>
            <a:off x="4199040" y="4246560"/>
            <a:ext cx="136836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0"/>
          <p:cNvSpPr/>
          <p:nvPr/>
        </p:nvSpPr>
        <p:spPr>
          <a:xfrm>
            <a:off x="6175440" y="4246560"/>
            <a:ext cx="136836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字方塊 11"/>
          <p:cNvSpPr/>
          <p:nvPr/>
        </p:nvSpPr>
        <p:spPr>
          <a:xfrm>
            <a:off x="4167360" y="434016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ough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e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字方塊 12"/>
          <p:cNvSpPr/>
          <p:nvPr/>
        </p:nvSpPr>
        <p:spPr>
          <a:xfrm>
            <a:off x="6091920" y="434016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DO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直線單箭頭接點 13"/>
          <p:cNvCxnSpPr/>
          <p:nvPr/>
        </p:nvCxnSpPr>
        <p:spPr>
          <a:xfrm>
            <a:off x="5579640" y="467784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422" name="直線單箭頭接點 14"/>
          <p:cNvCxnSpPr/>
          <p:nvPr/>
        </p:nvCxnSpPr>
        <p:spPr>
          <a:xfrm>
            <a:off x="3603240" y="463824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23" name="矩形 35"/>
          <p:cNvSpPr/>
          <p:nvPr/>
        </p:nvSpPr>
        <p:spPr>
          <a:xfrm>
            <a:off x="4211640" y="5648400"/>
            <a:ext cx="136836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6"/>
          <p:cNvSpPr/>
          <p:nvPr/>
        </p:nvSpPr>
        <p:spPr>
          <a:xfrm>
            <a:off x="6188040" y="5648400"/>
            <a:ext cx="136836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字方塊 23"/>
          <p:cNvSpPr/>
          <p:nvPr/>
        </p:nvSpPr>
        <p:spPr>
          <a:xfrm>
            <a:off x="4091400" y="575784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h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字方塊 24"/>
          <p:cNvSpPr/>
          <p:nvPr/>
        </p:nvSpPr>
        <p:spPr>
          <a:xfrm>
            <a:off x="6399360" y="574200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U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直線單箭頭接點 25"/>
          <p:cNvCxnSpPr/>
          <p:nvPr/>
        </p:nvCxnSpPr>
        <p:spPr>
          <a:xfrm>
            <a:off x="5592240" y="608148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428" name="矩形 40"/>
          <p:cNvSpPr/>
          <p:nvPr/>
        </p:nvSpPr>
        <p:spPr>
          <a:xfrm>
            <a:off x="2219400" y="5645160"/>
            <a:ext cx="136836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字方塊 27"/>
          <p:cNvSpPr/>
          <p:nvPr/>
        </p:nvSpPr>
        <p:spPr>
          <a:xfrm>
            <a:off x="2600640" y="57546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直線單箭頭接點 28"/>
          <p:cNvCxnSpPr/>
          <p:nvPr/>
        </p:nvCxnSpPr>
        <p:spPr>
          <a:xfrm>
            <a:off x="3600000" y="607824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431" name="肘形接點 7"/>
          <p:cNvCxnSpPr>
            <a:stCxn id="415" idx="0"/>
            <a:endCxn id="418" idx="0"/>
          </p:cNvCxnSpPr>
          <p:nvPr/>
        </p:nvCxnSpPr>
        <p:spPr>
          <a:xfrm flipH="1" rot="16200000">
            <a:off x="4799880" y="2186640"/>
            <a:ext cx="72000" cy="4048560"/>
          </a:xfrm>
          <a:prstGeom prst="bentConnector3">
            <a:avLst>
              <a:gd name="adj1" fmla="val -317085"/>
            </a:avLst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sp>
        <p:nvSpPr>
          <p:cNvPr id="432" name="文字方塊 31"/>
          <p:cNvSpPr/>
          <p:nvPr/>
        </p:nvSpPr>
        <p:spPr>
          <a:xfrm>
            <a:off x="3562200" y="42688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字方塊 32"/>
          <p:cNvSpPr/>
          <p:nvPr/>
        </p:nvSpPr>
        <p:spPr>
          <a:xfrm>
            <a:off x="2344680" y="3852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直線單箭頭接點 34"/>
          <p:cNvCxnSpPr/>
          <p:nvPr/>
        </p:nvCxnSpPr>
        <p:spPr>
          <a:xfrm flipV="1">
            <a:off x="6859080" y="5127120"/>
            <a:ext cx="1080" cy="5184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435" name="直線單箭頭接點 38"/>
          <p:cNvCxnSpPr/>
          <p:nvPr/>
        </p:nvCxnSpPr>
        <p:spPr>
          <a:xfrm>
            <a:off x="1410840" y="463824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36" name="文字方塊 39"/>
          <p:cNvSpPr/>
          <p:nvPr/>
        </p:nvSpPr>
        <p:spPr>
          <a:xfrm>
            <a:off x="1190520" y="42433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字方塊 21"/>
          <p:cNvSpPr/>
          <p:nvPr/>
        </p:nvSpPr>
        <p:spPr>
          <a:xfrm>
            <a:off x="219600" y="42688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with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弧形接點 11"/>
          <p:cNvCxnSpPr>
            <a:stCxn id="405" idx="1"/>
            <a:endCxn id="436" idx="0"/>
          </p:cNvCxnSpPr>
          <p:nvPr/>
        </p:nvCxnSpPr>
        <p:spPr>
          <a:xfrm flipV="1" rot="10800000">
            <a:off x="1580400" y="2486520"/>
            <a:ext cx="1971000" cy="17564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39" name="弧形接點 13"/>
          <p:cNvCxnSpPr>
            <a:stCxn id="404" idx="1"/>
            <a:endCxn id="436" idx="0"/>
          </p:cNvCxnSpPr>
          <p:nvPr/>
        </p:nvCxnSpPr>
        <p:spPr>
          <a:xfrm flipV="1" rot="10800000">
            <a:off x="1580400" y="702360"/>
            <a:ext cx="3990240" cy="354060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60880" y="3135240"/>
            <a:ext cx="2666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4da9"/>
                </a:solidFill>
                <a:latin typeface="Arial"/>
                <a:ea typeface="新細明體"/>
              </a:rPr>
              <a:t>Overall flow of Encoder for intra prediction</a:t>
            </a:r>
            <a:r>
              <a:rPr b="0" lang="zh-TW" sz="1600" spc="-1" strike="noStrike">
                <a:solidFill>
                  <a:srgbClr val="154da9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154da9"/>
                </a:solidFill>
                <a:latin typeface="Arial"/>
                <a:ea typeface="新細明體"/>
              </a:rPr>
              <a:t>mode (IPM)</a:t>
            </a:r>
            <a:endParaRPr b="0" lang="en-US" sz="16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840" y="50760"/>
            <a:ext cx="911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Flow of the proposed method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4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D11-015A-46BB-8995-3D44AE3668FD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菱形 29"/>
          <p:cNvSpPr/>
          <p:nvPr/>
        </p:nvSpPr>
        <p:spPr>
          <a:xfrm>
            <a:off x="1058760" y="3521160"/>
            <a:ext cx="1584360" cy="934920"/>
          </a:xfrm>
          <a:prstGeom prst="diamond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字方塊 30"/>
          <p:cNvSpPr/>
          <p:nvPr/>
        </p:nvSpPr>
        <p:spPr>
          <a:xfrm>
            <a:off x="1014840" y="3665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s colour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G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3"/>
          <p:cNvSpPr/>
          <p:nvPr/>
        </p:nvSpPr>
        <p:spPr>
          <a:xfrm>
            <a:off x="3238560" y="359244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5"/>
          <p:cNvSpPr/>
          <p:nvPr/>
        </p:nvSpPr>
        <p:spPr>
          <a:xfrm>
            <a:off x="5214960" y="3592440"/>
            <a:ext cx="136692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字方塊 36"/>
          <p:cNvSpPr/>
          <p:nvPr/>
        </p:nvSpPr>
        <p:spPr>
          <a:xfrm>
            <a:off x="3206160" y="368604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ough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e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字方塊 37"/>
          <p:cNvSpPr/>
          <p:nvPr/>
        </p:nvSpPr>
        <p:spPr>
          <a:xfrm>
            <a:off x="5130720" y="368604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DO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直線單箭頭接點 38"/>
          <p:cNvCxnSpPr/>
          <p:nvPr/>
        </p:nvCxnSpPr>
        <p:spPr>
          <a:xfrm>
            <a:off x="4617720" y="4024080"/>
            <a:ext cx="61020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450" name="直線單箭頭接點 39"/>
          <p:cNvCxnSpPr/>
          <p:nvPr/>
        </p:nvCxnSpPr>
        <p:spPr>
          <a:xfrm>
            <a:off x="2642760" y="398412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51" name="矩形 40"/>
          <p:cNvSpPr/>
          <p:nvPr/>
        </p:nvSpPr>
        <p:spPr>
          <a:xfrm>
            <a:off x="3251160" y="4994280"/>
            <a:ext cx="136836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1"/>
          <p:cNvSpPr/>
          <p:nvPr/>
        </p:nvSpPr>
        <p:spPr>
          <a:xfrm>
            <a:off x="5227560" y="4994280"/>
            <a:ext cx="136692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字方塊 42"/>
          <p:cNvSpPr/>
          <p:nvPr/>
        </p:nvSpPr>
        <p:spPr>
          <a:xfrm>
            <a:off x="3131280" y="510372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h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字方塊 43"/>
          <p:cNvSpPr/>
          <p:nvPr/>
        </p:nvSpPr>
        <p:spPr>
          <a:xfrm>
            <a:off x="5438880" y="508788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U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直線單箭頭接點 44"/>
          <p:cNvCxnSpPr/>
          <p:nvPr/>
        </p:nvCxnSpPr>
        <p:spPr>
          <a:xfrm>
            <a:off x="4630320" y="5425560"/>
            <a:ext cx="61020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456" name="矩形 45"/>
          <p:cNvSpPr/>
          <p:nvPr/>
        </p:nvSpPr>
        <p:spPr>
          <a:xfrm>
            <a:off x="1258920" y="4991040"/>
            <a:ext cx="1366920" cy="8650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字方塊 46"/>
          <p:cNvSpPr/>
          <p:nvPr/>
        </p:nvSpPr>
        <p:spPr>
          <a:xfrm>
            <a:off x="1640160" y="510048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直線單箭頭接點 47"/>
          <p:cNvCxnSpPr/>
          <p:nvPr/>
        </p:nvCxnSpPr>
        <p:spPr>
          <a:xfrm>
            <a:off x="2638080" y="542268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459" name="文字方塊 49"/>
          <p:cNvSpPr/>
          <p:nvPr/>
        </p:nvSpPr>
        <p:spPr>
          <a:xfrm>
            <a:off x="2601720" y="361476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字方塊 50"/>
          <p:cNvSpPr/>
          <p:nvPr/>
        </p:nvSpPr>
        <p:spPr>
          <a:xfrm>
            <a:off x="1300320" y="3095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菱形 53"/>
          <p:cNvSpPr/>
          <p:nvPr/>
        </p:nvSpPr>
        <p:spPr>
          <a:xfrm>
            <a:off x="1058760" y="2071800"/>
            <a:ext cx="1584360" cy="936360"/>
          </a:xfrm>
          <a:prstGeom prst="diamond">
            <a:avLst/>
          </a:prstGeom>
          <a:solidFill>
            <a:srgbClr val="ff000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字方塊 54"/>
          <p:cNvSpPr/>
          <p:nvPr/>
        </p:nvSpPr>
        <p:spPr>
          <a:xfrm>
            <a:off x="924120" y="2038320"/>
            <a:ext cx="205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s CU size sma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han 64x6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直線單箭頭接點 55"/>
          <p:cNvCxnSpPr>
            <a:stCxn id="443" idx="0"/>
            <a:endCxn id="461" idx="2"/>
          </p:cNvCxnSpPr>
          <p:nvPr/>
        </p:nvCxnSpPr>
        <p:spPr>
          <a:xfrm flipV="1">
            <a:off x="1850760" y="3007440"/>
            <a:ext cx="1080" cy="5137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464" name="肘形接點 6"/>
          <p:cNvCxnSpPr>
            <a:stCxn id="461" idx="3"/>
            <a:endCxn id="446" idx="0"/>
          </p:cNvCxnSpPr>
          <p:nvPr/>
        </p:nvCxnSpPr>
        <p:spPr>
          <a:xfrm>
            <a:off x="2642760" y="2539800"/>
            <a:ext cx="3256920" cy="1053000"/>
          </a:xfrm>
          <a:prstGeom prst="bentConnector2">
            <a:avLst/>
          </a:prstGeom>
          <a:ln cap="rnd" w="255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465" name="肘形接點 58"/>
          <p:cNvCxnSpPr>
            <a:stCxn id="461" idx="1"/>
            <a:endCxn id="456" idx="1"/>
          </p:cNvCxnSpPr>
          <p:nvPr/>
        </p:nvCxnSpPr>
        <p:spPr>
          <a:xfrm flipH="1" flipV="1" rot="10800000">
            <a:off x="1058400" y="2539800"/>
            <a:ext cx="200880" cy="2883600"/>
          </a:xfrm>
          <a:prstGeom prst="bentConnector3">
            <a:avLst>
              <a:gd name="adj1" fmla="val -400179"/>
            </a:avLst>
          </a:prstGeom>
          <a:ln cap="rnd" w="255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466" name="文字方塊 59"/>
          <p:cNvSpPr/>
          <p:nvPr/>
        </p:nvSpPr>
        <p:spPr>
          <a:xfrm>
            <a:off x="3223800" y="223056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字方塊 60"/>
          <p:cNvSpPr/>
          <p:nvPr/>
        </p:nvSpPr>
        <p:spPr>
          <a:xfrm>
            <a:off x="534960" y="22305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菱形 61"/>
          <p:cNvSpPr/>
          <p:nvPr/>
        </p:nvSpPr>
        <p:spPr>
          <a:xfrm>
            <a:off x="7213680" y="4940280"/>
            <a:ext cx="1584360" cy="936720"/>
          </a:xfrm>
          <a:prstGeom prst="diamond">
            <a:avLst/>
          </a:prstGeom>
          <a:solidFill>
            <a:srgbClr val="ff000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字方塊 62"/>
          <p:cNvSpPr/>
          <p:nvPr/>
        </p:nvSpPr>
        <p:spPr>
          <a:xfrm>
            <a:off x="7107840" y="504972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s CU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maller than 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肘形接點 17"/>
          <p:cNvCxnSpPr>
            <a:endCxn id="468" idx="0"/>
          </p:cNvCxnSpPr>
          <p:nvPr/>
        </p:nvCxnSpPr>
        <p:spPr>
          <a:xfrm>
            <a:off x="6581520" y="4024440"/>
            <a:ext cx="1424520" cy="916560"/>
          </a:xfrm>
          <a:prstGeom prst="bentConnector2">
            <a:avLst/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471" name="直線單箭頭接點 64"/>
          <p:cNvCxnSpPr/>
          <p:nvPr/>
        </p:nvCxnSpPr>
        <p:spPr>
          <a:xfrm>
            <a:off x="6605280" y="5425560"/>
            <a:ext cx="608760" cy="108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472" name="肘形接點 67"/>
          <p:cNvCxnSpPr>
            <a:stCxn id="468" idx="2"/>
            <a:endCxn id="451" idx="2"/>
          </p:cNvCxnSpPr>
          <p:nvPr/>
        </p:nvCxnSpPr>
        <p:spPr>
          <a:xfrm flipV="1" rot="16200000">
            <a:off x="5961240" y="3832200"/>
            <a:ext cx="18360" cy="4070880"/>
          </a:xfrm>
          <a:prstGeom prst="bentConnector3">
            <a:avLst>
              <a:gd name="adj1" fmla="val -1278000"/>
            </a:avLst>
          </a:prstGeom>
          <a:ln cap="rnd" w="255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473" name="文字方塊 70"/>
          <p:cNvSpPr/>
          <p:nvPr/>
        </p:nvSpPr>
        <p:spPr>
          <a:xfrm>
            <a:off x="6713280" y="5057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字方塊 71"/>
          <p:cNvSpPr/>
          <p:nvPr/>
        </p:nvSpPr>
        <p:spPr>
          <a:xfrm>
            <a:off x="8034480" y="58388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直線單箭頭接點 73"/>
          <p:cNvCxnSpPr/>
          <p:nvPr/>
        </p:nvCxnSpPr>
        <p:spPr>
          <a:xfrm>
            <a:off x="450360" y="398268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76" name="文字方塊 75"/>
          <p:cNvSpPr/>
          <p:nvPr/>
        </p:nvSpPr>
        <p:spPr>
          <a:xfrm>
            <a:off x="301680" y="3656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2560" y="1047600"/>
            <a:ext cx="886284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: block size. It can be 64x64, 32x32, …, 8x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字方塊 21"/>
          <p:cNvSpPr/>
          <p:nvPr/>
        </p:nvSpPr>
        <p:spPr>
          <a:xfrm>
            <a:off x="211320" y="399240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with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upplemental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8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4667-886A-410D-A901-80F4EA04C43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daptive colour transform (ACT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B95-AAB4-4E72-9C84-870C83C70A7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5560" y="1279080"/>
            <a:ext cx="807228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HEVC-SCC adopts ACT to convert one color-space to another one wherein the correlations among three color components are further reduced, and thus improve the coding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8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物件 2"/>
              <p:cNvSpPr txBox="1"/>
              <p:nvPr/>
            </p:nvSpPr>
            <p:spPr>
              <a:xfrm>
                <a:off x="2262240" y="3870360"/>
                <a:ext cx="431964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g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f>
                      <m:fPr>
                        <m:type m:val="lin"/>
                      </m:fPr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840" y="50760"/>
            <a:ext cx="911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FF-IBC search 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8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A5CF-AA36-439F-950E-CF3F8662E83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2560" y="1047600"/>
            <a:ext cx="886284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1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1~3% encoding time saving are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90600" y="2131920"/>
          <a:ext cx="8308800" cy="1852560"/>
        </p:xfrm>
        <a:graphic>
          <a:graphicData uri="http://schemas.openxmlformats.org/drawingml/2006/table">
            <a:tbl>
              <a:tblPr/>
              <a:tblGrid>
                <a:gridCol w="4614840"/>
                <a:gridCol w="765000"/>
                <a:gridCol w="790560"/>
                <a:gridCol w="792360"/>
                <a:gridCol w="134604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, FF-IBC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5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69720" y="4224240"/>
          <a:ext cx="8309160" cy="1852560"/>
        </p:xfrm>
        <a:graphic>
          <a:graphicData uri="http://schemas.openxmlformats.org/drawingml/2006/table">
            <a:tbl>
              <a:tblPr/>
              <a:tblGrid>
                <a:gridCol w="4615200"/>
                <a:gridCol w="765000"/>
                <a:gridCol w="790560"/>
                <a:gridCol w="792360"/>
                <a:gridCol w="134604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, 4-CTU IBC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5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840" y="50760"/>
            <a:ext cx="911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less, 444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8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F1B-7383-4728-B221-777332F17BD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42560" y="1047600"/>
            <a:ext cx="886284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1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0~2% encoding time saving are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50840" y="2271600"/>
          <a:ext cx="8854920" cy="1865520"/>
        </p:xfrm>
        <a:graphic>
          <a:graphicData uri="http://schemas.openxmlformats.org/drawingml/2006/table">
            <a:tbl>
              <a:tblPr/>
              <a:tblGrid>
                <a:gridCol w="4716360"/>
                <a:gridCol w="828720"/>
                <a:gridCol w="827280"/>
                <a:gridCol w="826920"/>
                <a:gridCol w="828720"/>
                <a:gridCol w="826920"/>
              </a:tblGrid>
              <a:tr h="172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ntra prediction using AC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4D1C-49F5-4F9F-8DAE-CFFB42CFBD9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5000" y="1039320"/>
            <a:ext cx="875340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CT can be adaptively enabled/disabled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intra prediction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, inter prediction mode, intra block copy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o evaluate whether to enable the ACT, the intra prediction mode requires to run the process twice fo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It increases the complexity for evaluation of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225360" y="299232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3675240" y="3112920"/>
            <a:ext cx="1368360" cy="86364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字方塊 8"/>
          <p:cNvSpPr/>
          <p:nvPr/>
        </p:nvSpPr>
        <p:spPr>
          <a:xfrm>
            <a:off x="309600" y="29941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字方塊 9"/>
          <p:cNvSpPr/>
          <p:nvPr/>
        </p:nvSpPr>
        <p:spPr>
          <a:xfrm>
            <a:off x="3961080" y="3311640"/>
            <a:ext cx="7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直線單箭頭接點 10"/>
          <p:cNvCxnSpPr/>
          <p:nvPr/>
        </p:nvCxnSpPr>
        <p:spPr>
          <a:xfrm>
            <a:off x="1593360" y="340020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sp>
        <p:nvSpPr>
          <p:cNvPr id="316" name="矩形 17"/>
          <p:cNvSpPr/>
          <p:nvPr/>
        </p:nvSpPr>
        <p:spPr>
          <a:xfrm>
            <a:off x="5651640" y="3090960"/>
            <a:ext cx="13665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字方塊 18"/>
          <p:cNvSpPr/>
          <p:nvPr/>
        </p:nvSpPr>
        <p:spPr>
          <a:xfrm>
            <a:off x="5631840" y="309240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C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ransform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1"/>
          <p:cNvSpPr/>
          <p:nvPr/>
        </p:nvSpPr>
        <p:spPr>
          <a:xfrm>
            <a:off x="7604280" y="3094200"/>
            <a:ext cx="1368360" cy="86328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字方塊 22"/>
          <p:cNvSpPr/>
          <p:nvPr/>
        </p:nvSpPr>
        <p:spPr>
          <a:xfrm>
            <a:off x="7837560" y="33415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直線單箭頭接點 23"/>
          <p:cNvCxnSpPr/>
          <p:nvPr/>
        </p:nvCxnSpPr>
        <p:spPr>
          <a:xfrm>
            <a:off x="5043240" y="354456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21" name="直線單箭頭接點 33"/>
          <p:cNvCxnSpPr/>
          <p:nvPr/>
        </p:nvCxnSpPr>
        <p:spPr>
          <a:xfrm>
            <a:off x="7018200" y="3543120"/>
            <a:ext cx="6105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22" name="直線單箭頭接點 37"/>
          <p:cNvCxnSpPr/>
          <p:nvPr/>
        </p:nvCxnSpPr>
        <p:spPr>
          <a:xfrm>
            <a:off x="3066840" y="354312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23" name="流程圖: 接點 36"/>
          <p:cNvSpPr/>
          <p:nvPr/>
        </p:nvSpPr>
        <p:spPr>
          <a:xfrm>
            <a:off x="2932200" y="346068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流程圖: 接點 42"/>
          <p:cNvSpPr/>
          <p:nvPr/>
        </p:nvSpPr>
        <p:spPr>
          <a:xfrm>
            <a:off x="2932200" y="309096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流程圖: 接點 43"/>
          <p:cNvSpPr/>
          <p:nvPr/>
        </p:nvSpPr>
        <p:spPr>
          <a:xfrm>
            <a:off x="2227320" y="3322800"/>
            <a:ext cx="128520" cy="14256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肘形接點 44"/>
          <p:cNvCxnSpPr>
            <a:stCxn id="324" idx="7"/>
            <a:endCxn id="316" idx="0"/>
          </p:cNvCxnSpPr>
          <p:nvPr/>
        </p:nvCxnSpPr>
        <p:spPr>
          <a:xfrm flipH="1" flipV="1" rot="5400000">
            <a:off x="4678200" y="1453680"/>
            <a:ext cx="20880" cy="3294720"/>
          </a:xfrm>
          <a:prstGeom prst="bentConnector3">
            <a:avLst>
              <a:gd name="adj1" fmla="val 1214035"/>
            </a:avLst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327" name="直線單箭頭接點 47"/>
          <p:cNvCxnSpPr>
            <a:endCxn id="323" idx="2"/>
          </p:cNvCxnSpPr>
          <p:nvPr/>
        </p:nvCxnSpPr>
        <p:spPr>
          <a:xfrm>
            <a:off x="2355480" y="3408480"/>
            <a:ext cx="577080" cy="12456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cxnSp>
        <p:nvCxnSpPr>
          <p:cNvPr id="328" name="直線單箭頭接點 49"/>
          <p:cNvCxnSpPr/>
          <p:nvPr/>
        </p:nvCxnSpPr>
        <p:spPr>
          <a:xfrm flipV="1">
            <a:off x="1857240" y="3120840"/>
            <a:ext cx="331200" cy="4528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deas for speed-up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20CE-A23D-4174-8895-A28582D69F2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95120" y="931680"/>
            <a:ext cx="875376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dea 1: Can the evaluation for the ACT-enabled intra prediction mode be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dea 2: Can the evaluation for the sizes of transform unit (TU) be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3560" indent="-511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lock size for TU in HEVC can be 32x32, 16x16, 8x8 or 4x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Evaluation for selecting the best TU size out of 4 block sizes is very time-consu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560" indent="-511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idea wants to use the default size for TU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225360" y="99072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3675240" y="1111320"/>
            <a:ext cx="1368360" cy="86364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字方塊 8"/>
          <p:cNvSpPr/>
          <p:nvPr/>
        </p:nvSpPr>
        <p:spPr>
          <a:xfrm>
            <a:off x="309600" y="99216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字方塊 9"/>
          <p:cNvSpPr/>
          <p:nvPr/>
        </p:nvSpPr>
        <p:spPr>
          <a:xfrm>
            <a:off x="3961080" y="1309680"/>
            <a:ext cx="7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直線單箭頭接點 10"/>
          <p:cNvCxnSpPr/>
          <p:nvPr/>
        </p:nvCxnSpPr>
        <p:spPr>
          <a:xfrm>
            <a:off x="1593360" y="139824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sp>
        <p:nvSpPr>
          <p:cNvPr id="338" name="矩形 17"/>
          <p:cNvSpPr/>
          <p:nvPr/>
        </p:nvSpPr>
        <p:spPr>
          <a:xfrm>
            <a:off x="5651640" y="1089000"/>
            <a:ext cx="13665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字方塊 18"/>
          <p:cNvSpPr/>
          <p:nvPr/>
        </p:nvSpPr>
        <p:spPr>
          <a:xfrm>
            <a:off x="5631840" y="109044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C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ransform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1"/>
          <p:cNvSpPr/>
          <p:nvPr/>
        </p:nvSpPr>
        <p:spPr>
          <a:xfrm>
            <a:off x="7604280" y="1092240"/>
            <a:ext cx="1368360" cy="863640"/>
          </a:xfrm>
          <a:prstGeom prst="rect">
            <a:avLst/>
          </a:prstGeom>
          <a:solidFill>
            <a:srgbClr val="00b0f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字方塊 22"/>
          <p:cNvSpPr/>
          <p:nvPr/>
        </p:nvSpPr>
        <p:spPr>
          <a:xfrm>
            <a:off x="7837560" y="1339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直線單箭頭接點 23"/>
          <p:cNvCxnSpPr/>
          <p:nvPr/>
        </p:nvCxnSpPr>
        <p:spPr>
          <a:xfrm>
            <a:off x="5043240" y="154260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43" name="直線單箭頭接點 33"/>
          <p:cNvCxnSpPr/>
          <p:nvPr/>
        </p:nvCxnSpPr>
        <p:spPr>
          <a:xfrm>
            <a:off x="7018200" y="1541160"/>
            <a:ext cx="6105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44" name="直線單箭頭接點 37"/>
          <p:cNvCxnSpPr/>
          <p:nvPr/>
        </p:nvCxnSpPr>
        <p:spPr>
          <a:xfrm>
            <a:off x="3066840" y="1541160"/>
            <a:ext cx="608760" cy="108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45" name="流程圖: 接點 36"/>
          <p:cNvSpPr/>
          <p:nvPr/>
        </p:nvSpPr>
        <p:spPr>
          <a:xfrm>
            <a:off x="2932200" y="1459080"/>
            <a:ext cx="128520" cy="14256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流程圖: 接點 42"/>
          <p:cNvSpPr/>
          <p:nvPr/>
        </p:nvSpPr>
        <p:spPr>
          <a:xfrm>
            <a:off x="2932200" y="108900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流程圖: 接點 43"/>
          <p:cNvSpPr/>
          <p:nvPr/>
        </p:nvSpPr>
        <p:spPr>
          <a:xfrm>
            <a:off x="2227320" y="1320840"/>
            <a:ext cx="128520" cy="142920"/>
          </a:xfrm>
          <a:prstGeom prst="flowChartConnector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肘形接點 44"/>
          <p:cNvCxnSpPr>
            <a:stCxn id="346" idx="7"/>
            <a:endCxn id="338" idx="0"/>
          </p:cNvCxnSpPr>
          <p:nvPr/>
        </p:nvCxnSpPr>
        <p:spPr>
          <a:xfrm flipH="1" flipV="1" rot="5400000">
            <a:off x="4678200" y="-548280"/>
            <a:ext cx="20880" cy="3294720"/>
          </a:xfrm>
          <a:prstGeom prst="bentConnector3">
            <a:avLst>
              <a:gd name="adj1" fmla="val 1214035"/>
            </a:avLst>
          </a:prstGeom>
          <a:ln cap="rnd" w="25560">
            <a:solidFill>
              <a:srgbClr val="c0504d"/>
            </a:solidFill>
            <a:round/>
            <a:tailEnd len="med" type="triangle" w="med"/>
          </a:ln>
        </p:spPr>
      </p:cxnSp>
      <p:cxnSp>
        <p:nvCxnSpPr>
          <p:cNvPr id="349" name="直線單箭頭接點 47"/>
          <p:cNvCxnSpPr>
            <a:endCxn id="345" idx="2"/>
          </p:cNvCxnSpPr>
          <p:nvPr/>
        </p:nvCxnSpPr>
        <p:spPr>
          <a:xfrm>
            <a:off x="2355480" y="1406520"/>
            <a:ext cx="577080" cy="12456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</a:ln>
        </p:spPr>
      </p:cxnSp>
      <p:cxnSp>
        <p:nvCxnSpPr>
          <p:cNvPr id="350" name="直線單箭頭接點 49"/>
          <p:cNvCxnSpPr/>
          <p:nvPr/>
        </p:nvCxnSpPr>
        <p:spPr>
          <a:xfrm flipV="1">
            <a:off x="1857240" y="1118520"/>
            <a:ext cx="331200" cy="45324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840" y="50760"/>
            <a:ext cx="911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The proposed modification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3B3-D111-4EA9-93B5-361E430ED92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2560" y="1047240"/>
            <a:ext cx="886284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1: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e video is YUV colour 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CU size is 64x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then skip the ACT-enabled intra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YUV colour space has no significant correlation among three color compon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 large CU coded by intra prediction mode usually implies the content in the area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e CU size is large enough (≥ NxN, N is set as 32 or 1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then skip the evaluation for smaller sizes of TU in the ACT-enabled intra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ith the help of ACT, the resulting residues in the transform domain may be concentrated into a smaller number of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 large CU coded by intra prediction mode usually implies the content in the area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FF-IBC search 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AF92-8F0D-49CD-893A-98834F49A36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2560" y="91404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the SCM4.0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est 1: Modifications 1 &amp; 2, TU evaluation disabled in C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≥ NxN =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est 2: Modifications 1 &amp; 2, TU evaluation disabled in C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≥ NxN = 16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2920" y="2409840"/>
          <a:ext cx="8862840" cy="3743280"/>
        </p:xfrm>
        <a:graphic>
          <a:graphicData uri="http://schemas.openxmlformats.org/drawingml/2006/table">
            <a:tbl>
              <a:tblPr/>
              <a:tblGrid>
                <a:gridCol w="4890960"/>
                <a:gridCol w="662040"/>
                <a:gridCol w="662040"/>
                <a:gridCol w="662040"/>
                <a:gridCol w="662040"/>
                <a:gridCol w="662040"/>
                <a:gridCol w="66168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, 444, FF-IB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9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AE1D-67E6-4522-84B0-E20EAB2D2BEA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: N = 32x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: N = 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0EC-66C4-4BC1-B372-4F23002621B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s for ACT-enabled intra prediction are proposed in this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est 1 (N = 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Reduce the complexity up to 5% compared to the SCM4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0.1% gain in BD-rate is ob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est 2 (N =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Reduce the complexity up to 8% compared to the SCM4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Minor gain change is ob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Microsoft for cross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50D-F317-4781-B33F-341BC10DC8F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6-20T03:55:53Z</dcterms:modified>
  <cp:revision>1352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