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9DF1E6-76AB-4730-9996-992A44CAFF4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263F3F2-6EB8-47A0-A391-BDECF5CFCB6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35887D6-D468-4383-945B-15F7D4553AB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C5ADF53-DEEF-4056-9013-4987504A68E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3BFAC21-0C0E-4BB7-88C7-C65D270BEC3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6F294D2-A643-452C-9165-23EF39AAA26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63D01AB-7863-4107-AE0D-B8AD95365A2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6073EA3-38D9-4304-BDDF-92243A0D820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1FCC7C3-8ED2-4543-A3CA-8FD0E5864AE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3702E55-FFEE-4EAE-9519-A21A4F478C6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C993A5B-2465-491C-B878-65CE889F9C9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A18F-2769-4129-B773-8BC03E9F6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6452-8DAE-4D3F-A6DA-7874DA9AF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B961-19C6-498C-A6AF-04B86F0BE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DC49-74EB-4D7A-B149-91EC68900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9F89-1389-4BE7-92DA-B16E935F71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36D0-2B49-450D-957F-60D4304BB2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17CF-3B07-4BC4-BB76-CAAA5D7BE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1D58-F02E-4660-9E76-BA4BABB719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3705-97E1-4A5D-B8DB-824A37AE2A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AEEA-D3E8-4989-B8E4-1D9A14B9E8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44B4-7A1C-4854-81B0-280C536E4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BA49-9D57-46BC-B5BA-49AADEC88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98CE-5C08-412E-8EBC-6DFFB3FA3D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EC96-44AB-4258-A56C-B6AF3A6441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D67B-35CD-4E9D-A8B8-7AB9DC1EF0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B36A-147B-4A7A-831E-1E0136776E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5A27-8519-4262-9F88-A29E8B1F5F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CFD-41D8-4F4D-863E-DB4BC52196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773-149A-47D7-915E-CB3811F681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8F3-AB23-4928-B9C1-7594C09301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6E5-397E-4C76-AEE7-C932900FBE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43B-ADCF-4300-A74D-632415EFB3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E671-358D-4711-A39B-CDAA9FC562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27E-A6DC-461A-80D6-687127030C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BD8-5878-4508-AF58-43542637CB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B87-9A7D-4D7B-BC5F-34E33232E7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430-1A40-413E-81D8-0C85CE8438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29D-6453-4473-AF45-8D43591FC9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1E1-9DA2-4ECF-AA4D-AA9D3E8CF0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DB6-499C-4137-8BD0-C3A69711E8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6F6AB-1E6F-41CF-8609-9041CCADB6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4610B-E307-4B72-9EA5-E9957680C9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2FB6A-1DF6-4C59-94D3-128510BF9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1172-EC99-426B-A420-0C0272DFCE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C85B2-B244-4E1B-9D5D-64DA705BDB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CB5CC-34BE-44A0-BD28-E9D5AEFED3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A46CB-4416-4DA3-9B3F-1684A10117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31D08-92AF-45ED-8BAE-95B92A92B8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EF637-C985-4BCB-9B14-98116A6A8D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A9DC8-93E5-4135-8F21-B17DFE2E05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8F6F1-0C9F-4960-942B-3BB91C2E7F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F2AE6-22A0-4533-8679-9994EAFEE4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2ED3F-A669-4DD4-977A-4B9F5B5DBD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5F5A-9ADD-44F0-9CA6-8B3657B0E3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2D87-0200-42AD-8518-5257D3A854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4197A-8397-468E-8423-EA1C59A11F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88DB7-6E9C-4AE1-9F00-31FA64A693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42672-34BF-49CB-9874-2F695B908DA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CB3FE-2350-4426-A190-13AAB1579C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02BF2-5E72-4332-84DF-29B17CF7719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325A0-FB8F-42BB-84D3-8026E22C9D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1E505-2421-41E4-9FE9-A57F4DC4F2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F6970-0962-4D42-8ACF-A683379762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F70BB-644F-4180-96B9-2042D07CE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1E33-550C-443A-A8BE-2FCBA8A31FC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6921E-BD1C-40ED-806A-2920D666BA1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D96F5-2431-4EFE-B30D-0CFEB00524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89166-9170-492F-8C28-3B9A75DF62A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5B45-1D42-4993-A79C-43F863E4CA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0502-BE0E-4C3C-9E06-F1E4D9D96B6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584C-7CB2-41FB-BB47-8FD551238E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B526-45A9-4448-963B-EC476F79C7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DA2B-D29D-4ED9-A05D-AB5BF4AD05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8F7B-1FC6-416C-A524-583FF360F33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EEEF-E48D-4966-B99A-513A104B9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EE72-C6D7-4405-BB0B-8D04BCA4ECE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DB11-CAC6-4568-B848-71F33C3C57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2777-9AEA-4BB5-9E16-D6F93010CBF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9E23-6D28-47D7-A4B2-4AF9453D60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3DB9-A652-4528-AA9E-2624B0167B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3178-C26E-46D1-AE00-87D875416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EB2D-00C2-4059-B210-BFF824A5D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1C6C-7527-4AE6-8F1E-77BD6285707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7C7B-B253-48A7-939C-46ED0545BBB2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66AB-A656-45D6-A77B-FA091242E7E5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6EF6-C15D-4327-AADA-A02998A2F9D5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A0F8-84E0-4092-A8A9-0A07BF1C67D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EECB-4430-4098-BC2D-C664EDF685E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D093-4A88-4AC2-A783-D1DA8A0FD734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5C0C-72F0-4B46-8478-17263E01D16A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63F3-3FF7-4EF5-AA45-2ACB0772B762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C400-1203-43E6-A14C-321F1A63585E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35900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U0095</a:t>
            </a:r>
            <a:br>
              <a:rPr sz="4400"/>
            </a:br>
            <a:r>
              <a:rPr b="0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Non-CE: Encoder modification for intra prediction mode using adaptive colour transform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208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Jih-Sheng Tu and Ching-Chieh 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arsaw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June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72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FCC2-D638-475E-9B35-18060B78561A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32920" y="1246320"/>
            <a:ext cx="8683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kipping checking of small TU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CT-enabled (Modification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No matter whether ACT is enabled (Modificati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2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3~5% improvement on encoding time with 0.1% coding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isabling when CU ≥ 16 can get 3% additional speed-up than one when CU ≥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3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~3% additional improvement on encoding time compared to Modific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+0.1~-0.1% coding change compared to SCM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!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75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E352-A684-415C-AE22-0CB2503BDB86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200" y="20160"/>
            <a:ext cx="911844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daptive colour transform (ACT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3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75E7-6AF6-4230-B18A-E5D1245826D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5560" y="1279080"/>
            <a:ext cx="807228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HEVC-SCC adopts ACT to convert one color-space to another one wherein the correlations among three color components are further reduced, and thus improve the coding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78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物件 2"/>
              <p:cNvSpPr txBox="1"/>
              <p:nvPr/>
            </p:nvSpPr>
            <p:spPr>
              <a:xfrm>
                <a:off x="2262240" y="3870360"/>
                <a:ext cx="431964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g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f>
                      <m:fPr>
                        <m:type m:val="lin"/>
                      </m:fPr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G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200" y="20160"/>
            <a:ext cx="91184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ntra prediction using AC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A2C6-7A3F-4080-8568-C03E48DB0A9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5000" y="1039320"/>
            <a:ext cx="875340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CT can be adaptively enabled/disabled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intra prediction m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, inter prediction mode, intra block copy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o evaluate whether to enable the ACT, the intra prediction mode requires to run the process twice for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 algn="just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It increases the complexity for evaluation of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6"/>
          <p:cNvSpPr/>
          <p:nvPr/>
        </p:nvSpPr>
        <p:spPr>
          <a:xfrm>
            <a:off x="225360" y="2992320"/>
            <a:ext cx="13683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7"/>
          <p:cNvSpPr/>
          <p:nvPr/>
        </p:nvSpPr>
        <p:spPr>
          <a:xfrm>
            <a:off x="3675240" y="3112920"/>
            <a:ext cx="1368360" cy="863640"/>
          </a:xfrm>
          <a:prstGeom prst="rect">
            <a:avLst/>
          </a:prstGeom>
          <a:solidFill>
            <a:srgbClr val="ff000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字方塊 8"/>
          <p:cNvSpPr/>
          <p:nvPr/>
        </p:nvSpPr>
        <p:spPr>
          <a:xfrm>
            <a:off x="309600" y="29941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predi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字方塊 9"/>
          <p:cNvSpPr/>
          <p:nvPr/>
        </p:nvSpPr>
        <p:spPr>
          <a:xfrm>
            <a:off x="3961080" y="3311640"/>
            <a:ext cx="7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直線單箭頭接點 10"/>
          <p:cNvCxnSpPr/>
          <p:nvPr/>
        </p:nvCxnSpPr>
        <p:spPr>
          <a:xfrm>
            <a:off x="1593360" y="340020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</a:ln>
        </p:spPr>
      </p:cxnSp>
      <p:sp>
        <p:nvSpPr>
          <p:cNvPr id="316" name="矩形 17"/>
          <p:cNvSpPr/>
          <p:nvPr/>
        </p:nvSpPr>
        <p:spPr>
          <a:xfrm>
            <a:off x="5651640" y="3090960"/>
            <a:ext cx="13665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字方塊 18"/>
          <p:cNvSpPr/>
          <p:nvPr/>
        </p:nvSpPr>
        <p:spPr>
          <a:xfrm>
            <a:off x="5631840" y="309240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C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ransform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Quan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21"/>
          <p:cNvSpPr/>
          <p:nvPr/>
        </p:nvSpPr>
        <p:spPr>
          <a:xfrm>
            <a:off x="7604280" y="3094200"/>
            <a:ext cx="1368360" cy="8632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字方塊 22"/>
          <p:cNvSpPr/>
          <p:nvPr/>
        </p:nvSpPr>
        <p:spPr>
          <a:xfrm>
            <a:off x="7837560" y="33415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直線單箭頭接點 23"/>
          <p:cNvCxnSpPr/>
          <p:nvPr/>
        </p:nvCxnSpPr>
        <p:spPr>
          <a:xfrm>
            <a:off x="5043240" y="354456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21" name="直線單箭頭接點 33"/>
          <p:cNvCxnSpPr/>
          <p:nvPr/>
        </p:nvCxnSpPr>
        <p:spPr>
          <a:xfrm>
            <a:off x="7018200" y="3543120"/>
            <a:ext cx="6105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22" name="直線單箭頭接點 37"/>
          <p:cNvCxnSpPr/>
          <p:nvPr/>
        </p:nvCxnSpPr>
        <p:spPr>
          <a:xfrm>
            <a:off x="3066840" y="354312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23" name="流程圖: 接點 36"/>
          <p:cNvSpPr/>
          <p:nvPr/>
        </p:nvSpPr>
        <p:spPr>
          <a:xfrm>
            <a:off x="2932200" y="3460680"/>
            <a:ext cx="128520" cy="14292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流程圖: 接點 42"/>
          <p:cNvSpPr/>
          <p:nvPr/>
        </p:nvSpPr>
        <p:spPr>
          <a:xfrm>
            <a:off x="2932200" y="3090960"/>
            <a:ext cx="128520" cy="14292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流程圖: 接點 43"/>
          <p:cNvSpPr/>
          <p:nvPr/>
        </p:nvSpPr>
        <p:spPr>
          <a:xfrm>
            <a:off x="2227320" y="3322800"/>
            <a:ext cx="128520" cy="14256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肘形接點 44"/>
          <p:cNvCxnSpPr>
            <a:stCxn id="324" idx="7"/>
            <a:endCxn id="316" idx="0"/>
          </p:cNvCxnSpPr>
          <p:nvPr/>
        </p:nvCxnSpPr>
        <p:spPr>
          <a:xfrm flipH="1" flipV="1" rot="5400000">
            <a:off x="4678200" y="1453680"/>
            <a:ext cx="20880" cy="3294720"/>
          </a:xfrm>
          <a:prstGeom prst="bentConnector3">
            <a:avLst>
              <a:gd name="adj1" fmla="val 1214035"/>
            </a:avLst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cxnSp>
        <p:nvCxnSpPr>
          <p:cNvPr id="327" name="直線單箭頭接點 47"/>
          <p:cNvCxnSpPr>
            <a:endCxn id="323" idx="2"/>
          </p:cNvCxnSpPr>
          <p:nvPr/>
        </p:nvCxnSpPr>
        <p:spPr>
          <a:xfrm>
            <a:off x="2355480" y="3408480"/>
            <a:ext cx="577080" cy="12456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</a:ln>
        </p:spPr>
      </p:cxnSp>
      <p:cxnSp>
        <p:nvCxnSpPr>
          <p:cNvPr id="328" name="直線單箭頭接點 49"/>
          <p:cNvCxnSpPr/>
          <p:nvPr/>
        </p:nvCxnSpPr>
        <p:spPr>
          <a:xfrm flipV="1">
            <a:off x="1857240" y="3120840"/>
            <a:ext cx="331200" cy="4528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200" y="20160"/>
            <a:ext cx="91184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deas for speed-up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15C3-32DF-4FB6-BD0B-6D819A6A7D5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95120" y="931680"/>
            <a:ext cx="875376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-615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dea 1: Can the evaluation for the ACT-enabled intra prediction mode be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dea 2: Can the evaluation for the sizes of transform unit (TU) be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3560" indent="-511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lock size for TU in HEVC can be 32x32, 16x16, 8x8 or 4x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Evaluation for selecting the best TU size out of 4 block sizes is very time-consu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560" indent="-511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is idea wants to use the default size for TU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6"/>
          <p:cNvSpPr/>
          <p:nvPr/>
        </p:nvSpPr>
        <p:spPr>
          <a:xfrm>
            <a:off x="225360" y="990720"/>
            <a:ext cx="13683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7"/>
          <p:cNvSpPr/>
          <p:nvPr/>
        </p:nvSpPr>
        <p:spPr>
          <a:xfrm>
            <a:off x="3675240" y="1111320"/>
            <a:ext cx="1368360" cy="863640"/>
          </a:xfrm>
          <a:prstGeom prst="rect">
            <a:avLst/>
          </a:prstGeom>
          <a:solidFill>
            <a:srgbClr val="ff000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字方塊 8"/>
          <p:cNvSpPr/>
          <p:nvPr/>
        </p:nvSpPr>
        <p:spPr>
          <a:xfrm>
            <a:off x="309600" y="99216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predi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字方塊 9"/>
          <p:cNvSpPr/>
          <p:nvPr/>
        </p:nvSpPr>
        <p:spPr>
          <a:xfrm>
            <a:off x="3961080" y="1309680"/>
            <a:ext cx="7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直線單箭頭接點 10"/>
          <p:cNvCxnSpPr/>
          <p:nvPr/>
        </p:nvCxnSpPr>
        <p:spPr>
          <a:xfrm>
            <a:off x="1593360" y="139824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</a:ln>
        </p:spPr>
      </p:cxnSp>
      <p:sp>
        <p:nvSpPr>
          <p:cNvPr id="338" name="矩形 17"/>
          <p:cNvSpPr/>
          <p:nvPr/>
        </p:nvSpPr>
        <p:spPr>
          <a:xfrm>
            <a:off x="5651640" y="1089000"/>
            <a:ext cx="13665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字方塊 18"/>
          <p:cNvSpPr/>
          <p:nvPr/>
        </p:nvSpPr>
        <p:spPr>
          <a:xfrm>
            <a:off x="5631840" y="109044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C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ransform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Quan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1"/>
          <p:cNvSpPr/>
          <p:nvPr/>
        </p:nvSpPr>
        <p:spPr>
          <a:xfrm>
            <a:off x="7604280" y="1092240"/>
            <a:ext cx="13683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字方塊 22"/>
          <p:cNvSpPr/>
          <p:nvPr/>
        </p:nvSpPr>
        <p:spPr>
          <a:xfrm>
            <a:off x="7837560" y="1339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直線單箭頭接點 23"/>
          <p:cNvCxnSpPr/>
          <p:nvPr/>
        </p:nvCxnSpPr>
        <p:spPr>
          <a:xfrm>
            <a:off x="5043240" y="154260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43" name="直線單箭頭接點 33"/>
          <p:cNvCxnSpPr/>
          <p:nvPr/>
        </p:nvCxnSpPr>
        <p:spPr>
          <a:xfrm>
            <a:off x="7018200" y="1541160"/>
            <a:ext cx="6105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44" name="直線單箭頭接點 37"/>
          <p:cNvCxnSpPr/>
          <p:nvPr/>
        </p:nvCxnSpPr>
        <p:spPr>
          <a:xfrm>
            <a:off x="3066840" y="154116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45" name="流程圖: 接點 36"/>
          <p:cNvSpPr/>
          <p:nvPr/>
        </p:nvSpPr>
        <p:spPr>
          <a:xfrm>
            <a:off x="2932200" y="1459080"/>
            <a:ext cx="128520" cy="14256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流程圖: 接點 42"/>
          <p:cNvSpPr/>
          <p:nvPr/>
        </p:nvSpPr>
        <p:spPr>
          <a:xfrm>
            <a:off x="2932200" y="1089000"/>
            <a:ext cx="128520" cy="14292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流程圖: 接點 43"/>
          <p:cNvSpPr/>
          <p:nvPr/>
        </p:nvSpPr>
        <p:spPr>
          <a:xfrm>
            <a:off x="2227320" y="1320840"/>
            <a:ext cx="128520" cy="14292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肘形接點 44"/>
          <p:cNvCxnSpPr>
            <a:stCxn id="346" idx="7"/>
            <a:endCxn id="338" idx="0"/>
          </p:cNvCxnSpPr>
          <p:nvPr/>
        </p:nvCxnSpPr>
        <p:spPr>
          <a:xfrm flipH="1" flipV="1" rot="5400000">
            <a:off x="4678200" y="-548280"/>
            <a:ext cx="20880" cy="3294720"/>
          </a:xfrm>
          <a:prstGeom prst="bentConnector3">
            <a:avLst>
              <a:gd name="adj1" fmla="val 1214035"/>
            </a:avLst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cxnSp>
        <p:nvCxnSpPr>
          <p:cNvPr id="349" name="直線單箭頭接點 47"/>
          <p:cNvCxnSpPr>
            <a:endCxn id="345" idx="2"/>
          </p:cNvCxnSpPr>
          <p:nvPr/>
        </p:nvCxnSpPr>
        <p:spPr>
          <a:xfrm>
            <a:off x="2355480" y="1406520"/>
            <a:ext cx="577080" cy="12456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</a:ln>
        </p:spPr>
      </p:cxnSp>
      <p:cxnSp>
        <p:nvCxnSpPr>
          <p:cNvPr id="350" name="直線單箭頭接點 49"/>
          <p:cNvCxnSpPr/>
          <p:nvPr/>
        </p:nvCxnSpPr>
        <p:spPr>
          <a:xfrm flipV="1">
            <a:off x="1857240" y="1118520"/>
            <a:ext cx="331200" cy="45324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840" y="50760"/>
            <a:ext cx="9118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4da9"/>
                </a:solidFill>
                <a:latin typeface="Arial"/>
                <a:ea typeface="新細明體"/>
              </a:rPr>
              <a:t>The proposed modification</a:t>
            </a:r>
            <a:endParaRPr b="0" lang="en-US" sz="4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2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2C3D-A2A5-42D0-B332-E803D83AE38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2560" y="1047240"/>
            <a:ext cx="886284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1: I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e video is YUV colour sp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CU size is 64x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then skip the ACT-enabled intra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YUV colour space has no significant correlation among three color compon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 large CU coded by intra prediction mode usually implies the content in the area is not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2: I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e CU size is large enough (≥ NxN, N is set as 32 or 1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then skip the evaluation for smaller sizes of TU in the ACT-enabled intra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ith the help of ACT, the resulting residues in the transform domain may be concentrated into a smaller number of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 large CU coded by intra prediction mode usually implies the content in the area is not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44, FF-IBC search 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5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CB0-DF74-41D9-8E05-3B4B321861C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2560" y="914040"/>
            <a:ext cx="886284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the SCM4.0 C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est 1: Modifications 1 &amp; 2, TU evaluation disabled in CU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≥ NxN =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est 2: Modifications 1 &amp; 2, TU evaluation disabled in CU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≥ NxN = 16x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2920" y="2409840"/>
          <a:ext cx="8862840" cy="3743280"/>
        </p:xfrm>
        <a:graphic>
          <a:graphicData uri="http://schemas.openxmlformats.org/drawingml/2006/table">
            <a:tbl>
              <a:tblPr/>
              <a:tblGrid>
                <a:gridCol w="4890960"/>
                <a:gridCol w="662040"/>
                <a:gridCol w="662040"/>
                <a:gridCol w="662040"/>
                <a:gridCol w="662040"/>
                <a:gridCol w="662040"/>
                <a:gridCol w="661680"/>
              </a:tblGrid>
              <a:tr h="30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8" name="文字方塊 1"/>
          <p:cNvSpPr/>
          <p:nvPr/>
        </p:nvSpPr>
        <p:spPr>
          <a:xfrm>
            <a:off x="726840" y="624060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Thank Microsoft (MSRA) for crossche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44, FF-IBC search, N = 32 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0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7BB8-0D12-49A4-B9C6-F0862EEBAD5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560" y="914040"/>
            <a:ext cx="886284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the SCM4.0 C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2: skipping evaluation of TU siz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only when ACT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3: skipping evaluation of TU siz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no matter whether ACT is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840" y="2467080"/>
          <a:ext cx="9118800" cy="3270240"/>
        </p:xfrm>
        <a:graphic>
          <a:graphicData uri="http://schemas.openxmlformats.org/drawingml/2006/table">
            <a:tbl>
              <a:tblPr/>
              <a:tblGrid>
                <a:gridCol w="3017880"/>
                <a:gridCol w="728640"/>
                <a:gridCol w="590400"/>
                <a:gridCol w="692280"/>
                <a:gridCol w="1042920"/>
                <a:gridCol w="716040"/>
                <a:gridCol w="579600"/>
                <a:gridCol w="777600"/>
                <a:gridCol w="973440"/>
              </a:tblGrid>
              <a:tr h="304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kipping evaluation of TU splitting when CU ≥ 32x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GM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6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20, FF-IBC search, N = 32 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4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F177-3F34-4145-B376-0461F209E99E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2560" y="914040"/>
            <a:ext cx="886284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the SCM4.0 C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2: skipping evaluation of TU siz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only when ACT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3: skipping evaluation of TU siz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no matter whether ACT is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840" y="2467080"/>
          <a:ext cx="9118800" cy="1722240"/>
        </p:xfrm>
        <a:graphic>
          <a:graphicData uri="http://schemas.openxmlformats.org/drawingml/2006/table">
            <a:tbl>
              <a:tblPr/>
              <a:tblGrid>
                <a:gridCol w="3017880"/>
                <a:gridCol w="728640"/>
                <a:gridCol w="590400"/>
                <a:gridCol w="692280"/>
                <a:gridCol w="1042920"/>
                <a:gridCol w="716040"/>
                <a:gridCol w="579600"/>
                <a:gridCol w="777600"/>
                <a:gridCol w="973440"/>
              </a:tblGrid>
              <a:tr h="304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kipping evaluation of TU splitting when CU ≥ 32x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44, FF-IBC search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8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E3CF-9B3D-411A-8038-5F3EB4A6A73C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2560" y="914040"/>
            <a:ext cx="886284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the SCM4.0 C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2: skipping evaluation of TU siz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with ACT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5840" y="2467080"/>
          <a:ext cx="9118800" cy="3359160"/>
        </p:xfrm>
        <a:graphic>
          <a:graphicData uri="http://schemas.openxmlformats.org/drawingml/2006/table">
            <a:tbl>
              <a:tblPr/>
              <a:tblGrid>
                <a:gridCol w="3017880"/>
                <a:gridCol w="728640"/>
                <a:gridCol w="590400"/>
                <a:gridCol w="692280"/>
                <a:gridCol w="1042920"/>
                <a:gridCol w="716040"/>
                <a:gridCol w="579600"/>
                <a:gridCol w="777600"/>
                <a:gridCol w="973440"/>
              </a:tblGrid>
              <a:tr h="49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en CU ≥ 32x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en CU ≥ 16x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GM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6-24T09:11:18Z</dcterms:modified>
  <cp:revision>1401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