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14DD-EAF2-4B60-BA36-85441BAA1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811A-FD18-42B5-8235-37CBC34FC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7BD-055B-4E64-949B-BC16D960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774-9936-4FCC-B258-5FA430B5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F2DC-4C67-448D-888C-80DF436B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805-E879-442B-B6B3-DE5C4E55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07A2-89E3-415A-8E63-DA512FBB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304-A207-4547-B041-80DCAC82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5831-ECCB-4A10-A928-F1A50B40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89F-731D-4FD9-8395-A765C308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409-3429-4919-BD9D-76EEADD1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5B3-D0FC-40AA-B1E6-CA20A214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BE9-02A6-4DD2-A783-FA6E4CE9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7D2-6BB1-4599-8309-BA061C16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7C1D-761A-4505-9C40-7014F71A13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D2EE-94FB-42C9-8A1E-7DBB6EFDD4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CTVC-U0021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CE1: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新細明體"/>
              </a:rPr>
              <a:t>Summary report of CE on palette mode improvemen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99920" y="358128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JCTVC Meeting, Warsaw, PL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新細明體"/>
              </a:rPr>
              <a:t>Jun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Lin La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Vadim Seregin, Xiaoyu Xiu, Christophe Gisqu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CE Coordina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27F8-07EF-4C8A-95C6-7FDF7BD312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B (JCTVC-U00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4E0F-8ED0-45AE-8EF4-7EF40DEC3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7010640" cy="270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7010640" cy="2708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27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B (JCTVC-U00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2158-B66B-49CF-A348-A9001A1CF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2752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1087560" y="927000"/>
            <a:ext cx="6968880" cy="1596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1087560" y="2746440"/>
            <a:ext cx="6968880" cy="160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3"/>
          <a:stretch/>
        </p:blipFill>
        <p:spPr>
          <a:xfrm>
            <a:off x="1087560" y="4575240"/>
            <a:ext cx="6968880" cy="1596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36482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C.1 &amp; C.2 (JCTVC-U0101 &amp; U0088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alternative scanning patterns, signalled using one fl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新細明體"/>
              </a:rPr>
              <a:t>Current Draft Text: Horizontal Traverse scan, vertical Traverse sc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Test C.1: Add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Revers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horizontal / vertical traverse sc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Test C.2: Add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Rotat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horizontal / vertical traverse scan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scan from B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6588-8C82-4EE3-8826-3D219CB5DC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1486080" y="2590920"/>
            <a:ext cx="61722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0F33-077A-4ABE-A6CA-6413E3303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rcRect l="0" t="0" r="0" b="32147"/>
          <a:stretch/>
        </p:blipFill>
        <p:spPr>
          <a:xfrm>
            <a:off x="1371600" y="380880"/>
            <a:ext cx="6400800" cy="51246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"/>
          <p:cNvSpPr/>
          <p:nvPr/>
        </p:nvSpPr>
        <p:spPr>
          <a:xfrm>
            <a:off x="1295280" y="5475240"/>
            <a:ext cx="66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555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C.1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O method of CE.1 Test released on May 30, 2015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(encoder only changes compared to the initial C.1 release Apr. 8,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555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3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O method of CE.1 Test C.1 released on May 30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555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2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O method of CE.1 Test C.1 released on Apr. 8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DF1C-3325-411D-B7E0-ED7A82562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0" t="67859" r="0" b="0"/>
          <a:stretch/>
        </p:blipFill>
        <p:spPr>
          <a:xfrm>
            <a:off x="1407960" y="347760"/>
            <a:ext cx="6328080" cy="2400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rcRect l="0" t="0" r="0" b="64135"/>
          <a:stretch/>
        </p:blipFill>
        <p:spPr>
          <a:xfrm>
            <a:off x="1415880" y="2916360"/>
            <a:ext cx="631224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rcRect l="0" t="0" r="75007" b="96977"/>
          <a:stretch/>
        </p:blipFill>
        <p:spPr>
          <a:xfrm>
            <a:off x="1219320" y="228600"/>
            <a:ext cx="1600200" cy="2286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"/>
          <p:cNvSpPr/>
          <p:nvPr/>
        </p:nvSpPr>
        <p:spPr>
          <a:xfrm>
            <a:off x="1295280" y="5475240"/>
            <a:ext cx="66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555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C.1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O method of CE.1 Test released on May 30, 2015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(encoder only changes compared to the initial C.1 release Apr. 8,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555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3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O method of CE.1 Test C.1 released on May 30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555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2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O method of CE.1 Test C.1 released on Apr. 8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D05F-E12C-44B8-A345-9132C73DC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0" t="35865" r="0" b="0"/>
          <a:stretch/>
        </p:blipFill>
        <p:spPr>
          <a:xfrm>
            <a:off x="1395360" y="533520"/>
            <a:ext cx="6353280" cy="4800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rcRect l="0" t="0" r="80690" b="95906"/>
          <a:stretch/>
        </p:blipFill>
        <p:spPr>
          <a:xfrm>
            <a:off x="1371600" y="228600"/>
            <a:ext cx="121932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"/>
          <p:cNvSpPr/>
          <p:nvPr/>
        </p:nvSpPr>
        <p:spPr>
          <a:xfrm>
            <a:off x="1295280" y="5475240"/>
            <a:ext cx="66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555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C.1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O method of CE.1 Test released on May 30, 2015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(encoder only changes compared to the initial C.1 release Apr. 8,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555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3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O method of CE.1 Test C.1 released on May 30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555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2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O method of CE.1 Test C.1 released on Apr. 8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DB6B-BEB6-4D53-8137-A1568C6CC5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639040" cy="5133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1295280" y="5475240"/>
            <a:ext cx="6629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555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C.1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O method of CE.1 Test released on May 30, 2015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(encoder only changes compared to the initial C.1 release Apr. 8, 20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555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3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O method of CE.1 Test C.1 released on May 30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555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2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新細明體"/>
              </a:rPr>
              <a:t>RDO method of CE.1 Test C.1 released on Apr. 8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JCTVC-U012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837720"/>
            <a:ext cx="7696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Calibri"/>
              </a:rPr>
              <a:t>Modification of palette run codin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f 1-st pixel in a line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lette_run_end_of_line_fl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f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ette_run_end_of_line_fla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Signal number of lines L of the r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ode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mapp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L using </a:t>
            </a:r>
            <a:r>
              <a:rPr b="0" i="1" lang="en-CA" sz="1800" spc="-1" strike="noStrike">
                <a:solidFill>
                  <a:srgbClr val="000000"/>
                </a:solidFill>
                <a:latin typeface="Calibri"/>
              </a:rPr>
              <a:t>xWriteCoefRemainExGolomb 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ith order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ode run length as norm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Else (not 1-st pixel in a 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ode </a:t>
            </a:r>
            <a:r>
              <a:rPr b="1" i="1" lang="en-CA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mapped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run length using </a:t>
            </a:r>
            <a:r>
              <a:rPr b="0" i="1" lang="en-CA" sz="1800" spc="-1" strike="noStrike">
                <a:solidFill>
                  <a:srgbClr val="000000"/>
                </a:solidFill>
                <a:latin typeface="Calibri"/>
              </a:rPr>
              <a:t>xWriteCoefRemainExGolomb 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with order 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0EB1-13AA-4C24-8E31-C98C87347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415880" y="3505320"/>
            <a:ext cx="6312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JCTVC-U012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8088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62A9-B7C5-4A97-9267-1873A8AAD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467000" y="1143000"/>
            <a:ext cx="6184800" cy="289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1447920" y="4343400"/>
            <a:ext cx="6222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E1 Tests and Cross-chec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A.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tended copy above mode to the first line with index adjustment bi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27920" indent="-3358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VC-U0061, cross-check: JCTVC-U01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A.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tended copy above mode to the first line with grouping th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lette_run_type_flag in fro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27920" indent="-3358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VC-U0062, 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ss-check: JCTVC-U014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B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Simplification for index map coding in palette m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27920" indent="-3358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VC-U0050, cross-check: JCTVC-U00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C.1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Improved palette run-length coding with palette reverse scan or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27920" indent="-3358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VC-U0101, cross-check: JCTVC-U005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C.2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Palette run-length coding with rotated index sc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27920" indent="-3358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VC-U0088, cross-check: JCTVC-U01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s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– </a:t>
            </a: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Modification of palette run co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727920" indent="-335880"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CTVC-U0122, cross-check: JCTVC-U01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56D7-F65F-4A2C-AFAE-DE4C9AB63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ckground: Index adju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WD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of palette indices [bypass]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Group palette indices [bypass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irs { run_type flag [ctx], ru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[ctx+bypass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}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Group Escapes [bypass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signalling a index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268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previous is COPY_ABOVE, the current pixel index ≠ above pixel 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268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previous is COPY_INDEX, the current pixel index ≠ previous pixel 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268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One less possible value, for current 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narization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uncated binary”,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djustedMaxPaletteInde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PaletteIndex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– 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parsed index: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sing run_type and r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268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 Palette Index” = Above pixel index, if previous is COPY_AB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268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Previous pixel index, if previous is COPY_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2680" indent="-264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parsed current index &gt;= Ref palette 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5268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ual current index = Parsed current index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+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64600" indent="-264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F96A-6A7F-43A7-A26F-CD627BABD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1550880" y="3424320"/>
            <a:ext cx="6042240" cy="842760"/>
            <a:chOff x="1550880" y="3424320"/>
            <a:chExt cx="6042240" cy="842760"/>
          </a:xfrm>
        </p:grpSpPr>
        <p:pic>
          <p:nvPicPr>
            <p:cNvPr id="58" name="Picture 6" descr=""/>
            <p:cNvPicPr/>
            <p:nvPr/>
          </p:nvPicPr>
          <p:blipFill>
            <a:blip r:embed="rId1"/>
            <a:stretch/>
          </p:blipFill>
          <p:spPr>
            <a:xfrm>
              <a:off x="1550880" y="3424320"/>
              <a:ext cx="28018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5" descr=""/>
            <p:cNvPicPr/>
            <p:nvPr/>
          </p:nvPicPr>
          <p:blipFill>
            <a:blip r:embed="rId2"/>
            <a:stretch/>
          </p:blipFill>
          <p:spPr>
            <a:xfrm>
              <a:off x="4979880" y="3652920"/>
              <a:ext cx="2613240" cy="61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A.1 (JCTVC-U006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0663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Extended COPY_ABOVE_MODE to the first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Directly cop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pixel valu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from the above 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f unavailable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(slice/tile boundary, CIP), u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olor value of the first palette ent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How to handle index adjust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Always enable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edMaxPaletteIndex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PaletteIndex – 1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Additional syntax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f79646"/>
                </a:solidFill>
                <a:latin typeface="Calibri"/>
                <a:ea typeface="新細明體"/>
              </a:rPr>
              <a:t>orange pixel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(previous pixel is COPY_ABOVE &amp;&amp; above pixel is from above C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f index =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PaletteIndex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, signal the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PaletteIndex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– 1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PaletteIndex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– 1” is signaled, signal 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新細明體"/>
              </a:rPr>
              <a:t>index refinement bi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to indicate the index i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PaletteIndex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– 1 o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PaletteInde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Palette index syntaxes separated into two part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of palette indices [bypass]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Group palette indices [bypass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{ run_type flag [ctx], Palette ru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[ctx+bypass], </a:t>
            </a:r>
            <a:r>
              <a:rPr b="1" i="1" lang="en-US" sz="1800" spc="-1" strike="noStrike" u="sng">
                <a:solidFill>
                  <a:srgbClr val="00b050"/>
                </a:solidFill>
                <a:uFillTx/>
                <a:latin typeface="Calibri"/>
                <a:ea typeface="新細明體"/>
              </a:rPr>
              <a:t>index refinement bi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[bypass] (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onditionall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signall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)</a:t>
            </a:r>
            <a:r>
              <a:rPr b="1" i="1" lang="en-US" sz="1800" spc="-1" strike="noStrike">
                <a:solidFill>
                  <a:srgbClr val="00b050"/>
                </a:solidFill>
                <a:latin typeface="Calibri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}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Group Escape [bypass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2729-9A2C-46B7-B3A6-75870C667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9"/>
          <p:cNvGrpSpPr/>
          <p:nvPr/>
        </p:nvGrpSpPr>
        <p:grpSpPr>
          <a:xfrm>
            <a:off x="5181480" y="914400"/>
            <a:ext cx="3429000" cy="2209680"/>
            <a:chOff x="5181480" y="914400"/>
            <a:chExt cx="3429000" cy="2209680"/>
          </a:xfrm>
        </p:grpSpPr>
        <p:pic>
          <p:nvPicPr>
            <p:cNvPr id="64" name="Picture 2" descr=""/>
            <p:cNvPicPr/>
            <p:nvPr/>
          </p:nvPicPr>
          <p:blipFill>
            <a:blip r:embed="rId1"/>
            <a:stretch/>
          </p:blipFill>
          <p:spPr>
            <a:xfrm>
              <a:off x="5181480" y="914400"/>
              <a:ext cx="34290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矩形 4"/>
            <p:cNvSpPr/>
            <p:nvPr/>
          </p:nvSpPr>
          <p:spPr>
            <a:xfrm>
              <a:off x="6891480" y="1344600"/>
              <a:ext cx="430200" cy="4428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6"/>
            <p:cNvSpPr/>
            <p:nvPr/>
          </p:nvSpPr>
          <p:spPr>
            <a:xfrm>
              <a:off x="6041880" y="2217960"/>
              <a:ext cx="430200" cy="4428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Extended COPY_ABOVE_MODE to the first 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Directly cop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pixel valu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from the above C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f unavailable</a:t>
            </a:r>
            <a:r>
              <a:rPr b="0" lang="zh-TW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(slice/tile boundary, CIP), us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color value of the first palette ent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How to handle index adjustmen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Group run_type flags in the front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of palette indices [bypass 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Group run_type flag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[ctx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Group palette indices [bypass]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Grou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lette ru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[ctx+bypass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Group Escapes [bypass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previous pixel is COPY_ABOVE: No index adjust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else (previous pixel is COPY_INDEX): Apply index adjust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D0A6-1AA1-42CF-A90F-9A1362288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9"/>
          <p:cNvGrpSpPr/>
          <p:nvPr/>
        </p:nvGrpSpPr>
        <p:grpSpPr>
          <a:xfrm>
            <a:off x="5181480" y="1143000"/>
            <a:ext cx="3429000" cy="2209680"/>
            <a:chOff x="5181480" y="1143000"/>
            <a:chExt cx="3429000" cy="2209680"/>
          </a:xfrm>
        </p:grpSpPr>
        <p:pic>
          <p:nvPicPr>
            <p:cNvPr id="70" name="Picture 2" descr=""/>
            <p:cNvPicPr/>
            <p:nvPr/>
          </p:nvPicPr>
          <p:blipFill>
            <a:blip r:embed="rId1"/>
            <a:stretch/>
          </p:blipFill>
          <p:spPr>
            <a:xfrm>
              <a:off x="5181480" y="1143000"/>
              <a:ext cx="34290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矩形 4"/>
            <p:cNvSpPr/>
            <p:nvPr/>
          </p:nvSpPr>
          <p:spPr>
            <a:xfrm>
              <a:off x="6891480" y="1573200"/>
              <a:ext cx="430200" cy="4428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6"/>
            <p:cNvSpPr/>
            <p:nvPr/>
          </p:nvSpPr>
          <p:spPr>
            <a:xfrm>
              <a:off x="6041880" y="2446560"/>
              <a:ext cx="430200" cy="4428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A.2 (JCTVC-U006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96F3-4C00-4B28-AB8A-3D6972AB33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333360" y="949320"/>
            <a:ext cx="8477280" cy="53751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A.1 and A.2,</a:t>
            </a:r>
            <a:r>
              <a:rPr b="0" lang="zh-TW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444 Full-frame IB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A574-72D5-49D5-9BE3-76FFFF3C8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943280" y="1308240"/>
            <a:ext cx="5257800" cy="4711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A.1 and A.2, 444 Full-frame IB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ckground for Test B: Index adju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D0AE-EB69-4224-AE90-91A2E5EE0B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WD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umber of palette indices [bypass]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Group palette indices [bypass]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irs { run_type flag [ctx], ru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新細明體"/>
              </a:rPr>
              <a:t> [ctx+bypass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}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Group Escapes [bypass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signalling a index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previous is COPY_ABOVE, the current pixel index ≠ above pixel 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previous is COPY_INDEX, the current pixel index ≠ previous pixel 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One less possible value, for current 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parsed index: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sing run_type and ru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 Palette Index” = Above pixel index, if previous is COPY_ABO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= Previous pixel index, if previous is COPY_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parsed current index &gt;= Ref palette inde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73200" indent="-2732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ual current index = Parsed current index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+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12"/>
          <p:cNvGrpSpPr/>
          <p:nvPr/>
        </p:nvGrpSpPr>
        <p:grpSpPr>
          <a:xfrm>
            <a:off x="1550880" y="3424320"/>
            <a:ext cx="6042240" cy="842760"/>
            <a:chOff x="1550880" y="3424320"/>
            <a:chExt cx="6042240" cy="842760"/>
          </a:xfrm>
        </p:grpSpPr>
        <p:pic>
          <p:nvPicPr>
            <p:cNvPr id="84" name="Picture 6" descr=""/>
            <p:cNvPicPr/>
            <p:nvPr/>
          </p:nvPicPr>
          <p:blipFill>
            <a:blip r:embed="rId1"/>
            <a:stretch/>
          </p:blipFill>
          <p:spPr>
            <a:xfrm>
              <a:off x="1550880" y="3424320"/>
              <a:ext cx="2801880" cy="83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4979880" y="3652920"/>
              <a:ext cx="2613240" cy="614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st B (JCTVC-U005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52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p run_type in front, no index adjustment if previous is COPY_ABOVE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o dependency from the above index) </a:t>
            </a:r>
            <a:r>
              <a:rPr b="1" i="1" lang="en-US" sz="1800" spc="-1" strike="noStrike">
                <a:solidFill>
                  <a:srgbClr val="f79646"/>
                </a:solidFill>
                <a:latin typeface="Calibri"/>
              </a:rPr>
              <a:t>Included in Test A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p run_type in front, no index adjustment if previous is COPY_INDE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o dependency from the left index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-1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out grouping run_type in front, completely remove index adjust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-2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p run_type in front, completely remove index adjust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40A9-3D45-46ED-B239-7A27F9FB1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1104840" y="3124080"/>
            <a:ext cx="6934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6T22:41:49Z</dcterms:created>
  <dc:creator>mtk30288</dc:creator>
  <dc:description/>
  <dc:language>en-US</dc:language>
  <cp:lastModifiedBy>mtk30288</cp:lastModifiedBy>
  <dcterms:modified xsi:type="dcterms:W3CDTF">2015-06-19T08:51:26Z</dcterms:modified>
  <cp:revision>224</cp:revision>
  <dc:subject/>
  <dc:title>JCTVC-T0021  CE6: Summary report of CE on improvements of palette mode</dc:title>
</cp:coreProperties>
</file>