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6872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dt" idx="2"/>
          </p:nvPr>
        </p:nvSpPr>
        <p:spPr>
          <a:xfrm>
            <a:off x="4146480" y="0"/>
            <a:ext cx="316872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body"/>
          </p:nvPr>
        </p:nvSpPr>
        <p:spPr>
          <a:xfrm>
            <a:off x="973080" y="4562640"/>
            <a:ext cx="536904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 type="sldNum" idx="4"/>
          </p:nvPr>
        </p:nvSpPr>
        <p:spPr>
          <a:xfrm>
            <a:off x="414648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8A8E4-3643-46E4-B710-F15A3E5FC5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414648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60E1D-0E06-4534-98E3-CFBADD349AFB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73080" y="4562640"/>
            <a:ext cx="536904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414648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BD746-430F-4C75-843E-C31CDB5CF9A7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73080" y="4562640"/>
            <a:ext cx="536904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C462E-0C12-4E1B-A4D8-83A58D79ED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8739C-A5CA-40C0-89D3-A15A84ABBC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776D6-713E-4E44-B1C2-598EA97A4E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DFD30-8D33-4369-A15C-A534521382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D8B56-D595-4A7A-8CDF-A9583563FC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06780-6298-4032-A1E0-DA3B51B900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4962F-842A-45CC-8EBC-3959740012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5D486-C72B-4CF2-9F6C-3C6B602276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B88E0-4F16-406B-99EE-6A9BB697DB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AD3FF-0CB4-446C-8DA6-E97A114D77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AF6A2-1796-40E5-8A47-F84638F43F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81746-5403-4480-9796-47565A54A6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304920"/>
              <a:ext cx="9144000" cy="6400800"/>
              <a:chOff x="0" y="304920"/>
              <a:chExt cx="9144000" cy="6400800"/>
            </a:xfrm>
          </p:grpSpPr>
          <p:sp>
            <p:nvSpPr>
              <p:cNvPr id="2" name="Line 4"/>
              <p:cNvSpPr/>
              <p:nvPr/>
            </p:nvSpPr>
            <p:spPr>
              <a:xfrm>
                <a:off x="0" y="3049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" name="Line 5"/>
              <p:cNvSpPr/>
              <p:nvPr/>
            </p:nvSpPr>
            <p:spPr>
              <a:xfrm>
                <a:off x="0" y="6094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0" y="9144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" name="Line 7"/>
              <p:cNvSpPr/>
              <p:nvPr/>
            </p:nvSpPr>
            <p:spPr>
              <a:xfrm>
                <a:off x="0" y="12193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" name="Line 8"/>
              <p:cNvSpPr/>
              <p:nvPr/>
            </p:nvSpPr>
            <p:spPr>
              <a:xfrm>
                <a:off x="0" y="15238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7" name="Line 9"/>
              <p:cNvSpPr/>
              <p:nvPr/>
            </p:nvSpPr>
            <p:spPr>
              <a:xfrm>
                <a:off x="0" y="18288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0" y="21337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0" y="24382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0" y="27432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0" y="30481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0" y="33526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0" y="36576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0" y="39625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0" y="42670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0" y="45720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0" y="48769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0" y="51814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0" y="54864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0" y="57913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0" y="60958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0" y="64008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0" y="67057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24" name="Group 26"/>
            <p:cNvGrpSpPr/>
            <p:nvPr/>
          </p:nvGrpSpPr>
          <p:grpSpPr>
            <a:xfrm>
              <a:off x="304920" y="0"/>
              <a:ext cx="8534160" cy="6858000"/>
              <a:chOff x="304920" y="0"/>
              <a:chExt cx="8534160" cy="6858000"/>
            </a:xfrm>
          </p:grpSpPr>
          <p:sp>
            <p:nvSpPr>
              <p:cNvPr id="25" name="Line 27"/>
              <p:cNvSpPr/>
              <p:nvPr/>
            </p:nvSpPr>
            <p:spPr>
              <a:xfrm>
                <a:off x="3049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6094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9144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12193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9" name="Line 31"/>
              <p:cNvSpPr/>
              <p:nvPr/>
            </p:nvSpPr>
            <p:spPr>
              <a:xfrm>
                <a:off x="15238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0" name="Line 32"/>
              <p:cNvSpPr/>
              <p:nvPr/>
            </p:nvSpPr>
            <p:spPr>
              <a:xfrm>
                <a:off x="18288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21337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24382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27432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30481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5" name="Line 37"/>
              <p:cNvSpPr/>
              <p:nvPr/>
            </p:nvSpPr>
            <p:spPr>
              <a:xfrm>
                <a:off x="33526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6" name="Line 38"/>
              <p:cNvSpPr/>
              <p:nvPr/>
            </p:nvSpPr>
            <p:spPr>
              <a:xfrm>
                <a:off x="36576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7" name="Line 39"/>
              <p:cNvSpPr/>
              <p:nvPr/>
            </p:nvSpPr>
            <p:spPr>
              <a:xfrm>
                <a:off x="39625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8" name="Line 40"/>
              <p:cNvSpPr/>
              <p:nvPr/>
            </p:nvSpPr>
            <p:spPr>
              <a:xfrm>
                <a:off x="42670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9" name="Line 41"/>
              <p:cNvSpPr/>
              <p:nvPr/>
            </p:nvSpPr>
            <p:spPr>
              <a:xfrm>
                <a:off x="45720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0" name="Line 42"/>
              <p:cNvSpPr/>
              <p:nvPr/>
            </p:nvSpPr>
            <p:spPr>
              <a:xfrm>
                <a:off x="48769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1" name="Line 43"/>
              <p:cNvSpPr/>
              <p:nvPr/>
            </p:nvSpPr>
            <p:spPr>
              <a:xfrm>
                <a:off x="51814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2" name="Line 44"/>
              <p:cNvSpPr/>
              <p:nvPr/>
            </p:nvSpPr>
            <p:spPr>
              <a:xfrm>
                <a:off x="54864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3" name="Line 45"/>
              <p:cNvSpPr/>
              <p:nvPr/>
            </p:nvSpPr>
            <p:spPr>
              <a:xfrm>
                <a:off x="57913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4" name="Line 46"/>
              <p:cNvSpPr/>
              <p:nvPr/>
            </p:nvSpPr>
            <p:spPr>
              <a:xfrm>
                <a:off x="60958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5" name="Line 47"/>
              <p:cNvSpPr/>
              <p:nvPr/>
            </p:nvSpPr>
            <p:spPr>
              <a:xfrm>
                <a:off x="64008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6" name="Line 48"/>
              <p:cNvSpPr/>
              <p:nvPr/>
            </p:nvSpPr>
            <p:spPr>
              <a:xfrm>
                <a:off x="67057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7" name="Line 49"/>
              <p:cNvSpPr/>
              <p:nvPr/>
            </p:nvSpPr>
            <p:spPr>
              <a:xfrm>
                <a:off x="70102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8" name="Line 50"/>
              <p:cNvSpPr/>
              <p:nvPr/>
            </p:nvSpPr>
            <p:spPr>
              <a:xfrm>
                <a:off x="73152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9" name="Line 51"/>
              <p:cNvSpPr/>
              <p:nvPr/>
            </p:nvSpPr>
            <p:spPr>
              <a:xfrm>
                <a:off x="76201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0" name="Line 52"/>
              <p:cNvSpPr/>
              <p:nvPr/>
            </p:nvSpPr>
            <p:spPr>
              <a:xfrm>
                <a:off x="79246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1" name="Line 53"/>
              <p:cNvSpPr/>
              <p:nvPr/>
            </p:nvSpPr>
            <p:spPr>
              <a:xfrm>
                <a:off x="82296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2" name="Line 54"/>
              <p:cNvSpPr/>
              <p:nvPr/>
            </p:nvSpPr>
            <p:spPr>
              <a:xfrm>
                <a:off x="85345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3" name="Line 55"/>
              <p:cNvSpPr/>
              <p:nvPr/>
            </p:nvSpPr>
            <p:spPr>
              <a:xfrm>
                <a:off x="88390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54" name="Rectangle 56"/>
          <p:cNvSpPr/>
          <p:nvPr/>
        </p:nvSpPr>
        <p:spPr>
          <a:xfrm>
            <a:off x="3352680" y="0"/>
            <a:ext cx="579132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55" name="Picture 57" descr="Tongji2"/>
          <p:cNvPicPr/>
          <p:nvPr/>
        </p:nvPicPr>
        <p:blipFill>
          <a:blip r:embed="rId3"/>
          <a:stretch/>
        </p:blipFill>
        <p:spPr>
          <a:xfrm>
            <a:off x="-76320" y="0"/>
            <a:ext cx="1828800" cy="5144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sldNum" idx="1"/>
          </p:nvPr>
        </p:nvSpPr>
        <p:spPr>
          <a:xfrm>
            <a:off x="7092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AD6F0-4744-4B7A-8D14-E464244C1D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" name="Picture 61" descr="paint"/>
          <p:cNvPicPr/>
          <p:nvPr/>
        </p:nvPicPr>
        <p:blipFill>
          <a:blip r:embed="rId4"/>
          <a:stretch/>
        </p:blipFill>
        <p:spPr>
          <a:xfrm>
            <a:off x="0" y="512640"/>
            <a:ext cx="9144000" cy="131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4" descr=""/>
          <p:cNvPicPr/>
          <p:nvPr/>
        </p:nvPicPr>
        <p:blipFill>
          <a:blip r:embed="rId5"/>
          <a:stretch/>
        </p:blipFill>
        <p:spPr>
          <a:xfrm>
            <a:off x="7059600" y="0"/>
            <a:ext cx="2084400" cy="52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75" descr="Tongji2"/>
          <p:cNvPicPr/>
          <p:nvPr/>
        </p:nvPicPr>
        <p:blipFill>
          <a:blip r:embed="rId2"/>
          <a:stretch/>
        </p:blipFill>
        <p:spPr>
          <a:xfrm>
            <a:off x="-76320" y="0"/>
            <a:ext cx="1828800" cy="514440"/>
          </a:xfrm>
          <a:prstGeom prst="rect">
            <a:avLst/>
          </a:prstGeom>
          <a:ln w="0">
            <a:noFill/>
          </a:ln>
        </p:spPr>
      </p:pic>
      <p:pic>
        <p:nvPicPr>
          <p:cNvPr id="96" name="WordArt 76" descr=""/>
          <p:cNvPicPr/>
          <p:nvPr/>
        </p:nvPicPr>
        <p:blipFill>
          <a:blip r:embed="rId3"/>
          <a:stretch/>
        </p:blipFill>
        <p:spPr>
          <a:xfrm>
            <a:off x="7759800" y="19080"/>
            <a:ext cx="1292040" cy="52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2"/>
          <p:cNvSpPr/>
          <p:nvPr/>
        </p:nvSpPr>
        <p:spPr>
          <a:xfrm>
            <a:off x="7093080" y="55148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EC95E-F02C-44AA-B932-1A844673FF7F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0" y="1521000"/>
            <a:ext cx="914400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E3-related: Worst case SRAM and DDR bandwidth analysis and solutions for</a:t>
            </a:r>
            <a:r>
              <a:rPr b="0" lang="en-CA" sz="3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CA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ISC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576360" y="3711600"/>
            <a:ext cx="792144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alibri"/>
              </a:rPr>
              <a:t>JCTVC-T0224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alibri"/>
              </a:rPr>
              <a:t>10 Feb. – 18 Feb. 2015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alibri"/>
              </a:rPr>
              <a:t>Tao Li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alibri"/>
              </a:rPr>
              <a:t>Tongji Universi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1800360" y="0"/>
            <a:ext cx="532764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6600"/>
                </a:solidFill>
                <a:latin typeface="Arial"/>
              </a:rPr>
              <a:t>SRAM bandwidth analy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216000" y="657360"/>
            <a:ext cx="8928000" cy="58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47840" indent="-44784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real-time video decoder chips’ clock frequenc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full HD (125Mpixel/s): minimum 187MHz (125x1.5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design will use a low frequenc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peline throughput is at least 1.5 cycles per pix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a basic IC design princip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RAM bandwidth problem as long as the decoding operation is simple and needs at most only one SRAM read and write per pix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C decoding operation is just such a simple on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x2, 2x4, 4x2 memory pattern, P-value is also smaller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any perspective, no SRAM bandwidth proble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灯片编号占位符 1"/>
          <p:cNvSpPr/>
          <p:nvPr/>
        </p:nvSpPr>
        <p:spPr>
          <a:xfrm>
            <a:off x="709308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53564-90AB-44AD-93FB-7B04281DA9BD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" name="Text Box 2"/>
          <p:cNvSpPr/>
          <p:nvPr/>
        </p:nvSpPr>
        <p:spPr>
          <a:xfrm>
            <a:off x="647640" y="0"/>
            <a:ext cx="7128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2CTU SRAM cos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216000" y="728640"/>
            <a:ext cx="8713800" cy="46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47840" indent="-44784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Reuse existing one, no cos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a dedicated one, cost 0.4 penn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CTU SRAM size: 2x64x64x24 = </a:t>
            </a:r>
            <a:r>
              <a:rPr b="1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6608 bi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licon area in 28nm process:0.075mm</a:t>
            </a:r>
            <a:r>
              <a:rPr b="1" lang="en-CA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mm wafer cost: 3000US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fer area utilization: 80%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CTU cost: 3000*0.075/(3.14*150*150*0.8)=0.00398 USD=0.4 cents</a:t>
            </a:r>
            <a:r>
              <a:rPr b="0" lang="en-CA" sz="2400" spc="-1" strike="noStrike">
                <a:solidFill>
                  <a:srgbClr val="40458c"/>
                </a:solidFill>
                <a:latin typeface="Tahoma"/>
                <a:ea typeface="宋体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 SRAM bandwidth and cost are not proble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3"/>
          <p:cNvSpPr/>
          <p:nvPr/>
        </p:nvSpPr>
        <p:spPr>
          <a:xfrm>
            <a:off x="179280" y="549360"/>
            <a:ext cx="8713800" cy="638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ing length of ISC can be limited to and 36 pixels for depth=0~2 outside of 2CTU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pixels for depth = 3, 36 pixels for depth = 0~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-values: 10.7, 10,7, 14.2 vs 8, 8, 16 for IBC and 12, 15, 18 for inter 4x8 Uni-prediction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9" name="灯片编号占位符 1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9DEDD-83BA-441C-A004-FC836D4765D7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755640" y="0"/>
            <a:ext cx="7128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DDR Bandwidth Analy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1968480" y="2023920"/>
            <a:ext cx="57960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imes New Roman"/>
              </a:rPr>
              <a:t>8x4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969920" y="2313000"/>
            <a:ext cx="57960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imes New Roman"/>
              </a:rPr>
              <a:t>8x4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1969920" y="2603520"/>
            <a:ext cx="57960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imes New Roman"/>
              </a:rPr>
              <a:t>8x4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1969920" y="2892600"/>
            <a:ext cx="57960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imes New Roman"/>
              </a:rPr>
              <a:t>8x4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1969920" y="3181320"/>
            <a:ext cx="57960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imes New Roman"/>
              </a:rPr>
              <a:t>8x4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1969920" y="3471840"/>
            <a:ext cx="57960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imes New Roman"/>
              </a:rPr>
              <a:t>8x4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5407200" y="2746440"/>
            <a:ext cx="579240" cy="57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imes New Roman"/>
              </a:rPr>
              <a:t>8x8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5986440" y="2746440"/>
            <a:ext cx="577800" cy="57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imes New Roman"/>
              </a:rPr>
              <a:t>8x8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6564240" y="2746440"/>
            <a:ext cx="579600" cy="57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imes New Roman"/>
              </a:rPr>
              <a:t>8x8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1389240" y="2023920"/>
            <a:ext cx="57924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imes New Roman"/>
              </a:rPr>
              <a:t>8x4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1390680" y="2313000"/>
            <a:ext cx="57924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imes New Roman"/>
              </a:rPr>
              <a:t>8x4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1390680" y="2603520"/>
            <a:ext cx="57924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imes New Roman"/>
              </a:rPr>
              <a:t>8x4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1390680" y="2892600"/>
            <a:ext cx="57924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imes New Roman"/>
              </a:rPr>
              <a:t>8x4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1390680" y="3181320"/>
            <a:ext cx="57924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imes New Roman"/>
              </a:rPr>
              <a:t>8x4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1390680" y="3471840"/>
            <a:ext cx="57924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imes New Roman"/>
              </a:rPr>
              <a:t>8x4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968480" y="2241720"/>
            <a:ext cx="71280" cy="288360"/>
            <a:chOff x="1968480" y="2241720"/>
            <a:chExt cx="71280" cy="288360"/>
          </a:xfrm>
        </p:grpSpPr>
        <p:sp>
          <p:nvSpPr>
            <p:cNvPr id="167" name=""/>
            <p:cNvSpPr/>
            <p:nvPr/>
          </p:nvSpPr>
          <p:spPr>
            <a:xfrm>
              <a:off x="1968480" y="2241720"/>
              <a:ext cx="71280" cy="7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68480" y="2313720"/>
              <a:ext cx="71280" cy="7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968480" y="2386080"/>
              <a:ext cx="71280" cy="7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968480" y="2458080"/>
              <a:ext cx="71280" cy="7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1968480" y="2530440"/>
            <a:ext cx="71280" cy="289080"/>
            <a:chOff x="1968480" y="2530440"/>
            <a:chExt cx="71280" cy="289080"/>
          </a:xfrm>
        </p:grpSpPr>
        <p:sp>
          <p:nvSpPr>
            <p:cNvPr id="172" name=""/>
            <p:cNvSpPr/>
            <p:nvPr/>
          </p:nvSpPr>
          <p:spPr>
            <a:xfrm>
              <a:off x="1968480" y="2530440"/>
              <a:ext cx="71280" cy="72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968480" y="2602800"/>
              <a:ext cx="71280" cy="7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968480" y="2674800"/>
              <a:ext cx="71280" cy="72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68480" y="2747160"/>
              <a:ext cx="71280" cy="72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1968480" y="2819520"/>
            <a:ext cx="71280" cy="288360"/>
            <a:chOff x="1968480" y="2819520"/>
            <a:chExt cx="71280" cy="288360"/>
          </a:xfrm>
        </p:grpSpPr>
        <p:sp>
          <p:nvSpPr>
            <p:cNvPr id="177" name=""/>
            <p:cNvSpPr/>
            <p:nvPr/>
          </p:nvSpPr>
          <p:spPr>
            <a:xfrm>
              <a:off x="1968480" y="2819520"/>
              <a:ext cx="71280" cy="7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8480" y="2891520"/>
              <a:ext cx="71280" cy="7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968480" y="2963880"/>
              <a:ext cx="71280" cy="7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968480" y="3035880"/>
              <a:ext cx="71280" cy="7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1968480" y="3110040"/>
            <a:ext cx="71280" cy="288360"/>
            <a:chOff x="1968480" y="3110040"/>
            <a:chExt cx="71280" cy="288360"/>
          </a:xfrm>
        </p:grpSpPr>
        <p:sp>
          <p:nvSpPr>
            <p:cNvPr id="182" name=""/>
            <p:cNvSpPr/>
            <p:nvPr/>
          </p:nvSpPr>
          <p:spPr>
            <a:xfrm>
              <a:off x="1968480" y="3110040"/>
              <a:ext cx="71280" cy="7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968480" y="3182040"/>
              <a:ext cx="71280" cy="7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68480" y="3254400"/>
              <a:ext cx="71280" cy="7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968480" y="3326400"/>
              <a:ext cx="71280" cy="7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1968480" y="339876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1968480" y="347184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1895400" y="34718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1895400" y="33987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>
            <a:off x="2800440" y="2168640"/>
            <a:ext cx="290520" cy="57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imes New Roman"/>
              </a:rPr>
              <a:t>4x8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3090960" y="2168640"/>
            <a:ext cx="288720" cy="57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imes New Roman"/>
              </a:rPr>
              <a:t>4x8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3668760" y="2168640"/>
            <a:ext cx="290520" cy="57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imes New Roman"/>
              </a:rPr>
              <a:t>4x8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3379680" y="2168640"/>
            <a:ext cx="289080" cy="57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imes New Roman"/>
              </a:rPr>
              <a:t>4x8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4248000" y="2168640"/>
            <a:ext cx="290520" cy="57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imes New Roman"/>
              </a:rPr>
              <a:t>4x8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3959280" y="2168640"/>
            <a:ext cx="288720" cy="57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imes New Roman"/>
              </a:rPr>
              <a:t>4x8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5407200" y="2168640"/>
            <a:ext cx="579240" cy="57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imes New Roman"/>
              </a:rPr>
              <a:t>8x8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4827600" y="2168640"/>
            <a:ext cx="579600" cy="57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imes New Roman"/>
              </a:rPr>
              <a:t>8x8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5986440" y="2168640"/>
            <a:ext cx="577800" cy="57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imes New Roman"/>
              </a:rPr>
              <a:t>8x8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6564240" y="2168640"/>
            <a:ext cx="579600" cy="57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imes New Roman"/>
              </a:rPr>
              <a:t>8x8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971640" y="3760920"/>
            <a:ext cx="182880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imes New Roman"/>
              </a:rPr>
              <a:t>P = 12x8x4/36 = 10.7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2735280" y="3327480"/>
            <a:ext cx="187164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imes New Roman"/>
              </a:rPr>
              <a:t>P = 12x4x8/36 = 10.7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5075280" y="3357720"/>
            <a:ext cx="182880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imes New Roman"/>
              </a:rPr>
              <a:t>P = 8x8x8/36 = 14.2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 rot="16200000">
            <a:off x="5334840" y="267372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 rot="16200000">
            <a:off x="5406840" y="267444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 rot="16200000">
            <a:off x="5479200" y="267372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 rot="16200000">
            <a:off x="5552280" y="267372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624640" y="2674440"/>
            <a:ext cx="288360" cy="71640"/>
            <a:chOff x="5624640" y="2674440"/>
            <a:chExt cx="288360" cy="71640"/>
          </a:xfrm>
        </p:grpSpPr>
        <p:sp>
          <p:nvSpPr>
            <p:cNvPr id="208" name=""/>
            <p:cNvSpPr/>
            <p:nvPr/>
          </p:nvSpPr>
          <p:spPr>
            <a:xfrm rot="16200000">
              <a:off x="5624640" y="2674080"/>
              <a:ext cx="71640" cy="7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16200000">
              <a:off x="5696640" y="2674080"/>
              <a:ext cx="71640" cy="7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6200000">
              <a:off x="5769000" y="2674080"/>
              <a:ext cx="71640" cy="7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6200000">
              <a:off x="5841000" y="2674080"/>
              <a:ext cx="71640" cy="7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5913360" y="2674440"/>
            <a:ext cx="289080" cy="71640"/>
            <a:chOff x="5913360" y="2674440"/>
            <a:chExt cx="289080" cy="71640"/>
          </a:xfrm>
        </p:grpSpPr>
        <p:sp>
          <p:nvSpPr>
            <p:cNvPr id="213" name=""/>
            <p:cNvSpPr/>
            <p:nvPr/>
          </p:nvSpPr>
          <p:spPr>
            <a:xfrm rot="16200000">
              <a:off x="5913720" y="2674080"/>
              <a:ext cx="71640" cy="72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16200000">
              <a:off x="5985720" y="2674080"/>
              <a:ext cx="71640" cy="7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16200000">
              <a:off x="6058080" y="2674080"/>
              <a:ext cx="71640" cy="72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16200000">
              <a:off x="6130440" y="2674080"/>
              <a:ext cx="71640" cy="72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202440" y="2674440"/>
            <a:ext cx="290520" cy="71640"/>
            <a:chOff x="6202440" y="2674440"/>
            <a:chExt cx="290520" cy="71640"/>
          </a:xfrm>
        </p:grpSpPr>
        <p:sp>
          <p:nvSpPr>
            <p:cNvPr id="218" name=""/>
            <p:cNvSpPr/>
            <p:nvPr/>
          </p:nvSpPr>
          <p:spPr>
            <a:xfrm rot="16200000">
              <a:off x="6202800" y="2673720"/>
              <a:ext cx="71640" cy="72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16200000">
              <a:off x="6275520" y="2674080"/>
              <a:ext cx="71640" cy="72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16200000">
              <a:off x="6347880" y="2673720"/>
              <a:ext cx="71640" cy="72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21" name=""/>
            <p:cNvSpPr/>
            <p:nvPr/>
          </p:nvSpPr>
          <p:spPr>
            <a:xfrm rot="16200000">
              <a:off x="6420600" y="2673720"/>
              <a:ext cx="71640" cy="72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222" name=""/>
          <p:cNvSpPr/>
          <p:nvPr/>
        </p:nvSpPr>
        <p:spPr>
          <a:xfrm rot="16200000">
            <a:off x="6492600" y="267444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6564960" y="267372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6564240" y="27460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 rot="16200000">
            <a:off x="6491880" y="27468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6419880" y="27460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 rot="16200000">
            <a:off x="6347520" y="27468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 rot="16200000">
            <a:off x="6275160" y="274608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 rot="16200000">
            <a:off x="6202440" y="27460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6130080" y="27468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6057720" y="274608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 rot="16200000">
            <a:off x="5913360" y="27460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 rot="16200000">
            <a:off x="5985720" y="27468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4" name=""/>
          <p:cNvSpPr/>
          <p:nvPr/>
        </p:nvSpPr>
        <p:spPr>
          <a:xfrm>
            <a:off x="4827600" y="2746440"/>
            <a:ext cx="579600" cy="57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imes New Roman"/>
              </a:rPr>
              <a:t>8x8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5334120" y="2746080"/>
            <a:ext cx="578880" cy="73080"/>
            <a:chOff x="5334120" y="2746080"/>
            <a:chExt cx="578880" cy="73080"/>
          </a:xfrm>
        </p:grpSpPr>
        <p:sp>
          <p:nvSpPr>
            <p:cNvPr id="236" name=""/>
            <p:cNvSpPr/>
            <p:nvPr/>
          </p:nvSpPr>
          <p:spPr>
            <a:xfrm rot="16200000">
              <a:off x="5333400" y="2746440"/>
              <a:ext cx="73080" cy="7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16200000">
              <a:off x="5405760" y="2746440"/>
              <a:ext cx="73080" cy="72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16200000">
              <a:off x="5478480" y="2746440"/>
              <a:ext cx="73080" cy="72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16200000">
              <a:off x="5550840" y="2746440"/>
              <a:ext cx="73080" cy="72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16200000">
              <a:off x="5623200" y="2746440"/>
              <a:ext cx="73080" cy="7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16200000">
              <a:off x="5695560" y="2746440"/>
              <a:ext cx="73080" cy="72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16200000">
              <a:off x="5768280" y="2746440"/>
              <a:ext cx="73080" cy="72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16200000">
              <a:off x="5840280" y="2746440"/>
              <a:ext cx="73080" cy="7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3017880" y="2674440"/>
            <a:ext cx="288360" cy="71640"/>
            <a:chOff x="3017880" y="2674440"/>
            <a:chExt cx="288360" cy="71640"/>
          </a:xfrm>
        </p:grpSpPr>
        <p:sp>
          <p:nvSpPr>
            <p:cNvPr id="245" name=""/>
            <p:cNvSpPr/>
            <p:nvPr/>
          </p:nvSpPr>
          <p:spPr>
            <a:xfrm rot="16200000">
              <a:off x="3017880" y="2674080"/>
              <a:ext cx="71640" cy="7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16200000">
              <a:off x="3089880" y="2674080"/>
              <a:ext cx="71640" cy="7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16200000">
              <a:off x="3162240" y="2674080"/>
              <a:ext cx="71640" cy="7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48" name=""/>
            <p:cNvSpPr/>
            <p:nvPr/>
          </p:nvSpPr>
          <p:spPr>
            <a:xfrm rot="16200000">
              <a:off x="3234240" y="2674080"/>
              <a:ext cx="71640" cy="7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3306600" y="2674440"/>
            <a:ext cx="290520" cy="71640"/>
            <a:chOff x="3306600" y="2674440"/>
            <a:chExt cx="290520" cy="71640"/>
          </a:xfrm>
        </p:grpSpPr>
        <p:sp>
          <p:nvSpPr>
            <p:cNvPr id="250" name=""/>
            <p:cNvSpPr/>
            <p:nvPr/>
          </p:nvSpPr>
          <p:spPr>
            <a:xfrm rot="16200000">
              <a:off x="3306960" y="2673720"/>
              <a:ext cx="71640" cy="72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16200000">
              <a:off x="3379680" y="2674080"/>
              <a:ext cx="71640" cy="72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16200000">
              <a:off x="3452040" y="2673720"/>
              <a:ext cx="71640" cy="72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16200000">
              <a:off x="3524760" y="2673720"/>
              <a:ext cx="71640" cy="72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3597120" y="2674440"/>
            <a:ext cx="289080" cy="71640"/>
            <a:chOff x="3597120" y="2674440"/>
            <a:chExt cx="289080" cy="71640"/>
          </a:xfrm>
        </p:grpSpPr>
        <p:sp>
          <p:nvSpPr>
            <p:cNvPr id="255" name=""/>
            <p:cNvSpPr/>
            <p:nvPr/>
          </p:nvSpPr>
          <p:spPr>
            <a:xfrm rot="16200000">
              <a:off x="3597480" y="2674080"/>
              <a:ext cx="71640" cy="72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16200000">
              <a:off x="3669480" y="2674080"/>
              <a:ext cx="71640" cy="7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16200000">
              <a:off x="3741840" y="2674080"/>
              <a:ext cx="71640" cy="72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16200000">
              <a:off x="3814200" y="2674080"/>
              <a:ext cx="71640" cy="72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3886200" y="2674440"/>
            <a:ext cx="290520" cy="71640"/>
            <a:chOff x="3886200" y="2674440"/>
            <a:chExt cx="290520" cy="71640"/>
          </a:xfrm>
        </p:grpSpPr>
        <p:sp>
          <p:nvSpPr>
            <p:cNvPr id="260" name=""/>
            <p:cNvSpPr/>
            <p:nvPr/>
          </p:nvSpPr>
          <p:spPr>
            <a:xfrm rot="16200000">
              <a:off x="3886560" y="2673720"/>
              <a:ext cx="71640" cy="72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16200000">
              <a:off x="3959280" y="2674080"/>
              <a:ext cx="71640" cy="72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16200000">
              <a:off x="4031640" y="2673720"/>
              <a:ext cx="71640" cy="72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16200000">
              <a:off x="4104360" y="2673720"/>
              <a:ext cx="71640" cy="72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2800440" y="2746440"/>
            <a:ext cx="290520" cy="57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imes New Roman"/>
              </a:rPr>
              <a:t>4x8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3090960" y="2746440"/>
            <a:ext cx="288720" cy="57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imes New Roman"/>
              </a:rPr>
              <a:t>4x8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3668760" y="2746440"/>
            <a:ext cx="290520" cy="57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imes New Roman"/>
              </a:rPr>
              <a:t>4x8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7" name=""/>
          <p:cNvSpPr/>
          <p:nvPr/>
        </p:nvSpPr>
        <p:spPr>
          <a:xfrm>
            <a:off x="3379680" y="2746440"/>
            <a:ext cx="289080" cy="57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imes New Roman"/>
              </a:rPr>
              <a:t>4x8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4248000" y="2746440"/>
            <a:ext cx="290520" cy="57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imes New Roman"/>
              </a:rPr>
              <a:t>4x8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3959280" y="2746440"/>
            <a:ext cx="288720" cy="57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imes New Roman"/>
              </a:rPr>
              <a:t>4x8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3017880" y="2746080"/>
            <a:ext cx="288360" cy="73080"/>
            <a:chOff x="3017880" y="2746080"/>
            <a:chExt cx="288360" cy="73080"/>
          </a:xfrm>
        </p:grpSpPr>
        <p:sp>
          <p:nvSpPr>
            <p:cNvPr id="271" name=""/>
            <p:cNvSpPr/>
            <p:nvPr/>
          </p:nvSpPr>
          <p:spPr>
            <a:xfrm rot="16200000">
              <a:off x="3017160" y="2746440"/>
              <a:ext cx="73080" cy="7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16200000">
              <a:off x="3089160" y="2746440"/>
              <a:ext cx="73080" cy="7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16200000">
              <a:off x="3161520" y="2746440"/>
              <a:ext cx="73080" cy="7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6200000">
              <a:off x="3233520" y="2746440"/>
              <a:ext cx="73080" cy="7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3306600" y="2746080"/>
            <a:ext cx="290520" cy="73080"/>
            <a:chOff x="3306600" y="2746080"/>
            <a:chExt cx="290520" cy="73080"/>
          </a:xfrm>
        </p:grpSpPr>
        <p:sp>
          <p:nvSpPr>
            <p:cNvPr id="276" name=""/>
            <p:cNvSpPr/>
            <p:nvPr/>
          </p:nvSpPr>
          <p:spPr>
            <a:xfrm rot="16200000">
              <a:off x="3306240" y="2746080"/>
              <a:ext cx="73080" cy="72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6200000">
              <a:off x="3378960" y="2746440"/>
              <a:ext cx="73080" cy="72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6200000">
              <a:off x="3451320" y="2746080"/>
              <a:ext cx="73080" cy="72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6200000">
              <a:off x="3524040" y="2746080"/>
              <a:ext cx="73080" cy="72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3597120" y="2746080"/>
            <a:ext cx="289080" cy="73080"/>
            <a:chOff x="3597120" y="2746080"/>
            <a:chExt cx="289080" cy="73080"/>
          </a:xfrm>
        </p:grpSpPr>
        <p:sp>
          <p:nvSpPr>
            <p:cNvPr id="281" name=""/>
            <p:cNvSpPr/>
            <p:nvPr/>
          </p:nvSpPr>
          <p:spPr>
            <a:xfrm rot="16200000">
              <a:off x="3596760" y="2746440"/>
              <a:ext cx="73080" cy="72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6200000">
              <a:off x="3668760" y="2746440"/>
              <a:ext cx="73080" cy="7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6200000">
              <a:off x="3741120" y="2746440"/>
              <a:ext cx="73080" cy="72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16200000">
              <a:off x="3813480" y="2746440"/>
              <a:ext cx="73080" cy="72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3886200" y="2746080"/>
            <a:ext cx="290520" cy="73080"/>
            <a:chOff x="3886200" y="2746080"/>
            <a:chExt cx="290520" cy="73080"/>
          </a:xfrm>
        </p:grpSpPr>
        <p:sp>
          <p:nvSpPr>
            <p:cNvPr id="286" name=""/>
            <p:cNvSpPr/>
            <p:nvPr/>
          </p:nvSpPr>
          <p:spPr>
            <a:xfrm rot="16200000">
              <a:off x="3885840" y="2746080"/>
              <a:ext cx="73080" cy="72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16200000">
              <a:off x="3958560" y="2746440"/>
              <a:ext cx="73080" cy="72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6200000">
              <a:off x="4030920" y="2746080"/>
              <a:ext cx="73080" cy="72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6200000">
              <a:off x="4103640" y="2746080"/>
              <a:ext cx="73080" cy="72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290" name=""/>
          <p:cNvSpPr/>
          <p:nvPr/>
        </p:nvSpPr>
        <p:spPr>
          <a:xfrm rot="16200000">
            <a:off x="4175640" y="27468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1" name=""/>
          <p:cNvSpPr/>
          <p:nvPr/>
        </p:nvSpPr>
        <p:spPr>
          <a:xfrm rot="16200000">
            <a:off x="4248000" y="27460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4248720" y="267372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4176360" y="267444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895400" y="2241720"/>
            <a:ext cx="73080" cy="288360"/>
            <a:chOff x="1895400" y="2241720"/>
            <a:chExt cx="73080" cy="288360"/>
          </a:xfrm>
        </p:grpSpPr>
        <p:sp>
          <p:nvSpPr>
            <p:cNvPr id="295" name=""/>
            <p:cNvSpPr/>
            <p:nvPr/>
          </p:nvSpPr>
          <p:spPr>
            <a:xfrm>
              <a:off x="1895400" y="2241720"/>
              <a:ext cx="73080" cy="7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895400" y="2313720"/>
              <a:ext cx="73080" cy="7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895400" y="2386080"/>
              <a:ext cx="73080" cy="7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95400" y="2458080"/>
              <a:ext cx="73080" cy="7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1895400" y="2530440"/>
            <a:ext cx="73080" cy="289080"/>
            <a:chOff x="1895400" y="2530440"/>
            <a:chExt cx="73080" cy="289080"/>
          </a:xfrm>
        </p:grpSpPr>
        <p:sp>
          <p:nvSpPr>
            <p:cNvPr id="300" name=""/>
            <p:cNvSpPr/>
            <p:nvPr/>
          </p:nvSpPr>
          <p:spPr>
            <a:xfrm>
              <a:off x="1895400" y="2530440"/>
              <a:ext cx="73080" cy="72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895400" y="2602800"/>
              <a:ext cx="73080" cy="7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895400" y="2674800"/>
              <a:ext cx="73080" cy="72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895400" y="2747160"/>
              <a:ext cx="73080" cy="72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1895400" y="2819520"/>
            <a:ext cx="73080" cy="288360"/>
            <a:chOff x="1895400" y="2819520"/>
            <a:chExt cx="73080" cy="288360"/>
          </a:xfrm>
        </p:grpSpPr>
        <p:sp>
          <p:nvSpPr>
            <p:cNvPr id="305" name=""/>
            <p:cNvSpPr/>
            <p:nvPr/>
          </p:nvSpPr>
          <p:spPr>
            <a:xfrm>
              <a:off x="1895400" y="2819520"/>
              <a:ext cx="73080" cy="7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895400" y="2891520"/>
              <a:ext cx="73080" cy="7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895400" y="2963880"/>
              <a:ext cx="73080" cy="7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895400" y="3035880"/>
              <a:ext cx="73080" cy="7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1895400" y="3110040"/>
            <a:ext cx="73080" cy="288360"/>
            <a:chOff x="1895400" y="3110040"/>
            <a:chExt cx="73080" cy="288360"/>
          </a:xfrm>
        </p:grpSpPr>
        <p:sp>
          <p:nvSpPr>
            <p:cNvPr id="310" name=""/>
            <p:cNvSpPr/>
            <p:nvPr/>
          </p:nvSpPr>
          <p:spPr>
            <a:xfrm>
              <a:off x="1895400" y="3110040"/>
              <a:ext cx="73080" cy="7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895400" y="3182040"/>
              <a:ext cx="73080" cy="7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95400" y="3254400"/>
              <a:ext cx="73080" cy="7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95400" y="3326400"/>
              <a:ext cx="73080" cy="7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3668760" y="3703680"/>
            <a:ext cx="141300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imes New Roman"/>
              </a:rPr>
              <a:t>Depth = 0~2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2212920" y="4272120"/>
            <a:ext cx="57960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imes New Roman"/>
              </a:rPr>
              <a:t>8x4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6" name=""/>
          <p:cNvSpPr/>
          <p:nvPr/>
        </p:nvSpPr>
        <p:spPr>
          <a:xfrm>
            <a:off x="2214720" y="4562640"/>
            <a:ext cx="57924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imes New Roman"/>
              </a:rPr>
              <a:t>8x4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7" name=""/>
          <p:cNvSpPr/>
          <p:nvPr/>
        </p:nvSpPr>
        <p:spPr>
          <a:xfrm>
            <a:off x="2214720" y="4851360"/>
            <a:ext cx="57924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imes New Roman"/>
              </a:rPr>
              <a:t>8x4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5651640" y="4764240"/>
            <a:ext cx="579240" cy="57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imes New Roman"/>
              </a:rPr>
              <a:t>8x8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9" name=""/>
          <p:cNvSpPr/>
          <p:nvPr/>
        </p:nvSpPr>
        <p:spPr>
          <a:xfrm>
            <a:off x="6230880" y="4764240"/>
            <a:ext cx="579600" cy="57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imes New Roman"/>
              </a:rPr>
              <a:t>8x8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1633680" y="4272120"/>
            <a:ext cx="57924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imes New Roman"/>
              </a:rPr>
              <a:t>8x4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1" name=""/>
          <p:cNvSpPr/>
          <p:nvPr/>
        </p:nvSpPr>
        <p:spPr>
          <a:xfrm>
            <a:off x="1635120" y="4562640"/>
            <a:ext cx="57960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imes New Roman"/>
              </a:rPr>
              <a:t>8x4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2" name=""/>
          <p:cNvSpPr/>
          <p:nvPr/>
        </p:nvSpPr>
        <p:spPr>
          <a:xfrm>
            <a:off x="1635120" y="4851360"/>
            <a:ext cx="57960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imes New Roman"/>
              </a:rPr>
              <a:t>8x4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2212920" y="4489560"/>
            <a:ext cx="73080" cy="290520"/>
            <a:chOff x="2212920" y="4489560"/>
            <a:chExt cx="73080" cy="290520"/>
          </a:xfrm>
        </p:grpSpPr>
        <p:sp>
          <p:nvSpPr>
            <p:cNvPr id="324" name=""/>
            <p:cNvSpPr/>
            <p:nvPr/>
          </p:nvSpPr>
          <p:spPr>
            <a:xfrm>
              <a:off x="2212920" y="4489560"/>
              <a:ext cx="73080" cy="72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212920" y="4562280"/>
              <a:ext cx="73080" cy="72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212920" y="4634640"/>
              <a:ext cx="73080" cy="72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212920" y="4707360"/>
              <a:ext cx="73080" cy="72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2212920" y="4780080"/>
            <a:ext cx="73080" cy="288360"/>
            <a:chOff x="2212920" y="4780080"/>
            <a:chExt cx="73080" cy="288360"/>
          </a:xfrm>
        </p:grpSpPr>
        <p:sp>
          <p:nvSpPr>
            <p:cNvPr id="329" name=""/>
            <p:cNvSpPr/>
            <p:nvPr/>
          </p:nvSpPr>
          <p:spPr>
            <a:xfrm>
              <a:off x="2212920" y="4780080"/>
              <a:ext cx="73080" cy="7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212920" y="4852080"/>
              <a:ext cx="73080" cy="7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212920" y="4924440"/>
              <a:ext cx="73080" cy="7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212920" y="4996440"/>
              <a:ext cx="73080" cy="7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2286000" y="478008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485136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0" y="492444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6" name=""/>
          <p:cNvSpPr/>
          <p:nvPr/>
        </p:nvSpPr>
        <p:spPr>
          <a:xfrm>
            <a:off x="2286000" y="499572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7" name=""/>
          <p:cNvSpPr/>
          <p:nvPr/>
        </p:nvSpPr>
        <p:spPr>
          <a:xfrm>
            <a:off x="3768840" y="4184640"/>
            <a:ext cx="290520" cy="57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imes New Roman"/>
              </a:rPr>
              <a:t>4x8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8" name=""/>
          <p:cNvSpPr/>
          <p:nvPr/>
        </p:nvSpPr>
        <p:spPr>
          <a:xfrm>
            <a:off x="4059360" y="4184640"/>
            <a:ext cx="288720" cy="57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imes New Roman"/>
              </a:rPr>
              <a:t>4x8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9" name=""/>
          <p:cNvSpPr/>
          <p:nvPr/>
        </p:nvSpPr>
        <p:spPr>
          <a:xfrm>
            <a:off x="4348080" y="4184640"/>
            <a:ext cx="290520" cy="57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imes New Roman"/>
              </a:rPr>
              <a:t>4x8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0" name=""/>
          <p:cNvSpPr/>
          <p:nvPr/>
        </p:nvSpPr>
        <p:spPr>
          <a:xfrm>
            <a:off x="5651640" y="4184640"/>
            <a:ext cx="579240" cy="57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imes New Roman"/>
              </a:rPr>
              <a:t>8x8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1" name=""/>
          <p:cNvSpPr/>
          <p:nvPr/>
        </p:nvSpPr>
        <p:spPr>
          <a:xfrm>
            <a:off x="6230880" y="4184640"/>
            <a:ext cx="579600" cy="57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imes New Roman"/>
              </a:rPr>
              <a:t>8x8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1071720" y="5156280"/>
            <a:ext cx="1720800" cy="1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imes New Roman"/>
              </a:rPr>
              <a:t>P = 6x8x4/20= 9.6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3" name=""/>
          <p:cNvSpPr/>
          <p:nvPr/>
        </p:nvSpPr>
        <p:spPr>
          <a:xfrm>
            <a:off x="3232080" y="5337000"/>
            <a:ext cx="180360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imes New Roman"/>
              </a:rPr>
              <a:t>P = 6x4x8/20 = 9.6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4" name=""/>
          <p:cNvSpPr/>
          <p:nvPr/>
        </p:nvSpPr>
        <p:spPr>
          <a:xfrm>
            <a:off x="5211720" y="5343480"/>
            <a:ext cx="20160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imes New Roman"/>
              </a:rPr>
              <a:t>P = 4x8x8/20 = 12.8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5" name=""/>
          <p:cNvSpPr/>
          <p:nvPr/>
        </p:nvSpPr>
        <p:spPr>
          <a:xfrm>
            <a:off x="3768840" y="4764240"/>
            <a:ext cx="290520" cy="57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imes New Roman"/>
              </a:rPr>
              <a:t>4x8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6" name=""/>
          <p:cNvSpPr/>
          <p:nvPr/>
        </p:nvSpPr>
        <p:spPr>
          <a:xfrm>
            <a:off x="4059360" y="4764240"/>
            <a:ext cx="288720" cy="57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imes New Roman"/>
              </a:rPr>
              <a:t>4x8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7" name=""/>
          <p:cNvSpPr/>
          <p:nvPr/>
        </p:nvSpPr>
        <p:spPr>
          <a:xfrm>
            <a:off x="4348080" y="4764240"/>
            <a:ext cx="290520" cy="57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imes New Roman"/>
              </a:rPr>
              <a:t>4x8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2139840" y="4489560"/>
            <a:ext cx="73080" cy="290520"/>
            <a:chOff x="2139840" y="4489560"/>
            <a:chExt cx="73080" cy="290520"/>
          </a:xfrm>
        </p:grpSpPr>
        <p:sp>
          <p:nvSpPr>
            <p:cNvPr id="349" name=""/>
            <p:cNvSpPr/>
            <p:nvPr/>
          </p:nvSpPr>
          <p:spPr>
            <a:xfrm>
              <a:off x="2139840" y="4489560"/>
              <a:ext cx="73080" cy="72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139840" y="4562280"/>
              <a:ext cx="73080" cy="72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139840" y="4634640"/>
              <a:ext cx="73080" cy="72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139840" y="4707360"/>
              <a:ext cx="73080" cy="72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2139840" y="4780080"/>
            <a:ext cx="73080" cy="288360"/>
            <a:chOff x="2139840" y="4780080"/>
            <a:chExt cx="73080" cy="288360"/>
          </a:xfrm>
        </p:grpSpPr>
        <p:sp>
          <p:nvSpPr>
            <p:cNvPr id="354" name=""/>
            <p:cNvSpPr/>
            <p:nvPr/>
          </p:nvSpPr>
          <p:spPr>
            <a:xfrm>
              <a:off x="2139840" y="4780080"/>
              <a:ext cx="73080" cy="7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139840" y="4852080"/>
              <a:ext cx="73080" cy="7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139840" y="4924440"/>
              <a:ext cx="73080" cy="7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139840" y="4996440"/>
              <a:ext cx="73080" cy="7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358" name=""/>
          <p:cNvSpPr/>
          <p:nvPr/>
        </p:nvSpPr>
        <p:spPr>
          <a:xfrm rot="16200000">
            <a:off x="3986280" y="469080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9" name=""/>
          <p:cNvSpPr/>
          <p:nvPr/>
        </p:nvSpPr>
        <p:spPr>
          <a:xfrm rot="16200000">
            <a:off x="4058280" y="46915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0" name=""/>
          <p:cNvSpPr/>
          <p:nvPr/>
        </p:nvSpPr>
        <p:spPr>
          <a:xfrm rot="16200000">
            <a:off x="4130640" y="469080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1" name=""/>
          <p:cNvSpPr/>
          <p:nvPr/>
        </p:nvSpPr>
        <p:spPr>
          <a:xfrm rot="16200000">
            <a:off x="4203720" y="469080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2" name=""/>
          <p:cNvSpPr/>
          <p:nvPr/>
        </p:nvSpPr>
        <p:spPr>
          <a:xfrm rot="16200000">
            <a:off x="4275720" y="46915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3" name=""/>
          <p:cNvSpPr/>
          <p:nvPr/>
        </p:nvSpPr>
        <p:spPr>
          <a:xfrm rot="16200000">
            <a:off x="4348080" y="469080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4" name=""/>
          <p:cNvSpPr/>
          <p:nvPr/>
        </p:nvSpPr>
        <p:spPr>
          <a:xfrm rot="16200000">
            <a:off x="4420440" y="46915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5" name=""/>
          <p:cNvSpPr/>
          <p:nvPr/>
        </p:nvSpPr>
        <p:spPr>
          <a:xfrm rot="16200000">
            <a:off x="4492440" y="469080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6" name=""/>
          <p:cNvSpPr/>
          <p:nvPr/>
        </p:nvSpPr>
        <p:spPr>
          <a:xfrm rot="16200000">
            <a:off x="4131360" y="483588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7" name=""/>
          <p:cNvSpPr/>
          <p:nvPr/>
        </p:nvSpPr>
        <p:spPr>
          <a:xfrm rot="16200000">
            <a:off x="4204440" y="483588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8" name=""/>
          <p:cNvSpPr/>
          <p:nvPr/>
        </p:nvSpPr>
        <p:spPr>
          <a:xfrm rot="16200000">
            <a:off x="4059000" y="483660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9" name=""/>
          <p:cNvSpPr/>
          <p:nvPr/>
        </p:nvSpPr>
        <p:spPr>
          <a:xfrm rot="16200000">
            <a:off x="3987000" y="483588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3986280" y="4764240"/>
            <a:ext cx="578880" cy="72720"/>
            <a:chOff x="3986280" y="4764240"/>
            <a:chExt cx="578880" cy="72720"/>
          </a:xfrm>
        </p:grpSpPr>
        <p:sp>
          <p:nvSpPr>
            <p:cNvPr id="371" name=""/>
            <p:cNvSpPr/>
            <p:nvPr/>
          </p:nvSpPr>
          <p:spPr>
            <a:xfrm rot="16200000">
              <a:off x="3985920" y="4764600"/>
              <a:ext cx="72720" cy="7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16200000">
              <a:off x="4057920" y="4764240"/>
              <a:ext cx="72720" cy="72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73" name=""/>
            <p:cNvSpPr/>
            <p:nvPr/>
          </p:nvSpPr>
          <p:spPr>
            <a:xfrm rot="16200000">
              <a:off x="4130640" y="4764240"/>
              <a:ext cx="72720" cy="72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16200000">
              <a:off x="4203000" y="4764240"/>
              <a:ext cx="72720" cy="72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16200000">
              <a:off x="4275720" y="4764600"/>
              <a:ext cx="72720" cy="7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76" name=""/>
            <p:cNvSpPr/>
            <p:nvPr/>
          </p:nvSpPr>
          <p:spPr>
            <a:xfrm rot="16200000">
              <a:off x="4347720" y="4764240"/>
              <a:ext cx="72720" cy="72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77" name=""/>
            <p:cNvSpPr/>
            <p:nvPr/>
          </p:nvSpPr>
          <p:spPr>
            <a:xfrm rot="16200000">
              <a:off x="4420440" y="4764240"/>
              <a:ext cx="72720" cy="72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78" name=""/>
            <p:cNvSpPr/>
            <p:nvPr/>
          </p:nvSpPr>
          <p:spPr>
            <a:xfrm rot="16200000">
              <a:off x="4492800" y="4764600"/>
              <a:ext cx="72720" cy="7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3556080" y="5695920"/>
            <a:ext cx="141120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imes New Roman"/>
              </a:rPr>
              <a:t>Depth = 3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3"/>
          <p:cNvSpPr/>
          <p:nvPr/>
        </p:nvSpPr>
        <p:spPr>
          <a:xfrm>
            <a:off x="179280" y="549360"/>
            <a:ext cx="871380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use IBC reconstructed pixel buff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 dictionar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ahoma"/>
                <a:ea typeface="宋体"/>
              </a:rPr>
              <a:t>No additional memor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ahoma"/>
                <a:ea typeface="宋体"/>
              </a:rPr>
              <a:t>No additional co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1" name="灯片编号占位符 1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E01A9-A989-4663-BFCF-04EE3DD69527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2" name="Text Box 2"/>
          <p:cNvSpPr/>
          <p:nvPr/>
        </p:nvSpPr>
        <p:spPr>
          <a:xfrm>
            <a:off x="647640" y="0"/>
            <a:ext cx="7128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DDR cos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3"/>
          <p:cNvSpPr/>
          <p:nvPr/>
        </p:nvSpPr>
        <p:spPr>
          <a:xfrm>
            <a:off x="179280" y="728640"/>
            <a:ext cx="8713800" cy="28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C operation is extremely simp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nly simple and direct copy (memory read and write) is involve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The complete ISC decoding logic takes less than 10K logic gat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Cost less than 0.1 penny in 28nm proces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4" name="灯片编号占位符 1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CB330-C759-41A3-BE57-2E3743E1AD09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5" name="Text Box 2"/>
          <p:cNvSpPr/>
          <p:nvPr/>
        </p:nvSpPr>
        <p:spPr>
          <a:xfrm>
            <a:off x="647640" y="0"/>
            <a:ext cx="7128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ISC decoding logic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179280" y="728640"/>
            <a:ext cx="8713800" cy="60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ew ISC is not old dictionary coding any mor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dictionary, no additional memor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C does not have SRAM and DDR bandwidth problem at al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AM cost for ISC is either zero or 0.4 penn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C decoder operation is extremely simple and costs almost noth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CM3.0 FF IBC as anchor, ISC can provid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1199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About -7% BD-rate reduction in lossy cod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1199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About -10% bit-rate saving in lossless cod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1199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Total cost less than 0.5 penny in 28nm proces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C can provide such big gain at almost no cos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7" name="灯片编号占位符 1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203A6-B6B8-404F-879D-2D16055BD21C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8" name="Text Box 2"/>
          <p:cNvSpPr/>
          <p:nvPr/>
        </p:nvSpPr>
        <p:spPr>
          <a:xfrm>
            <a:off x="647640" y="0"/>
            <a:ext cx="7128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3"/>
          <p:cNvSpPr/>
          <p:nvPr/>
        </p:nvSpPr>
        <p:spPr>
          <a:xfrm>
            <a:off x="179280" y="728640"/>
            <a:ext cx="8713800" cy="43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C will not hurt anyth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C and Palette still play a bigger role than IS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C, Palette, ISC contribution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1199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IBC: ~30%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1199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Palette: ~20% on top of IB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1199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ISC: ~10% on top of both IBC and Palet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may be no other single tool can provide such a big gain at almost no cos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0" name="灯片编号占位符 1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80D86-94C9-4451-97A9-E484323E739E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1" name="Text Box 2"/>
          <p:cNvSpPr/>
          <p:nvPr/>
        </p:nvSpPr>
        <p:spPr>
          <a:xfrm>
            <a:off x="647640" y="0"/>
            <a:ext cx="7128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灯片编号占位符 3"/>
          <p:cNvSpPr/>
          <p:nvPr/>
        </p:nvSpPr>
        <p:spPr>
          <a:xfrm>
            <a:off x="709308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164EC-AD38-4E2B-9CE3-8D9BF23CB713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3" name="Rectangle 2"/>
          <p:cNvSpPr/>
          <p:nvPr/>
        </p:nvSpPr>
        <p:spPr>
          <a:xfrm>
            <a:off x="0" y="2637000"/>
            <a:ext cx="91440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40458c"/>
                </a:solidFill>
                <a:latin typeface="Times New Roman"/>
              </a:rPr>
              <a:t>THANK  YOU</a:t>
            </a:r>
            <a:endParaRPr b="0" lang="en-US" sz="8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7T03:13:52Z</dcterms:created>
  <dc:creator>tao lin</dc:creator>
  <dc:description/>
  <dc:language>en-US</dc:language>
  <cp:lastModifiedBy>n</cp:lastModifiedBy>
  <dcterms:modified xsi:type="dcterms:W3CDTF">2015-02-13T09:34:33Z</dcterms:modified>
  <cp:revision>1597</cp:revision>
  <dc:subject/>
  <dc:title>Slide 1</dc:title>
</cp:coreProperties>
</file>