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9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9560" cy="3840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10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 type="sldNum" idx="11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C1FE52FC-FDD3-4716-BEA5-DC20A0BD893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627E0ED-0534-4184-A6AC-D33CC38D5A22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DBA37BE1-6226-47AD-B8EB-D5BEFD251F1D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9560" cy="38401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1C850C4D-F202-4771-9AAF-65478254FF7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906B-9EFC-40C9-B665-1A486AAAB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16D2-B62C-4F05-A969-26504AA67F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EAA6E-F0D0-4D04-A052-B976DCF1E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5DACD-DB50-45AE-A793-8B4466E7F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9E51A-DC44-42BB-9C90-0548163909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EE9E1-F403-48D1-8137-95BA02BCA7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9A6FC-5B72-4C66-886C-7A711577B1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6A499-8061-4F1D-9F02-CC2E428656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D795C-46B5-42C0-A572-A14C399AE1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1DA46-52F8-43FB-AE1B-5A912FD509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4FF7-2721-4FF2-9E67-1E2E47EB0A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CDFC-3415-490A-A329-0B1DB7AFC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B19F-1296-47D3-8FC4-D141C9A930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1B09-0D40-4FF7-BDCC-A531BC5935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A914B-DB84-4281-B6EE-B039AED789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2A008-C90F-42E2-8F48-ACB74B0CAE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22230-5852-4C66-AF20-D8A451ED2D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E2CF-4167-46EE-8F06-1FE12A1DF8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A57-FB05-402F-830B-468CEEFAFC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33C-98F2-4C21-A27C-325D47AFB82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3CEE-F692-4E92-81A8-86C8DB1B2F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020A-787D-4A05-BE21-501311DA11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4D58-ED36-4E4A-BA5D-D674AF1AB0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FA08-BFBB-4882-8530-5ACCECBBAF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7189-3EA9-4D00-9944-299E4FB415B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4D87-D5A6-496C-93F8-06179D8B2B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12C-8D74-4BAD-AE88-349565FB4B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2A3C-01C6-4B35-8073-D27FF47FF2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182-CCCD-4B3F-AE67-2B234D06B97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A149-3422-4612-8B6A-5D8BC65052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E704C-3D6A-4D30-B4C5-44D858BC87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410F9-90CF-4DF6-BE2C-B8E2A8BCCED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C6A46-4B50-4ED3-9B45-B0C43D200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FF71F-009F-4BEF-9B85-597E80D6756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A3B52-21FB-42DB-BFAF-CE31B85D45D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56547-782B-4AE7-BB85-4355523A27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4ECFA-1F77-4619-BD40-60278217005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B6462-C90A-4E90-AB19-43289C5E28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12300-C983-44CC-92C1-FF45BFE592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DD55E-B9EC-4AEC-B29C-B10CD26FE3B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C804E-3BFD-497E-8265-2CEB2A307E5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5B874-D97D-4235-A197-B92D43C4F0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5E2A6-013A-420B-AB8E-8FF9D5791D7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DC2D-C2F0-46F1-8E6B-2F1139DC7BA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A1D2-4328-4232-B0E1-97F3897A705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B673C-03BC-4591-B7D0-F0BA67BC943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29075-89E5-44EF-9427-8E4EB292348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1DB03-5E11-47DC-990A-214BE72055D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9223F-4088-4697-BD29-90F59DDDC40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63031-AC80-4ACF-936B-0C9BA8298AD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023CB-0C2C-4729-9B07-2F0EB594528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B11DD-139F-48FD-92DC-18AF18678C0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886AF-1D7B-400F-8B50-604F0F93D5E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AA04B-C603-44E1-8060-4F0C7899D6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3639-975A-4B17-A48C-CE3A0FA980E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C66C2-86EB-4E49-B870-446269FBB80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B228B-4ABE-4EEF-84BE-588F5F76D05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EA9DD-D15E-4C4E-99DD-32322004A76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3197E-35C5-4634-A824-BF59AA98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04702-C707-40E7-9A62-20948BFE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71F18-5249-4482-9FB1-086C8AFF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AC8A0-0FE9-406A-9127-651650AC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A5865F-04F3-4BE2-B23A-2EA6AC21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16211-8BAA-4476-97AD-A764ECDD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4FAFAF-2296-49E4-B4F5-A039FD7E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1ACD-82AA-4AA2-9063-DB2E60D1FA7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5C739-414A-4498-BECD-49CDAFBC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846E34-E58A-4154-9B49-28AA9D04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B3351-2A99-4F0D-AA7E-08DCA421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18788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97E84-00D3-46B6-85D4-0B119860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187880"/>
            <a:ext cx="264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B8838-0B5B-4B13-9A6B-29D9A47B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87880"/>
            <a:ext cx="82296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C9558-338E-473E-87B4-2EBB15C5A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9B10-5ABA-42B0-8ABD-6C7B581CA6C8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3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0413-B8CC-4CFD-9DD4-F3264A237A8E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783B-78DA-4760-ACCC-62F36FFF89C5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9125-ACBC-414C-92A7-E1446B9FFCB5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D095-531D-4824-BD56-FCC073FA0432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7A84-B199-4F74-99A8-BA22D22A1AA7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4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FD7F-DC03-4222-A824-1E1CBA29978A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9CDF-6847-4F6D-B810-3242052997F0}" type="slidenum">
              <a:rPr b="0" lang="zh-TW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5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5583-1287-480C-8112-84FF54687546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9" descr=""/>
          <p:cNvPicPr/>
          <p:nvPr/>
        </p:nvPicPr>
        <p:blipFill>
          <a:blip r:embed="rId2"/>
          <a:stretch/>
        </p:blipFill>
        <p:spPr>
          <a:xfrm>
            <a:off x="7916760" y="6477120"/>
            <a:ext cx="903240" cy="2840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8"/>
          <p:cNvSpPr/>
          <p:nvPr/>
        </p:nvSpPr>
        <p:spPr>
          <a:xfrm>
            <a:off x="0" y="6589800"/>
            <a:ext cx="807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l rights reserved.  No part of this confidential report may be reproduced in any form or by any means without written permission from ITR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C2C3-0236-4DC8-9D57-CBC7ABBC04D1}" type="datetime"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115/0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8"/>
          </p:nvPr>
        </p:nvSpPr>
        <p:spPr>
          <a:xfrm>
            <a:off x="859752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376D-D84E-40E1-93E1-D09B5AF7792E}" type="slidenum">
              <a:rPr b="0" lang="zh-TW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1020240"/>
            <a:ext cx="9144000" cy="22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JCTVC-T0169</a:t>
            </a:r>
            <a:br>
              <a:rPr sz="4400"/>
            </a:br>
            <a:r>
              <a:rPr b="0" lang="fr-FR" sz="4400" spc="-1" strike="noStrike">
                <a:solidFill>
                  <a:srgbClr val="154da9"/>
                </a:solidFill>
                <a:latin typeface="Arial"/>
                <a:ea typeface="新細明體"/>
              </a:rPr>
              <a:t>CE1-related: Fix of CE1 Test D.1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371600" y="4088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aecf"/>
                </a:solidFill>
                <a:latin typeface="Arial"/>
                <a:ea typeface="新細明體"/>
              </a:rPr>
              <a:t>Yao-Jen Chang, Chao-Hsiung Hung, Chun-Lung Lin, Ching-Chieh Lin and Jih-Sheng 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727000" y="5713560"/>
            <a:ext cx="3460680" cy="55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Geneva, Switze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February,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Issue in CE1.D1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85640" y="1295280"/>
            <a:ext cx="81122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Loss in RA &amp; LB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BFEC-89B9-48C5-8E05-335A9C3EA85E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字方塊 1"/>
          <p:cNvSpPr/>
          <p:nvPr/>
        </p:nvSpPr>
        <p:spPr>
          <a:xfrm>
            <a:off x="6427800" y="48895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Fix of CE1.D1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85640" y="1295280"/>
            <a:ext cx="81122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ix the loss by using a macro “BUGFIX” to simply disable the palette removal method proposed in CE1.D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Replace the macro setting “FASTSELECTION_TH = 2” by “FASTSELECTION_TH = 3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投影片編號版面配置區 2"/>
          <p:cNvSpPr/>
          <p:nvPr/>
        </p:nvSpPr>
        <p:spPr>
          <a:xfrm>
            <a:off x="8597880" y="6492960"/>
            <a:ext cx="54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D5A7-7A44-48ED-8E2F-2010F0D4B8E6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字方塊 1"/>
          <p:cNvSpPr/>
          <p:nvPr/>
        </p:nvSpPr>
        <p:spPr>
          <a:xfrm>
            <a:off x="6427800" y="48895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y in CTC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3" name="投影片編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B68C-91B9-47CB-B2D2-F71B39B4E54E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39680" y="1012680"/>
          <a:ext cx="8864640" cy="267336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3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CTVC-T0044: CE1.D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sion 1: No additional RD chec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139680" y="3840120"/>
          <a:ext cx="8864640" cy="267336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6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CTVC-T0169: CE1.D1.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sion 1: No additional RD chec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y in CTC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17" name="投影片編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61C0-C70A-468A-B71B-C3B6F5AC6CAD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139680" y="1012680"/>
          <a:ext cx="8864640" cy="267336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3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CTVC-T0169 + JCTVC-T00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sion 1: No additional RD chec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y in CTC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DA96-2520-4217-873F-36BC0BD70476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39680" y="1012680"/>
          <a:ext cx="8864640" cy="267336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3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CTVC-T0044: CE1.D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sion 2: One additional RD chec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139680" y="3840120"/>
          <a:ext cx="8864640" cy="267336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68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CTVC-T0169: CE1.D1.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sion 2: One additional RD chec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"/>
                <a:ea typeface="新細明體"/>
              </a:rPr>
              <a:t>Results of Lossy in CTC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4" name="投影片編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BE2A-01ED-48DC-84F6-2F8C37984F97}" type="slidenum">
              <a:rPr b="0" lang="zh-TW" sz="1200" spc="-1" strike="noStrike">
                <a:solidFill>
                  <a:srgbClr val="898989"/>
                </a:solidFill>
                <a:latin typeface="Arial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39680" y="1012680"/>
          <a:ext cx="8864640" cy="2673360"/>
        </p:xfrm>
        <a:graphic>
          <a:graphicData uri="http://schemas.openxmlformats.org/drawingml/2006/table">
            <a:tbl>
              <a:tblPr/>
              <a:tblGrid>
                <a:gridCol w="3997440"/>
                <a:gridCol w="539640"/>
                <a:gridCol w="541440"/>
                <a:gridCol w="541080"/>
                <a:gridCol w="540000"/>
                <a:gridCol w="541080"/>
                <a:gridCol w="541440"/>
                <a:gridCol w="541440"/>
                <a:gridCol w="539640"/>
                <a:gridCol w="541440"/>
              </a:tblGrid>
              <a:tr h="2203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CTVC-T0169 + JCTVC-T00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1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　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ersion 2: One additional RD chec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/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text &amp; graphics with motion, 1080p &amp;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mixed content, 1440p &amp;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Animation, 72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UV, camera captured, 1080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284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 Unicode MS"/>
                <a:ea typeface="Arial Unicode MS"/>
              </a:rPr>
              <a:t>Conclusions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114200"/>
            <a:ext cx="8481960" cy="52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loss in RA/LB conditions is fixed by simply disabling a coding tool proposed in CE1.D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re is no conflict to combine the fixed version of CE1.D1 and JCTVC-T0087 for further coding efficiency impro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投影片編號版面配置區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3958-27B1-407F-80BA-012A47AF2AFD}" type="slidenum"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4da9"/>
                </a:solidFill>
                <a:latin typeface="Arial Unicode MS"/>
                <a:ea typeface="Arial Unicode MS"/>
              </a:rPr>
              <a:t>Acknowledgement</a:t>
            </a:r>
            <a:endParaRPr b="0" lang="en-US" sz="4400" spc="-1" strike="noStrike">
              <a:solidFill>
                <a:srgbClr val="154da9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244440" y="1071720"/>
            <a:ext cx="869472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 thank MERL for crosschecking our propos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投影片編號版面配置區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A35F-29E5-47E8-B59E-175DDC3DCFFB}" type="slidenum">
              <a:rPr b="0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03:22:15Z</dcterms:created>
  <dc:creator>john</dc:creator>
  <dc:description/>
  <dc:language>en-US</dc:language>
  <cp:lastModifiedBy>張耀仁</cp:lastModifiedBy>
  <cp:lastPrinted>2013-05-17T00:59:36Z</cp:lastPrinted>
  <dcterms:modified xsi:type="dcterms:W3CDTF">2015-02-12T11:24:07Z</dcterms:modified>
  <cp:revision>1291</cp:revision>
  <dc:subject/>
  <dc:title>3D-HEV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