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2"/>
          </p:nvPr>
        </p:nvSpPr>
        <p:spPr>
          <a:xfrm>
            <a:off x="414648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4"/>
          </p:nvPr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A4F7-EEE0-43EE-A64C-301F8DEBF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F229-F6A7-4BFF-A1FC-294678804E8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F40A-AF70-4606-8BF8-0A31AC5932F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F679-3643-4D4A-A900-7DA688DDE6D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D326-A684-416F-B4AD-E8BC24D82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1ED9-3690-4DC2-8423-36F667EF7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F26A2-D105-4E00-8246-8A1CBD399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BEC9D-E82C-4A8F-BB52-91A2D9BBE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9C22-5070-4C5B-9114-B49F32F4B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54B2-06DD-4122-A9B7-5267BD96F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41D4-6F1E-4EAA-A37D-BEE8FAFF6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784B-A9EE-400A-88C9-C90707B3E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8222-F142-4D07-80F4-CB2397405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5925-DCDB-4257-B6E3-FA23FD9DE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97D6-442D-4B7D-A11E-054A47E5E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4F09-A159-4AC2-9188-96786540B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24" name="Group 26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Line 27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54" name="Rectangle 56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5" name="Picture 57" descr="Tongji2"/>
          <p:cNvPicPr/>
          <p:nvPr/>
        </p:nvPicPr>
        <p:blipFill>
          <a:blip r:embed="rId3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ldNum" idx="1"/>
          </p:nvPr>
        </p:nvSpPr>
        <p:spPr>
          <a:xfrm>
            <a:off x="709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BE43-AAF9-4879-814F-6A444D83C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61" descr="paint"/>
          <p:cNvPicPr/>
          <p:nvPr/>
        </p:nvPicPr>
        <p:blipFill>
          <a:blip r:embed="rId4"/>
          <a:stretch/>
        </p:blipFill>
        <p:spPr>
          <a:xfrm>
            <a:off x="0" y="512640"/>
            <a:ext cx="9144000" cy="131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4" descr=""/>
          <p:cNvPicPr/>
          <p:nvPr/>
        </p:nvPicPr>
        <p:blipFill>
          <a:blip r:embed="rId5"/>
          <a:stretch/>
        </p:blipFill>
        <p:spPr>
          <a:xfrm>
            <a:off x="7059600" y="0"/>
            <a:ext cx="2084400" cy="5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5" descr="Tongji2"/>
          <p:cNvPicPr/>
          <p:nvPr/>
        </p:nvPicPr>
        <p:blipFill>
          <a:blip r:embed="rId2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pic>
        <p:nvPicPr>
          <p:cNvPr id="96" name="WordArt 76" descr=""/>
          <p:cNvPicPr/>
          <p:nvPr/>
        </p:nvPicPr>
        <p:blipFill>
          <a:blip r:embed="rId3"/>
          <a:stretch/>
        </p:blipFill>
        <p:spPr>
          <a:xfrm>
            <a:off x="7759800" y="19080"/>
            <a:ext cx="129204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2"/>
          <p:cNvSpPr/>
          <p:nvPr/>
        </p:nvSpPr>
        <p:spPr>
          <a:xfrm>
            <a:off x="7093080" y="55148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358C-A851-496A-A6E3-07922D59F78D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1521000"/>
            <a:ext cx="9144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mprovements on ISC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76360" y="4012920"/>
            <a:ext cx="7921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JCTVC-T0139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10 Feb. – 18 Feb. 201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alibri"/>
              </a:rPr>
              <a:t>Tao Li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1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6FFE-10DE-435E-B807-D5D12FEF03C9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Rectangle 659"/>
          <p:cNvSpPr/>
          <p:nvPr/>
        </p:nvSpPr>
        <p:spPr>
          <a:xfrm>
            <a:off x="324000" y="765000"/>
            <a:ext cx="69498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2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TC2: 4CTU IBC and 4CTU ISC, lossles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1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6F72-B0E9-47E3-BD1D-C2EF3AAE78B5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Rectangle 659"/>
          <p:cNvSpPr/>
          <p:nvPr/>
        </p:nvSpPr>
        <p:spPr>
          <a:xfrm>
            <a:off x="324000" y="765000"/>
            <a:ext cx="69498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2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TC3: FF IBC and FF ISC, loss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50920" y="1376280"/>
          <a:ext cx="8424720" cy="4091040"/>
        </p:xfrm>
        <a:graphic>
          <a:graphicData uri="http://schemas.openxmlformats.org/drawingml/2006/table">
            <a:tbl>
              <a:tblPr/>
              <a:tblGrid>
                <a:gridCol w="3203640"/>
                <a:gridCol w="1014120"/>
                <a:gridCol w="397080"/>
                <a:gridCol w="450720"/>
                <a:gridCol w="451080"/>
                <a:gridCol w="450720"/>
                <a:gridCol w="449280"/>
                <a:gridCol w="450720"/>
                <a:gridCol w="876240"/>
                <a:gridCol w="681120"/>
              </a:tblGrid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l Intr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andom Acces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ow delay B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G/Y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/U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/V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G/Y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/U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/V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G/Y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/U</a:t>
                      </a:r>
                      <a:endParaRPr b="0" lang="en-US" sz="9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/V</a:t>
                      </a:r>
                      <a:endParaRPr b="0" lang="en-US" sz="9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GB, text &amp; graphics with motion, 1080p &amp; 72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GB, mixed content, 1440p &amp; 108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GB, Animation, 72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GB, camera captured, 108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UV, text &amp; graphics with motion, 1080p &amp; 72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UV, mixed content, 1440p &amp; 108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UV, Animation, 72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UV, camera captured, 108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1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6DD5-F0C0-4005-A750-B05CAA0ACEAD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Rectangle 659"/>
          <p:cNvSpPr/>
          <p:nvPr/>
        </p:nvSpPr>
        <p:spPr>
          <a:xfrm>
            <a:off x="324000" y="765000"/>
            <a:ext cx="69498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2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TC3: FF IBC and FF ISC, lossles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3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B2EB-172A-416B-BA61-96A82B5D5DBA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079640" y="115920"/>
            <a:ext cx="66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0" y="728640"/>
            <a:ext cx="9252000" cy="47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han 70% matching strings are not ABOVE/LEF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076400" indent="-449280">
              <a:lnSpc>
                <a:spcPct val="100000"/>
              </a:lnSpc>
              <a:spcBef>
                <a:spcPts val="1500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ig room for coding performance improvement by IS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RAM or DDR memory bandwidth issue in IS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ABAC throughput issue in IS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 to adopt T0139 or further study in C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076400" indent="-449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improving coding perform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076400" indent="-449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ly reducing encoding time w/o performance hi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3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A4B9-5377-4D72-B19E-C576B7909128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0" y="2637000"/>
            <a:ext cx="914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458c"/>
                </a:solidFill>
                <a:latin typeface="Times New Roman"/>
              </a:rPr>
              <a:t>THANK  YOU</a:t>
            </a:r>
            <a:endParaRPr b="0" lang="en-US" sz="8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图表 16"/>
          <p:cNvGraphicFramePr/>
          <p:nvPr/>
        </p:nvGraphicFramePr>
        <p:xfrm>
          <a:off x="5219640" y="-316080"/>
          <a:ext cx="4635720" cy="292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图表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-316080"/>
                    <a:ext cx="4635720" cy="29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图表 15"/>
          <p:cNvGraphicFramePr/>
          <p:nvPr/>
        </p:nvGraphicFramePr>
        <p:xfrm>
          <a:off x="-431640" y="-316080"/>
          <a:ext cx="4635360" cy="2921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6" name="图表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31640" y="-316080"/>
                    <a:ext cx="4635360" cy="29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5364000" y="4068720"/>
            <a:ext cx="4554720" cy="2828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-504720" y="4029120"/>
            <a:ext cx="4554360" cy="2828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6192720" y="6456240"/>
            <a:ext cx="901800" cy="401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108000" y="-566640"/>
            <a:ext cx="407880" cy="2377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42920" y="3284640"/>
            <a:ext cx="407880" cy="2768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0"/>
          <a:stretch/>
        </p:blipFill>
        <p:spPr>
          <a:xfrm>
            <a:off x="2268360" y="6450120"/>
            <a:ext cx="908280" cy="407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3348000" y="-243000"/>
            <a:ext cx="2665440" cy="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-144360" y="2421000"/>
            <a:ext cx="928836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3995640" y="657360"/>
            <a:ext cx="169236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0" y="2241720"/>
            <a:ext cx="3708360" cy="2124000"/>
            <a:chOff x="0" y="2241720"/>
            <a:chExt cx="3708360" cy="2124000"/>
          </a:xfrm>
        </p:grpSpPr>
        <p:sp>
          <p:nvSpPr>
            <p:cNvPr id="157" name=""/>
            <p:cNvSpPr/>
            <p:nvPr/>
          </p:nvSpPr>
          <p:spPr>
            <a:xfrm>
              <a:off x="468360" y="3465720"/>
              <a:ext cx="32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79640" y="2241720"/>
              <a:ext cx="0" cy="212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3392640"/>
              <a:ext cx="133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OffsetX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19280" y="2241720"/>
              <a:ext cx="13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OffsetY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08360" y="3249720"/>
              <a:ext cx="142920" cy="142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95280" y="3392640"/>
              <a:ext cx="1513080" cy="144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95280" y="2637000"/>
              <a:ext cx="1511280" cy="755640"/>
            </a:xfrm>
            <a:prstGeom prst="rect">
              <a:avLst/>
            </a:prstGeom>
            <a:solidFill>
              <a:srgbClr val="ff808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5280" y="3537000"/>
              <a:ext cx="1511280" cy="755640"/>
            </a:xfrm>
            <a:prstGeom prst="rect">
              <a:avLst/>
            </a:prstGeom>
            <a:solidFill>
              <a:srgbClr val="c3d69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8360" y="2637000"/>
              <a:ext cx="142920" cy="612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51280" y="2637000"/>
              <a:ext cx="755640" cy="75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968720" y="2276640"/>
            <a:ext cx="3706920" cy="2124000"/>
            <a:chOff x="4968720" y="2276640"/>
            <a:chExt cx="3706920" cy="2124000"/>
          </a:xfrm>
        </p:grpSpPr>
        <p:sp>
          <p:nvSpPr>
            <p:cNvPr id="168" name=""/>
            <p:cNvSpPr/>
            <p:nvPr/>
          </p:nvSpPr>
          <p:spPr>
            <a:xfrm>
              <a:off x="5435640" y="3500280"/>
              <a:ext cx="32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48360" y="2276640"/>
              <a:ext cx="0" cy="212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68720" y="3427560"/>
              <a:ext cx="133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OffsetX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88000" y="2276640"/>
              <a:ext cx="13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OffsetY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32720" y="3429000"/>
              <a:ext cx="142920" cy="142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7080" y="2673360"/>
              <a:ext cx="142920" cy="755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64000" y="2671920"/>
              <a:ext cx="1511640" cy="755640"/>
            </a:xfrm>
            <a:prstGeom prst="rect">
              <a:avLst/>
            </a:prstGeom>
            <a:solidFill>
              <a:srgbClr val="ff808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64000" y="3571920"/>
              <a:ext cx="1511640" cy="755640"/>
            </a:xfrm>
            <a:prstGeom prst="rect">
              <a:avLst/>
            </a:prstGeom>
            <a:solidFill>
              <a:srgbClr val="c3d69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64000" y="3429000"/>
              <a:ext cx="1368720" cy="144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20000" y="2671920"/>
              <a:ext cx="755640" cy="75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635280" y="76500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C Offset distribu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0" y="1628640"/>
            <a:ext cx="262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ABOVE + LEFT strings are less than 30%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3311640" y="5697360"/>
            <a:ext cx="262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ABOVE + LEFT strings are less than 20%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166920" y="3933720"/>
            <a:ext cx="30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till have big room of improvement by using IS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00000" y="2384280"/>
            <a:ext cx="3275280" cy="2117160"/>
            <a:chOff x="900000" y="2384280"/>
            <a:chExt cx="3275280" cy="2117160"/>
          </a:xfrm>
        </p:grpSpPr>
        <p:sp>
          <p:nvSpPr>
            <p:cNvPr id="183" name=""/>
            <p:cNvSpPr/>
            <p:nvPr/>
          </p:nvSpPr>
          <p:spPr>
            <a:xfrm>
              <a:off x="900000" y="31766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27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80000" y="335772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-63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08360" y="4257720"/>
              <a:ext cx="36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-63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16360" y="23842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63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869080" y="2421000"/>
            <a:ext cx="3274560" cy="2116800"/>
            <a:chOff x="5869080" y="2421000"/>
            <a:chExt cx="3274560" cy="2116800"/>
          </a:xfrm>
        </p:grpSpPr>
        <p:sp>
          <p:nvSpPr>
            <p:cNvPr id="188" name=""/>
            <p:cNvSpPr/>
            <p:nvPr/>
          </p:nvSpPr>
          <p:spPr>
            <a:xfrm>
              <a:off x="5869080" y="3213000"/>
              <a:ext cx="39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27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748720" y="3394080"/>
              <a:ext cx="39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-63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77080" y="4294080"/>
              <a:ext cx="360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-63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85080" y="2421000"/>
              <a:ext cx="39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63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1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51AA-0A4F-4CE1-A90B-C510E76A041B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is Propos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16000" y="1160640"/>
            <a:ext cx="871380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y match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Limit is the same as used in CQ of Palette cod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y hash: 4-bit MSB of each color compon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Scan in both horizontal and vertical sac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ndancy removal in string offset co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B coding of string lengt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binarization of offset and length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bit for ABOVE m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offsets use EG-2 cod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s are divided into 2 or 3 intervals, each uses F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826920" y="69228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ajor Improv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1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EC92-FCB3-4A7A-898E-08265F8BB219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is Propos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16000" y="1089000"/>
            <a:ext cx="871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ing length: 20 pixels outside of 2C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324000" y="657360"/>
            <a:ext cx="856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 SRAM or DDR bandwidth issue in IS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16000" y="1628640"/>
          <a:ext cx="8604000" cy="3219480"/>
        </p:xfrm>
        <a:graphic>
          <a:graphicData uri="http://schemas.openxmlformats.org/drawingml/2006/table">
            <a:tbl>
              <a:tblPr/>
              <a:tblGrid>
                <a:gridCol w="1979640"/>
                <a:gridCol w="377640"/>
                <a:gridCol w="372960"/>
                <a:gridCol w="390600"/>
                <a:gridCol w="590760"/>
                <a:gridCol w="904680"/>
                <a:gridCol w="946080"/>
                <a:gridCol w="433440"/>
                <a:gridCol w="412920"/>
                <a:gridCol w="406440"/>
                <a:gridCol w="404640"/>
                <a:gridCol w="406440"/>
                <a:gridCol w="406440"/>
                <a:gridCol w="571320"/>
              </a:tblGrid>
              <a:tr h="24948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iguration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ory Bandwidth 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row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 Siz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 Length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 Pred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rowSpan="3"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ory  Patter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Component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/V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or 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=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94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x8 Bi-predictio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494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x8 Uni-predictio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494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x4 Uni-predictio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94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x4 IBC PU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494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x4 ILC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494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x1 ILC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94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x1 ISC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139 H sca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494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139 V sca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3"/>
          <p:cNvSpPr/>
          <p:nvPr/>
        </p:nvSpPr>
        <p:spPr>
          <a:xfrm>
            <a:off x="0" y="4941720"/>
            <a:ext cx="777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pattern size in typical SRAM: 2x2 pixels with a memory bus width of 2x2x24=96 bits. P-value = 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184720" y="4257360"/>
            <a:ext cx="1150920" cy="75564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775640" y="4723920"/>
            <a:ext cx="612720" cy="1297080"/>
          </a:xfrm>
          <a:prstGeom prst="line">
            <a:avLst/>
          </a:prstGeom>
          <a:ln w="7632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079640" y="5913360"/>
            <a:ext cx="792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pattern size in typical DDR: 8x8 samples with a bus width of 64 bits and burst size of 8. P-value = 12.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82692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ISC memory bandwidt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24000" y="657360"/>
            <a:ext cx="856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 CABAC throughput issue in T0139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50920" y="1449360"/>
          <a:ext cx="8534160" cy="5089680"/>
        </p:xfrm>
        <a:graphic>
          <a:graphicData uri="http://schemas.openxmlformats.org/drawingml/2006/table">
            <a:tbl>
              <a:tblPr/>
              <a:tblGrid>
                <a:gridCol w="3313080"/>
                <a:gridCol w="2921040"/>
                <a:gridCol w="2300040"/>
              </a:tblGrid>
              <a:tr h="2761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rediction Mo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Times New Roman"/>
                          <a:ea typeface="新細明體"/>
                        </a:rPr>
                        <a:t>JCTVC-T0139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(Note: CU Size = 8x8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Syntax Element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Number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 rowSpan="7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Mode Fla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u_transquant_bypass_fla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u_skip_fla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ntra_bc_fla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ntra_sc_fla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sc_srb_mode_fla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sc_srb_sharing_fla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4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artitio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N/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4440">
                <a:tc rowSpan="6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MV or BV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sc_no_ref_pixel_fla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4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sc_offsetX_zero_fla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sc_offsetX_sign_fla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sc_offsetY_zero_fla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sc_offsetY_sign_fla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sc_length_prefix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888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esidual (4 4x4 TBs, 3 Color Components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N/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2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Number of Context-coded Bin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3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ins per Pixel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.7187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1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4CB4-D519-4809-9F7A-913513BCF813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Rectangle 659"/>
          <p:cNvSpPr/>
          <p:nvPr/>
        </p:nvSpPr>
        <p:spPr>
          <a:xfrm>
            <a:off x="142920" y="765000"/>
            <a:ext cx="900108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2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nchor: SCM30 CTC, 3 test conditions of reference ran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295280" y="1665360"/>
          <a:ext cx="6589800" cy="3708360"/>
        </p:xfrm>
        <a:graphic>
          <a:graphicData uri="http://schemas.openxmlformats.org/drawingml/2006/table">
            <a:tbl>
              <a:tblPr/>
              <a:tblGrid>
                <a:gridCol w="2232000"/>
                <a:gridCol w="2305080"/>
                <a:gridCol w="20527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b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IB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b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IS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bebd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Test condition 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Full-fram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1x2-CTU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Test condition 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1x4-CTU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1x4-CTU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Test condition 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Full-fram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Full-fram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1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259D-F526-4AD2-B5D8-AA68BA77F94E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Rectangle 659"/>
          <p:cNvSpPr/>
          <p:nvPr/>
        </p:nvSpPr>
        <p:spPr>
          <a:xfrm>
            <a:off x="324000" y="765000"/>
            <a:ext cx="69498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2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TC1: FF IBC and 2CTU ISC, loss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808280"/>
          <a:ext cx="9144000" cy="3276360"/>
        </p:xfrm>
        <a:graphic>
          <a:graphicData uri="http://schemas.openxmlformats.org/drawingml/2006/table">
            <a:tbl>
              <a:tblPr/>
              <a:tblGrid>
                <a:gridCol w="3438360"/>
                <a:gridCol w="567000"/>
                <a:gridCol w="574560"/>
                <a:gridCol w="652320"/>
                <a:gridCol w="652680"/>
                <a:gridCol w="652320"/>
                <a:gridCol w="649440"/>
                <a:gridCol w="652320"/>
                <a:gridCol w="652680"/>
                <a:gridCol w="6523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l Intr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andom Acces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ow delay B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G/Y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/U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/V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G/Y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/U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/V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G/Y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/U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/V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GB, text &amp; graphics with motion, 1080p &amp; 72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2.3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2.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2.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1.6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1.9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1.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GB, mixed content, 1440p &amp; 108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1.4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1.4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1.2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1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GB, Animation, 72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GB, camera captured, 108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2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UV, text &amp; graphics with motion, 1080p &amp; 72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-3.3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-3.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-3.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2.2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2.6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2.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1.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1.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2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UV, mixed content, 1440p &amp; 108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1.3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2.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2.6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9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2.2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2.2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2.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-2.3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UV, Animation, 72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.3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UV, camera captured, 108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.2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56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43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4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1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6174-5BBC-42EB-96FF-5810EADF2CDC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Rectangle 659"/>
          <p:cNvSpPr/>
          <p:nvPr/>
        </p:nvSpPr>
        <p:spPr>
          <a:xfrm>
            <a:off x="324000" y="765000"/>
            <a:ext cx="69498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2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TC1: FF IBC and 2CTU ISC, lossles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0" y="1557360"/>
          <a:ext cx="9144000" cy="3470400"/>
        </p:xfrm>
        <a:graphic>
          <a:graphicData uri="http://schemas.openxmlformats.org/drawingml/2006/table">
            <a:tbl>
              <a:tblPr/>
              <a:tblGrid>
                <a:gridCol w="1849320"/>
                <a:gridCol w="693720"/>
                <a:gridCol w="695520"/>
                <a:gridCol w="579240"/>
                <a:gridCol w="579600"/>
                <a:gridCol w="577800"/>
                <a:gridCol w="693720"/>
                <a:gridCol w="579600"/>
                <a:gridCol w="577800"/>
                <a:gridCol w="581040"/>
                <a:gridCol w="579240"/>
                <a:gridCol w="579600"/>
                <a:gridCol w="577800"/>
              </a:tblGrid>
              <a:tr h="51660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All Intr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Random Acces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Low Delay B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660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it-rate saving Tota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it-rate saving (Avg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it-rate saving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(Min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it-rate saving (Max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it-rate saving Tota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it-rate saving (Avg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it-rate saving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(Min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it-rate saving (Max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it-rate saving Tota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it-rate saving (Avg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it-rate saving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(Min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it-rate saving (Max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GB, TGM, 1080p &amp; 72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-4.6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-5.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-15.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2.4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-3.3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-10.4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2.3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2.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-6.3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GB, MC, 1440p &amp; 108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9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1.6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52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GB, Animation, 72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GB, CC, 108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UV, TGM, 1080p &amp; 72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-4.9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-5.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-16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2.4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-3.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-10.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2.2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2.6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新細明體"/>
                        </a:rPr>
                        <a:t>-6.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UV, MC, 1440p &amp; 108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9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9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1.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52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UV, Animation, 72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UV, CC, 108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52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8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4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34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2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2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灯片编号占位符 1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0AD0-5C36-4CFB-987E-8C7C74438852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Rectangle 659"/>
          <p:cNvSpPr/>
          <p:nvPr/>
        </p:nvSpPr>
        <p:spPr>
          <a:xfrm>
            <a:off x="324000" y="765000"/>
            <a:ext cx="69498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2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TC1: 4CTU IBC and 4CTU ISC, loss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50920" y="1376280"/>
          <a:ext cx="8424720" cy="4091040"/>
        </p:xfrm>
        <a:graphic>
          <a:graphicData uri="http://schemas.openxmlformats.org/drawingml/2006/table">
            <a:tbl>
              <a:tblPr/>
              <a:tblGrid>
                <a:gridCol w="3203640"/>
                <a:gridCol w="1014120"/>
                <a:gridCol w="397080"/>
                <a:gridCol w="450720"/>
                <a:gridCol w="451080"/>
                <a:gridCol w="450720"/>
                <a:gridCol w="449280"/>
                <a:gridCol w="450720"/>
                <a:gridCol w="876240"/>
                <a:gridCol w="681120"/>
              </a:tblGrid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l Intr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andom Acces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ow delay B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G/Y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/U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/V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G/Y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/U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/V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G/Y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B/U</a:t>
                      </a:r>
                      <a:endParaRPr b="0" lang="en-US" sz="9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/V</a:t>
                      </a:r>
                      <a:endParaRPr b="0" lang="en-US" sz="9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GB, text &amp; graphics with motion, 1080p &amp; 72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GB, mixed content, 1440p &amp; 108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GB, Animation, 72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GB, camera captured, 108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UV, text &amp; graphics with motion, 1080p &amp; 72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UV, mixed content, 1440p &amp; 108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UV, Animation, 72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UV, camera captured, 1080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03:13:52Z</dcterms:created>
  <dc:creator>tao lin</dc:creator>
  <dc:description/>
  <dc:language>en-US</dc:language>
  <cp:lastModifiedBy>n</cp:lastModifiedBy>
  <dcterms:modified xsi:type="dcterms:W3CDTF">2015-02-11T16:09:24Z</dcterms:modified>
  <cp:revision>1556</cp:revision>
  <dc:subject/>
  <dc:title>Slide 1</dc:title>
</cp:coreProperties>
</file>