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441A074-429F-4C05-B72F-A8D260D887E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9EAF68-84CA-4A94-B38C-41EBB0E03C7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D9684B-1DCE-4A32-BCB3-751EB87CA12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737478-1C06-447A-8630-7D0E7309A48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A7833B-1664-440D-A0B5-742BD90CCE3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54744FC-91C0-4159-ADB3-F40BAFEB7A0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C9528F-9537-4DB0-AFCC-04895920702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54A9AC9-1EEC-4DB7-97FC-06973AB45D1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4DCB424-5D15-4B82-A590-C3640BA1E14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0DB29A9-C239-441C-90E2-EBA2601AA49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965C8FF-F599-4E00-86F7-BDC1F5803A0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A45FFBF-BD34-4DC1-B60F-C930442F2B0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9B41-C082-40FA-8F6C-E5CEDAC7A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7E7F-94F2-4C58-8FCB-85EE6C962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A6D7-4AD1-42AF-AB7B-B4CEF817B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1456-1588-4780-806C-62D3C439E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C3E9-6C8D-4C6C-A9EA-91B156656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DA4A-F2B7-4922-B1B2-DF9C991C2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5250-F725-4D63-BBF4-C02D8A6BDB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605D-8BA1-4CBF-B03A-2F0414F43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FB17-7103-4602-9AAE-CA7C1402C3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ED05-9AC8-4D7E-A5A6-EA3FD5F55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9064-F9CC-4A60-A8A4-FBCB99C7B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5AA9-01FB-4367-B1F1-74F88EC6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2E37-83E8-4322-8B23-454010A56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89E6-A5C1-4421-92AB-D68F6AC328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D4AF-7004-4FC3-AACC-E097126890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333E-C313-4F60-84F4-073ED97A1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DC05-A104-4E86-8D39-D19C14EA63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287-1BB8-4911-913E-DCA30168A3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A51-3C3C-4201-B5EA-FA2DE09E30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9AF-93E7-473E-AB47-8235D430AD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E91-CF30-46B8-8B69-3637D35AB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7F9-9BC8-47B9-8503-1D776FBBE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B8B4-BEE7-4A28-8A5D-EBAF254C1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C65-F81B-44C3-A28C-E435F51EAF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A90-8A3B-46F7-843C-B93F6F82E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F60-F9B6-480A-BF59-E1C6C5B359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AB4-C739-4151-99D4-C6D736FDEF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3D9-F76A-4B5F-A621-362DF9B47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999-5239-43D2-83D2-739263767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F71-4AC5-432B-BA67-8EBF5141D5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43345-2BB7-4501-B9E3-2AFFF5A250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95F39-090B-4EE2-833B-64F74034AD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C045C-0E5F-4082-99E3-91BC6AD77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D736-8B12-4EDB-AB27-2A35497D51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D3B06-7A2C-4E7D-A5B1-743B4D6A27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D24B6-B428-4F9E-A7E9-C8070D3D4F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811E5-63BB-4A20-8AEE-2D574FA98A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5CA4D-CAA4-4EF7-B2F3-A78518E153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0DF48-F682-4B5B-8528-2A75E63CFA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4CBFB-BAAE-4D23-9BC4-6A99CB98C6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013FC-A09F-47E5-BD9F-BBB2FCC954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3A02-8274-4795-A10D-C0227C000A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3612C-FEAD-4AB2-ABAA-90555E5CBB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60AD-9678-4E62-93B2-72D405ADD3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A9C4-873F-4166-9C9E-1651A640D1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89AB1-49EF-4861-9F8F-26177DBACB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DA41-1432-42B9-AB6A-176EB437E7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1B31-0C37-4EBA-A415-05075E75BD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B131-64CE-47FE-8F64-17CA66B010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97AA-AADA-4934-AA1D-43852BC7C3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0570-7164-4737-A16F-12863BB57C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3C348-5231-4BB2-BBF7-F7380E21F9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CF4D7-96FD-4752-BECE-F3BD9927CC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C4F07-09BC-42B5-A77B-054A62A99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FCC1-1870-4981-B90A-F9E0EA9146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DC5F-7495-4FDF-8F92-2322EDA8B0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3026-1BA4-4090-9E41-8ABADF791C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0F16-64AE-4D3D-9887-6A809DF68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992D-E8CA-4B2D-913D-D1AADA597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432C-C402-471C-BA4B-42811D2B4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C9D1-BA66-4E0F-9C0C-378810D7926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87E0-77B4-4B5F-9D5C-E3597F9A6B54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954-AAD3-47FE-BA60-738A2CDCD841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3AC-2EF2-4E44-954E-617FE9352DB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0EAB-76E7-41E2-AE88-073D04B721D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4020-B81A-45C9-8EF7-2828077244F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03A-364A-4C3A-8537-3D478C03C27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367-20F6-416F-82BE-C6F9CA6E2BA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8185-5BE9-46A2-9F0C-FE3CA332575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86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</a:t>
            </a: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1: Parallel processing method for index map codin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, Chao-Hsiung Hung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ruar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C1A-D8CF-4E19-A6BE-58076C1E6B2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E0A-147B-4674-8C31-A80CCB3CE3A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/RA/LB Lossy 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C017-9CC5-4407-94CF-924BFE72275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2280" y="1595520"/>
          <a:ext cx="8991720" cy="4433760"/>
        </p:xfrm>
        <a:graphic>
          <a:graphicData uri="http://schemas.openxmlformats.org/drawingml/2006/table">
            <a:tbl>
              <a:tblPr/>
              <a:tblGrid>
                <a:gridCol w="5010120"/>
                <a:gridCol w="1327320"/>
                <a:gridCol w="1326960"/>
                <a:gridCol w="132732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abled in 8x8 CU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4" name="文字方塊 1"/>
          <p:cNvSpPr/>
          <p:nvPr/>
        </p:nvSpPr>
        <p:spPr>
          <a:xfrm>
            <a:off x="175320" y="61228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is not reliable due to running on different computing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"/>
          <p:cNvSpPr/>
          <p:nvPr/>
        </p:nvSpPr>
        <p:spPr>
          <a:xfrm>
            <a:off x="3518640" y="9129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nchor: SCM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/RA/LB Lossy 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583-290E-408E-803C-35CBEF8C663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2280" y="1595520"/>
          <a:ext cx="8991720" cy="4440240"/>
        </p:xfrm>
        <a:graphic>
          <a:graphicData uri="http://schemas.openxmlformats.org/drawingml/2006/table">
            <a:tbl>
              <a:tblPr/>
              <a:tblGrid>
                <a:gridCol w="5010120"/>
                <a:gridCol w="1327320"/>
                <a:gridCol w="1326960"/>
                <a:gridCol w="132732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abled in 8x8 CU on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9" name="文字方塊 1"/>
          <p:cNvSpPr/>
          <p:nvPr/>
        </p:nvSpPr>
        <p:spPr>
          <a:xfrm>
            <a:off x="175320" y="61228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is not reliable due to running on different computing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"/>
          <p:cNvSpPr/>
          <p:nvPr/>
        </p:nvSpPr>
        <p:spPr>
          <a:xfrm>
            <a:off x="1105920" y="952560"/>
            <a:ext cx="72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nchor: SCM3.0 + JCTVC-T0034 (Run_to_the_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 about the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81080" y="1295280"/>
            <a:ext cx="841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current desig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palette mode is decoded pixel-by-pix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 way to parallelize the decoding process for the reconstruction process of the palette-based C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D891-BE68-48B0-80DF-03C104AAA51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字方塊 1"/>
          <p:cNvSpPr/>
          <p:nvPr/>
        </p:nvSpPr>
        <p:spPr>
          <a:xfrm>
            <a:off x="6427800" y="4889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8280" y="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design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67920" y="966960"/>
            <a:ext cx="877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2Nx2N index map is divided into two 2NxN sub-maps during the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wo sub-maps can decode the indexes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x system throughput due to paralle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DBD-4D7A-4AF9-BFF7-AD9EDE6C4C93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81040" y="3481560"/>
          <a:ext cx="3027240" cy="2925720"/>
        </p:xfrm>
        <a:graphic>
          <a:graphicData uri="http://schemas.openxmlformats.org/drawingml/2006/table">
            <a:tbl>
              <a:tblPr/>
              <a:tblGrid>
                <a:gridCol w="377640"/>
                <a:gridCol w="379440"/>
                <a:gridCol w="378000"/>
                <a:gridCol w="377640"/>
                <a:gridCol w="379440"/>
                <a:gridCol w="378000"/>
                <a:gridCol w="379440"/>
                <a:gridCol w="377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向右箭號 1"/>
          <p:cNvSpPr/>
          <p:nvPr/>
        </p:nvSpPr>
        <p:spPr>
          <a:xfrm rot="20082000">
            <a:off x="3830400" y="4079520"/>
            <a:ext cx="879480" cy="604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向右箭號 24"/>
          <p:cNvSpPr/>
          <p:nvPr/>
        </p:nvSpPr>
        <p:spPr>
          <a:xfrm rot="1227000">
            <a:off x="3871440" y="5047920"/>
            <a:ext cx="879480" cy="604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d0d0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字方塊 4"/>
          <p:cNvSpPr/>
          <p:nvPr/>
        </p:nvSpPr>
        <p:spPr>
          <a:xfrm>
            <a:off x="1209600" y="309096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8x8 Index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字方塊 26"/>
          <p:cNvSpPr/>
          <p:nvPr/>
        </p:nvSpPr>
        <p:spPr>
          <a:xfrm>
            <a:off x="5601960" y="30909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wo 8x4 sub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240160" y="3449520"/>
          <a:ext cx="3025800" cy="1463760"/>
        </p:xfrm>
        <a:graphic>
          <a:graphicData uri="http://schemas.openxmlformats.org/drawingml/2006/table">
            <a:tbl>
              <a:tblPr/>
              <a:tblGrid>
                <a:gridCol w="378000"/>
                <a:gridCol w="379440"/>
                <a:gridCol w="377640"/>
                <a:gridCol w="378000"/>
                <a:gridCol w="377640"/>
                <a:gridCol w="379440"/>
                <a:gridCol w="378000"/>
                <a:gridCol w="377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240160" y="5003640"/>
          <a:ext cx="3025800" cy="1463760"/>
        </p:xfrm>
        <a:graphic>
          <a:graphicData uri="http://schemas.openxmlformats.org/drawingml/2006/table">
            <a:tbl>
              <a:tblPr/>
              <a:tblGrid>
                <a:gridCol w="378000"/>
                <a:gridCol w="379440"/>
                <a:gridCol w="377640"/>
                <a:gridCol w="378000"/>
                <a:gridCol w="377640"/>
                <a:gridCol w="379440"/>
                <a:gridCol w="378000"/>
                <a:gridCol w="377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3720" y="98280"/>
            <a:ext cx="781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4da9"/>
                </a:solidFill>
                <a:latin typeface="Arial"/>
                <a:ea typeface="新細明體"/>
              </a:rPr>
              <a:t>One index issue in the proposed sub-map coding</a:t>
            </a:r>
            <a:endParaRPr b="0" lang="en-US" sz="4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67920" y="1429920"/>
            <a:ext cx="85028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current de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index map coding with single index case i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skipp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ithout signa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proposed partition de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new flag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ingle_index_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” is used to indicate the single index case for a sub-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390D-BA8B-438B-BEA4-A70E44E055D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/RA/LB Lossy 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C6E-F23B-43CE-BF66-F79DB9B866C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52280" y="1595520"/>
          <a:ext cx="8991720" cy="4433760"/>
        </p:xfrm>
        <a:graphic>
          <a:graphicData uri="http://schemas.openxmlformats.org/drawingml/2006/table">
            <a:tbl>
              <a:tblPr/>
              <a:tblGrid>
                <a:gridCol w="5010120"/>
                <a:gridCol w="1327320"/>
                <a:gridCol w="1326960"/>
                <a:gridCol w="132732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abled in 64x64~8x8 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文字方塊 1"/>
          <p:cNvSpPr/>
          <p:nvPr/>
        </p:nvSpPr>
        <p:spPr>
          <a:xfrm>
            <a:off x="175320" y="61228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is not reliable due to running on different computing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字方塊 1"/>
          <p:cNvSpPr/>
          <p:nvPr/>
        </p:nvSpPr>
        <p:spPr>
          <a:xfrm>
            <a:off x="3518640" y="9129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nchor: SCM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/RA/LB Lossy 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BE7F-5107-4D40-A983-240269D5DA6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280" y="1595520"/>
          <a:ext cx="8991720" cy="4440240"/>
        </p:xfrm>
        <a:graphic>
          <a:graphicData uri="http://schemas.openxmlformats.org/drawingml/2006/table">
            <a:tbl>
              <a:tblPr/>
              <a:tblGrid>
                <a:gridCol w="5010120"/>
                <a:gridCol w="1327320"/>
                <a:gridCol w="1326960"/>
                <a:gridCol w="132732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abled in 64x64~8x8 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文字方塊 1"/>
          <p:cNvSpPr/>
          <p:nvPr/>
        </p:nvSpPr>
        <p:spPr>
          <a:xfrm>
            <a:off x="175320" y="61228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is not reliable due to running on different computing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1"/>
          <p:cNvSpPr/>
          <p:nvPr/>
        </p:nvSpPr>
        <p:spPr>
          <a:xfrm>
            <a:off x="1105920" y="952560"/>
            <a:ext cx="72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nchor: SCM3.0 + JCTVC-T0034 (Run_to_the_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1360" y="1303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91600" y="1191960"/>
            <a:ext cx="837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proposes to partition a 2Nx2N index map into two 2NxN sub-maps for parallelization of the index map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x system throughput improvement for index map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ax. of 0.3%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top of SCM3.0 + JCTVC-T00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ax. of 0.2%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un_to_the_End signaling in JCTVC-T0034 can improve the gain of the sub-map index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5DE-E024-4A45-AD2C-0805257689C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further study the parallel processing in CE for the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CAD-78DE-437C-8415-34886F47BEA4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itsubishi for cross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Canon for cross ch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880-3D2A-4167-B948-57E6AF3CFCA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0T16:50:45Z</dcterms:modified>
  <cp:revision>1279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