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9DB8F6E-2DF9-49AF-8A6F-AC5358E48E7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03FC6C-307C-496B-8F6E-8FB366D5B06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E87680-BD4E-4B62-AC0D-3A778199DC6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BCB5E57-98E8-45E3-982C-1E71BD81ECF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2BE8236-E6F0-4AC4-9BFD-0AB0713F6CC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E926B29-B972-4DB5-AEC8-85925687D24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81DC5F6-CD02-4CD5-A1D8-D93E82F82E4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488804E-FAB4-4028-98FB-4D8FFFBEE70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AE07775-88D6-4695-8690-B73D81D4011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B84E-653F-4456-9B29-87AD32AC4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7A26-69B3-4DA8-ADD1-283180E4E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A277-2461-4C63-A77C-29A887C2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5324-B28A-4694-B76E-8997E21E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ED35-88DF-40FB-B458-58AC6A5D3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B613-E444-4B06-9B18-6F482A730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418B-9269-4EE6-BC0F-B4A72D0039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8EEC-5197-42FB-897C-61F08ED983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B444-0A33-42B3-BC88-CBB6922384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90D4-CD4C-46B3-857C-BD2154806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2DB1-A467-46E2-B5F7-BAF0058BD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E138-1E1D-4663-AEEE-3A56D0DBE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8ECA-B7AE-444B-B6C3-799BDEFCAB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20FC-BE99-46A7-845F-4CF57569E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6D31-7214-48CB-BABD-29831413F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9AD9-D9D8-44A2-9887-7DE78A310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CE6C-0B70-4D05-BED9-FBC017B604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E25-2D81-46EF-A2E9-5E3E76F8B2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B49-B2C7-4604-B21D-FC3326E87F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92E-2A7E-45F2-A298-63528AAA24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124-48F3-4E87-8936-146903FC78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E6F-704A-4609-8B1E-DAB27513E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73B8-6852-415E-9DE5-3F66AB1B78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969-01FC-4D14-8A1D-B34B23DB66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D8C-0B7E-40FA-9302-96DF2D52F6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C2A-DC35-43A1-A491-C846B3BB6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94F-A932-4FC5-B1B5-E5312A4F5E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8D3-865C-45C2-B90C-F953185860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F5B-ACDB-4CBA-B815-554E457B58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FE5-3ADB-49D4-895C-8AE0DC33CB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7F77E-09F5-43AF-8513-A0E36CC284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E832-36C9-4805-B57D-3065F3B266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FF3B-2050-4BDB-9FB4-AF06EBFAA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CB63-95F2-46D1-A779-64D58C3B16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959C-B0C6-49F3-BDDF-58497E4D51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7FBC2-759D-4EDB-8800-3621D4E02E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476A4-61A0-4FD4-8C77-32B5288055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95887-B3B6-476F-9448-1B49F3642A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3A525-3208-4413-A072-0CA3D0DADE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539B0-D810-4C39-BF85-E77DC082CA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836F-FE96-43FF-B579-657CC9B28A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54299-37FA-49E1-B923-CAEB3AD07D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9FD74-18B7-4E6B-B6B1-7F74B4BE45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B976-C299-4AE9-8246-8A100F53B8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60BD-1829-444C-ADD8-2E45A1F7B7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CB53-CDFF-4C92-8F0D-DC735A25E5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D3EC8-34B0-4006-AC27-5C1E6F8F0C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5424C-B27F-4451-A84E-5DFF66975E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4A8F-0921-4234-8201-E617C1F077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9F4D1-8F4E-4E08-93EA-48DA50FA7B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2FEE-3C8C-4799-B359-9DC8C45964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C827-B8AB-4A58-9C00-49D58FFBBF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C38E8-AF64-4998-A5B7-941FE2508D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CF290-4168-4F56-89EF-296295096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253A-1358-4A4C-BB9A-D842B85800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73AA-3B86-40A9-977F-E80CB2553E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31A4-905A-4C6D-B515-C7569B3FCD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2443-48DF-4D4D-8D69-4D1904C943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DD06-39F0-456F-A5F3-D413F62DEF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249-2BB5-49C1-B54D-0124AEC7F3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BAE-026E-42D8-A6DE-30C8E01E39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A7D-B3E0-4E26-8F2E-9CA21A19E0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504C-C73D-4F0B-B43E-21574B791A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FC25-0FE3-421E-9FD8-30B80EFF72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01E-C34E-4780-B7D8-E33BD5B16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3556-8AF7-4D10-8CBC-2DD2973DF7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CF0-AF4C-420F-9859-6E42E9B86A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3F1-A32B-4017-AD03-83A370899B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B9D-98BC-4FEF-997E-BAA695F65E1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5BBB-4AEC-43B8-A52C-81C0CBA452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6C1F-EFB5-4783-B367-F36D8A21F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F552-6889-418C-A5BD-0C25506B6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CBA-85B7-40FD-805A-E3782DF1445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8A28-8889-4F15-934B-12905AEB5F36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70A-834E-428A-9CFA-1590598C053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CD0-4A6A-40FF-BDB3-C5FE723A3A76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6E5-2553-41FA-836F-80043CDE945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7B29-3CAC-4B01-B9C2-613FDAEC6D71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41E-03A9-439D-AF0F-0CFE9A214F27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CE2-047D-416A-A306-A98BF01BD354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556-3BDE-4D45-BCD2-C3EF82E8DEB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1AF-DF4C-496A-8AA8-1FEB60E6D7B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82</a:t>
            </a:r>
            <a:br>
              <a:rPr sz="4400"/>
            </a:b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Syntax fixes for the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, Jih-Sheng Tu and Chao-Hsiung H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ruar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18B-4815-486F-ADE5-8945A2A6B23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FE20-448D-4157-B9B2-C2D68A032880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DE8-0920-4EBF-84B8-2AB54481165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3840" y="204156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828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 for zero palette size in the current desig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67920" y="1660680"/>
            <a:ext cx="850284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stuffing buffer is empty, there are two decoding processes to specify that the palette size is zer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rse palette_share_flag as ‘1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rse palette_share_flag as ‘0’, and then parse palette_num_signaled_entries as ‘0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5133-3E0B-41FD-8CD2-4871C6DE6E74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828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syntax modific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67920" y="1660680"/>
            <a:ext cx="850284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Unify and clean up the synta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r the case of zero palette s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4398-8072-45C4-9E9A-68AB19754D9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表格 1" descr=""/>
          <p:cNvPicPr/>
          <p:nvPr/>
        </p:nvPicPr>
        <p:blipFill>
          <a:blip r:embed="rId1"/>
          <a:stretch/>
        </p:blipFill>
        <p:spPr>
          <a:xfrm>
            <a:off x="768240" y="2871720"/>
            <a:ext cx="78454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828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 for zero palette size in the proposed desig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67920" y="1660680"/>
            <a:ext cx="850284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stuffing buffer is empty, there is only one decoding process to specify that the palette size is zer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新細明體"/>
              </a:rPr>
              <a:t>Parse palette_share_flag as ‘1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新細明體"/>
              </a:rPr>
              <a:t>Parse palette_share_flag as ‘0’, and t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rse palette_num_signaled_entries as ‘0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Unify the decoding process for the case of zero palett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lea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0C9-317F-4034-B11D-FA25EEA16DB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線接點 2"/>
          <p:cNvSpPr/>
          <p:nvPr/>
        </p:nvSpPr>
        <p:spPr>
          <a:xfrm>
            <a:off x="1036800" y="3489480"/>
            <a:ext cx="5105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線接點 6"/>
          <p:cNvSpPr/>
          <p:nvPr/>
        </p:nvSpPr>
        <p:spPr>
          <a:xfrm>
            <a:off x="1036800" y="399240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for AI/RA/LB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F151-9D18-49DE-B8C6-AC5B2B68522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2280" y="1595520"/>
          <a:ext cx="8991720" cy="4427280"/>
        </p:xfrm>
        <a:graphic>
          <a:graphicData uri="http://schemas.openxmlformats.org/drawingml/2006/table">
            <a:tbl>
              <a:tblPr/>
              <a:tblGrid>
                <a:gridCol w="5010120"/>
                <a:gridCol w="1327320"/>
                <a:gridCol w="1326960"/>
                <a:gridCol w="1327320"/>
              </a:tblGrid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8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058-0294-45E0-9582-06586908459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3840" y="1760400"/>
          <a:ext cx="8854920" cy="2732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480"/>
                <a:gridCol w="500040"/>
                <a:gridCol w="500040"/>
                <a:gridCol w="500400"/>
                <a:gridCol w="500040"/>
                <a:gridCol w="500040"/>
                <a:gridCol w="500040"/>
                <a:gridCol w="501480"/>
                <a:gridCol w="500040"/>
                <a:gridCol w="500040"/>
                <a:gridCol w="500040"/>
              </a:tblGrid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(No updated context mode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1360" y="29808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41360" y="1248840"/>
            <a:ext cx="8229600" cy="47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ean up the syntax for palette_share_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nify the decoding process for the case of zero palette size when the stuffing buffer is 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egligible coding loss for the syntax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F37-6EC9-47A7-B69B-65701813EFF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adopt the syntax modification for the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99CD-2D8B-4DC0-AFE4-DC5D881B45B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InterDigital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BE4-3539-403E-9C9B-A642AC74D44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1T04:46:54Z</dcterms:modified>
  <cp:revision>1234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