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35AD2B0-968E-4573-99D2-C4AC72BE20D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B7877EE-86D3-4B9B-874A-420645C6E0C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9D29CB3-1A69-436B-A3A8-9DD3E5A45B2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27147C1-4E9B-48F9-A0C4-9B1FBB2C8ED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E67AE6D-FFD0-4AF1-B079-DF83018D784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896F534-9CD3-4620-BDF3-1EA013248E1B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2A847DF-04B3-4EED-82EC-6BB6C6A76B2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9AE7112-9B82-4F2E-A3E9-65EFF1AF3FD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CB3D0A2-6967-49D1-8A95-2ECDA80B35B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6F5D7FA-F14A-4449-863A-F6EE338B516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3E67214-9D4A-4984-BF07-AA48B93B377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4170F33-1881-446F-A870-6EE55B770D0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E2DB-4A97-413A-85D9-5364BC1B1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1B64-A69E-43B6-AF79-7D8B19DFD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B4F65-ACBA-40D1-871F-15C0C238B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9C8C-7899-4A76-8363-95031FC20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C5E2D-BC09-4787-8973-EA1FF2B7D1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1117F-0B9A-4FFD-B8AB-E7F2BF9998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4990C-8D92-4324-A6FC-18FA4AB0D6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E44E1-7FBE-4339-9D6A-1740257016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FF071-A21E-4A31-ABF5-8F79C2AF11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E36CD-D4A9-4483-95C7-84F5BF8A4E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5F8BA-A839-45EF-8971-172BE39636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33E2-9795-4AE7-B124-78D922A7A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A6053-8316-47B8-96DC-43F4068DE5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22E3B-DD0C-4F04-80FB-9FBCBC5178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7757B-F209-4142-86F9-6B53594821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E75EE-633A-4FAA-BF0A-7E8BE85CFB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292AB-407A-4684-84C1-C705D0FF60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880-7915-4FFF-BCEE-744A7002AF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D71-A6DE-4AD1-AF58-038D1A8C86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422-F4B6-41D2-A531-A45CF864DC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C238-3949-4EF4-ADCE-B114141591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0C7A-76D8-4C6D-BBDC-4F62FF4D65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2D23-153A-4471-94B9-20B6FEEF7A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B62-2310-4288-A02E-05907D91A1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E2E-1FE0-409B-A7D9-BF48935A5B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DB4-796B-483C-80F3-247D301380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706-76BA-4E49-B801-C19F316E17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6E0-64FD-4B4C-8E33-F017C64CAF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57C-0A69-4AC6-83B6-DC3C9E4460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7DE-4EEA-4D2E-81C2-32D1452CBA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3CF13-25FC-4A28-9123-CC377C9712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984EB-7B1A-45B4-A1BD-6D246E325A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11B14-EFD7-4326-8D2F-AB8E3DA5B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2B2F-7DEC-4C95-92F5-06F4990A43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31F21-9180-40A8-8B9F-E2EE5946B5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BB5E9-AF2A-4ABB-9B92-959607F7FE9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A5419-1681-48B0-A48D-108598100F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E358B-7D58-46A8-8256-DD5D9A2243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CFECA-F77D-4E40-86ED-D4F76F60C02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C6024-C3B1-4A9F-8B32-B851908BC5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C8B28-B28F-4FD4-9BE2-7AE1651D4E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E1C16-8756-4BD9-983A-C89C1B8B13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CC9A7-7853-4C0E-AF46-6B4BE4DC72C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906E-72E6-4E82-8AAF-F56F92D8F5B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6ED4-429E-4236-B145-388D2CCC004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BB091-2A65-4A83-853C-B9DAAF66A0B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D3706-45C4-4A64-BC86-2BFD05DA7FB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A8333-C0E7-498E-B1E2-0D9A4D5BBD3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CBCA9-1CD0-4E58-AA44-E41B5886EF7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04A44-B27D-4C0E-953E-B10B093A330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0BDCC-2B51-422B-9E5B-A0B7F3990E4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3D394-481D-4657-A740-15CAEF9DCDE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3660D-8B56-4562-A721-1BD47A468AA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C3BFF-6BC1-44AB-8BD0-7EA638ED9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D798-EB28-4A55-9AAB-24EBE7DB17A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DC0B2-A046-438D-B662-6E0A45831A1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A0AA5-143A-4CC2-9A58-05AC22CF343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6DB30-EB29-4E21-BE76-14D34AEB1EF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4F2B-AD2D-4558-9785-F5E31DCD355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8150-131E-49B7-A054-6DEDDBA1CA0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CF00-D7DB-4D95-A0E9-CC7D70314F0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BDD9-6A9F-48FF-9523-A40C9426131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E347-A5D6-4868-8F6D-44C95E6585A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D003-6614-47F1-BD68-5BF60083681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AF9C-B84A-4D92-ACE5-251DC4782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3B93-076B-4C47-9005-83CDDF5AC86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D923-C5AC-41A8-8061-77037BE3BE7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5807-D655-48E1-A6B7-08051D94B3E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478D-0D06-4BE1-9072-44ED4AD223D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DBBA-BFFC-4035-A285-BEFBFDE0867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73DF-7C6E-4A4E-A1F9-E8206A2F5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9566-848C-41DD-A8BB-7F974B1C0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7FE8-A497-479D-BF5A-26E239A05C96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7108-9F7A-490D-9877-036549CB8429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745A-5F0D-4EF1-AC03-A2226B97D3CD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92F9-DEFB-42CE-9EC4-43A26BCED4E8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928F-68F6-4213-9E4C-33C77A6EFC9D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32B5-CD93-4983-94A4-572E4A3A266E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4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73E1-C95F-42AA-9DDB-967F75C9D132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E4F0-6E29-40E9-8A9F-937EE5FDFE7F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5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F445-3046-4D36-AAA3-80C240DD8ABA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6"/>
          </p:nvPr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FC60-3CCF-4BA4-8994-7F184CBC9011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343160"/>
            <a:ext cx="914400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JCTVC-T0068</a:t>
            </a:r>
            <a:br>
              <a:rPr sz="4400"/>
            </a:b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Non-</a:t>
            </a:r>
            <a:r>
              <a:rPr b="0" lang="fr-FR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E1: Binarization modification for CU-level palette flags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, Chun-Lung Lin, Ching-Chieh Lin, Jih-Sheng Tu, and Chao-Hsiung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727000" y="5713560"/>
            <a:ext cx="346068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eneva,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ebruary,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commenda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commend to adopt the proposed binarization for Screen Content Co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AD7B-6C17-4F85-995F-FCC768AEDAC5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cknowledgemen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ank Sharp for cross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261E-8651-4A35-91BA-649BE1F8D1B2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Thank you!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6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3D3E-5B0F-4F51-BCD8-93D4D764527B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ppendix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8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EC46-A17E-4869-BC89-6C63F30A670E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y in CTC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FA01-6A46-4BBD-9B67-7D8F2DA49165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39680" y="1012680"/>
          <a:ext cx="8864640" cy="267336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3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ion 1 (No updated context model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139680" y="3840120"/>
          <a:ext cx="8864640" cy="267336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6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ion 2 (One updated context model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less in CTC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A2EE-9441-48A5-AC5F-62593CB815B2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36440" y="3868560"/>
          <a:ext cx="8855280" cy="2732400"/>
        </p:xfrm>
        <a:graphic>
          <a:graphicData uri="http://schemas.openxmlformats.org/drawingml/2006/table">
            <a:tbl>
              <a:tblPr/>
              <a:tblGrid>
                <a:gridCol w="2851200"/>
                <a:gridCol w="500040"/>
                <a:gridCol w="501840"/>
                <a:gridCol w="500040"/>
                <a:gridCol w="500040"/>
                <a:gridCol w="500040"/>
                <a:gridCol w="500040"/>
                <a:gridCol w="500040"/>
                <a:gridCol w="500040"/>
                <a:gridCol w="501480"/>
                <a:gridCol w="500400"/>
                <a:gridCol w="500040"/>
                <a:gridCol w="500040"/>
              </a:tblGrid>
              <a:tr h="1576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Delay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ion 2 (One updated context model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6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123840" y="998640"/>
          <a:ext cx="8854920" cy="2732040"/>
        </p:xfrm>
        <a:graphic>
          <a:graphicData uri="http://schemas.openxmlformats.org/drawingml/2006/table">
            <a:tbl>
              <a:tblPr/>
              <a:tblGrid>
                <a:gridCol w="2851200"/>
                <a:gridCol w="500040"/>
                <a:gridCol w="501480"/>
                <a:gridCol w="500040"/>
                <a:gridCol w="500040"/>
                <a:gridCol w="500400"/>
                <a:gridCol w="500040"/>
                <a:gridCol w="500040"/>
                <a:gridCol w="500040"/>
                <a:gridCol w="501480"/>
                <a:gridCol w="500040"/>
                <a:gridCol w="500040"/>
                <a:gridCol w="500040"/>
              </a:tblGrid>
              <a:tr h="1576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Delay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ion 1 (No updated context model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6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7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urrent design in SCM3.0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71080" y="1143000"/>
            <a:ext cx="850284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新細明體"/>
              </a:rPr>
              <a:t>palette_escape_val_present_fl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: indicate if the CU contains the escape coded pix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新細明體"/>
              </a:rPr>
              <a:t>palette_transpose_fl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: indicate the scan of the pixels is horizontal scan or vertical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 fixed-length coding is used in the SCM3.0 to sequentially binarize the two flag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DDC3-BE98-4214-B70F-612731646BB3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0" y="4672080"/>
          <a:ext cx="9144000" cy="1601640"/>
        </p:xfrm>
        <a:graphic>
          <a:graphicData uri="http://schemas.openxmlformats.org/drawingml/2006/table">
            <a:tbl>
              <a:tblPr/>
              <a:tblGrid>
                <a:gridCol w="777960"/>
                <a:gridCol w="3843360"/>
                <a:gridCol w="2965320"/>
                <a:gridCol w="1557360"/>
              </a:tblGrid>
              <a:tr h="502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tte_escape_val_present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tte_transpose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nar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Observa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29760" y="1231920"/>
            <a:ext cx="84819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probability of Case 0 is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826D-4306-4B2E-82D6-FA4D11899892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0" y="3660840"/>
          <a:ext cx="9144000" cy="1754280"/>
        </p:xfrm>
        <a:graphic>
          <a:graphicData uri="http://schemas.openxmlformats.org/drawingml/2006/table">
            <a:tbl>
              <a:tblPr/>
              <a:tblGrid>
                <a:gridCol w="777960"/>
                <a:gridCol w="3843360"/>
                <a:gridCol w="2965320"/>
                <a:gridCol w="1557360"/>
              </a:tblGrid>
              <a:tr h="503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tte_escape_val_present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tte_transpose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nar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‘</a:t>
                      </a:r>
                      <a:r>
                        <a:rPr b="1" lang="en-CA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Proposed binariza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91960" y="1454040"/>
            <a:ext cx="8482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 simple variable-length coding is propo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E675-48BC-4412-98E4-5C1DAD9CE70E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0" y="3778200"/>
          <a:ext cx="9144000" cy="1602000"/>
        </p:xfrm>
        <a:graphic>
          <a:graphicData uri="http://schemas.openxmlformats.org/drawingml/2006/table">
            <a:tbl>
              <a:tblPr/>
              <a:tblGrid>
                <a:gridCol w="777960"/>
                <a:gridCol w="3843360"/>
                <a:gridCol w="2965320"/>
                <a:gridCol w="1557360"/>
              </a:tblGrid>
              <a:tr h="503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tte_escape_val_present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tte_transpose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nar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‘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‘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‘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6828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Two versions for simulations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15920" y="1071360"/>
            <a:ext cx="902808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wo versions of the proposed binarization for sim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urrent method in SCM 3.0: Two contexts are allowed to be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Version 1: No context upd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Version 2: One context upd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Version 1 can achieve higher data through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ewer updating contexts, higher data throughp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91EA-CF87-41E6-B579-608DC4D5583C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AI, Lossy, G/Y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8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0299-3E12-487F-B31E-D94DA90B16D5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57200" y="1676520"/>
          <a:ext cx="8229600" cy="4211640"/>
        </p:xfrm>
        <a:graphic>
          <a:graphicData uri="http://schemas.openxmlformats.org/drawingml/2006/table">
            <a:tbl>
              <a:tblPr/>
              <a:tblGrid>
                <a:gridCol w="5092560"/>
                <a:gridCol w="1636920"/>
                <a:gridCol w="1500120"/>
              </a:tblGrid>
              <a:tr h="307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, G/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ion 1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upd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ion 2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upd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0780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063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081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063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80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RA, Lossy, G/Y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1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B39E-2DC5-44FD-9FC4-A63E154CAB65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57200" y="1676520"/>
          <a:ext cx="8229600" cy="4211640"/>
        </p:xfrm>
        <a:graphic>
          <a:graphicData uri="http://schemas.openxmlformats.org/drawingml/2006/table">
            <a:tbl>
              <a:tblPr/>
              <a:tblGrid>
                <a:gridCol w="5092560"/>
                <a:gridCol w="1636920"/>
                <a:gridCol w="1500120"/>
              </a:tblGrid>
              <a:tr h="307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, G/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ion 1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upd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ion 2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upd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0780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063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081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063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80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B, Lossy, G/Y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4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DC7D-CD71-497C-AAFD-51ABA89AB20A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57200" y="1676520"/>
          <a:ext cx="8229600" cy="4211640"/>
        </p:xfrm>
        <a:graphic>
          <a:graphicData uri="http://schemas.openxmlformats.org/drawingml/2006/table">
            <a:tbl>
              <a:tblPr/>
              <a:tblGrid>
                <a:gridCol w="5092560"/>
                <a:gridCol w="1636920"/>
                <a:gridCol w="1500120"/>
              </a:tblGrid>
              <a:tr h="307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, G/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ion 1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upd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ion 2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upd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0780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063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081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063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80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30492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41360" y="13032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onclus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909720"/>
            <a:ext cx="91440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 binarization method is proposed based on a simple variable-length coding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palette_escape_val_present_fla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palette_transpose_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mpared with SCM3.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0.2% gain with less updating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0.1% gain with no updating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Less updating contexts result in higher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AE03-896D-46B6-A479-37B0C4D89216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3:22:15Z</dcterms:created>
  <dc:creator>john</dc:creator>
  <dc:description/>
  <dc:language>en-US</dc:language>
  <cp:lastModifiedBy>張耀仁</cp:lastModifiedBy>
  <cp:lastPrinted>2013-05-17T00:59:36Z</cp:lastPrinted>
  <dcterms:modified xsi:type="dcterms:W3CDTF">2015-02-10T16:52:47Z</dcterms:modified>
  <cp:revision>1238</cp:revision>
  <dc:subject/>
  <dc:title>3D-HEV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