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47D1F56-992C-4B85-9558-D506B245005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F76BCAB-252F-4E63-B3A6-C51FB7A74BD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30AB802-6B7C-4E43-AAEE-6A7BC4C4F27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1ADDE87-ADE7-4396-A95A-49E7B610DA0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E5B75DA-1660-4A24-BB2D-9B457FB4B60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eed some improvements for the third bul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7DF4D06-601A-4CCD-BB30-7A8969856FD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2E86EE0-E35D-476C-B12E-81254BBE088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D521CCF-D905-4AFA-8D43-D91B3D914B5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A257D23-8E4D-4868-A45D-D8E7FCEBF37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eed some improvements for the third bul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96F5B6F-5512-46D3-B373-331FA7583B4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7481-8FC2-4F4C-AF8A-984AE66DC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955E-E4A5-42C7-B2B4-E93755D1E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5BFF1-66AA-4DC7-9A84-71B4AE260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A5DD-BAF8-4289-87DF-092E1169A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26469-F3D5-48C3-8104-7AF5416214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611B8-3B93-4249-AAC6-DCAE469BFF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191E7-B98F-43DD-97C2-4FDB13B9EE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0B01-A54A-423A-B421-FC25D812BE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6BAE-AE7D-408B-84F6-73827EB527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A129B-5D63-4A2E-9813-199F189750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DDB2A-D4CE-4DFF-8A27-098AE2ED22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1C2F-17BD-422A-8A5C-C2A8F1603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0CAE5-9339-4D9D-83F1-54FB21B2C6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5F8F7-DE61-4AFA-BEB5-17152486DA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A3A5C-88F2-482A-8479-ECD4E129CF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97E1-84C4-4C10-8D4E-CA69F4013D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83E0A-3003-42B9-87C8-D24C718D07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BB4-1578-4103-BAAA-41D3E26D95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61AB-C5FE-4308-84CE-4AE8C57764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B906-112C-40C5-B5D0-F87AE7A381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AF3-4C3B-4816-B6A2-412F9E6D1B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7D82-50C1-4E3D-88D8-C24BA16DF7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5C33-0839-4B73-B0D1-787656BC7F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AF6-4649-4E99-BFBA-8291037CD7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3FB-0565-4E79-8692-E65DC6EA3E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B05-837F-44F3-871D-21C97ECCF2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7476-43DC-4F21-B03D-A91EA7B234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E01F-7584-4348-AB1A-4359BAA998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763-398D-4911-ADD6-81DF6AD11B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F80-6DEF-4613-AD20-040A76A232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A4C44-7F87-4E8E-93CB-325C430EE8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08374-261F-4A94-B061-2B9527358DC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5DC58-7EA5-4F0C-B430-8702322D9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9A99-A08E-4249-BAB8-DA57B617A7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D1987-CFCF-4C5E-8412-DDEC6EC68B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A8BF0-B24C-4D98-B498-E383C88471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C2243-70AC-4239-9907-82ED078D69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E4171-807D-4812-AE28-AE6C5D0A3E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5D3F4-0027-4AD4-A817-84E94EFF5F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0BFA9-01B9-4FF4-96C0-06CBC44339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06C0D-2FF8-45BD-A5BE-E497C58B14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69B22-8162-4D05-AA22-C262A4F11B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1D589-0F16-4BA0-8542-2C59F4959ED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F919-49E3-4551-B10E-36FDF3E7D52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3AA9-0DBC-498B-AE03-A4125BEDE66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19C97-4603-4258-BDC7-0154DB33CCE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7C649-135A-4FBA-8A4A-A9F51C8EB69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7A073-75DA-45FE-87AE-06604232CE3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92609-DA95-404A-890C-74F5CAFAC68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83D64-47EA-4FB7-9136-76045191578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4F4D1-C555-4E01-9400-0E28427C5B8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C077F-60B7-47C0-BA60-46E836652DA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751E7-72BC-4A26-B042-5D4DAFA95CD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C3BE1-146D-4259-9B1A-CB8295696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CA91-4F14-47ED-A1FC-84C8E103254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66E04-88F6-46EE-988A-3028AD1BB10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D1C24-AA06-4448-B979-A87784A2202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3D5B3-C9E0-475C-8C35-36E198A7F48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A438-DDCF-429D-BD71-D1544E542F4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0278-6EF2-4D76-A7B7-E95AFDDFDFB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3E0F-C9D4-46CF-80CB-7845D8AD62D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AC1E-0F55-409B-B2BA-F91EB84A9B8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EF80-96F3-496A-B0E5-625DE7EE181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3877-7E74-4D4F-8A75-70E13D13CC7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86FD-34A6-4C01-B610-29F85F154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99CB-B1BB-456A-97D5-CC46E3F30B1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FFE1-C0F4-4884-B856-5FA97403D17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F23E-587C-4B86-B13A-62475E92F31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7371-0264-4798-B8FA-E2418E70B8F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C918-53C9-4B36-B428-9D334B0CCE0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20A2-76F3-4C35-B30D-4A84BEBE1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5EFE-250E-4DB9-BFEC-C68EA5128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3C7B-6A3A-4710-B34B-818FB03887C6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7867800" y="649296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7867800" y="649296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D8D7-8A65-43A3-A4EF-B278CA9D88D1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19C7-1AB8-4AF5-91BD-D905A96DF7A6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867800" y="649296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6320-BA5A-42E0-B3EA-CB0F2601DD97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EC1D-0468-40D3-A2D2-6EE4AE12449B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7867800" y="649296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8E23-236C-43CF-BFC0-D8336C1F5D3F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AEE3-602E-4613-8C99-0775B15DA91D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7867800" y="649296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7867800" y="649296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2F54-E69C-416D-9FD5-1AA19A218C8B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B5B9-74E3-463B-8EAA-A24303B9B5CF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7867800" y="649296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6"/>
          </p:nvPr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33F8-8D38-4D70-9F37-153D29483DD2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68200" y="1343160"/>
            <a:ext cx="8562960" cy="31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JCTVC-T0066/JCTVC-T0067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CE1-related: Bypassing the </a:t>
            </a:r>
            <a:br>
              <a:rPr sz="4200"/>
            </a:b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context-based coding for CU-level transpose flag /</a:t>
            </a:r>
            <a:br>
              <a:rPr sz="4200"/>
            </a:b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CE1-related: Bypassing the context-based coding for CU-level share flag</a:t>
            </a:r>
            <a:endParaRPr b="0" lang="en-US" sz="4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133800" y="5896080"/>
            <a:ext cx="286704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eneva Feb.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Issue in the current </a:t>
            </a:r>
            <a:br>
              <a:rPr sz="4200"/>
            </a:b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palette coding design</a:t>
            </a:r>
            <a:endParaRPr b="0" lang="en-US" sz="4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hree main CU-level syntax elements coded with context models in the current palette co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mode_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share_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transpose_fla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ore context coded syntax elements, lower data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urrent syntax for palette_share_flag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47680" y="1720440"/>
            <a:ext cx="86486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Palette_share_flag needs to update one context during coding in the curren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0104-8BDD-4902-A759-F53C810B5936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47680" y="3463920"/>
          <a:ext cx="8604360" cy="1951200"/>
        </p:xfrm>
        <a:graphic>
          <a:graphicData uri="http://schemas.openxmlformats.org/drawingml/2006/table">
            <a:tbl>
              <a:tblPr/>
              <a:tblGrid>
                <a:gridCol w="2927160"/>
                <a:gridCol w="965520"/>
                <a:gridCol w="942840"/>
                <a:gridCol w="941400"/>
                <a:gridCol w="942840"/>
                <a:gridCol w="941400"/>
                <a:gridCol w="943200"/>
              </a:tblGrid>
              <a:tr h="244440">
                <a:tc rowSpan="2"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ntax 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Id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= 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27360" rIns="7308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alette_share_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27360" rIns="73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ette_escape_val_present_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27360" rIns="73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ette_transpose_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Our proposed solution (T0067)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placing the context mode with bypass mode for “palette_share_flag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Reduce one context for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C7E0-E654-4E89-BD35-D34C3046FF4F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表格 7" descr=""/>
          <p:cNvPicPr/>
          <p:nvPr/>
        </p:nvPicPr>
        <p:blipFill>
          <a:blip r:embed="rId1"/>
          <a:stretch/>
        </p:blipFill>
        <p:spPr>
          <a:xfrm>
            <a:off x="268200" y="3419640"/>
            <a:ext cx="86266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y test condi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mmon Test Condition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oding time for RA &amp; LB is not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2A05-43BB-4007-AD43-FEA03AE8BFFE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57200" y="2770200"/>
          <a:ext cx="8229600" cy="2614680"/>
        </p:xfrm>
        <a:graphic>
          <a:graphicData uri="http://schemas.openxmlformats.org/drawingml/2006/table">
            <a:tbl>
              <a:tblPr/>
              <a:tblGrid>
                <a:gridCol w="3710160"/>
                <a:gridCol w="502920"/>
                <a:gridCol w="501840"/>
                <a:gridCol w="501480"/>
                <a:gridCol w="501840"/>
                <a:gridCol w="503280"/>
                <a:gridCol w="501480"/>
                <a:gridCol w="501840"/>
                <a:gridCol w="503280"/>
                <a:gridCol w="501480"/>
              </a:tblGrid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less test condi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mmon Test Condition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oding time for RA &amp; LB is not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4378-212C-4999-B5EF-6998C3144B17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37960" y="2725560"/>
          <a:ext cx="8658360" cy="2732400"/>
        </p:xfrm>
        <a:graphic>
          <a:graphicData uri="http://schemas.openxmlformats.org/drawingml/2006/table">
            <a:tbl>
              <a:tblPr/>
              <a:tblGrid>
                <a:gridCol w="2787840"/>
                <a:gridCol w="490680"/>
                <a:gridCol w="488880"/>
                <a:gridCol w="488880"/>
                <a:gridCol w="488880"/>
                <a:gridCol w="488880"/>
                <a:gridCol w="489240"/>
                <a:gridCol w="488880"/>
                <a:gridCol w="488880"/>
                <a:gridCol w="490680"/>
                <a:gridCol w="488880"/>
                <a:gridCol w="488880"/>
                <a:gridCol w="488880"/>
              </a:tblGrid>
              <a:tr h="2066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Int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Delay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6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ombination of JCTVC-T0066 and JCTVC-T0067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 “palette_share_flag” and the “palette_transpose_flag” are coded by bypass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Reduce three contexts for up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A7EF-28EC-4D10-AF67-EE3F5BFC58C8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表格 7" descr=""/>
          <p:cNvPicPr/>
          <p:nvPr/>
        </p:nvPicPr>
        <p:blipFill>
          <a:blip r:embed="rId1"/>
          <a:stretch/>
        </p:blipFill>
        <p:spPr>
          <a:xfrm>
            <a:off x="262080" y="3730680"/>
            <a:ext cx="86328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1B1A-731C-4B3C-9CD3-85286C6A3773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09520" y="2327400"/>
          <a:ext cx="8859960" cy="3406680"/>
        </p:xfrm>
        <a:graphic>
          <a:graphicData uri="http://schemas.openxmlformats.org/drawingml/2006/table">
            <a:tbl>
              <a:tblPr/>
              <a:tblGrid>
                <a:gridCol w="6184800"/>
                <a:gridCol w="914400"/>
                <a:gridCol w="943200"/>
                <a:gridCol w="8175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ing 1 context model for “palette_share_flag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Bypassing 2 context models for “palette_transpose_flag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Lossy results for the combination of T0066 and T0067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mmon Test Cond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oding time for RA &amp; LB is not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Lossless results for the combination of T0066 and T0067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mmon Test Condition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oding time for RA &amp; LB is not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5040-6218-44EC-B4D1-DB9285E813A8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66760" y="2714760"/>
          <a:ext cx="8629560" cy="2552400"/>
        </p:xfrm>
        <a:graphic>
          <a:graphicData uri="http://schemas.openxmlformats.org/drawingml/2006/table">
            <a:tbl>
              <a:tblPr/>
              <a:tblGrid>
                <a:gridCol w="2779560"/>
                <a:gridCol w="487440"/>
                <a:gridCol w="487440"/>
                <a:gridCol w="487440"/>
                <a:gridCol w="487080"/>
                <a:gridCol w="487440"/>
                <a:gridCol w="487440"/>
                <a:gridCol w="487440"/>
                <a:gridCol w="488880"/>
                <a:gridCol w="487440"/>
                <a:gridCol w="487440"/>
                <a:gridCol w="487080"/>
                <a:gridCol w="487440"/>
              </a:tblGrid>
              <a:tr h="1918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Int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Delay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2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7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8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onclusions for JCTVC-T0067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7944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ypassing 1 context in the coding of “palette_share_flag” for higher data throughp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No gain loss under C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ypassing 3 contexts in the coding of “palette_share_flag” and “palette_transpose_flag” for higher data throughp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No gain loss under C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6FB4-C3E3-4274-BCDF-ABC1473C1C0C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commendations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commend to adopt the proposed combination (JCTVC-T0066 &amp; JCTVC-T0067) for Screen Content Co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E333-70F7-4FD3-9027-7939716D2AF4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1343160"/>
            <a:ext cx="914400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JCTVC-T0066</a:t>
            </a:r>
            <a:br>
              <a:rPr sz="4200"/>
            </a:b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CE1-related: Bypassing the </a:t>
            </a:r>
            <a:br>
              <a:rPr sz="4200"/>
            </a:b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context-based coding for CU-level transpose flag</a:t>
            </a:r>
            <a:endParaRPr b="0" lang="en-US" sz="4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61560" y="4152960"/>
            <a:ext cx="7210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Chun-Lung Lin, </a:t>
            </a:r>
            <a:br>
              <a:rPr sz="2800"/>
            </a:b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Ching-Chieh Lin, Jih-Sheng Tu, and Chao-Hsiung Hu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133800" y="5896080"/>
            <a:ext cx="286704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eneva Feb.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cknowledgements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ank Qualcomm for crosschecking JCTVC-T00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ank Microsoft for crosschecking JCTVC-T00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60D2-1A76-4B7D-B007-8DEEE07678A1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154da9"/>
                </a:solidFill>
                <a:latin typeface="Arial"/>
                <a:ea typeface="新細明體"/>
              </a:rPr>
              <a:t>Thank You</a:t>
            </a:r>
            <a:endParaRPr b="0" lang="en-US" sz="80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68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E4FF-C15F-40A5-A1EA-3FCA58327EBC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Issue in the current</a:t>
            </a:r>
            <a:br>
              <a:rPr sz="4200"/>
            </a:b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 palette coding design</a:t>
            </a:r>
            <a:endParaRPr b="0" lang="en-US" sz="4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hree main CU-level syntax elements coded with context models in the current palette co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mode_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share_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transpose_fla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ntext coded syntax elements need a context update process, which slows down the system through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urrent syntax for palette_transpose_flag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47680" y="1720440"/>
            <a:ext cx="86486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Palette_transpose_flag needs to update two contexts during coding in the curren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A619-17F5-4218-ADF9-DABC7152051E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47680" y="3463920"/>
          <a:ext cx="8604360" cy="1951200"/>
        </p:xfrm>
        <a:graphic>
          <a:graphicData uri="http://schemas.openxmlformats.org/drawingml/2006/table">
            <a:tbl>
              <a:tblPr/>
              <a:tblGrid>
                <a:gridCol w="2927160"/>
                <a:gridCol w="965520"/>
                <a:gridCol w="942840"/>
                <a:gridCol w="941400"/>
                <a:gridCol w="942840"/>
                <a:gridCol w="941400"/>
                <a:gridCol w="943200"/>
              </a:tblGrid>
              <a:tr h="244440">
                <a:tc rowSpan="2"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ntax 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Id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= 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27360" rIns="7308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ette_share_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27360" rIns="73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ette_escape_val_present_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27360" rIns="73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alette_transpose_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Our proposed solution (T0066)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47680" y="1599840"/>
            <a:ext cx="86486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Using bypass mode to code the CU-level transpose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Reduce two contexts for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72A7-54F1-4A0D-8054-530E6660ADED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表格 7" descr=""/>
          <p:cNvPicPr/>
          <p:nvPr/>
        </p:nvPicPr>
        <p:blipFill>
          <a:blip r:embed="rId1"/>
          <a:stretch/>
        </p:blipFill>
        <p:spPr>
          <a:xfrm>
            <a:off x="237960" y="3481560"/>
            <a:ext cx="8631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y test condi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mmon Test Condition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oding time for RA &amp; LB is not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579D-42FF-4DA5-804F-8B015664EA1A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57200" y="2635200"/>
          <a:ext cx="8229600" cy="2614680"/>
        </p:xfrm>
        <a:graphic>
          <a:graphicData uri="http://schemas.openxmlformats.org/drawingml/2006/table">
            <a:tbl>
              <a:tblPr/>
              <a:tblGrid>
                <a:gridCol w="3710160"/>
                <a:gridCol w="502920"/>
                <a:gridCol w="501840"/>
                <a:gridCol w="501480"/>
                <a:gridCol w="501840"/>
                <a:gridCol w="503280"/>
                <a:gridCol w="501480"/>
                <a:gridCol w="501840"/>
                <a:gridCol w="503280"/>
                <a:gridCol w="501480"/>
              </a:tblGrid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less test condi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mmon Test Condition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oding time for RA &amp; LB is not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2C67-C0EA-4DF9-B916-9ACCC1A26740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14200" y="2714760"/>
          <a:ext cx="8718840" cy="2238120"/>
        </p:xfrm>
        <a:graphic>
          <a:graphicData uri="http://schemas.openxmlformats.org/drawingml/2006/table">
            <a:tbl>
              <a:tblPr/>
              <a:tblGrid>
                <a:gridCol w="2808360"/>
                <a:gridCol w="492120"/>
                <a:gridCol w="492120"/>
                <a:gridCol w="492120"/>
                <a:gridCol w="493920"/>
                <a:gridCol w="492120"/>
                <a:gridCol w="492120"/>
                <a:gridCol w="493560"/>
                <a:gridCol w="492120"/>
                <a:gridCol w="492120"/>
                <a:gridCol w="492120"/>
                <a:gridCol w="493560"/>
                <a:gridCol w="492480"/>
              </a:tblGrid>
              <a:tr h="1681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Delay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8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onclusions for JCTVC-T0066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342800"/>
            <a:ext cx="82296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ypassing two contexts for CU-level “palette_transpose_flag” is proposed to improve the data throughpu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no gain loss with our proposed simplification under C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7396-94A1-4234-83E7-96493E4135D7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343160"/>
            <a:ext cx="914400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JCTVC-T0067</a:t>
            </a:r>
            <a:br>
              <a:rPr sz="4200"/>
            </a:b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CE1-related: Bypassing the context-based coding for CU-level share flag</a:t>
            </a:r>
            <a:endParaRPr b="0" lang="en-US" sz="4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61560" y="4152960"/>
            <a:ext cx="7210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Chun-Lung Lin, </a:t>
            </a:r>
            <a:br>
              <a:rPr sz="2800"/>
            </a:b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Ching-Chieh Lin, Chao-Hsiung Hung, and Jih-Sheng 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133800" y="5896080"/>
            <a:ext cx="286704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eneva Feb.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3:22:15Z</dcterms:created>
  <dc:creator>john</dc:creator>
  <dc:description/>
  <dc:language>en-US</dc:language>
  <cp:lastModifiedBy>張耀仁</cp:lastModifiedBy>
  <cp:lastPrinted>2013-05-17T00:59:36Z</cp:lastPrinted>
  <dcterms:modified xsi:type="dcterms:W3CDTF">2015-02-10T17:34:39Z</dcterms:modified>
  <cp:revision>1157</cp:revision>
  <dc:subject/>
  <dc:title>3D-HEV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