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A16D3C9-DFF4-45C8-8C0B-DD8DEB7CD16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AB1A7BE4-7AEA-4FEC-BE67-CD55BF18E6E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FE80696-2DE0-4A51-83F6-C9793084504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E87B08C-EF7C-4EAD-9DF8-789D324BB92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C1931EB-8EDF-4B39-857F-AB38A81DB39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eed some improvements for the third bul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5A49DB22-C8F6-48BF-9AB0-E264476C8D0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6B28D7E-3672-4EA9-88E3-41B430DFFB5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96795DA-1F8A-43F0-99F9-BF1BDD3F0AD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EDFA111F-8191-4E97-A84A-B69FCE30B34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eed some improvements for the third bul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92820FC-E308-44E0-858B-C82CD6BE9B0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0226-0F12-4D61-A8AA-B1E458AD3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2399-B2E3-4E02-BBF3-7BA6743FC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C765-C35A-451B-A502-C1866B08F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BF81-99F7-4EF4-8F80-931F0D458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C0F06-03E9-4D3B-B555-0F6F8AECFF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05F3-1D7A-4304-9408-B62EC3AD97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7ACE-4FCA-4786-BFF7-B2D37FF88A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C1D2-1E0B-474B-8A1D-C306E52D7E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AF77-525F-431B-8539-E992F02DF3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6942-0343-4D19-99FF-B49C6ED968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09235-5C2F-4BD5-9260-87DD0544CC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C1BD-8A2D-465F-B85F-6606701B9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ADF0E-7364-486A-88D3-F363BFF48A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9C29-AC10-4D61-BE1E-6CA0AFA869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19CC-B244-437A-97D3-AE0DCAEBA0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AB78C-F157-43C2-AAA6-E141D50915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9B36-854D-41A0-B722-CE5A480CD25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FCC-BAFE-4739-A475-3FA341C3BD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6AA-2CF6-4579-8F60-8983686172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B99-3819-4A11-BC4C-EDF3B4AA7D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899-477B-4B30-8FC8-A8809441C0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805-E946-48D7-9E41-DCAD11325E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86C8-69CB-497E-A150-546FE0E04D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65B-B357-488E-978D-8A528E4C71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6AC-0955-4313-8996-6057DB51CFB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FC9-CF1C-42F7-888A-F23E61BA31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CE4-7D28-4A0A-976B-8D9CF12E41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5CA-B318-4B77-9379-56F0E979E1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9A0A-C90D-4C61-9B0F-D9B7232C07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29B-3AA2-4BE8-8B5F-252C08A1AC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8CF98-9150-4F4A-B079-DA502B6BC2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5A710-E57B-40DC-96CD-7AA8E05735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5DC41-CB7E-4CD2-977D-029868887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A133-83F2-443F-AF83-979B24C480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B4588-C0FC-43CA-B1F4-F0A1880CE0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5E428-B480-449E-AC84-FEBC81487FF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8DCF9-0498-442C-84AD-F54196F56C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94A19-3D04-44B6-8911-CA77FDEC64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1253F-1863-42B4-902A-80EF043AABD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8A9D8-0314-479A-B6FE-65FF74B90E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0D7C1-34AC-456D-B64F-67A3F0BF8D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78B77-7FAE-4FAA-ADE8-C496FB7ADD6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FB76D-11C5-4F7D-8FC5-B9BED6CE8EA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AB99-B8E0-40C6-BD18-F7A43AF5694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12FC-E698-4195-9C3E-01B0684EEB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B7731-F9E5-443E-8512-A2A041CFA07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39710-DA89-4EC8-A98B-642835488D0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89F55-32CE-4E50-971B-6E777AED574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1830E-C60D-4D6C-8DFE-AF86EB518BB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29065-431D-4129-814D-D720421DE12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3B0C4-6F3C-4E4B-AF6F-3E2B011753E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3BACB-FD87-4767-AE6C-14D7E243745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E4C3E-5E29-4489-B607-0A1535D985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601B6-47BD-4AC6-8413-553BB6F87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A544-3D9D-4C06-BCB7-9E24381B80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716BD-39F0-4E6C-8275-F8C44AA3A6A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C11C8-81F4-4816-B560-CDDB818BB44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231BA-9681-4726-A844-71CCC882A64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1499-A316-48EB-871B-9911A27E03E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0BCE-AE00-4E0C-AE8D-21AA114BE85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D95D-A570-4802-8F3F-D2455AE29AB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F74B-DF4E-4B70-90EB-E30BFF76DAF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E3C6-6B70-4F20-B356-E8E2567EB34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6EDC-8A33-4408-A53A-0CC20F9DF25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772E-E42A-42FD-B54A-A9C74739A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56DDB-58AC-491A-91EE-052D2DA3B0B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41D4-8F37-4E11-8A93-C4F3190C567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162B-79A4-4D28-9525-79A9EDA08BD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CDFA-A3C1-4FD6-8ACF-839C95ACC14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D5A6-F583-479D-8F12-54D7BAF54F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2A32-D334-4E64-BB13-51FE2B9CA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95A0-FA84-4F2E-A554-09460C1632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BFE7-75D0-4D2C-8FE1-E5CDA99B33F7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E11C-90E0-4BC5-92B2-14033A208ECC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007A-55A7-4B95-A6B8-3F1E5B720210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47D7-304A-45E4-867C-AB98183E91FF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0240-BEFC-4D9C-AB21-0C7CFFA9A110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E61D-4B9C-4BE8-BC5F-7E83417CB554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44BF-CEC8-46F6-9FE4-BD5A8FF741E5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F461-675A-4D56-A782-FF5E5BC3048A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77B1-C548-4832-93C3-83CAB9A28095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867800" y="649296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6"/>
          </p:nvPr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0B00-1C39-41DE-8E30-118C1DD9D180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8200" y="1343160"/>
            <a:ext cx="8562960" cy="31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JCTVC-T0066/JCTVC-T0067</a:t>
            </a:r>
            <a:br>
              <a:rPr sz="4200"/>
            </a:b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CE1-related: Bypassing the 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context-based coding for CU-level transpose flag /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CE1-related: Bypassing the context-based coding for CU-level share flag</a:t>
            </a:r>
            <a:endParaRPr b="0" lang="en-US" sz="4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133800" y="5896080"/>
            <a:ext cx="28670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 Feb.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Issue in the current 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palette coding design</a:t>
            </a:r>
            <a:endParaRPr b="0" lang="en-US" sz="4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hree main CU-level syntax elements coded with context models in the current palette 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mode_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share_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transpose_fla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ore context coded syntax elements, lower data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urrent syntax for palette_share_flag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47680" y="1720440"/>
            <a:ext cx="86486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Palette_share_flag needs to update one context during coding in the curr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4E5C-3A86-44B2-8616-D65684AA2018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47680" y="3463920"/>
          <a:ext cx="8604360" cy="1951200"/>
        </p:xfrm>
        <a:graphic>
          <a:graphicData uri="http://schemas.openxmlformats.org/drawingml/2006/table">
            <a:tbl>
              <a:tblPr/>
              <a:tblGrid>
                <a:gridCol w="2927160"/>
                <a:gridCol w="965520"/>
                <a:gridCol w="942840"/>
                <a:gridCol w="941400"/>
                <a:gridCol w="942840"/>
                <a:gridCol w="941400"/>
                <a:gridCol w="943200"/>
              </a:tblGrid>
              <a:tr h="244440">
                <a:tc rowSpan="2"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ntax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= 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27360" rIns="7308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alette_share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27360" rIns="73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ette_escape_val_present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27360" rIns="73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ette_transpose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Our proposed solution (T0067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lacing the context mode with bypass mode for “palette_share_flag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Reduce one context for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99EF-0B6B-4FEA-8AA8-E61069F8ACF3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表格 7" descr=""/>
          <p:cNvPicPr/>
          <p:nvPr/>
        </p:nvPicPr>
        <p:blipFill>
          <a:blip r:embed="rId1"/>
          <a:stretch/>
        </p:blipFill>
        <p:spPr>
          <a:xfrm>
            <a:off x="268200" y="3419640"/>
            <a:ext cx="86266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 test condi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on Test Condition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for RA &amp; LB is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ACD2-4E80-4B2E-AD9C-D99C45E2E387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2770200"/>
          <a:ext cx="8229600" cy="2614680"/>
        </p:xfrm>
        <a:graphic>
          <a:graphicData uri="http://schemas.openxmlformats.org/drawingml/2006/table">
            <a:tbl>
              <a:tblPr/>
              <a:tblGrid>
                <a:gridCol w="3710160"/>
                <a:gridCol w="502920"/>
                <a:gridCol w="501840"/>
                <a:gridCol w="501480"/>
                <a:gridCol w="501840"/>
                <a:gridCol w="503280"/>
                <a:gridCol w="501480"/>
                <a:gridCol w="501840"/>
                <a:gridCol w="503280"/>
                <a:gridCol w="501480"/>
              </a:tblGrid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less test condi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on Test Condition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for RA &amp; LB is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A007-B5FA-4212-9376-E290DD5C9AF1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37960" y="2725560"/>
          <a:ext cx="8658360" cy="2732400"/>
        </p:xfrm>
        <a:graphic>
          <a:graphicData uri="http://schemas.openxmlformats.org/drawingml/2006/table">
            <a:tbl>
              <a:tblPr/>
              <a:tblGrid>
                <a:gridCol w="2787840"/>
                <a:gridCol w="490680"/>
                <a:gridCol w="488880"/>
                <a:gridCol w="488880"/>
                <a:gridCol w="488880"/>
                <a:gridCol w="488880"/>
                <a:gridCol w="489240"/>
                <a:gridCol w="488880"/>
                <a:gridCol w="488880"/>
                <a:gridCol w="490680"/>
                <a:gridCol w="488880"/>
                <a:gridCol w="488880"/>
                <a:gridCol w="488880"/>
              </a:tblGrid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mbination of JCTVC-T0066 and JCTVC-T0067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 “palette_share_flag” and the “palette_transpose_flag” are coded by bypass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-34308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Reduce three contexts for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4139-8D3B-4796-9993-315479F7EA99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表格 7" descr=""/>
          <p:cNvPicPr/>
          <p:nvPr/>
        </p:nvPicPr>
        <p:blipFill>
          <a:blip r:embed="rId1"/>
          <a:stretch/>
        </p:blipFill>
        <p:spPr>
          <a:xfrm>
            <a:off x="262080" y="3730680"/>
            <a:ext cx="86328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7EA2-5023-4666-ACA2-B47790995D5D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09520" y="2327400"/>
          <a:ext cx="8859960" cy="3406680"/>
        </p:xfrm>
        <a:graphic>
          <a:graphicData uri="http://schemas.openxmlformats.org/drawingml/2006/table">
            <a:tbl>
              <a:tblPr/>
              <a:tblGrid>
                <a:gridCol w="6184800"/>
                <a:gridCol w="914400"/>
                <a:gridCol w="943200"/>
                <a:gridCol w="8175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passing 1 context model for “palette_share_flag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Bypassing 2 context models for “palette_transpose_flag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Lossy results for the combination of T0066 and T0067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on Test Cond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for RA &amp; LB is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Lossless results for the combination of T0066 and T0067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on Test Condition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for RA &amp; LB is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3176-B9C7-43D4-82AD-7E5726517501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66760" y="2714760"/>
          <a:ext cx="8629560" cy="2552400"/>
        </p:xfrm>
        <a:graphic>
          <a:graphicData uri="http://schemas.openxmlformats.org/drawingml/2006/table">
            <a:tbl>
              <a:tblPr/>
              <a:tblGrid>
                <a:gridCol w="2779560"/>
                <a:gridCol w="487440"/>
                <a:gridCol w="487440"/>
                <a:gridCol w="487440"/>
                <a:gridCol w="487080"/>
                <a:gridCol w="487440"/>
                <a:gridCol w="487440"/>
                <a:gridCol w="487440"/>
                <a:gridCol w="488880"/>
                <a:gridCol w="487440"/>
                <a:gridCol w="487440"/>
                <a:gridCol w="487080"/>
                <a:gridCol w="487440"/>
              </a:tblGrid>
              <a:tr h="1918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2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5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76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88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s for JCTVC-T0067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7944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ypassing 1 context in the coding of “palette_share_flag” for higher data throughp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 gain loss under C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ypassing 3 contexts in the coding of “palette_share_flag” and “palette_transpose_flag” for higher data throughp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 gain loss under C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4E88-ECCF-4C52-AA9E-230DD9A4DC45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commendation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commend to adopt the proposed combination (JCTVC-T0066 &amp; JCTVC-T0067) for Screen Content Co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A66F-7F0B-4CE7-85A9-5493FBA5DACD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34316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JCTVC-T0066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CE1-related: Bypassing the 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context-based coding for CU-level transpose flag</a:t>
            </a:r>
            <a:endParaRPr b="0" lang="en-US" sz="4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61560" y="4152960"/>
            <a:ext cx="7210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un-Lung Lin, </a:t>
            </a:r>
            <a:br>
              <a:rPr sz="2800"/>
            </a:b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Ching-Chieh Lin, Jih-Sheng Tu, and Chao-Hsiung Hu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133800" y="5896080"/>
            <a:ext cx="28670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 Feb.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Acknowledgement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01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Qualcomm for crosschecking JCTVC-T00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ank Microsoft for crosschecking JCTVC-T00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D3F4-E95B-4CFE-A856-E26CED80AC37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54da9"/>
                </a:solidFill>
                <a:latin typeface="Arial"/>
                <a:ea typeface="新細明體"/>
              </a:rPr>
              <a:t>Thank You</a:t>
            </a:r>
            <a:endParaRPr b="0" lang="en-US" sz="80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68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E370-5DD7-4233-914F-41FD17918700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Issue in the current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 palette coding design</a:t>
            </a:r>
            <a:endParaRPr b="0" lang="en-US" sz="4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hree main CU-level syntax elements coded with context models in the current palette co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mode_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share_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alette_transpose_fla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ntext coded syntax elements need a context update process, which slows down the system through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urrent syntax for palette_transpose_flag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47680" y="1720440"/>
            <a:ext cx="86486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Palette_transpose_flag needs to update two contexts during coding in the current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6F42-DF1A-4720-9045-E32A418BF307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247680" y="3463920"/>
          <a:ext cx="8604360" cy="1951200"/>
        </p:xfrm>
        <a:graphic>
          <a:graphicData uri="http://schemas.openxmlformats.org/drawingml/2006/table">
            <a:tbl>
              <a:tblPr/>
              <a:tblGrid>
                <a:gridCol w="2927160"/>
                <a:gridCol w="965520"/>
                <a:gridCol w="942840"/>
                <a:gridCol w="941400"/>
                <a:gridCol w="942840"/>
                <a:gridCol w="941400"/>
                <a:gridCol w="943200"/>
              </a:tblGrid>
              <a:tr h="244440">
                <a:tc rowSpan="2"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ntax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Id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= 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27360" rIns="73080" tIns="0" bIns="0" anchor="ctr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ette_share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27360" rIns="73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lette_escape_val_present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27360" rIns="7308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alette_transpose_f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360" rIns="73080" tIns="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36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Our proposed solution (T0066)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47680" y="1599840"/>
            <a:ext cx="86486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Using bypass mode to code the CU-level transpose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Reduce two contexts for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F0B3-3C1C-4B01-B5D8-FB185EE9256D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表格 7" descr=""/>
          <p:cNvPicPr/>
          <p:nvPr/>
        </p:nvPicPr>
        <p:blipFill>
          <a:blip r:embed="rId1"/>
          <a:stretch/>
        </p:blipFill>
        <p:spPr>
          <a:xfrm>
            <a:off x="237960" y="3481560"/>
            <a:ext cx="8631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 test condi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on Test Condition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for RA &amp; LB is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CCBD-4703-433F-874C-4DBEBC520B60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2635200"/>
          <a:ext cx="8229600" cy="2614680"/>
        </p:xfrm>
        <a:graphic>
          <a:graphicData uri="http://schemas.openxmlformats.org/drawingml/2006/table">
            <a:tbl>
              <a:tblPr/>
              <a:tblGrid>
                <a:gridCol w="3710160"/>
                <a:gridCol w="502920"/>
                <a:gridCol w="501840"/>
                <a:gridCol w="501480"/>
                <a:gridCol w="501840"/>
                <a:gridCol w="503280"/>
                <a:gridCol w="501480"/>
                <a:gridCol w="501840"/>
                <a:gridCol w="503280"/>
                <a:gridCol w="501480"/>
              </a:tblGrid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less test condition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on Test Condition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oding time for RA &amp; LB is not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15520" y="6492960"/>
            <a:ext cx="52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ACF0-B5C8-415D-B27C-3549248BAECC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14200" y="2714760"/>
          <a:ext cx="8718840" cy="2238120"/>
        </p:xfrm>
        <a:graphic>
          <a:graphicData uri="http://schemas.openxmlformats.org/drawingml/2006/table">
            <a:tbl>
              <a:tblPr/>
              <a:tblGrid>
                <a:gridCol w="2808360"/>
                <a:gridCol w="492120"/>
                <a:gridCol w="492120"/>
                <a:gridCol w="492120"/>
                <a:gridCol w="493920"/>
                <a:gridCol w="492120"/>
                <a:gridCol w="492120"/>
                <a:gridCol w="493560"/>
                <a:gridCol w="492120"/>
                <a:gridCol w="492120"/>
                <a:gridCol w="492120"/>
                <a:gridCol w="493560"/>
                <a:gridCol w="492480"/>
              </a:tblGrid>
              <a:tr h="168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Delay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Total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Average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</a:t>
                      </a: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-rate change (Max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8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onclusions for JCTVC-T0066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342800"/>
            <a:ext cx="822960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ypassing two contexts for CU-level “palette_transpose_flag” is proposed to improve the data throughpu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no gain loss with our proposed simplification under C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DFB6-2E59-455F-80EC-FEB18802C62A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343160"/>
            <a:ext cx="9144000" cy="22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JCTVC-T0067</a:t>
            </a:r>
            <a:br>
              <a:rPr sz="4200"/>
            </a:br>
            <a:r>
              <a:rPr b="0" lang="en-US" sz="4200" spc="-1" strike="noStrike">
                <a:solidFill>
                  <a:srgbClr val="154da9"/>
                </a:solidFill>
                <a:latin typeface="Arial"/>
                <a:ea typeface="新細明體"/>
              </a:rPr>
              <a:t>CE1-related: Bypassing the context-based coding for CU-level share flag</a:t>
            </a:r>
            <a:endParaRPr b="0" lang="en-US" sz="42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61560" y="4152960"/>
            <a:ext cx="7210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un-Lung Lin, </a:t>
            </a:r>
            <a:br>
              <a:rPr sz="2800"/>
            </a:b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Ching-Chieh Lin, Chao-Hsiung Hung, and Jih-Sheng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133800" y="5896080"/>
            <a:ext cx="286704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 Feb.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5-02-10T17:34:39Z</dcterms:modified>
  <cp:revision>1157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