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045A-26E1-410B-B96B-37E5FED4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88E9-0936-498D-9583-9FEB884E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93F-C734-4C29-BE82-978310C1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BD9-3DC9-42C2-B585-2759371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133-ABF3-448C-8C35-FB198A55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668-E5C0-4B90-899A-7CE9ACFE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45E-9582-4436-B08A-850684F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9CD-402B-4372-B3C4-F27ACB15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95E-5AB4-4226-A8CA-A14CA6CF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F5E-C70F-4F0D-AEF3-6E6523C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DAD-D11B-4A7B-B94B-3926B94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8F4-C86A-4B5F-A8E8-1D82B8F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61F-3241-4C40-8B11-F6DD7F7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F2F-4DBC-47FA-AAFC-7834EC0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265-4834-4670-9F99-AF7D0FCF7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F129-9D2E-4BCC-9FF5-B21265E0D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T0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CE6: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Summary report of CE on improvements of palette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9920" y="35812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CTVC Meeting, Geneva, CH. Feb.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er: PoLin L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D64-E576-4484-944B-DE69BC7ED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C.1 (JCTVC-T0124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: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90520" y="838080"/>
            <a:ext cx="8486640" cy="556272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le 3"/>
          <p:cNvSpPr/>
          <p:nvPr/>
        </p:nvSpPr>
        <p:spPr>
          <a:xfrm>
            <a:off x="228600" y="4137120"/>
            <a:ext cx="8610480" cy="227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17F-2FAE-4471-8589-9A71EFB4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1 (JCTVC-T00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Encoder modification of palette coding for escape pixe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Encoder conducts RD checks by removing least occurring palette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Method 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 , for current C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 check #1: Encoder derives palette with M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“previous palette size S” &lt; M –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#2: M-1 colou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remove the least occurring colour, those samples become Escap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#2: Use previous palette (Sharing mo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Method 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 , for current C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 check #1: Encoder derive palette, with M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“previous palette size 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&lt; M –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#2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-1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#3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-2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#2: Use previous palette (Sharing mo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 chec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#3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-1 col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1499-6E23-4CA9-B1D5-F6AEDF4D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1 (JCTVC-T0044):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71520" y="1066680"/>
            <a:ext cx="6600960" cy="512460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FCE7-1B35-41C5-AF65-63A34AB5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1 Tests and Cross-che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A.1 - Extended cop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_above mode to the first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CTVC-T0036/T003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check: JCTVC-T01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A.2 – Generalized copy_above 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C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VC-T00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check: JCTVC-T01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B.1 – Modified palette run co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CTVC-T003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check: JCTVC-T01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C.1 – 2D index map coding for palette 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CTVC-T01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check: JCTVC-T00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D.1 – Encoder modification of palette coding for escape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CTVC-T00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-check: JCTVC-T00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FC3-363C-4417-8610-74E1A201B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1 (JCTVC-T0036/T003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tended cop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_above mode to the first 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nvert neighbouring CU pixels (NCP) into palette ind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nimum SAD, between pixel value and a colour in pal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n-SAD search over all colours in palette (max = 31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n-SAD search over the first 8 colours in pal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D computed using 3 or 1 compon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x redundancy removal (in SCM3.0):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From parsed index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need to know the “reference index”, to reconstruct the current ind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“reference index” is from NC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Known only at reconstruction-stag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dex cannot be reconstructed in parsing-st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lution, “Partial Redundancy Removal”: If the reference index is from the NCP, skips index redundancy removal (reconstructed index = parsed 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rectly copy pixel value of N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SAD comparis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artial Redundancy Removal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808600" y="1371600"/>
            <a:ext cx="279252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224D-5AA9-4106-81EA-BED0249E6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1 (JCTVC-T0036/T0037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: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al redundancy removal: 0.1%~0.2% loss, no need to decouple parsing and reconstr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ly copy pixel: Comparable results , with no need for SAD comparis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3E8-0D8F-4D21-8AEA-EFE673FD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2 (JCTVC-T003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ized copy_above 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py_above mode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gnal 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The offset between the current row R and the reference row R-T where the indices are copied fr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ighbouring CU pixels (NCP) are also used, as described in Test A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335320" y="2133720"/>
            <a:ext cx="447336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6DD-FA26-4C84-A206-24D7926B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2 (JCTVC-T0038)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al redundancy removal: 0.1%~0.2% loss, no need to decouple parsing and reconstr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ly copy pixel: Comparable results,  with no need for SAD comparis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57360" y="1219320"/>
            <a:ext cx="7829280" cy="334332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DC3-B367-48E7-989D-AC99EB893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tegory A: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006560" y="685800"/>
            <a:ext cx="71308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BA78-A6BE-4D12-9085-C569AD3DA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B.1 (JCTVC-T00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dified palette run co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A bypass coded flag is used to indicates whether the current palette run reaches the end of the CU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66840" y="2400480"/>
            <a:ext cx="6610320" cy="255240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7982-D6DE-479B-9BD4-41CE2D96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C.1 (JCTVC-T012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D index map coding for palette mo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If 2D_flag = 1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WxH palette indices copy from a reference area indicated using  (mvx,mv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gnal W, H, mvx, m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reference area is outside the current CU: Convert samples to indices (Test A.1, A.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rge reference area tested: 1x4 CTU, 2x4 CTU, 3x5 C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2D_flag = 0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M3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PY_INDEX_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PY_ABOVE_MO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3871800" cy="27432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1F6-EB80-408B-B315-29D93064C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22:41:49Z</dcterms:created>
  <dc:creator>mtk30288</dc:creator>
  <dc:description/>
  <dc:language>en-US</dc:language>
  <cp:lastModifiedBy>mtk30288</cp:lastModifiedBy>
  <dcterms:modified xsi:type="dcterms:W3CDTF">2015-02-09T21:23:51Z</dcterms:modified>
  <cp:revision>76</cp:revision>
  <dc:subject/>
  <dc:title>JCTVC-T0021  CE6: Summary report of CE on improvements of palette mode</dc:title>
</cp:coreProperties>
</file>