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6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9560" cy="384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ftr" idx="7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 type="sldNum" idx="8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C47BE84-2B4A-4550-BAB6-8D110550588D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A2009E8-8C6F-4D33-BD4C-986446AF96DE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617E144-73F7-4331-A61B-0131783B43AD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EC3F29C-4A7E-4265-BBB2-C72D2AA798DE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FBC6472-7190-4271-9AEA-B50C615981D9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51585BE-84DD-45BD-8407-3C896DDB7CA4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7E6770C-D6F4-4C9B-A66C-F86AC2B6CF73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9F22933-2AFB-404D-934C-60A02C32CC36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onential-Golom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2E782D5-43BC-44C2-A6C4-2AEB896CF9BE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B78A550-C86A-4170-A59E-D1C673DCA091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C2C8D39-D68E-445A-9943-B3ADD4D76587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8E39773-D9DD-46F7-945F-BBA8483202E1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693CBB8-6EFC-4460-A790-B4B8205E2A1F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0F6C4C1-DBA9-42C8-BB60-97CB20717829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06893DF-E218-4026-AB8E-44699F55BF92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F919D-08A5-4C09-A52A-4C54B1C497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C97D5-36BD-4030-8E60-B767365D8F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F352B-6A35-451A-9F48-ED5617A156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F895F-BFD2-4B1B-A415-E6812B1C7D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60A24-EDD2-4E49-A21E-4D43B7F0F2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A6D29-6907-43A5-8D4B-E7175560C8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A9202-9625-437C-9F66-B6477685B5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52C37-5A1B-4526-86B6-C5BDFB01C3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B5E4F-244F-47DE-A0D9-6A04A03324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43543-DD0D-478F-8431-E31239D8AE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CF8EA-2C39-4209-91D8-2023DC9CA6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C6554-5991-4A4C-B69B-C4E20B29AF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4E0BC-669C-4438-BF96-DC09C756BE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01E3E-5BA9-4D18-8E0E-A20A0513B0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603DD-B00E-42B5-8B93-D0D2540A87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0DDB2-6C6D-45E4-8B78-602C9E93F4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989BB-8274-41CD-A7EC-B3E019847C2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53E3-B475-4BD0-B7FC-2E2824EC70A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DF50-56CC-4B9D-A0E6-D7FFCECF196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8F6D-76C2-4A6F-A226-4EC3BC8F550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002B-6E8D-4B25-B548-D45CBE1AB32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F8A6-84F6-4D2E-96C7-C52794BCBF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956C9-492A-41CE-8D01-3CB3B4F180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71B9-8B9B-48D9-A642-0223AFD8619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87E4-DFE5-4F3A-A26F-1B1DB6FC92C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EAFB-9CFF-4D65-AE74-592073F833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99A0-C82A-4027-B493-076A66FE2A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DDF0-2081-43E1-8E3E-96636FC71DB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77C2-B3C6-47F3-B3D2-87F7E343AB9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33A3-C5F7-491F-A875-08EFCE9BEA1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60675-21B7-4F51-B2BA-4B525BF3583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54FA9-582B-474F-84E3-99C6ED35F2C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C779C-D418-4710-B360-DA46446BA2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406F6-E83C-4CA3-9BD0-BDAD6C3A0A7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91E7B-F7E7-4832-ACE4-5445A599099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E2365-FE60-4DA5-9595-2ED41BD0C59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AF4FB-8090-456D-AE68-0626260B9E1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EFB0C-90E8-4141-B074-A55EEB45E18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93CE1-BCAE-4063-B25C-D7C298509A6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43C2B-6F37-45B3-8366-E1BD85EC425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ABEE0-84B0-411D-8148-74EACFB4204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250F4-46B9-4960-BB4B-69A63684786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585B4-E793-4267-8B3C-13D047475D4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C3D9B-DB49-463D-A5F4-75B90E394F5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1E654-5F05-424C-8804-359E539AD59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E8B3C-C640-4DA9-8D76-5A84DDCEF2D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4F194-3746-4209-989B-6F131F9C043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803C4-20EE-4755-94FF-163A1629092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D7E8A-99BA-4D30-8773-FC713407054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C9D9A-AC0F-47C3-9DF5-F47FDF695F2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FD939-5694-4D09-A746-A87CE8869EF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57322-5840-4C80-BA6B-FE0D7DE685F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09869-11D5-4546-AC36-8BB939326B8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BF6CD-7AFA-41E1-8CD6-FC9DBB8277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5251F-7BE2-4468-8058-3ABBAED5E42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8C66B-4801-44E7-8241-38AA6A73F81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A316B-EF0B-421D-B8AB-F84F2810C9B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4610C-9FF8-4B50-94BE-3E0B21C842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21396-112D-43FB-A7D5-DC35BF44F2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6B923-0024-4029-9DFA-0A7CC429D5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176B-2607-48DF-9CF6-2BF2502D39E4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3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F224-5BC7-42B6-8FC7-753FD7977190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1397-6A4D-40E1-8BE3-782D1EC5F4CC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781B-6E9B-4D99-B76C-D8B4AF540AC1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9317-42F4-4D2D-98CD-271407FB4804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82C3-4751-45B3-80C8-FC33821F42E8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4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C324-7181-48CB-9C1D-6048BAD36D0F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C889-DD5D-41F4-9A75-F7C6015F585F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5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E963-A5C5-40D6-9CD5-F757D0B7F534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343160"/>
            <a:ext cx="9144000" cy="22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JCTVC-S0051</a:t>
            </a:r>
            <a:br>
              <a:rPr sz="4400"/>
            </a:b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Non-</a:t>
            </a:r>
            <a:r>
              <a:rPr b="0" lang="fr-FR" sz="4400" spc="-1" strike="noStrike">
                <a:solidFill>
                  <a:srgbClr val="154da9"/>
                </a:solidFill>
                <a:latin typeface="Arial"/>
                <a:ea typeface="新細明體"/>
              </a:rPr>
              <a:t>CE8: Multi-colour intra mode for screen content coding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aecf"/>
                </a:solidFill>
                <a:latin typeface="Arial"/>
                <a:ea typeface="新細明體"/>
              </a:rPr>
              <a:t>Yao-Jen Chang, Ching-Chieh Lin, Chun-Lung Lin, Jih-Sheng Tu, and Chao-Hsiung 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727000" y="5713560"/>
            <a:ext cx="3460680" cy="55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trasbourg,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October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AI, Lossy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17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C6D3-3214-4019-A223-7B22EA1EBCEC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47600" y="1487520"/>
          <a:ext cx="8813880" cy="4913280"/>
        </p:xfrm>
        <a:graphic>
          <a:graphicData uri="http://schemas.openxmlformats.org/drawingml/2006/table">
            <a:tbl>
              <a:tblPr/>
              <a:tblGrid>
                <a:gridCol w="4570560"/>
                <a:gridCol w="1414440"/>
                <a:gridCol w="1414440"/>
                <a:gridCol w="1414440"/>
              </a:tblGrid>
              <a:tr h="30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, G/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</a:tr>
              <a:tr h="307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</a:tr>
              <a:tr h="30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</a:tr>
              <a:tr h="30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</a:tr>
              <a:tr h="308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968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: Proposed multi-color Test 3 vs. previous methods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20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751A-D857-4D31-9632-859D585765F1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0" y="1581120"/>
          <a:ext cx="9144000" cy="4826160"/>
        </p:xfrm>
        <a:graphic>
          <a:graphicData uri="http://schemas.openxmlformats.org/drawingml/2006/table">
            <a:tbl>
              <a:tblPr/>
              <a:tblGrid>
                <a:gridCol w="4324320"/>
                <a:gridCol w="1276560"/>
                <a:gridCol w="1409400"/>
                <a:gridCol w="990720"/>
                <a:gridCol w="1143000"/>
              </a:tblGrid>
              <a:tr h="308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, G/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2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-co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-/bi-col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005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-co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004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-co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00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</a:tr>
              <a:tr h="308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</a:tr>
              <a:tr h="30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</a:tr>
              <a:tr h="308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</a:tr>
              <a:tr h="30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41360" y="130320"/>
            <a:ext cx="8229600" cy="59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Conclusion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0" y="909720"/>
            <a:ext cx="914400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新細明體"/>
              </a:rPr>
              <a:t>This proposal shows effectiveness of the extension to multi-color m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新細明體"/>
              </a:rPr>
              <a:t>Test 1: 10 sorts with no default values. 0.7~1.0% ga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新細明體"/>
              </a:rPr>
              <a:t>Test 2: 10 sorts with default values. 0.8~1.0% ga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新細明體"/>
              </a:rPr>
              <a:t>Test 3: 1 sort with default values. 0.7~1.0% ga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新細明體"/>
              </a:rPr>
              <a:t>Compared with single color mode, the proposed Test 3 has up to 0.7% BD-rate saving for Lossy condi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新細明體"/>
              </a:rPr>
              <a:t>Compared with bi-color mode, the proposed Test 3 has up to 0.7% BD-rate saving for Lossy condi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新細明體"/>
              </a:rPr>
              <a:t>Compared with previous methods in CE8 or Non-CE8, no additional hardware complexity for pars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39D5-81CF-433A-B687-BC5F49A7E3F9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commendation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70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Recommend to further study the multi-color mode on top of Test 3 in SCC-related CE/AH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F441-C4AD-4732-B3D9-AE8B228AAF48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Acknowledgemen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70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ank MediaTek for cross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E274-7A03-424E-9BEC-B06CFF3BB187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Thank you!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32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1CEF-5F94-431C-8DD2-F9FB7D295DCF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77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Motivation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91960" y="1454040"/>
            <a:ext cx="8482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JCTVC-S0050 combines the uni-color mode and bi-color m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Extension to multiple colors may be necessary to represent the area of the C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FA19-CDAF-4EC6-B410-7313068A6B1B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Extension to multiple colors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33200" y="983880"/>
            <a:ext cx="8877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ulti-color mode: extension to ten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en colors from neighboring colors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N1, N2, …, N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ere are ten color mo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ingle color mode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N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Bi-color mode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N1, N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en color mode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N1, N2, …, N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e best mode will be selected by 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0F3F-39A8-4652-B6DD-97DE24B157E3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字方塊 1"/>
          <p:cNvSpPr/>
          <p:nvPr/>
        </p:nvSpPr>
        <p:spPr>
          <a:xfrm>
            <a:off x="989640" y="4021200"/>
            <a:ext cx="6678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84200" y="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Parser (1)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56680" y="865080"/>
            <a:ext cx="8696520" cy="19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-150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A CU-level flag is parsed first to enable/disable the multi-color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f the multi-color mode is enabled, a mode flag is further parsed by Golomb code to indicate which color mode is sel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6880" indent="-125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ingle color mode: “0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26880" indent="-125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Bi-color mode: “10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26880" indent="-125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hree-color mode: “110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26880" indent="-125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Four-color mode: “1110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26880" indent="-125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B3A0-811C-4CCB-953E-324AF92A347E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84200" y="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Parser (2)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256680" y="865080"/>
            <a:ext cx="8696520" cy="19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f the multi-color mode is selected, the parser of palette mode is used to parse index map, but skips the escape parsing, adaptive scan parsing, and table-related parsing (sharing, major color prediction, major colors)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AEFF-F214-4B09-B25D-0C2228D4F67D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24444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54da9"/>
                </a:solidFill>
                <a:latin typeface="Arial"/>
                <a:ea typeface="新細明體"/>
              </a:rPr>
              <a:t>Test 1: Color list establishment with 10 sorts, No default values</a:t>
            </a:r>
            <a:endParaRPr b="0" lang="en-US" sz="40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5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765B-C841-420F-B129-BFADE8EC8838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5235480" y="3789360"/>
          <a:ext cx="1042920" cy="2987640"/>
        </p:xfrm>
        <a:graphic>
          <a:graphicData uri="http://schemas.openxmlformats.org/drawingml/2006/table">
            <a:tbl>
              <a:tblPr/>
              <a:tblGrid>
                <a:gridCol w="104292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  <p:sp>
        <p:nvSpPr>
          <p:cNvPr id="277" name="文字方塊 37"/>
          <p:cNvSpPr/>
          <p:nvPr/>
        </p:nvSpPr>
        <p:spPr>
          <a:xfrm>
            <a:off x="7089840" y="5046840"/>
            <a:ext cx="16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右大括弧 38"/>
          <p:cNvSpPr/>
          <p:nvPr/>
        </p:nvSpPr>
        <p:spPr>
          <a:xfrm>
            <a:off x="6450120" y="3789360"/>
            <a:ext cx="639720" cy="2976480"/>
          </a:xfrm>
          <a:custGeom>
            <a:avLst/>
            <a:gdLst>
              <a:gd name="textAreaLeft" fmla="*/ 0 w 639720"/>
              <a:gd name="textAreaRight" fmla="*/ 231120 w 639720"/>
              <a:gd name="textAreaTop" fmla="*/ 16560 h 2976480"/>
              <a:gd name="textAreaBottom" fmla="*/ 2959920 h 29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4"/>
                  <a:pt x="10800" y="387"/>
                </a:cubicBezTo>
                <a:lnTo>
                  <a:pt x="10800" y="10413"/>
                </a:lnTo>
                <a:cubicBezTo>
                  <a:pt x="10800" y="10607"/>
                  <a:pt x="16200" y="10800"/>
                  <a:pt x="21600" y="10800"/>
                </a:cubicBezTo>
                <a:cubicBezTo>
                  <a:pt x="16200" y="10800"/>
                  <a:pt x="10800" y="10994"/>
                  <a:pt x="10800" y="11187"/>
                </a:cubicBezTo>
                <a:lnTo>
                  <a:pt x="10800" y="21213"/>
                </a:lnTo>
                <a:cubicBezTo>
                  <a:pt x="10800" y="2140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22"/>
          <p:cNvSpPr/>
          <p:nvPr/>
        </p:nvSpPr>
        <p:spPr>
          <a:xfrm>
            <a:off x="1558800" y="4292640"/>
            <a:ext cx="1513080" cy="1305000"/>
          </a:xfrm>
          <a:prstGeom prst="rect">
            <a:avLst/>
          </a:prstGeom>
          <a:solidFill>
            <a:srgbClr val="fac090"/>
          </a:solidFill>
          <a:ln cap="rnd" w="9360">
            <a:solidFill>
              <a:srgbClr val="c0504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字方塊 15"/>
          <p:cNvSpPr/>
          <p:nvPr/>
        </p:nvSpPr>
        <p:spPr>
          <a:xfrm>
            <a:off x="1529280" y="4394160"/>
            <a:ext cx="153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4"/>
          <p:cNvSpPr/>
          <p:nvPr/>
        </p:nvSpPr>
        <p:spPr>
          <a:xfrm>
            <a:off x="1093680" y="3870360"/>
            <a:ext cx="2019240" cy="422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5"/>
          <p:cNvSpPr/>
          <p:nvPr/>
        </p:nvSpPr>
        <p:spPr>
          <a:xfrm>
            <a:off x="1093680" y="4292640"/>
            <a:ext cx="465120" cy="1305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向右箭號 6"/>
          <p:cNvSpPr/>
          <p:nvPr/>
        </p:nvSpPr>
        <p:spPr>
          <a:xfrm>
            <a:off x="3718080" y="3789360"/>
            <a:ext cx="952200" cy="58428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1193760"/>
            <a:ext cx="9144000" cy="23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ort ten times to get ten most frequently occurring colors from neighboring samp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f the neighboring color is not enough, no default value for pad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24444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54da9"/>
                </a:solidFill>
                <a:latin typeface="Arial"/>
                <a:ea typeface="新細明體"/>
              </a:rPr>
              <a:t>Test 2: Color list establishment with 10 sorts, default values</a:t>
            </a:r>
            <a:endParaRPr b="0" lang="en-US" sz="40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86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DBEA-C56B-4990-AEB7-050521A93D0F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5235480" y="3789360"/>
          <a:ext cx="1042920" cy="2987640"/>
        </p:xfrm>
        <a:graphic>
          <a:graphicData uri="http://schemas.openxmlformats.org/drawingml/2006/table">
            <a:tbl>
              <a:tblPr/>
              <a:tblGrid>
                <a:gridCol w="104292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  <p:sp>
        <p:nvSpPr>
          <p:cNvPr id="288" name="文字方塊 37"/>
          <p:cNvSpPr/>
          <p:nvPr/>
        </p:nvSpPr>
        <p:spPr>
          <a:xfrm>
            <a:off x="7089840" y="5046840"/>
            <a:ext cx="16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右大括弧 38"/>
          <p:cNvSpPr/>
          <p:nvPr/>
        </p:nvSpPr>
        <p:spPr>
          <a:xfrm>
            <a:off x="6450120" y="3789360"/>
            <a:ext cx="639720" cy="2976480"/>
          </a:xfrm>
          <a:custGeom>
            <a:avLst/>
            <a:gdLst>
              <a:gd name="textAreaLeft" fmla="*/ 0 w 639720"/>
              <a:gd name="textAreaRight" fmla="*/ 231120 w 639720"/>
              <a:gd name="textAreaTop" fmla="*/ 16560 h 2976480"/>
              <a:gd name="textAreaBottom" fmla="*/ 2959920 h 29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4"/>
                  <a:pt x="10800" y="387"/>
                </a:cubicBezTo>
                <a:lnTo>
                  <a:pt x="10800" y="10413"/>
                </a:lnTo>
                <a:cubicBezTo>
                  <a:pt x="10800" y="10607"/>
                  <a:pt x="16200" y="10800"/>
                  <a:pt x="21600" y="10800"/>
                </a:cubicBezTo>
                <a:cubicBezTo>
                  <a:pt x="16200" y="10800"/>
                  <a:pt x="10800" y="10994"/>
                  <a:pt x="10800" y="11187"/>
                </a:cubicBezTo>
                <a:lnTo>
                  <a:pt x="10800" y="21213"/>
                </a:lnTo>
                <a:cubicBezTo>
                  <a:pt x="10800" y="2140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22"/>
          <p:cNvSpPr/>
          <p:nvPr/>
        </p:nvSpPr>
        <p:spPr>
          <a:xfrm>
            <a:off x="1558800" y="4292640"/>
            <a:ext cx="1513080" cy="1305000"/>
          </a:xfrm>
          <a:prstGeom prst="rect">
            <a:avLst/>
          </a:prstGeom>
          <a:solidFill>
            <a:srgbClr val="fac090"/>
          </a:solidFill>
          <a:ln cap="rnd" w="9360">
            <a:solidFill>
              <a:srgbClr val="c0504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字方塊 15"/>
          <p:cNvSpPr/>
          <p:nvPr/>
        </p:nvSpPr>
        <p:spPr>
          <a:xfrm>
            <a:off x="1529280" y="4394160"/>
            <a:ext cx="153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4"/>
          <p:cNvSpPr/>
          <p:nvPr/>
        </p:nvSpPr>
        <p:spPr>
          <a:xfrm>
            <a:off x="1093680" y="3870360"/>
            <a:ext cx="2019240" cy="422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5"/>
          <p:cNvSpPr/>
          <p:nvPr/>
        </p:nvSpPr>
        <p:spPr>
          <a:xfrm>
            <a:off x="1093680" y="4292640"/>
            <a:ext cx="465120" cy="1305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向右箭號 6"/>
          <p:cNvSpPr/>
          <p:nvPr/>
        </p:nvSpPr>
        <p:spPr>
          <a:xfrm>
            <a:off x="3718080" y="3789360"/>
            <a:ext cx="952200" cy="58428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1212840"/>
            <a:ext cx="9144000" cy="23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ort ten times to get ten most frequently occurring colors from neighboring samp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f the neighboring color is not enough, default values from major colors of the previous palette CU are used for padding. EX: N1,N2,…, N8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P1, P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AI, Lossy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97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1368-4085-49A8-9642-3649AFF0C513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47600" y="1487520"/>
          <a:ext cx="7399440" cy="4913280"/>
        </p:xfrm>
        <a:graphic>
          <a:graphicData uri="http://schemas.openxmlformats.org/drawingml/2006/table">
            <a:tbl>
              <a:tblPr/>
              <a:tblGrid>
                <a:gridCol w="4570560"/>
                <a:gridCol w="1414440"/>
                <a:gridCol w="1414440"/>
              </a:tblGrid>
              <a:tr h="30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, G/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</a:tr>
              <a:tr h="307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</a:tr>
              <a:tr h="30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</a:tr>
              <a:tr h="30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</a:tr>
              <a:tr h="308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24444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54da9"/>
                </a:solidFill>
                <a:latin typeface="Arial"/>
                <a:ea typeface="新細明體"/>
              </a:rPr>
              <a:t>Test 3: Color list establishment with 1 sort, default values</a:t>
            </a:r>
            <a:endParaRPr b="0" lang="en-US" sz="40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0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9E79-F81E-4B96-A8E1-BD561E701B3A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5664240" y="3851280"/>
          <a:ext cx="1042920" cy="2987640"/>
        </p:xfrm>
        <a:graphic>
          <a:graphicData uri="http://schemas.openxmlformats.org/drawingml/2006/table">
            <a:tbl>
              <a:tblPr/>
              <a:tblGrid>
                <a:gridCol w="104292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  <p:sp>
        <p:nvSpPr>
          <p:cNvPr id="302" name="文字方塊 37"/>
          <p:cNvSpPr/>
          <p:nvPr/>
        </p:nvSpPr>
        <p:spPr>
          <a:xfrm>
            <a:off x="7385040" y="3851280"/>
            <a:ext cx="16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22"/>
          <p:cNvSpPr/>
          <p:nvPr/>
        </p:nvSpPr>
        <p:spPr>
          <a:xfrm>
            <a:off x="1987560" y="4824360"/>
            <a:ext cx="1512720" cy="1305000"/>
          </a:xfrm>
          <a:prstGeom prst="rect">
            <a:avLst/>
          </a:prstGeom>
          <a:solidFill>
            <a:srgbClr val="fac090"/>
          </a:solidFill>
          <a:ln cap="rnd" w="9360">
            <a:solidFill>
              <a:srgbClr val="c0504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字方塊 15"/>
          <p:cNvSpPr/>
          <p:nvPr/>
        </p:nvSpPr>
        <p:spPr>
          <a:xfrm>
            <a:off x="1956960" y="4925880"/>
            <a:ext cx="153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4"/>
          <p:cNvSpPr/>
          <p:nvPr/>
        </p:nvSpPr>
        <p:spPr>
          <a:xfrm>
            <a:off x="1522440" y="4402080"/>
            <a:ext cx="2017800" cy="422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5"/>
          <p:cNvSpPr/>
          <p:nvPr/>
        </p:nvSpPr>
        <p:spPr>
          <a:xfrm>
            <a:off x="1522440" y="4824360"/>
            <a:ext cx="465120" cy="1305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向右箭號 6"/>
          <p:cNvSpPr/>
          <p:nvPr/>
        </p:nvSpPr>
        <p:spPr>
          <a:xfrm>
            <a:off x="4146480" y="4321080"/>
            <a:ext cx="952560" cy="58428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0" y="1212840"/>
            <a:ext cx="9144000" cy="23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ort one time to get one most frequently occurring color from neighboring samp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f the neighboring color is not enough, default values from major colors of the previous palette CU are used for padding. EX: N1,N2,…, N8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P1, P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右大括弧 13"/>
          <p:cNvSpPr/>
          <p:nvPr/>
        </p:nvSpPr>
        <p:spPr>
          <a:xfrm>
            <a:off x="6900840" y="4313160"/>
            <a:ext cx="639720" cy="2543400"/>
          </a:xfrm>
          <a:custGeom>
            <a:avLst/>
            <a:gdLst>
              <a:gd name="textAreaLeft" fmla="*/ 0 w 639720"/>
              <a:gd name="textAreaRight" fmla="*/ 231120 w 639720"/>
              <a:gd name="textAreaTop" fmla="*/ 16560 h 2543400"/>
              <a:gd name="textAreaBottom" fmla="*/ 2526840 h 254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7"/>
                  <a:pt x="10800" y="453"/>
                </a:cubicBezTo>
                <a:lnTo>
                  <a:pt x="10800" y="10347"/>
                </a:lnTo>
                <a:cubicBezTo>
                  <a:pt x="10800" y="10574"/>
                  <a:pt x="16200" y="10800"/>
                  <a:pt x="21600" y="10800"/>
                </a:cubicBezTo>
                <a:cubicBezTo>
                  <a:pt x="16200" y="10800"/>
                  <a:pt x="10800" y="11027"/>
                  <a:pt x="10800" y="11253"/>
                </a:cubicBezTo>
                <a:lnTo>
                  <a:pt x="10800" y="21147"/>
                </a:lnTo>
                <a:cubicBezTo>
                  <a:pt x="10800" y="2137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字方塊 21"/>
          <p:cNvSpPr/>
          <p:nvPr/>
        </p:nvSpPr>
        <p:spPr>
          <a:xfrm>
            <a:off x="7524720" y="4995720"/>
            <a:ext cx="158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 a fix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直線單箭頭接點 15"/>
          <p:cNvCxnSpPr/>
          <p:nvPr/>
        </p:nvCxnSpPr>
        <p:spPr>
          <a:xfrm>
            <a:off x="6935400" y="4038120"/>
            <a:ext cx="5706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12" name="直線單箭頭接點 16"/>
          <p:cNvCxnSpPr/>
          <p:nvPr/>
        </p:nvCxnSpPr>
        <p:spPr>
          <a:xfrm>
            <a:off x="1379160" y="4843080"/>
            <a:ext cx="1080" cy="1315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13" name="直線單箭頭接點 17"/>
          <p:cNvCxnSpPr/>
          <p:nvPr/>
        </p:nvCxnSpPr>
        <p:spPr>
          <a:xfrm>
            <a:off x="1482840" y="4230360"/>
            <a:ext cx="201816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14" name="文字方塊 15"/>
          <p:cNvSpPr/>
          <p:nvPr/>
        </p:nvSpPr>
        <p:spPr>
          <a:xfrm>
            <a:off x="7560" y="5060880"/>
            <a:ext cx="141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r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字方塊 36"/>
          <p:cNvSpPr/>
          <p:nvPr/>
        </p:nvSpPr>
        <p:spPr>
          <a:xfrm>
            <a:off x="1160640" y="365616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cond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03:22:15Z</dcterms:created>
  <dc:creator>john</dc:creator>
  <dc:description/>
  <dc:language>en-US</dc:language>
  <cp:lastModifiedBy>YaoJen</cp:lastModifiedBy>
  <cp:lastPrinted>2013-05-17T00:59:36Z</cp:lastPrinted>
  <dcterms:modified xsi:type="dcterms:W3CDTF">2014-10-17T07:23:55Z</dcterms:modified>
  <cp:revision>1131</cp:revision>
  <dc:subject/>
  <dc:title>3D-HEV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385</vt:lpwstr>
  </property>
</Properties>
</file>