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BD54312-1235-49E4-996F-671CAA7C9D5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4406501-19ED-482A-9BEC-C0543DA8612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D0C2F0D-FF33-4BD0-9198-645B9A3B342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847759-5522-4EA5-A470-14BC4FA4299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E802E82-5930-43FE-9708-DBCF0C33FAF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94195C0-61A8-4434-811A-BAFEA5B040C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6B1C2CA-14FC-4915-84A4-12602200CF5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0A12CCD-5D42-485A-8FD0-8F6ECA7157A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FAA1C92-BB70-4651-AC1B-504AA8D2A21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B754-FEA8-4D38-83E1-6AA4F5BD7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DD07-D700-4F32-AF62-09691DD05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8AB5-A346-4028-967B-58F41291E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605A-68EA-42ED-BAD6-4C935FC95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45AE-6B1E-41CA-9677-FCAE359806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C9FD-DC95-4ED9-ACA0-452AEF368C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09FE-D667-458B-9416-78A6FAEB05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5B94-0885-4646-BDA6-D9DEAA6906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E717-7746-41EA-BC69-32A367A3DF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873C-36C4-4217-8652-C64F942B7F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1B02-CC68-446E-A51B-928F936FCA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3061-4058-4658-BF33-0B134DF56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B635-E3A1-4524-9948-DC26D7CA96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4FF3-B5F9-415B-8B79-FA70F06ED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6591-9301-4280-BAAE-433F96924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FBB4-D3F7-43FA-8225-3AC69FD586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26B7-B640-4295-A3FB-6C39D11E08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437-46E4-46C9-A8CF-EBE7AC4AB7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B23-9D8A-4859-B3CA-DCC50579DC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AB8-F611-4EF7-8204-D5DB87A7B4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B0F-D44E-47F5-903E-0161D3FA50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C43-48AA-4B17-89E6-5F3C6C238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AAE3-724E-4ACA-8248-86B1525B4E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8CB-7899-47C5-AE25-13E20BA794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513-1884-475A-AB10-5EB04FDFCB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CD5-EEDF-4000-BF17-9524D5FF8E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28E-3034-4625-A5C3-F007072064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A87-7E18-4294-B3EB-1C865A6612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B2D-1F8A-486B-91CC-C2316651B2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DEF-1A38-4FFF-A566-445942711E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241FA-387A-472F-87AF-5D32DFEEF2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87014-6972-4918-983B-53B6F1EA43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58064-A196-4F87-8D3A-D06F53483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103C-8746-406D-A6AB-C4367285A1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65383-0914-4EA7-B7BC-A0E388ECCD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907A1-1FE4-423A-85D3-2EF955DB67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13CCB-3B0B-4DE1-9C07-6193E87F46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E7972-8970-4135-9AF5-A38C968C25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C3306-7FBA-4A00-9565-E289348BBA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4B68B-7E2B-4A10-A378-212ED6BE99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9F17A-98E7-4700-9DBE-9BD2A0B165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EE7E9-0D9B-43C5-9203-EF95B0051A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8905-C905-41C2-A556-F6BC62788E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A26E-28E8-4A73-83AC-4E3783E3D7E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6B27-4E88-4F1B-B3A7-E75102AC9F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AD361-4BFA-46FA-B7E3-8EDAC2951F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0F837-8168-4D68-85B9-EE624FDB71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F6F18-6D69-4285-AAE6-04968E4A3E3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94500-195F-4272-AA7A-7CF1AFCA38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318F0-CD0B-406B-BF22-A8ECF6749E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1F9A4-9EEB-4405-9CC5-EAA1C46DA0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5146E-9753-4556-B8FC-5A71ED767DB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67A85-2F90-4B7B-B73E-60CEAA8585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7E49E-1727-48E3-8AC5-A4CBEB1F8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2F5C-1D98-4183-87E2-1B310A9664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7F8E7-6AFD-45B4-8555-56D38C5790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F4A77-52F4-4086-A6CB-3B7A25FB53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06DDD-154C-446D-96F3-54022A408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A3E9-66C0-4A90-8B2A-EECF679AF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83FF-0F95-45C8-A419-B9CF1EAFA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4C81-C04B-42FF-BA5A-7CFC3C89734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B347-DBA9-454F-B726-43C7CA33EE72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33B-9D64-46AC-81C8-77CF51EE7E31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EBFA-8266-4AD2-A5DB-116E280AF916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1D4-7916-4A2B-A0A6-B45C8A386B2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BE4E-DB99-4C93-AAE5-66561E601CD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A13-54DC-4F40-B590-CC3E7768450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80C2-72A8-4035-9BAA-9753D7EE48A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C6F-FA14-4D7A-B32B-B6D298D09C9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S0050</a:t>
            </a:r>
            <a:br>
              <a:rPr sz="4400"/>
            </a:b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</a:t>
            </a:r>
            <a:r>
              <a:rPr b="0" lang="fr-FR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E8: Combination of CE8 Test A and CE8 Test B for Screen Content Codin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ing-Chieh Lin, Chun-Lung Lin, Jih-Sheng Tu, and Chao-Hsiung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rasbourg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ctobe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Background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91960" y="1454040"/>
            <a:ext cx="8482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E8 Test A: Bi-colo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elect two neighboring colors to smooth the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E8 Test B: Uni-colo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elect one neighboring color to smooth the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wo modes can be integrated to improve the coding g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shows the combination of two CE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D7C0-FA3B-48C0-9E74-9C85F65E688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mbin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3200" y="983880"/>
            <a:ext cx="8877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bination: uni-color mode &amp; bi-colo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most frequently occurring colors are selected from the neighboring block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N1, N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color mo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ni-color mod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transmit one-bit flag “0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i-color mod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N1, N2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transmit one-bit flag “1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bi-index map is established to represent each pixel in the CU by a binary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best mode will be selected by RDO to code the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3245-F57F-401E-9AC2-1EBC3BC0AD2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4200" y="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arser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3480" y="865080"/>
            <a:ext cx="882972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CU-level flag is parsed first to enable/disable the combination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combination mode is enabled, a mode flag is further parsed to indicate which color mode is selected. Ex: 0/1 for uni-/bi- colo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bi-color mode is selected, the parser of palette mode is used to parse index map, but skips the escape parsing, adaptive scan parsing, and table-related parsing (sharing, major color prediction, major colors)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6347-8FA6-45F1-A2C2-15C565FDF87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968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-Lossy: </a:t>
            </a:r>
            <a:br>
              <a:rPr sz="4400"/>
            </a:b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vs. Test A, Test B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1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F15D-1A3D-479E-88BC-0255C698378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31760" y="1695600"/>
          <a:ext cx="8813880" cy="4551120"/>
        </p:xfrm>
        <a:graphic>
          <a:graphicData uri="http://schemas.openxmlformats.org/drawingml/2006/table">
            <a:tbl>
              <a:tblPr/>
              <a:tblGrid>
                <a:gridCol w="4216320"/>
                <a:gridCol w="1768680"/>
                <a:gridCol w="1414440"/>
                <a:gridCol w="1414440"/>
              </a:tblGrid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A + Tes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col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8 Tes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-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8 Tes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ef4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1360" y="1303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9097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新細明體"/>
              </a:rPr>
              <a:t>This proposal shows effectiveness of the combined CE8 Test A and CE8 Test 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with uni-color mode (CE8 Test B), up to 0.3% BD-rate saving is gained for Lossy condition, and no additional hardware complexity is required for par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with bi-color mode (CE8 Test A), up to 0.6% BD-rate saving is gained for Lossy condition,  and no additional hardware complexity is required for par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53D5-7F29-4B72-B660-6BECEE92DE2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to adopt the combination of CE8 Test A and CE8 Test B for S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D068-9AB4-494B-B0AA-5918BF561D36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MediaTek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D62-F949-449D-A02C-F212B60FA16A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F3FF-CF17-4BDF-B085-54821ED6F92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YaoJen</cp:lastModifiedBy>
  <cp:lastPrinted>2013-05-17T00:59:36Z</cp:lastPrinted>
  <dcterms:modified xsi:type="dcterms:W3CDTF">2014-10-17T07:24:18Z</dcterms:modified>
  <cp:revision>1105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