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sldIdLst>
    <p:sldId id="256" r:id="rId57"/>
    <p:sldId id="257" r:id="rId58"/>
    <p:sldId id="258" r:id="rId59"/>
    <p:sldId id="259" r:id="rId60"/>
    <p:sldId id="260" r:id="rId61"/>
    <p:sldId id="261" r:id="rId62"/>
    <p:sldId id="262" r:id="rId63"/>
    <p:sldId id="263" r:id="rId64"/>
    <p:sldId id="264" r:id="rId65"/>
    <p:sldId id="265" r:id="rId66"/>
    <p:sldId id="266" r:id="rId67"/>
    <p:sldId id="267" r:id="rId68"/>
    <p:sldId id="268" r:id="rId69"/>
    <p:sldId id="269" r:id="rId70"/>
    <p:sldId id="270" r:id="rId71"/>
    <p:sldId id="271" r:id="rId72"/>
    <p:sldId id="272" r:id="rId73"/>
    <p:sldId id="273" r:id="rId74"/>
    <p:sldId id="274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" Target="slides/slide1.xml"/><Relationship Id="rId58" Type="http://schemas.openxmlformats.org/officeDocument/2006/relationships/slide" Target="slides/slide2.xml"/><Relationship Id="rId59" Type="http://schemas.openxmlformats.org/officeDocument/2006/relationships/slide" Target="slides/slide3.xml"/><Relationship Id="rId60" Type="http://schemas.openxmlformats.org/officeDocument/2006/relationships/slide" Target="slides/slide4.xml"/><Relationship Id="rId61" Type="http://schemas.openxmlformats.org/officeDocument/2006/relationships/slide" Target="slides/slide5.xml"/><Relationship Id="rId62" Type="http://schemas.openxmlformats.org/officeDocument/2006/relationships/slide" Target="slides/slide6.xml"/><Relationship Id="rId63" Type="http://schemas.openxmlformats.org/officeDocument/2006/relationships/slide" Target="slides/slide7.xml"/><Relationship Id="rId64" Type="http://schemas.openxmlformats.org/officeDocument/2006/relationships/slide" Target="slides/slide8.xml"/><Relationship Id="rId65" Type="http://schemas.openxmlformats.org/officeDocument/2006/relationships/slide" Target="slides/slide9.xml"/><Relationship Id="rId66" Type="http://schemas.openxmlformats.org/officeDocument/2006/relationships/slide" Target="slides/slide10.xml"/><Relationship Id="rId67" Type="http://schemas.openxmlformats.org/officeDocument/2006/relationships/slide" Target="slides/slide11.xml"/><Relationship Id="rId68" Type="http://schemas.openxmlformats.org/officeDocument/2006/relationships/slide" Target="slides/slide12.xml"/><Relationship Id="rId69" Type="http://schemas.openxmlformats.org/officeDocument/2006/relationships/slide" Target="slides/slide13.xml"/><Relationship Id="rId70" Type="http://schemas.openxmlformats.org/officeDocument/2006/relationships/slide" Target="slides/slide14.xml"/><Relationship Id="rId71" Type="http://schemas.openxmlformats.org/officeDocument/2006/relationships/slide" Target="slides/slide15.xml"/><Relationship Id="rId72" Type="http://schemas.openxmlformats.org/officeDocument/2006/relationships/slide" Target="slides/slide16.xml"/><Relationship Id="rId73" Type="http://schemas.openxmlformats.org/officeDocument/2006/relationships/slide" Target="slides/slide17.xml"/><Relationship Id="rId74" Type="http://schemas.openxmlformats.org/officeDocument/2006/relationships/slide" Target="slides/slide18.xml"/><Relationship Id="rId75" Type="http://schemas.openxmlformats.org/officeDocument/2006/relationships/slide" Target="slides/slide19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707-F2D7-4A90-9B60-5255CC9E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EE5-1251-45F0-ABD2-C92A8622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70FE4-1F31-476F-8AD5-742B773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D6F1-BFD3-4F82-8D6A-D93989A9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7FCD6-8F2E-432A-AA08-D766320D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DB1D1-4FCB-44DB-B772-BDBD08B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A93E7-55D9-45EA-A9F1-23F30048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7FA7B-E855-4902-A565-682BCBF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1603-37F0-4B60-8B53-F62A24D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894F2-2558-4413-8B12-390906EA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0D7EC-8AEB-43CA-8337-5B5EDABA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65393-A9C6-46EF-A0C6-0B806C4E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BCD-E925-4F94-ADCA-745DB152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B04A7-965D-4E9D-B545-5237B961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B5BE9-48E9-4269-B142-CE13BE38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6F24B-7342-4C4C-AD79-F3BEA0F1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C86B2-4924-4026-8F71-F49A7BD0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85EC-1580-479F-B254-F14FD1A0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703DA-A759-4FFC-A317-0A6A6E9E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825B4-5CFF-45DB-B522-6CFA15FB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761F5-0D1B-4314-920B-E8B5F65F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283B3-ABB8-43C3-A6FE-1602F5BC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A53FE-B477-4C9A-AB55-0CE6B3D6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AB4-2ABE-44E1-8D64-25BBF076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5B949-AD0D-465D-9F65-26C286D4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8DA14-9C13-4F11-9A08-1A7B66C7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FAFE1-9C44-4ED2-B219-F74E9630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844FF-E401-4E4A-84DE-7C8702C3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BF265-8609-4EDE-A451-6F9DFC9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87A06-99D9-47C0-9815-38EF44C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9B260-45C0-4F69-BFCC-6EC03BD3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6C8A9-B4AA-42EF-99E4-A8049F6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FB956-F972-498E-8D47-363A7B03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B94CD-2835-4C59-811C-DE80B393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1CAC-8D35-49E4-A68C-5F2A9FF2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634DF-9A12-476B-9E3A-3C8B5A91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ED4BE-84A4-489F-A548-6EE9DD1B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23014-7CC7-430F-AC64-D037367C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8024F-3492-4153-9C3D-9DB4F3B5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B078C-1C25-4358-B219-0B58AD08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76D33-7CC8-4575-970B-A0DEFE10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9D910-5089-455E-9FC0-151D3D5D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E9BE6-FE26-48AA-8076-0D366144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51C10-EE23-4B8D-AB31-E4EB7420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B0C9D-2111-48A6-87A1-702B330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53F3-AF1E-4495-8E95-F3B8254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9FEA3-A0E9-4C21-A119-CA48BC57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4955A-2B5B-4E69-A256-1C5FB1B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F9458-65EA-439F-BFDE-E2569F94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D7CFC-A931-4AF2-9D3A-125E50A0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BE4A6-E2F5-4D87-89D7-DC97A094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2A472-B765-4228-87A0-9005416C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3173-FAAE-4AA3-98A4-2767906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10D82-9DD9-4FC6-8B9C-DC8845E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44F0A-B289-4634-8B88-CFFA5137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1BB4-D7AD-4EFB-A31D-F34B6691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D00-0BE6-43ED-82AE-C8437505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3C1B6-46C4-48A3-AD85-D22E39B0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0CF70-E19E-472B-980C-58189D33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6B641-B8F8-4B9C-AFA1-5AA5D75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1A6FA-22D0-4223-AF14-412E185B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5FA24-1F23-4896-8F38-838A6632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8A9BA-48AB-45A0-B66A-E4C709E1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88752-E273-4E1F-8194-CDD730F2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EB548-7D3F-4952-80F2-AF1197F8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3C244-9390-46C8-8D56-45F9A900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37CEC-A9BE-4C25-8DD1-461580D1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329B-C2B6-41E6-8679-952EC742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67898-469B-4BFC-8FD2-D3D50FA9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ED08E-90C5-4179-B911-57B15E41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DBF1E-CECE-4794-AB52-11D41B29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9F3C0-6510-4D73-A71F-886DD9E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89F8B-89F4-4047-9485-A878C8DC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32E07-1981-4804-9EC5-B62D5D7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60C9D-1370-4898-A90B-C6CD174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F6CF6-9C10-49A9-A63C-58711F44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2DAA3-5DA3-4E7A-98C0-FA7E3783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B9D72-6691-4C0C-9048-2C4AB547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C05-695D-4845-B6A5-15E6534C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D4679-1249-45AA-B55D-275B0A48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3099F-6DD7-4AED-A76F-596B109F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3D7AB-0042-4774-B4CE-B5E586EA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CDA59-F452-4ABD-ABC0-954EDA8D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20A85-7EF5-47D3-B006-75D1EE4B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E1C6B-03FD-4FEF-B4A3-03998274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DF27E-93B1-43F2-B983-6657738C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9E569-0369-4F34-BD20-BFE761F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EC426-A5B6-4982-A662-EAC807A3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77FB1-3A71-46A6-A69D-634B47F5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7C44-1CA7-4CDB-B56A-BA0BA003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003BA-9F63-4299-8A8E-A7448412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275BF-606E-4303-A71D-6F5E129E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EB713-DFB5-4764-A994-8049E51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C9582-D39E-4F6B-A2A4-B896F5AF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1CFA4-2843-4B9E-8378-27DE87EB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EC715-805E-4643-9428-112070D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C3E8E-C8CF-48DA-A411-1B150863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3AFB3-552A-4D85-8C5E-ADF6C5C2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FB610-99A1-410D-AC02-A463428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C84A5-8C40-413C-9F9F-604A0809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66C-F01B-46A0-B5BA-EEE17CE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44F91-0AB3-4191-AB79-6BBFF280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51398-62F6-49D6-9BD6-F9519AB9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39238-C374-45B8-B4F5-5C70E7B2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219D7-01BC-4FDB-8B9E-B698105F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C632B-DBAF-4EA2-9D39-CA49EE64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6FDBE-8575-494B-A37F-A9EFE41E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94ABD-C521-48F9-BA4F-33EEC208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4033E-F088-43D8-A0CE-B2B1B419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0D8FA-E982-447A-AA4F-8A474F7D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58F5B-BAF0-40B7-824E-C1608C1F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090-3331-4EAF-8215-D75794A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DC06-E145-4151-B2BD-0DCAC5DC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0111E-A4E9-4AA1-BC3A-B3F126B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72494-C7BC-4163-9FC2-FECDCF16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69F94-3EA5-4239-AC11-11EF550F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CE8F9-3AC4-4A59-947C-9E566E28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55889-F6DE-4253-A2B8-2321C810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30CA9-2A63-4396-A9B8-FFF4D1FD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CA933-357C-4073-BAF8-A6C62D60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72853-6813-4B02-BDCF-B1BA3847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4B4DD-E0BE-4525-AA4E-80392B8D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97D59-6491-45C5-9DFA-346D0149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6DAA-6D6E-448F-B44F-F5EE104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76691-E729-49F0-8EF3-7860C65C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0AD2D-A481-4F8F-BB7C-AC55D5D1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766F7-4088-4732-81E7-EDD37243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EF772-9D18-4804-8D5B-9B853CEA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319A5-75F3-4276-A953-3C7B86AB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0D04E-387F-4721-9F9E-B528A593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A025B-A3C8-49CB-A864-7EAD7900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00A98-C4AA-444F-97F1-321DCB7B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8C485-3D06-4D51-B5E5-7791B02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EECE7-89F3-4F63-BEBA-45FEF3EB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4C94-2282-4FB8-9BD5-63EEEFE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DFF7B-E3F4-47C5-A18A-478D0597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92685-DDF4-4511-81CB-D49F64C4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FB663-B10A-4F27-8BF3-4FDAC58D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83183-BD01-4CD7-A8B4-2212CBA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B2099-55D5-4DA1-8D2C-C52F0B83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ECB4B-8452-41CB-993C-C9C70295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93C9A-ADB2-4C06-BBBF-FA2595C9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75CDE-6C5A-4DDC-A89F-AF6B88F3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E2A5D-10A6-4DB4-AF04-7AA6E295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D686-376B-461F-8221-A902321D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9E0E-1B87-42F8-B416-CFC390C8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5638-A1EC-4991-9479-520F6637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61B77D-8CCA-44A8-86F7-48174BA8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0D81E-0BA3-49F2-A488-0777B1C1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28011-45AA-48F1-8981-E8415C07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D3883-A383-4956-A1F3-20A0C90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C2277-C19C-40D3-A27B-A0E3D4B9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2DA0B-2711-4E3B-9B85-76E33D6F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A9630-31C5-4891-B1B3-91429DC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AC982-80FA-4E71-801F-0B439A1D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BA0DFF-BAE7-4FF3-AEA3-78FC280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D147C-3879-49CA-A53B-5905BC2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7D40B-6361-49A3-A830-EFB3656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50069-00D9-4DCB-B27F-08C4B6AB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5C368-CF94-4D35-BD60-692A1DFC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1B6A06-38D0-4CEA-B07E-F8B382D7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92A548-609D-4591-8D90-7868CB55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80212D-F0BE-449D-8FBE-21F92668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055E9-9D41-4E02-B6B4-FB9BAAF2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90FBB-607B-4E4D-A5B9-F68E941B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46C1-C24D-4C14-9466-948285B9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CCE402-8D99-4BD9-80BF-4FB111FC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1C47B-9F34-4289-B5B2-F92226E8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227905-4512-4B8F-AD0A-A64294B5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8524F2-8844-417C-B360-AA8A78F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75086-CF44-4A4A-932F-363C1812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379CFA-728F-4645-829F-2D99FE05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3D1DB3-D1B3-4370-9D1C-FF392801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87058-B337-4C14-9519-F44212F1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9C582-D09A-4F03-8ACD-C8E66403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16E2A-21E9-464C-BAF8-544EEAD0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1A18-901A-495C-9302-FC9EFB98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D0D8B-6CA8-44E0-BA36-B34E53D4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73B51-3259-4FD0-A97C-A949C4D5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91517-C94B-4B1D-8F85-294F7D26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01D79-D09B-4752-9362-67B8816C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4AB7C-B7CD-4A83-9F91-AA97FD3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965D7-A0CD-4E8B-9C0F-BF3AFBD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19F3A-7598-441A-9AD2-5E5B9EF1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CB89C-B528-4663-A926-31BD9FBD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9AFD74-323E-4309-9E33-E7CAE888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52DD6-570C-489D-A171-49175B91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030C-4CE2-4269-9CB4-3A891EC4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06C66-3F2D-4E2C-BA11-6616DC03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291BB-76F5-429C-9D10-D62719FD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E78162-1D24-4597-9F62-D18F5F89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2610D-2315-4D41-AC19-09E9CD5F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14B63D-FBE5-4A23-9302-EF1C392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1218B7-F47E-4285-B6FB-245C86E6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71C46-C5C9-4E94-AE82-1299142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EF6CDA-4B80-4170-A7F7-9CD21BC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F4021A-91FA-4F5B-BDFD-196AFF9D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5E55F-18F3-45B3-926D-03BD6985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873-96BC-4693-8EAB-E33E702F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F314-D88C-451E-AD0A-5DFCDB5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F9984-D3C7-4C23-96F4-30797864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8DC0C-B821-4237-986D-2DB03D0F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118EB7-C25B-4315-ACE1-4D839C5F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723BA4-374D-4FB1-B6B6-70D16D6A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618C11-CD1E-4333-BA61-ABF261E4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C6A102-B7EA-45AF-B0CF-7180290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F4E045-2FE7-45B5-8E44-544DF89C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184D7-B448-453F-B4B2-65C0DCB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369643-2D42-4D43-BA3F-0A7E558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81758-5B78-46DF-9E92-5356521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90BE-59E3-4F16-82A4-5BA0000A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35C4FB-0483-4099-B948-454E1CC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6C835-CDEC-4FCC-BE5E-43BA681E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0545FE-8C87-42AB-8ABF-24CB0B0C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5C95A5-132D-4948-BE33-6D4A1D7C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C29324-BBDB-4085-884C-9E68660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2CBCE7-4B9F-4D22-873C-DC39723C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010E7E-C485-48B8-BD46-EFD2DCE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C6911E-C35A-4ADD-9CBD-EB2E5540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847187-F3C5-4195-80FA-30465A0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32E125-F898-4AA1-A380-4F810FB8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9342-E32B-4598-B532-9289A62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B18C9-E1C7-4887-B40C-4C42D6C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9F0F9-B645-4219-8B47-ACBF490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EAEBF3-402A-4FB5-B489-331E12C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2709A2-0618-4AE8-A59B-054C053E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168DC-B0CC-4ACD-BD2D-48C3ED20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D227E4-8225-44F1-920C-57E4E18E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366975-B1D0-45D9-A093-9B41F324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C8ACCD-D859-4762-AB23-8D081D8B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C7FF5A-A481-49CA-BD65-19E4FD0E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80F961-3FF4-42BD-88F6-89C68B99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AF9C-6853-4A5D-9668-C83AD35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A4A881-1B56-453F-A982-DC9F408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08436F-13F0-4F28-868F-1F2BB934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CB2913-6459-4730-9D0A-9719F89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0FD8B9-255E-4E7B-9DDB-CB5DB02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A684D7-78FC-41C0-9706-3B5DDAB1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D6B8CA-6271-4E9C-9736-E802A268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E8479A-B6CC-4608-88BD-049D0D74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2A2E84-38EA-4779-8B78-D3B27AC8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FB5CBD-9117-4DA2-811B-A68C7AA5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0CF6CB-5371-4CCD-BC21-0C0AEC25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2BBF-19EB-4523-B6F0-E21C97DC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135D2E-331D-4A4B-AD4D-B1F25277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3954AB-3DD5-4AC7-8F83-94FB5B75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57BA58-833D-4DA7-A777-C1CC62C7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80110F-7FA3-4FB7-8A0D-B748728B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358F52-8288-4DA0-8B78-157095F1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41B837-A72F-49D2-AE49-9461C448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A750F6-4C0F-4097-8284-18E88789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123213-9EB6-4E61-A873-675C7A07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C48231-BCC8-4647-882A-8BAF4529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9F409C-DC50-4B9F-9089-CB79C6F3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A1573-F569-44AF-B930-78058C66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405CBC-02E7-4439-9364-C157918B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82D6D1-7480-45EB-8994-0660A9F8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917952-AAA3-43B9-A391-024A0871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D6A925-D00A-4965-8E30-DEF9A825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D6B332-62A6-478F-A7C6-B0A2168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61A49D-D3AC-41D5-BD23-CB71EA7B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3AD63D-8E84-4EBC-AB02-59E481E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D18B31-5EE4-4D9F-848F-EA93234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0E098C-AE0E-44D2-B037-E6F6793C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790EB6-5386-4AE2-9870-E071E201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39D0-61CF-4C1B-8584-6ED22279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F4527E-0504-46FF-B7C8-6CB9944A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CD8B1F-C224-4A1E-918C-49801908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A47F15-77F2-4770-BA38-BD863C73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8172BA-AB8D-4C30-8DF2-56277D6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FBC0F6-52FF-4356-BD23-944B4E80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724B1E-D794-4255-9D6E-AE559977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733A1E-FCEA-4656-BB46-AD6929ED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D2D575-6DF6-4791-A842-5F353A8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D70DF5-A690-472A-9DD4-0BD92F6B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1ACF97-29F7-4A0E-BF8E-FA26A66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B1293-C54A-4232-A09E-B268E2AD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3B51C7-C5A0-40FA-98EE-FD60994E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29FB5C-1C62-4F6B-A7C3-EA94CEED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265C32-7E05-4692-8397-176E0A9E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578458-8B78-40F0-B0E7-4521D1EE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63C61E-D029-44EB-983B-792E8284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AE225C-B724-4BDF-B29F-8D5B93F4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2BF317-4D62-41F1-A1EC-78D22A7B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AFE367-13E5-4EDD-9E54-C99C0BAD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A012DF-E861-406B-998D-08D5DC93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0725B6-47FF-4C9B-8523-158DBCFC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BC41-1FD1-4779-B8CF-2380A6F8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6F570-87A3-410A-A249-4534FBAB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8952E8-5C56-4C5D-9221-921CED1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1613D5-DCEB-489F-8913-ACA114F5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F8FFBE-5A73-480D-A054-913B3EEF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E2DD4B-CE28-4ADC-9C6C-B1167B66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5902-B554-4876-9799-406E724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AA69AB-F4FA-43F0-8658-EA27FC32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E2B3F8-5459-4281-B76F-9F8BB3F0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614883-2B61-4147-B339-AFB89CE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C65-A7CA-414E-99B0-46BAF99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19104-B14C-4AD8-A38E-ADD6C56F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5903D4-D479-4BFC-A185-CF4B9C37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EEEA1E-DE08-41F0-9E57-133F563A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DF0277-F3A2-447F-960F-BAA4F228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62729C-1A7C-43E3-91D0-FB38CBD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602823-3D20-4204-89A3-7EA6E5C7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6E1B43-CFFD-4086-AC15-5AC753F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04E987-8A73-4078-8A19-00924491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B46072-04D5-4C97-A7FE-B72871D8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00B30A-6F52-4461-A0E5-8F998C56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4136F1-2142-4E45-BBFA-6410F0CE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0AC0-F822-4C9A-B8EA-8EC77B56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B635E4-6A2F-4B5B-A5C4-095EFF90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B4A8F2-526D-466F-AECA-A4A7E947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25933C-A24C-4F0D-89DD-2C9CCDFE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91E0FE-369D-4CE4-9723-93140416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530511-F3C9-4A7D-82AD-C11F5D5B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52B719-EAFB-4C57-AC39-34A6BF8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06CD34-4A94-4611-989F-8F2C218A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377585-258F-45E5-922E-5530ED6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6B11BF-9274-4EBA-B8DA-BCC2CDC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21CF08-A460-4FC6-85D7-8F4B4FA5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9FEC-6DA5-4D2D-83FD-6A3F9867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EFFFB9-F4A2-45EC-855D-DFC00ADD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2E100B-64C1-4E7B-9EE1-2692E0F4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93F075-E766-4772-90C9-00ACDAA2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87DF62-EE83-40CF-9359-9FD101D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A0349A-E03C-499E-A569-8E21DAD0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7AAC65-467B-49C4-A3DD-BF39E85E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353E68-9D33-4A62-ADDC-8CB9A55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9A64DD-7D90-4EE6-A26B-4B166BC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56C3DD-11EA-4BAE-927A-CD80CE2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12E623-2AF9-4EAE-9026-FD7C65E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F860-9FB1-4918-A909-3B8CF19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57AF34-3878-47BB-AFE9-FB6574F9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ECACBF-1AE5-42C7-8AED-CEF52926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C6FCC1-6245-4AA1-A117-AD17C500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3A93BC-CA3A-438D-9F8C-538C9FAF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9129B1-2AB9-449B-A7F1-3353A5C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CBE0FD-DD81-4E2E-996E-4068B514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0CBB55-3E8E-4DD3-B696-B4D6F9FA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14C78A-440D-4627-8DC5-2E680A07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0F291B-7053-40D4-91D4-C2451095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49E979-B730-4DF8-9078-80610C6E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9D7C-698C-48C5-85D1-CAE5D242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102F35-65CE-49F3-9D9D-77CD57D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C4046B-3FD1-4C64-BB87-D859104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4E9884-4FE0-445B-9A11-84447254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3BBA7A-F786-42EF-B4B1-EAA50A72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D198A4-54B1-4EFF-AF10-D8A67BD5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5DE570-B5A4-4165-A6C1-43297630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5E00FD-2EBF-473E-87C4-2022252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B64DC1-5265-4B56-B17B-08B4296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B75DEF-BC46-4BA7-80C0-8FE525BC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A6D818-5CEC-412C-8602-74C0D622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4497-AB00-4431-91E6-ABAA853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BA33F7-BD92-416C-9664-00B33FDB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2C6BAE-6A9F-4CDA-AEFE-0B9F6533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9C3402-6020-4290-8BC1-720DDA0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F460DD-E4D6-4157-AAAA-BFBFD5E7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65F253-6E8F-4100-9EDD-3ABB22D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70E062-B205-478F-90D2-4BE7F0E8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234BA2-51EB-45A4-A9F0-01D43CEC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485EA5-9626-43EF-A085-F79BAD96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86633A-6FB5-4159-8A1B-07A5E04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773BB3-778C-4249-8F95-59C73430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51A1-14F5-4333-AB15-54BEC033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E47C24-2BF4-4A43-B659-3CD4C937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EA1C22-039B-4C63-B1E6-4025AD8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6402A4-CE26-449B-A7C3-4D4B3A68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93BBE0-4ECB-4F69-98ED-6D2F813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E10A67-9DD5-4120-96FC-C626F50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D9869C-55B5-4716-86E7-4EA49A4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FA6F7B-7C3B-41D6-8D16-4833F94B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BC2646-C323-4DF6-9A7F-FBC1ABCF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5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6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4D5CE2-BF25-4E1D-84DD-86F81A61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FC29D2-BA18-41EB-8E5D-0393E250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6B42-0864-47B2-80AB-22D1284C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9D718D-F9B7-4857-B1EE-ADEB7EA4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A223FB-39AC-45DF-8985-46F69B3A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CD3038-F796-442F-A4EA-0185942D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B26768-E0F3-46CB-A07B-9A82A6E0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681EC8-E3AB-4BD0-B1AB-B8E565BB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FE5041-7798-439A-908D-85E493A7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4D5582-4594-49B4-8D82-AC265414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ACED0A-4D1B-481F-BAC0-89E82CB4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7D13C3-3053-4D9C-BFA8-F4C81F58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3ECE50-9608-4FA9-8E0D-50654552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8677-3C6F-4C80-AEBC-D2D0018B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CDB305-A390-425B-8DF7-89B42745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019186-81AA-46F3-8024-DA36E3AD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EB62D3-C2D5-4E9A-B0EA-A0E570F1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223ED6-1496-44ED-9262-4ABE6ECA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9340FD-4EB3-49FA-B8DE-DDF0866F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6A9FD3-F76F-4E93-A5FC-02FD5E2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E966F2-4FF6-4442-AB6B-175F3E26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1FBF81-380C-4DD3-AC22-79DAFAC4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4E17BD-4824-43F4-98D9-90181F2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89E6F5-9247-49AE-ADF8-0939D8A5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BB2BE-AE43-4B9A-BE80-2C048202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4D9880-05C4-430C-8B6D-6ACBD65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45DFDE-B69D-4497-9B76-FCE4E6BB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5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6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50CF90-E841-469C-BA5A-07411CD9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2406EB-CA6B-41E0-A8EE-41B9E28F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6849C0-7651-4E19-A272-775FE79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D929AF-3661-46A4-8A2C-5573E373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D5379D-4893-4CD6-9EC7-FA3F5F39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E3A268-C0EC-46D8-9692-3751DD5E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971593-3289-4D0E-BA7C-093ABABC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D9E5EF-508B-40B7-B4D6-EE8BBA33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9EC-18DD-40AB-9A61-72829706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631AD-625D-44FB-B0AD-6A5D312F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0ED584-A477-4152-9140-D7EEAA1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E97917-EF04-4CF3-AC17-A30C7DBB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9DE7E9-FAD2-4A71-B8E2-BF556445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8024E8-C5F4-4D94-BC5A-6A2620DA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FB6CA2-1A37-4D5E-A1EC-9E0D6445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04D523-A4AD-4FFD-9689-717B0AA5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F2A48F-9FE9-42B7-BBFD-7F5BDF24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15FB4D-4EC7-470E-9C12-34EFE01A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67AF01D-DF08-48D3-B852-EA17981F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BFD2B2-5D5A-45B0-BC8E-DA66B80A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5477-8D94-4C4B-B449-38EE9148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C58D15-A999-47C7-9B19-562B3835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6855FE-0622-427D-AE53-59771D4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A26647-42A5-4FF5-A5A4-6FF9187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58FF8B-4271-4062-9D1E-A523846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19AD61-4CB3-42B8-B0D0-BD8C2F4D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C4E4EB-A3AA-443E-9CAB-B5B86401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447D50-CB65-4F4B-BB98-6300039B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A99E5-BC48-44C0-8620-9586A312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CA4287-6EDE-427B-A29E-C7A5524D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E83D8-5CD8-49D7-A148-1A992D68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6D3A76-4218-4833-A6E7-44C32DBB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FE516A-4731-4156-93B3-E3F33BE3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458C45-FAD0-40A4-9FBC-498E23B3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C638C6-2C05-44EC-BA5A-7B2AC0EE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3836A28-FC3D-4B0E-95B9-4ECA2B74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79F0EF-FF83-48AB-8F00-850FD764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1955EE-5BB0-4DE6-A9C2-967CB239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D60E92-B0DE-4B3E-B38A-5766C07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C4FDDF-1CC8-486F-B34E-438D627B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645A8A-6970-455C-BD90-56ADD2A5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CB29C-9D0F-4755-9D53-8B7AB84A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3E13A6-7120-4B62-A569-A2AD8705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BE3EAD-9791-42E8-9210-33ECE64A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0442E9-C8C7-4464-A9B3-E219EB23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B9881F5-17E7-44BC-8326-B19CA412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414F38-DEA1-45D5-8AE7-3C6FC28A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E16395-B102-442F-BD2C-BA71AD86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C190CB-F2CD-431F-9E2E-D663BE14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338423-F6FF-4B8D-B8E2-08BEED4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B4968E-BEC2-4561-9FDD-9E47BCDA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7DDC98-BAF5-4773-B882-66CFA77F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4CF0-72B0-4D4A-916F-024D44E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1B32EF-2A23-4E16-84D0-A6E6F6D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56520F-85CF-4884-B1B4-4BCD01B9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C6E9EB-A9F0-4A1C-96BF-A6440275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69C164-276F-43DD-9165-ADA1A22B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2BC3B73-1E0F-4E12-96B6-3CF96A82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ECC9D8-8D73-448C-BD49-060773E5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B05010-2091-41C1-85D3-8E491B5D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03E2F1-B0FE-41EB-BA29-E76C25C6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ABBAE1-4C50-4CBA-8A0E-9B7D7EA7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A937AA-C5BE-4AB8-9944-4101DED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5A1DB-E886-4F36-8AB3-DC1154D4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47B02F-4234-488B-9230-8DA601A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18DF15-C5C2-46E4-874C-AB609E69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0B716F-3353-4A04-AE23-8E6C77EE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5FF624-757F-4756-8EBA-23AE536F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9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00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7B5D48-75CA-4392-8372-72BBD8A2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7196B9-BFC2-4CE7-9DA0-51EFE061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4C6BA2-D380-44DA-82FA-F74C8CD5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1B2196-4137-43C6-984C-1DE9F435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0EF439-7EBE-41C6-86B0-FB8909B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A81250-671A-4539-A843-1B238BBE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CA5FF-9FD2-40C1-BCA0-96A1C248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B8DF0F-059F-44C6-A073-EDB9F409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15F199-6CC9-4286-B4EF-1C527531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F9C1CD-59EA-47B4-A564-B38E5B8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E969B4-95F9-42C2-A69D-007A0A02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658E240-B0CC-4E16-AE07-5281A14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458048-8EE9-427D-8301-3B1D0146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8D490A-30F8-4B1E-801C-6F1C0D71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30F8B8-AB69-4AFE-B3D0-108FC4B4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ABAE24-739D-4434-B467-8453D021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2E7D41-7B98-4B35-AE0F-2BA60E0C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CEE4-8C6C-4673-9491-2C4268CC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573A1F-AABF-4EB5-B935-8A1D9DF2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EFAF3D-6EEE-402B-A84F-97E6EA33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9DB524-B395-461F-83B0-099C2766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E191D56-5717-46C4-BD8B-CD652375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33C4FC-A456-41F4-BD96-F622A95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712E81-557D-474F-834C-5DB8815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9D56FF-9831-41FB-97F4-646B770C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B5A656-98F6-4846-945C-7149F02F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29618A-8CF5-41E3-B9E9-082A9E30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6E39FC-88AE-464C-81A3-D8957F74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E026-85A6-4BFB-824B-CD5096C2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114A28-CD76-44C8-B262-3FF88F9F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FF71DD-49B4-4CB9-AE59-9114D212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C6D7A1-4C7A-4772-A2CB-6E906C4B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36651A-F385-400E-B953-C5EF1CDB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4279BA-87DC-4450-9062-2827D30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582F35-5A03-4899-989C-73F5D99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E9F7B2-0892-46CF-AB66-834DF6E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83CF2A-0A4C-4544-903A-5B8304A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A88B8E-5A8C-4E8E-8292-2A818B74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4CB43FA-341B-4C18-ADF4-89206072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20A-5A1C-40B9-806C-1B24CEC9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05D15-D7AB-46CF-BC32-E605B002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8B4F38-0056-4281-AEA3-B11D5EAF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D5C835-4990-409D-BD49-05BC7993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1CDF95-C1DA-4F42-8702-1E5CB7FC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F73BF8-0658-44D7-B3D1-02E3555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6E1DF6-9AC2-4103-86D9-DC22D81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E3C08C-8140-46D0-A9D3-E04606B6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B0E52D2-D08D-49BA-A889-6E0356C7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7E9AF2-EFC0-4CDB-8E1F-80F6DC2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BD1317-628A-4526-B39E-35295B99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677506-DC9F-499A-B9D1-CCB8383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C3895-F3E0-4AE2-9C8C-02343BB3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18DDEF-DEEA-4764-A2AC-3AA70199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319783-3C14-46EF-9025-1BA1D3C9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A77B2D-525A-45E4-BC56-E3BC699D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956274-2FC3-4B04-BFD2-0BC6DC4F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150246-F003-4C82-84BF-C039A8F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AAE38C-6B1D-494B-B52C-47EB1DC4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749044-7EF9-4A59-962D-3B3CEC2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66BFED-745A-4EC4-BB6B-132E20C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D6670E9-9C45-4369-906B-865E5647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5940BE-7BF9-4611-9474-D7BC4CE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FB948-F72E-4113-846D-07F5E3F1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8D7A24-14A7-4A15-9F65-F798EE9C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83EB26-A327-405E-A02A-82749117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ABD630-09D0-471F-9B14-06BF0789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E7C07D-45E7-431D-A419-A96BA1B6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CC2AF1-DB68-4C3F-9C76-390FA26A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56B05C-D47B-48E9-B7CF-DE516001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09CAF32-AE9B-4B9D-B795-85F529E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65A7A8-2582-47C0-9C81-4D22197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7B24F73-7F90-451C-B10E-D6F1FD9F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1EF1972-DFF3-44BD-820F-8204CD4E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0654B-D4F7-4A84-8DEF-E84D00D7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63C658D-DBB7-4E0B-8BDA-2BD47031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5A74AC-E811-41A9-961F-A2FF230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B4186D-ECD2-4693-A1DC-2AB8247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AE85C9-2A17-4F55-9061-D47F7CC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53AFD8-FD0E-4C37-B0E3-1C7BE1F2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0497CF-5DD6-4098-8171-B8363E0D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3FABE5C-B75B-4A87-AED5-480F5C13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DE1D51-BF79-4414-B95B-ADB91C18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47C19C-5FCE-41CB-A29E-57D7F20C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D533648-2D9E-45EA-8C57-0B3545E3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5F21-105B-4D34-AE3C-12AE2D16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CB5BDD-8D6C-4CC7-B329-7682707A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7680A4-9186-4C01-8CD7-3D1C23C6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8BC45EB-0BE3-42DC-87E2-574F4C16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8FF6A8-602D-4523-BF1F-39762C9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929EBE-7CC2-4F3C-BE06-CE7C231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49642C-DD8B-42E0-81B4-F971AEF5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3FDDB9A-4153-429C-ABFC-267E4FEF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7486D7-EA00-46BB-A792-4B3D3D12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C9C805-606C-483F-9D76-676B29C7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27C7674-E171-435B-B9DF-93556369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7F79-9FD7-417F-9411-8FE5014E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EFAB1F4-99FF-4329-98BB-3FBF422E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7E97AEC-E16F-41EE-AEAC-711348E9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61F444C-2C86-43DE-8CBB-7B03B1B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F0D3D82-477D-4186-B823-D71578A5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E08E382-B9CF-4D14-B3FE-0C3641EA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80C428-7401-49F1-88E5-A5BDB2D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E7BEE0-D199-44C8-BA26-CC113D9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935EAD-9A46-4922-AAE3-79416F1A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30F5E52-2D5A-4BC3-BAFE-B2C0F907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6B53B1-9A94-44E4-B0B9-BECF84E1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F40F-59E2-4422-9DC2-3F50D640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3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4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42A21FD-871C-4D13-A64E-90D5A327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7B1F4-91AF-495F-8AF5-9562E1C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7EED3-6129-487B-B138-6572CAD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FD66A-AF3A-4274-B433-AEB5821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1FD-E71B-4D5C-B76D-71EF12CB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1E72-D7E2-4D0B-AE28-95CAAED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30C3-A966-4159-BC50-4674A3A8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45D6-CC3E-4C38-B387-8C55CC02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31B-B50C-4D76-A836-8D71503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7D2-CDB3-44E1-9693-317D6AAA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4420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74420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4B4BB-5565-462E-8356-1BCFC73B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AD4D-ACF4-4BFB-9F72-58BF850D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41391-6306-4496-A9AE-5DF53F1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B790-E41B-421E-8BE9-CD38124ED286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3821e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9024-786C-4522-934D-6E50105C91EE}" type="slidenum">
              <a:rPr b="1" lang="zh-TW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382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B65A-B3A0-4EB4-8937-4DB6D478AB53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4DD7-2EE8-48DC-9410-05843F81751D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425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5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6C96-95C7-4014-B15C-EF9A32C95828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6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58DE-9319-421C-AC84-305A85AE1C3A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468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C51E-95A2-40E4-AA03-63993B871475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4E69-968A-438A-A00F-26B2AC738188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511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3C16-7B09-4FB7-9A0C-C669C393DA45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3F0-EEB7-408D-B791-BB78E843226B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554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FD25-662F-42D2-99FF-9BFEF4BBC5F0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D95D-5E04-4DD6-B284-1C55E54EC491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597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7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983B-BA6A-4B0C-A539-74CD38D511D8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8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A4D8-D00C-4A1C-B724-FE40A0B586C8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640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0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B8FE-E8C4-47D4-93F1-E73BC397B17F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1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D1CE-1824-47AC-BE61-65A9C6325B59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683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895E-96A6-4E6F-927A-5ABFCFEA7CA2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CD6-FC94-4C8F-B222-838952860283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726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6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2EDE-22A8-432A-A877-065D0C904B93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47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4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5AE2-D929-4B3D-A0B6-C0BB781887D4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769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9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2115-6121-4997-B818-03D69D6FE08E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0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C0E7-391D-463E-9E37-1C24D83BC303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92E6-86E2-4A39-8A58-5860ED037D87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EFA5-B6C3-4E41-98F9-42DCA5D609BE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49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3c3c"/>
            </a:gs>
            <a:gs pos="100000">
              <a:srgbClr val="35363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890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2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85BB-62E2-4EC9-86D6-CF0FED2470A9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3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5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7A6C-581E-4B77-96D0-141D8EFD2315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933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55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8A60-0A29-43FC-AAE8-0E30DF1B9CAC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56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5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CDFC-A1C4-412C-8669-02BCD8609C22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976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58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F141-7ED9-4928-8F11-1A72C0F2D523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59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60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B9D6-8D07-4518-B936-F76F8524A283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019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61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9C09-DE53-46FC-AF07-13FAD0D7EA8E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62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6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B5C0-B52A-4D7F-9E71-A6139A80DA1F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062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64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D2E5-2229-4373-9A64-12E8B4CD398C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65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6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04FE-1502-4EBD-A0DA-1A822D7304AF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105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 type="dt" idx="67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8398-D9BC-4EFD-BC48-7BD022471123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 type="ftr" idx="68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 type="sldNum" idx="6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EC12-6D22-480B-83D3-8C2940D66FAD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148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0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5F0A-8F45-45AD-A00E-17CCE28C5CB4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1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6244-9099-47A7-AEB0-83487C7DBA03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191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3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46A-242E-4672-9749-249DE28A8D2C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74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7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82B-FCC5-485E-81E9-BA87415F619B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7656-1C7A-49FD-A463-1BB5F373DC5B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3821e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D529-2FF4-4D3E-B58C-E04B7CAE4717}" type="slidenum">
              <a:rPr b="1" lang="zh-TW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9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234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6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3F0-EA2F-41AA-BCB6-59275FF8CAA2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77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7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4CBA-CF5B-4ED0-B359-B2812DBBC8DB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277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79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19F-DC13-4E89-8F2A-C9329289FE11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80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8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4CE5-10E2-4088-98DA-0E8DA851EA3A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320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2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E76-448F-4BE4-A9E5-5DE8A760FE31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3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8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2685-8144-47E2-8378-58E140DB4808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Picture 4" descr="Logotype.png"/>
          <p:cNvPicPr/>
          <p:nvPr/>
        </p:nvPicPr>
        <p:blipFill>
          <a:blip r:embed="rId2"/>
          <a:stretch/>
        </p:blipFill>
        <p:spPr>
          <a:xfrm>
            <a:off x="396720" y="429408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pic>
        <p:nvPicPr>
          <p:cNvPr id="1365" name="Picture 9" descr="Tongji2"/>
          <p:cNvPicPr/>
          <p:nvPr/>
        </p:nvPicPr>
        <p:blipFill>
          <a:blip r:embed="rId3"/>
          <a:stretch/>
        </p:blipFill>
        <p:spPr>
          <a:xfrm>
            <a:off x="324000" y="3357720"/>
            <a:ext cx="25923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Picture 7" descr="Logotype.png"/>
          <p:cNvPicPr/>
          <p:nvPr/>
        </p:nvPicPr>
        <p:blipFill>
          <a:blip r:embed="rId2"/>
          <a:stretch/>
        </p:blipFill>
        <p:spPr>
          <a:xfrm>
            <a:off x="108000" y="6381720"/>
            <a:ext cx="1619280" cy="405000"/>
          </a:xfrm>
          <a:prstGeom prst="rect">
            <a:avLst/>
          </a:prstGeom>
          <a:ln w="0">
            <a:noFill/>
          </a:ln>
        </p:spPr>
      </p:pic>
      <p:sp>
        <p:nvSpPr>
          <p:cNvPr id="1403" name="Footer Placeholder 4"/>
          <p:cNvSpPr/>
          <p:nvPr/>
        </p:nvSpPr>
        <p:spPr>
          <a:xfrm>
            <a:off x="1835280" y="6381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404" name="Picture 9" descr="Tongji2"/>
          <p:cNvPicPr/>
          <p:nvPr/>
        </p:nvPicPr>
        <p:blipFill>
          <a:blip r:embed="rId3"/>
          <a:stretch/>
        </p:blipFill>
        <p:spPr>
          <a:xfrm>
            <a:off x="7315200" y="634356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85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5D1B-C4FA-48F7-AC88-0CCF2BFC0D6A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86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8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603-A9BD-4268-86F8-1D29DD19CF9C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447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dt" idx="88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993F-95BD-4916-BF10-4E22DBAF42BF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ftr" idx="89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 type="sldNum" idx="90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3AE4-8F2B-48CA-A419-A1DA9707350F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49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91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4101-F2F7-435B-913D-A4259BAF01AA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92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9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3D0B-58F7-4E9C-9B18-D9D772A7585A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2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533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94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D991-2A70-4FDA-A3A8-8A94C2E7F4E7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ftr" idx="95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 type="sldNum" idx="9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100-423B-445C-8985-2B22D7E9E85F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57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97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7927-6F89-4BDD-A0C3-1CAE7CA00E35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98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9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978-375F-47C9-B0C3-F61768AEAD50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61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dt" idx="100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24AD-8B21-41F3-99D4-488304943977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ftr" idx="101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 type="sldNum" idx="10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F81B-A3DA-4B5C-B485-0A9594DF09F5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2233-D59C-4EAF-B68A-0D6C642F52BD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5791-07A9-498A-A5DD-49D7F68D3C15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35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66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 type="dt" idx="103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BDD7-6561-4E1E-AE7B-A0A0A8D0DCF5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 type="ftr" idx="104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 type="sldNum" idx="10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1794-4C72-4397-BEE1-2D5F2DF87E14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705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dt" idx="106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1B27-8542-44AE-A9EF-6A1CE42D974D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ftr" idx="107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 type="sldNum" idx="10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7333-EEA9-4B30-9BC4-D2C95B1E93D5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7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74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 type="dt" idx="109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DE2-795D-41E1-9FBE-5F33D086F26E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 type="ftr" idx="110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 type="sldNum" idx="11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D773-F0FE-4787-9B32-DD0F76373E22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0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791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 type="dt" idx="112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7E6D-9F9B-4725-9733-8B06FDC992D0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 type="ftr" idx="113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 type="sldNum" idx="11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A959-25B3-496A-A44F-F6291F7C138C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3c3c"/>
            </a:gs>
            <a:gs pos="100000">
              <a:srgbClr val="35363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873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 type="dt" idx="115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E503-2545-4B44-AC06-8712373A3339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 type="ftr" idx="116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 type="sldNum" idx="11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3A8B-6023-4FBC-9C31-9013055725C2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916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18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DAD6-4ADF-4D2A-BD2A-63ADCE241FCD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19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20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612A-910F-4CBB-BEA4-DA04D553FBA7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1959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 type="dt" idx="121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60B6-691F-4E64-A4B8-0B60AEA45A73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 type="ftr" idx="122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 type="sldNum" idx="123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ED03-17D6-4948-9A7A-ECDED885D3ED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002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 type="dt" idx="124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243D-EEFF-4999-9861-B33B25F0E1AF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 type="ftr" idx="125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 type="sldNum" idx="126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C25-62CF-4C81-9A74-C8C95D1D0226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045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 type="dt" idx="127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B199-5FF0-4ED9-BA2F-5F9D76C541B7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 type="ftr" idx="128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 type="sldNum" idx="129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B6A3-E780-4FE1-AB3D-C0D09DC74F40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3AAB-4EE2-4AA9-A40C-B5A4D038E88A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3821e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0229-BEC5-47A5-A1CC-D2C7DEE56B54}" type="slidenum">
              <a:rPr b="1" lang="zh-TW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Logotype.png"/>
          <p:cNvPicPr/>
          <p:nvPr/>
        </p:nvPicPr>
        <p:blipFill>
          <a:blip r:embed="rId2"/>
          <a:stretch/>
        </p:blipFill>
        <p:spPr>
          <a:xfrm>
            <a:off x="450720" y="6361200"/>
            <a:ext cx="760680" cy="19044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088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30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F31B-7F1B-49FB-A0B2-997F14A8BFC0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31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32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2EAB-68E3-4735-A790-3A587CAB5FD7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131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33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576F-3256-41BE-82E1-89EFA21FA7F1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34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35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022-4DDA-495F-9E18-0B9BC66A018A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174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136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A57-50E8-4BBD-8D72-5999AA217649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ftr" idx="137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sldNum" idx="13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A7DF-1504-4B14-86E2-0C1FC0D42E86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217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 type="dt" idx="139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1AFA-36A7-43B4-868D-3DFF3C9E6282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 type="ftr" idx="140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 type="sldNum" idx="14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3BAC-DFCF-4CF7-ADCD-F17EEA5F75DA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260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 type="dt" idx="142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584-B8AB-41F0-9A82-4F50E69CC854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 type="ftr" idx="143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 type="sldNum" idx="144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906B-89BE-4D08-8D07-8EE70BB52EEC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303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 type="dt" idx="145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79C4-C689-4783-B3D1-AB088B88EC08}" type="datetime">
              <a:rPr b="0" lang="sv-SE" sz="12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 type="ftr" idx="146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 type="sldNum" idx="147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39F6-8849-4104-A8A9-BC8CDA22BDAE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69888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999a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A758-ACDB-4B1D-923D-B95C1611BB80}" type="datetime">
              <a:rPr b="0" lang="sv-SE" sz="800" spc="-1" strike="noStrike">
                <a:solidFill>
                  <a:srgbClr val="999a94"/>
                </a:solidFill>
                <a:latin typeface="Calibri"/>
              </a:rPr>
              <a:t>26-07-29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66372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3821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5CD2-A0EE-40BC-B1B5-057F202DFAE6}" type="slidenum">
              <a:rPr b="1" lang="en-US" sz="800" spc="-1" strike="noStrike">
                <a:solidFill>
                  <a:srgbClr val="f3821e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CONFIDENTIAL A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21" name="Picture 17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259" name="Footer Placeholder 4"/>
          <p:cNvSpPr/>
          <p:nvPr/>
        </p:nvSpPr>
        <p:spPr>
          <a:xfrm>
            <a:off x="3594240" y="108900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74420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1d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5363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5363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3c3c"/>
            </a:gs>
            <a:gs pos="100000">
              <a:srgbClr val="35363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Logotype.png"/>
          <p:cNvPicPr/>
          <p:nvPr/>
        </p:nvPicPr>
        <p:blipFill>
          <a:blip r:embed="rId2"/>
          <a:stretch/>
        </p:blipFill>
        <p:spPr>
          <a:xfrm>
            <a:off x="941400" y="1539720"/>
            <a:ext cx="2370240" cy="584280"/>
          </a:xfrm>
          <a:prstGeom prst="rect">
            <a:avLst/>
          </a:prstGeom>
          <a:ln w="0">
            <a:noFill/>
          </a:ln>
        </p:spPr>
      </p:pic>
      <p:sp>
        <p:nvSpPr>
          <p:cNvPr id="299" name="Footer Placeholder 4"/>
          <p:cNvSpPr/>
          <p:nvPr/>
        </p:nvSpPr>
        <p:spPr>
          <a:xfrm>
            <a:off x="3594240" y="108900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6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4"/>
          <p:cNvSpPr/>
          <p:nvPr/>
        </p:nvSpPr>
        <p:spPr>
          <a:xfrm>
            <a:off x="1441440" y="6273720"/>
            <a:ext cx="161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a1de"/>
                </a:solidFill>
                <a:latin typeface="Calibri"/>
                <a:ea typeface="新細明體"/>
              </a:rPr>
              <a:t>CONFIDENTIAL B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339" name="Picture 14" descr="Logotype.png"/>
          <p:cNvPicPr/>
          <p:nvPr/>
        </p:nvPicPr>
        <p:blipFill>
          <a:blip r:embed="rId2"/>
          <a:stretch/>
        </p:blipFill>
        <p:spPr>
          <a:xfrm>
            <a:off x="438120" y="6361200"/>
            <a:ext cx="773280" cy="190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8db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98db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5363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5574960" y="6278040"/>
            <a:ext cx="927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CF41-EF6C-4640-A5D4-1696AB9E42BE}" type="datetime">
              <a:rPr b="0" lang="zh-TW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2539800" y="6278040"/>
            <a:ext cx="3035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a94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7626240" y="6278040"/>
            <a:ext cx="1060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b47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6B2-4B69-4D0F-9606-3CC0EE25E7F1}" type="slidenum">
              <a:rPr b="1" lang="en-US" sz="1200" spc="-1" strike="noStrike">
                <a:solidFill>
                  <a:srgbClr val="f8b4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ubTitle"/>
          </p:nvPr>
        </p:nvSpPr>
        <p:spPr>
          <a:xfrm>
            <a:off x="2843280" y="3645000"/>
            <a:ext cx="597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a1de"/>
                </a:solidFill>
                <a:latin typeface="Calibri"/>
              </a:rPr>
              <a:t>Liping Zhao, Xianyi Chen, Tao Lin</a:t>
            </a:r>
            <a:r>
              <a:rPr b="0" lang="en-CA" sz="3200" spc="-1" strike="noStrike">
                <a:solidFill>
                  <a:srgbClr val="00a1de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3200" spc="-1" strike="noStrike">
                <a:solidFill>
                  <a:srgbClr val="00a1de"/>
                </a:solidFill>
                <a:latin typeface="Calibri"/>
              </a:rPr>
              <a:t>Jing Ye, Shan Liu, Shawmin Lei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53630"/>
                </a:solidFill>
                <a:latin typeface="Calibri"/>
              </a:rPr>
              <a:t>SCCE4: Results of subtest 3.3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U level string matching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85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FAD4-D27E-473C-96DF-BEE2367FF57F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6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7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475C-9B34-485B-9B98-EEE512C8B902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388" name=""/>
          <p:cNvGraphicFramePr/>
          <p:nvPr/>
        </p:nvGraphicFramePr>
        <p:xfrm>
          <a:off x="971640" y="620640"/>
          <a:ext cx="7489800" cy="6089760"/>
        </p:xfrm>
        <a:graphic>
          <a:graphicData uri="http://schemas.openxmlformats.org/drawingml/2006/table">
            <a:tbl>
              <a:tblPr/>
              <a:tblGrid>
                <a:gridCol w="5964120"/>
                <a:gridCol w="15256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coding_unit( x0, y0, log2CbSize )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else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 intra_block_copy_enabled_flag 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ntra_bc_flag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[ x0 ][ y0 ]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 !intra_bc_flag[ x0 ][ y0 ] ) 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intra_p2m_enabled_flag ) 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581040"/>
                          <a:tab algn="l" pos="61272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pt-B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ntra_p2m_flag</a:t>
                      </a:r>
                      <a:r>
                        <a:rPr b="0" lang="pt-B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[ x0 ][ y0 ]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44460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ntra_p2m_flag[ x0 ][ y0 ]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566640"/>
                          <a:tab algn="l" pos="59688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m_coder( x0, y0, 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log2CbSize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 !</a:t>
                      </a:r>
                      <a:r>
                        <a:rPr b="0" lang="en-US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ntra_p2m_flag</a:t>
                      </a:r>
                      <a:r>
                        <a:rPr b="0" lang="fr-F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[ x0 ][ y0 ] ){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if( slice_type  !=  I  &amp;&amp;  !intra_bc_flag[ x0 ][ y0 ]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pred_mode_flag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CN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5363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9" name="" descr=""/>
          <p:cNvPicPr/>
          <p:nvPr/>
        </p:nvPicPr>
        <p:blipFill>
          <a:blip r:embed="rId1"/>
          <a:stretch/>
        </p:blipFill>
        <p:spPr>
          <a:xfrm>
            <a:off x="0" y="633240"/>
            <a:ext cx="8388360" cy="6224760"/>
          </a:xfrm>
          <a:prstGeom prst="rect">
            <a:avLst/>
          </a:prstGeom>
          <a:ln w="0">
            <a:noFill/>
          </a:ln>
        </p:spPr>
      </p:pic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3821e"/>
                </a:solidFill>
                <a:latin typeface="Calibri"/>
              </a:rPr>
              <a:t>Memory bandwidth merit of 1D over 2D</a:t>
            </a:r>
            <a:endParaRPr b="1" lang="en-US" sz="40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91" name="Title 1"/>
          <p:cNvSpPr/>
          <p:nvPr/>
        </p:nvSpPr>
        <p:spPr>
          <a:xfrm>
            <a:off x="4572000" y="5229360"/>
            <a:ext cx="424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alibri"/>
                <a:ea typeface="新細明體"/>
              </a:rPr>
              <a:t>1-D vs 2-D: typically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alibri"/>
                <a:ea typeface="新細明體"/>
              </a:rPr>
              <a:t>70%-50% less in DDR cas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Calibri"/>
                <a:ea typeface="新細明體"/>
              </a:rPr>
              <a:t>50%-30% less in SRAM case</a:t>
            </a:r>
            <a:br>
              <a:rPr sz="2800"/>
            </a:br>
            <a:endParaRPr b="0" lang="en-US" sz="28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Lossy results (Search range size=64KB)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0" y="836280"/>
            <a:ext cx="9145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</a:rPr>
              <a:t>SCM1.0 FullFrame IBC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-13.9%, -8.9%, -4.6% BD-rate savings for TGM YUV 1080p AI, RA, LB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</p:txBody>
      </p:sp>
      <p:pic>
        <p:nvPicPr>
          <p:cNvPr id="2394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"/>
          <p:cNvSpPr txBox="1"/>
          <p:nvPr/>
        </p:nvSpPr>
        <p:spPr>
          <a:xfrm>
            <a:off x="0" y="836280"/>
            <a:ext cx="9145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</a:rPr>
              <a:t>SCM1.0 FullFrame IBC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-14.5%, -9.2%, -4.9% BD-rate savings for TGM YUV 1080p AI, RA, LB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96" name="Title 1"/>
          <p:cNvSpPr/>
          <p:nvPr/>
        </p:nvSpPr>
        <p:spPr>
          <a:xfrm>
            <a:off x="0" y="18900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Lossy results (Search range size=1MB)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0" y="907560"/>
            <a:ext cx="9145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</a:rPr>
              <a:t>SCM1.0 2CTU IBC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-15.6%, -10.4%, -5.4% BD-rate savings for TGM YUV 1080p AI, RA, LB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99" name="Title 1"/>
          <p:cNvSpPr/>
          <p:nvPr/>
        </p:nvSpPr>
        <p:spPr>
          <a:xfrm>
            <a:off x="0" y="18900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Lossy results (Search range size=16KB)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0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"/>
          <p:cNvSpPr txBox="1"/>
          <p:nvPr/>
        </p:nvSpPr>
        <p:spPr>
          <a:xfrm>
            <a:off x="-360" y="83628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</a:rPr>
              <a:t>SCM1.0 FullFrame IBC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</a:rPr>
              <a:t>26.1%, 17.1%, 13.6% average bit-rate savings for TGM YUV 1080p AI, RA, LB</a:t>
            </a:r>
            <a:endParaRPr b="0" lang="en-US" sz="24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402" name="Title 1"/>
          <p:cNvSpPr/>
          <p:nvPr/>
        </p:nvSpPr>
        <p:spPr>
          <a:xfrm>
            <a:off x="0" y="18900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3821e"/>
                </a:solidFill>
                <a:latin typeface="Calibri"/>
                <a:ea typeface="新細明體"/>
              </a:rPr>
              <a:t>Lossless results (Search range size=1MB)</a:t>
            </a:r>
            <a:endParaRPr b="0" lang="en-US" sz="42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0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Title 1"/>
          <p:cNvSpPr/>
          <p:nvPr/>
        </p:nvSpPr>
        <p:spPr>
          <a:xfrm>
            <a:off x="0" y="18900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3821e"/>
                </a:solidFill>
                <a:latin typeface="Calibri"/>
                <a:ea typeface="新細明體"/>
              </a:rPr>
              <a:t>Lossless results (Search range size=64KB)</a:t>
            </a:r>
            <a:endParaRPr b="0" lang="en-US" sz="42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05" name="Content Placeholder 2"/>
          <p:cNvSpPr/>
          <p:nvPr/>
        </p:nvSpPr>
        <p:spPr>
          <a:xfrm>
            <a:off x="0" y="836640"/>
            <a:ext cx="932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  <a:ea typeface="新細明體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  <a:ea typeface="新細明體"/>
              </a:rPr>
              <a:t>SCM1.0 FullFrame IBC</a:t>
            </a:r>
            <a:endParaRPr b="0" lang="en-US" sz="2400" spc="-1" strike="noStrike">
              <a:solidFill>
                <a:srgbClr val="35363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  <a:ea typeface="新細明體"/>
              </a:rPr>
              <a:t>23.3%, 14.9%, 11.6% average bit-rate savings for TGM YUV 1080p AI, RA, LB</a:t>
            </a:r>
            <a:endParaRPr b="0" lang="en-US" sz="24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06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3821e"/>
                </a:solidFill>
                <a:latin typeface="Calibri"/>
              </a:rPr>
              <a:t>Search range size 64KB vs 1MB, lossless</a:t>
            </a:r>
            <a:endParaRPr b="1" lang="en-US" sz="4000" spc="-1" strike="noStrike">
              <a:solidFill>
                <a:srgbClr val="f3821e"/>
              </a:solidFill>
              <a:latin typeface="Calibri"/>
            </a:endParaRPr>
          </a:p>
        </p:txBody>
      </p:sp>
      <p:graphicFrame>
        <p:nvGraphicFramePr>
          <p:cNvPr id="2408" name=""/>
          <p:cNvGraphicFramePr/>
          <p:nvPr/>
        </p:nvGraphicFramePr>
        <p:xfrm>
          <a:off x="250920" y="765000"/>
          <a:ext cx="8713800" cy="5902560"/>
        </p:xfrm>
        <a:graphic>
          <a:graphicData uri="http://schemas.openxmlformats.org/drawingml/2006/table">
            <a:tbl>
              <a:tblPr/>
              <a:tblGrid>
                <a:gridCol w="3935160"/>
                <a:gridCol w="1206720"/>
                <a:gridCol w="1206360"/>
                <a:gridCol w="1204920"/>
                <a:gridCol w="1160640"/>
              </a:tblGrid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ll Intra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(Total)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(Average)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Min)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(Max)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GB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Calibri"/>
                          <a:ea typeface="宋体"/>
                        </a:rPr>
                        <a:t>3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Calibri"/>
                          <a:ea typeface="宋体"/>
                        </a:rPr>
                        <a:t>4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GB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GB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GB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YUV, text &amp; graphics with motion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Calibri"/>
                          <a:ea typeface="宋体"/>
                        </a:rPr>
                        <a:t>3.8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Calibri"/>
                          <a:ea typeface="宋体"/>
                        </a:rPr>
                        <a:t>3.7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Calibri"/>
                          <a:ea typeface="宋体"/>
                        </a:rPr>
                        <a:t>3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53630"/>
                          </a:solidFill>
                          <a:latin typeface="Calibri"/>
                          <a:ea typeface="宋体"/>
                        </a:rPr>
                        <a:t>4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YUV, text &amp; graphics with motion,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YUV, mixed content, 144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5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6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3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9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YUV, mixed content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2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4%</a:t>
                      </a:r>
                      <a:endParaRPr b="0" lang="en-US" sz="16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Title 1"/>
          <p:cNvSpPr/>
          <p:nvPr/>
        </p:nvSpPr>
        <p:spPr>
          <a:xfrm>
            <a:off x="0" y="18900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3821e"/>
                </a:solidFill>
                <a:latin typeface="Calibri"/>
                <a:ea typeface="新細明體"/>
              </a:rPr>
              <a:t>Lossless results (Search range size=16KB)</a:t>
            </a:r>
            <a:endParaRPr b="0" lang="en-US" sz="42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10" name="Content Placeholder 2"/>
          <p:cNvSpPr/>
          <p:nvPr/>
        </p:nvSpPr>
        <p:spPr>
          <a:xfrm>
            <a:off x="0" y="836640"/>
            <a:ext cx="932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  <a:ea typeface="新細明體"/>
              </a:rPr>
              <a:t>Anchor: </a:t>
            </a:r>
            <a:r>
              <a:rPr b="1" lang="en-CA" sz="2400" spc="-1" strike="noStrike">
                <a:solidFill>
                  <a:srgbClr val="353630"/>
                </a:solidFill>
                <a:latin typeface="Calibri"/>
                <a:ea typeface="新細明體"/>
              </a:rPr>
              <a:t>SCM1.0 2CTU IBC</a:t>
            </a:r>
            <a:endParaRPr b="0" lang="en-US" sz="2400" spc="-1" strike="noStrike">
              <a:solidFill>
                <a:srgbClr val="35363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3630"/>
                </a:solidFill>
                <a:latin typeface="Calibri"/>
                <a:ea typeface="新細明體"/>
              </a:rPr>
              <a:t>26.4%, 17.2%, 13.0% average bit-rate savings for TGM YUV 1080p AI, RA, LB</a:t>
            </a:r>
            <a:endParaRPr b="0" lang="en-US" sz="2400" spc="-1" strike="noStrike">
              <a:solidFill>
                <a:srgbClr val="353630"/>
              </a:solidFill>
              <a:latin typeface="Arial"/>
            </a:endParaRPr>
          </a:p>
        </p:txBody>
      </p:sp>
      <p:pic>
        <p:nvPicPr>
          <p:cNvPr id="2411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標題 1"/>
          <p:cNvSpPr/>
          <p:nvPr/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Conclusions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413" name="Content Placeholder 8"/>
          <p:cNvSpPr/>
          <p:nvPr/>
        </p:nvSpPr>
        <p:spPr>
          <a:xfrm>
            <a:off x="179280" y="549360"/>
            <a:ext cx="89647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len extended and bijective mapping for pos &amp; len 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Color quantization (CQ) pre-processing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64KB search range (5.3 CTUs) captures most gain, 96% in lossy case and 90% in lossless case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1D has significant memory BW advantage over 2D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Still have significant room for improvement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Palette coding is a special case of SM with an additional small dictionary (palette) and coding pos (matching distance) as index map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  <a:ea typeface="新細明體"/>
              </a:rPr>
              <a:t>Suggest further study in CE and TE</a:t>
            </a:r>
            <a:endParaRPr b="0" lang="en-US" sz="32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99EF-E9E4-4715-920D-1ADF8FA62D4C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48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49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44F6-247D-48F6-AD9F-BBE71C9ED42C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0" name=""/>
          <p:cNvSpPr txBox="1"/>
          <p:nvPr/>
        </p:nvSpPr>
        <p:spPr>
          <a:xfrm>
            <a:off x="468360" y="155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Pos (=DV in IBC)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Len = the length of the string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Unmatched sample (=escape color in palette)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51" name="標題 1"/>
          <p:cNvSpPr/>
          <p:nvPr/>
        </p:nvSpPr>
        <p:spPr>
          <a:xfrm>
            <a:off x="468360" y="333360"/>
            <a:ext cx="82296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Basic Elements of String Matching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Current options of dictionary size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53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069C-FE85-4002-B0EC-B21ADF748ABC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4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5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1F21-DDE3-4DC6-8F55-71676D5C6830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356" name=""/>
          <p:cNvGraphicFramePr/>
          <p:nvPr/>
        </p:nvGraphicFramePr>
        <p:xfrm>
          <a:off x="179280" y="836640"/>
          <a:ext cx="8785440" cy="5300640"/>
        </p:xfrm>
        <a:graphic>
          <a:graphicData uri="http://schemas.openxmlformats.org/drawingml/2006/table">
            <a:tbl>
              <a:tblPr/>
              <a:tblGrid>
                <a:gridCol w="1656000"/>
                <a:gridCol w="2665440"/>
                <a:gridCol w="2232000"/>
                <a:gridCol w="2232000"/>
              </a:tblGrid>
              <a:tr h="565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dictionary size option #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dictionary (part of reconstructed pixel buffer) size (KB)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hash table size (KB) encoder only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sample-based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pixel-based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0.5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5.2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9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8.4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4.7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38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52.7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256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,092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308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,024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4,356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220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4,096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16,644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53630"/>
                          </a:solidFill>
                          <a:latin typeface="Times New Roman"/>
                          <a:ea typeface="宋体"/>
                        </a:rPr>
                        <a:t>4292</a:t>
                      </a:r>
                      <a:endParaRPr b="0" lang="en-US" sz="24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8587-9385-4664-8975-A7D99AAFFDB6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8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59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99B-C23D-4B35-B56E-1F5D22FBA0E6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46836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Maximum matching string length: extended from 273 to 12288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Bijective mapping for the whole value range of pos and len 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Color quantization (CQ) pre-processing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61" name="標題 1"/>
          <p:cNvSpPr/>
          <p:nvPr/>
        </p:nvSpPr>
        <p:spPr>
          <a:xfrm>
            <a:off x="457200" y="609480"/>
            <a:ext cx="8218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  <a:ea typeface="新細明體"/>
              </a:rPr>
              <a:t>Enhancements in this subtest</a:t>
            </a:r>
            <a:endParaRPr b="0" lang="en-US" sz="4400" spc="-1" strike="noStrike">
              <a:solidFill>
                <a:srgbClr val="3536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3821e"/>
                </a:solidFill>
                <a:latin typeface="Calibri"/>
              </a:rPr>
              <a:t>Bijective mapping for pos and len</a:t>
            </a:r>
            <a:endParaRPr b="1" lang="en-US" sz="4400" spc="-1" strike="noStrike">
              <a:solidFill>
                <a:srgbClr val="f3821e"/>
              </a:solidFill>
              <a:latin typeface="Calibri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178920" y="765000"/>
            <a:ext cx="8713800" cy="10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3821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53630"/>
                </a:solidFill>
                <a:latin typeface="Calibri"/>
              </a:rPr>
              <a:t>Maps more frequently occurred values to smaller values. </a:t>
            </a:r>
            <a:endParaRPr b="0" lang="en-US" sz="3200" spc="-1" strike="noStrike">
              <a:solidFill>
                <a:srgbClr val="353630"/>
              </a:solidFill>
              <a:latin typeface="Calibri"/>
            </a:endParaRPr>
          </a:p>
        </p:txBody>
      </p:sp>
      <p:sp>
        <p:nvSpPr>
          <p:cNvPr id="2364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C954-CD3D-4FBA-832A-AD4A5DBF8A05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5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6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D361-1AA0-44D7-AB34-AF0F5D58EA6D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367" name=""/>
          <p:cNvGraphicFramePr/>
          <p:nvPr/>
        </p:nvGraphicFramePr>
        <p:xfrm>
          <a:off x="755640" y="1844640"/>
          <a:ext cx="7561440" cy="4381560"/>
        </p:xfrm>
        <a:graphic>
          <a:graphicData uri="http://schemas.openxmlformats.org/drawingml/2006/table">
            <a:tbl>
              <a:tblPr/>
              <a:tblGrid>
                <a:gridCol w="3941640"/>
                <a:gridCol w="36198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ping of pos for depth = 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 24, 2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, 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15, 1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6, 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 96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 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 33, 36, 3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13, 14, 1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 144, ……, 216, 24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 17, ……, 20, 2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 45, 51, 54, ……, 66, 69, 7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 23, 24, 25, ……, 29, 30, 3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6AED-7679-47A0-AAAB-340F6F9916F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69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0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2560-BCDD-4A2E-A4D3-13DA656F4A24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371" name=""/>
          <p:cNvGraphicFramePr/>
          <p:nvPr/>
        </p:nvGraphicFramePr>
        <p:xfrm>
          <a:off x="1042920" y="404640"/>
          <a:ext cx="7416360" cy="5842080"/>
        </p:xfrm>
        <a:graphic>
          <a:graphicData uri="http://schemas.openxmlformats.org/drawingml/2006/table">
            <a:tbl>
              <a:tblPr/>
              <a:tblGrid>
                <a:gridCol w="3865680"/>
                <a:gridCol w="35506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ping of pos for depth = 2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 48, 5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, 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15, 1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6, 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, 5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 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 24, 27, 3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13, 14, 1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24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90,9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9,2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6,39,42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2,23,2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60,……,72,7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6,……,30,3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,336,38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3,3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81,8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6,3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974-C077-49FD-9F5C-DBDADE1AC5BF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3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4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0303-90E8-4C90-8FF2-E64626317529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375" name=""/>
          <p:cNvGraphicFramePr/>
          <p:nvPr/>
        </p:nvGraphicFramePr>
        <p:xfrm>
          <a:off x="684360" y="620640"/>
          <a:ext cx="7703640" cy="5112000"/>
        </p:xfrm>
        <a:graphic>
          <a:graphicData uri="http://schemas.openxmlformats.org/drawingml/2006/table">
            <a:tbl>
              <a:tblPr/>
              <a:tblGrid>
                <a:gridCol w="4069800"/>
                <a:gridCol w="36338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ping of pos for depth = 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 96, 9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, 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 18, 2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6, 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,38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 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 12, 15, 2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13, 14, 1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0,……,66,6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8,……,30,3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6,672,76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3,3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75,……,81,8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6,……,38,3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F994-B068-4EDE-A730-A11962F2A955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7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78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CBB0-B2FC-489A-9F31-57F8A7FF005C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379" name=""/>
          <p:cNvGraphicFramePr/>
          <p:nvPr/>
        </p:nvGraphicFramePr>
        <p:xfrm>
          <a:off x="250920" y="260280"/>
          <a:ext cx="8713800" cy="6207120"/>
        </p:xfrm>
        <a:graphic>
          <a:graphicData uri="http://schemas.openxmlformats.org/drawingml/2006/table">
            <a:tbl>
              <a:tblPr/>
              <a:tblGrid>
                <a:gridCol w="3129120"/>
                <a:gridCol w="55846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ping of pos for depth = 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384,18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, 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6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5,1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6, 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,1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4,27,3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3,14,1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,1152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,186,19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9,2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6,……,60,6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2,……,30,3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4,1536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9,……,150,15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5,……,62,6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8,1920,……,3648,3840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65,……,74,7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日期版面配置區 3"/>
          <p:cNvSpPr/>
          <p:nvPr/>
        </p:nvSpPr>
        <p:spPr>
          <a:xfrm>
            <a:off x="6699240" y="62784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111C-4B12-4E18-8C24-5F8A29C4A102}" type="datetime">
              <a:rPr b="0" lang="zh-TW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115/07/29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1" name="頁尾版面配置區 4"/>
          <p:cNvSpPr/>
          <p:nvPr/>
        </p:nvSpPr>
        <p:spPr>
          <a:xfrm>
            <a:off x="3664080" y="6278400"/>
            <a:ext cx="30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a94"/>
                </a:solidFill>
                <a:latin typeface="Calibri"/>
                <a:ea typeface="新細明體"/>
              </a:rPr>
              <a:t>Copyright © MediaTek Inc. All rights reserved.</a:t>
            </a:r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sp>
        <p:nvSpPr>
          <p:cNvPr id="2382" name="投影片編號版面配置區 5"/>
          <p:cNvSpPr/>
          <p:nvPr/>
        </p:nvSpPr>
        <p:spPr>
          <a:xfrm>
            <a:off x="7626240" y="6278400"/>
            <a:ext cx="106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8E82-5D03-4BE5-A0E1-20DD2AF535D5}" type="slidenum">
              <a:rPr b="1" lang="en-US" sz="800" spc="-1" strike="noStrike">
                <a:solidFill>
                  <a:srgbClr val="f3821e"/>
                </a:solidFill>
                <a:latin typeface="Calibri"/>
                <a:ea typeface="新細明體"/>
              </a:rPr>
              <a:t>&lt;number&gt;</a:t>
            </a:fld>
            <a:endParaRPr b="0" lang="en-US" sz="800" spc="-1" strike="noStrike">
              <a:solidFill>
                <a:srgbClr val="353630"/>
              </a:solidFill>
              <a:latin typeface="Arial"/>
            </a:endParaRPr>
          </a:p>
        </p:txBody>
      </p:sp>
      <p:graphicFrame>
        <p:nvGraphicFramePr>
          <p:cNvPr id="2383" name=""/>
          <p:cNvGraphicFramePr/>
          <p:nvPr/>
        </p:nvGraphicFramePr>
        <p:xfrm>
          <a:off x="468360" y="404640"/>
          <a:ext cx="8280000" cy="5184720"/>
        </p:xfrm>
        <a:graphic>
          <a:graphicData uri="http://schemas.openxmlformats.org/drawingml/2006/table">
            <a:tbl>
              <a:tblPr/>
              <a:tblGrid>
                <a:gridCol w="4126320"/>
                <a:gridCol w="41536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ping of length (all depths)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-map value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,……,45,48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,……, 14,1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……,20,2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7,……,22,2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54,……,69,72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5,……,30,3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,……,22,2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3,……,38,3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78,……,93,96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1,……,46,4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29,……,44,4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49,……,54,5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31,……,46,4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7,……,62,6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102,……,141,144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65,……,78,79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3,……,68,71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81,……,86,87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55,……70,73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89,……94,95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35363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5:26Z</dcterms:created>
  <dc:creator>yuwen</dc:creator>
  <dc:description/>
  <dc:language>en-US</dc:language>
  <cp:lastModifiedBy>Tao Lin</cp:lastModifiedBy>
  <dcterms:modified xsi:type="dcterms:W3CDTF">2014-06-30T11:23:05Z</dcterms:modified>
  <cp:revision>107</cp:revision>
  <dc:subject/>
  <dc:title>Powerpoint Title (Confidential A)</dc:title>
</cp:coreProperties>
</file>