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sldIdLst>
    <p:sldId id="256" r:id="rId57"/>
    <p:sldId id="257" r:id="rId58"/>
    <p:sldId id="258" r:id="rId59"/>
    <p:sldId id="259" r:id="rId60"/>
    <p:sldId id="260" r:id="rId61"/>
    <p:sldId id="261" r:id="rId62"/>
    <p:sldId id="262" r:id="rId63"/>
    <p:sldId id="263" r:id="rId64"/>
    <p:sldId id="264" r:id="rId65"/>
    <p:sldId id="265" r:id="rId66"/>
    <p:sldId id="266" r:id="rId67"/>
    <p:sldId id="267" r:id="rId68"/>
    <p:sldId id="268" r:id="rId69"/>
    <p:sldId id="269" r:id="rId70"/>
    <p:sldId id="270" r:id="rId71"/>
    <p:sldId id="271" r:id="rId72"/>
    <p:sldId id="272" r:id="rId73"/>
    <p:sldId id="273" r:id="rId74"/>
    <p:sldId id="274" r:id="rId75"/>
    <p:sldId id="275" r:id="rId76"/>
    <p:sldId id="276" r:id="rId77"/>
    <p:sldId id="277" r:id="rId78"/>
    <p:sldId id="278" r:id="rId79"/>
    <p:sldId id="279" r:id="rId80"/>
    <p:sldId id="280" r:id="rId81"/>
    <p:sldId id="281" r:id="rId82"/>
    <p:sldId id="282" r:id="rId83"/>
    <p:sldId id="283" r:id="rId84"/>
    <p:sldId id="284" r:id="rId85"/>
    <p:sldId id="285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" Target="slides/slide1.xml"/><Relationship Id="rId58" Type="http://schemas.openxmlformats.org/officeDocument/2006/relationships/slide" Target="slides/slide2.xml"/><Relationship Id="rId59" Type="http://schemas.openxmlformats.org/officeDocument/2006/relationships/slide" Target="slides/slide3.xml"/><Relationship Id="rId60" Type="http://schemas.openxmlformats.org/officeDocument/2006/relationships/slide" Target="slides/slide4.xml"/><Relationship Id="rId61" Type="http://schemas.openxmlformats.org/officeDocument/2006/relationships/slide" Target="slides/slide5.xml"/><Relationship Id="rId62" Type="http://schemas.openxmlformats.org/officeDocument/2006/relationships/slide" Target="slides/slide6.xml"/><Relationship Id="rId63" Type="http://schemas.openxmlformats.org/officeDocument/2006/relationships/slide" Target="slides/slide7.xml"/><Relationship Id="rId64" Type="http://schemas.openxmlformats.org/officeDocument/2006/relationships/slide" Target="slides/slide8.xml"/><Relationship Id="rId65" Type="http://schemas.openxmlformats.org/officeDocument/2006/relationships/slide" Target="slides/slide9.xml"/><Relationship Id="rId66" Type="http://schemas.openxmlformats.org/officeDocument/2006/relationships/slide" Target="slides/slide10.xml"/><Relationship Id="rId67" Type="http://schemas.openxmlformats.org/officeDocument/2006/relationships/slide" Target="slides/slide11.xml"/><Relationship Id="rId68" Type="http://schemas.openxmlformats.org/officeDocument/2006/relationships/slide" Target="slides/slide12.xml"/><Relationship Id="rId69" Type="http://schemas.openxmlformats.org/officeDocument/2006/relationships/slide" Target="slides/slide13.xml"/><Relationship Id="rId70" Type="http://schemas.openxmlformats.org/officeDocument/2006/relationships/slide" Target="slides/slide14.xml"/><Relationship Id="rId71" Type="http://schemas.openxmlformats.org/officeDocument/2006/relationships/slide" Target="slides/slide15.xml"/><Relationship Id="rId72" Type="http://schemas.openxmlformats.org/officeDocument/2006/relationships/slide" Target="slides/slide16.xml"/><Relationship Id="rId73" Type="http://schemas.openxmlformats.org/officeDocument/2006/relationships/slide" Target="slides/slide17.xml"/><Relationship Id="rId74" Type="http://schemas.openxmlformats.org/officeDocument/2006/relationships/slide" Target="slides/slide18.xml"/><Relationship Id="rId75" Type="http://schemas.openxmlformats.org/officeDocument/2006/relationships/slide" Target="slides/slide19.xml"/><Relationship Id="rId76" Type="http://schemas.openxmlformats.org/officeDocument/2006/relationships/slide" Target="slides/slide20.xml"/><Relationship Id="rId77" Type="http://schemas.openxmlformats.org/officeDocument/2006/relationships/slide" Target="slides/slide21.xml"/><Relationship Id="rId78" Type="http://schemas.openxmlformats.org/officeDocument/2006/relationships/slide" Target="slides/slide22.xml"/><Relationship Id="rId79" Type="http://schemas.openxmlformats.org/officeDocument/2006/relationships/slide" Target="slides/slide23.xml"/><Relationship Id="rId80" Type="http://schemas.openxmlformats.org/officeDocument/2006/relationships/slide" Target="slides/slide24.xml"/><Relationship Id="rId81" Type="http://schemas.openxmlformats.org/officeDocument/2006/relationships/slide" Target="slides/slide25.xml"/><Relationship Id="rId82" Type="http://schemas.openxmlformats.org/officeDocument/2006/relationships/slide" Target="slides/slide26.xml"/><Relationship Id="rId83" Type="http://schemas.openxmlformats.org/officeDocument/2006/relationships/slide" Target="slides/slide27.xml"/><Relationship Id="rId84" Type="http://schemas.openxmlformats.org/officeDocument/2006/relationships/slide" Target="slides/slide28.xml"/><Relationship Id="rId85" Type="http://schemas.openxmlformats.org/officeDocument/2006/relationships/slide" Target="slides/slide29.xml"/><Relationship Id="rId86" Type="http://schemas.openxmlformats.org/officeDocument/2006/relationships/slide" Target="slides/slide30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D0B-4E2F-4AA5-BE1A-4DF1A208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B23-1F85-468C-BE8E-4E8646DC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0B7ED-62A1-4014-9F63-4217262A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FA83-1269-4D69-8842-AA198E46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BE1CE-32F0-42AE-8967-5125A942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7F9F-08B0-4D2F-AF63-E03B71B1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0FC0-4E4C-4D3F-AE9E-0F522C0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A5536-6688-448F-ACB9-8A34763F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10ED-C8BB-4693-BE5E-4B829863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FD6A-DBA5-4348-AC9C-91110693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201AC-C2F4-4D14-8B20-26D26DEF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4337C-FC6E-4109-B5F3-716DFB87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29C-895D-4D24-9164-883DC7DA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F19D0-04C1-432A-8BE7-CE548AC0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3CD13-3143-4961-8881-D080A26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025DD-5C32-43F4-80D5-516A24EF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CF00A-13EF-4EB9-B8D8-8B57BBA2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11223-3EF6-42D6-8384-4CF5755F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2421-55D7-4F25-8FAA-1E9ADCE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423D5-73FB-4B7C-9A39-9C5D1CD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2255-72BB-4F88-894B-F2E5DED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E9076-BE59-461D-AD26-12811DBB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D76B-102B-4D82-8639-76AD63CB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0B3-DB4D-4B4F-836C-66AF1ADC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2BF67-1663-4E8F-88A7-9950D592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D9DB2-B2F7-4C80-B6A5-F4E94672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E2F75-6864-4DB6-B799-1119D21E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7FE3B-CF17-43BC-8458-BDCE4757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F17E3-0D8E-4E57-8862-F338695F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685A6-0F7F-44B7-9F0D-C93774F3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45385-C7F2-43AF-A254-8DA3A378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C3308-353A-4C64-B8D8-0768DA0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0D319-FFF3-4574-956B-FCB279E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CE795-F30F-4386-9E5B-2856D19D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0961-19C2-437A-96EC-FAAA164E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8AAE7-E5D0-4B54-B6D3-80E75A71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56335-3305-439D-9A07-37A75027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C6445-67F2-4ABB-A9EE-06741209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9F791-45A8-408C-9D85-3F681315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87615-8385-47D4-A6E1-F37E3E18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35AC4-CE3C-47DA-9596-B6D22508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BFD40-D2AF-4087-882D-00511DAF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58585-4CBC-4228-8130-22CE17A1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ADF63-46C2-4C10-992B-08761BDC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5B1A5-AAC6-470A-AE8D-A34D2F5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DDD9-2C4F-4757-AEEC-46C1B86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C8BE2-C18D-4F0C-BBE5-8141826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0190E-12B4-47F4-A191-F869258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E2F30-5E35-4EE1-BC44-924BB3F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C34C0-EB67-41BA-85FB-A0FAD218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009DE-E610-4846-9D03-623A6FF4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919F4-66F8-467E-AD68-0200EE15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270C1-DF8C-49E4-B480-EF59596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E368F-FB2C-4E8F-9C9A-F1BCC632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E1705-2E97-4861-8837-D4B62DA1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A7560-D3F4-4DF6-8F4C-EA24DE40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A5B2-53A4-4735-9760-43FA749D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87112-5096-49E4-84A6-E7F6AFB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2E702-96F0-455A-8A7D-083CB299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CF48-0441-46B8-9CAE-8466645F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A452D-F820-4C59-B0D4-63CF5A41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46ECE-4AF4-48D7-B272-13440EF2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AD972-AC8D-4E4E-95B9-E00E80D2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C5BE3-3546-4822-99CA-47F88693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D6E1B-D6E9-4BA7-9AD6-49CC1318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EB694-E7F3-4B14-A298-6FEA713B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A6FCC-0FC8-40F9-B6C7-258BD33A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E3C9-09C5-4424-B6C5-F19A7CEC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F941F-8608-4A91-A297-36826ED4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62B04-B889-4AB0-A86D-E723F1B5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59385-6535-433B-B051-9A3040D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9CA4B-F5AF-4A35-A55C-D18A083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C63FB-2B02-4DA1-967B-4FBE838A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4DC64-871C-49C2-B283-A4BDBC0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AB3AB-0BB2-4101-A5C8-F6817E8B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A4234-EB04-422C-AC6F-F8E66365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15D12-4193-4B39-A8D3-BFFEAA1E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9EEA7-975A-4D72-997B-568A3E1B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99DB-2751-46EE-A48B-6216C116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E9544-1BCA-4EB3-8A1E-F5709947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8F018-D3F3-47FA-B4CC-D2E497CA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36343-0D07-4D9B-A714-FFC82449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69EF1-066F-4506-BFAA-49291107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B5332-EFE1-4C73-8D12-DAD3F051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6F897-2050-4D3B-83C2-C4EFBF63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89F41-07AF-4A18-8FCA-36580E35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5A320-904F-4EDA-9667-BE21DBFD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50261-CA6F-4CB0-AAD5-3D58BED0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1F236-9205-4A5F-AAF3-F46F0023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CB7E-1BBA-4431-B274-781BDBB6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CE5A3-03DF-4FE8-B693-DCDAC7E5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C7FF4-5EB6-47DF-8CD6-9BC35E65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1F8EB-6EEB-4006-A574-8E2188B7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84063-5E6A-4D35-86ED-014A32B4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1F29E-0412-4FDE-B58E-0EB8D9B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F69E4-0E07-4FC4-9D5A-1F295946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0033A-9A7C-43FB-B044-80F22298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84CF5-40C4-4A59-A74D-4B8E5DC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ADFE2-723F-40CF-9C27-21AF296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112E2-3DA3-47D6-A4DB-D7CC49D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27D0-B929-4478-B593-E1DDD12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13303-9CB7-477D-855A-A4772F66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538B5-2EDB-462F-8717-C3D7A588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77F26-E4A9-4B4D-BB25-56431F28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299B1-0E25-4FFC-B7BC-D1D84EF8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DEEF8-DD8F-46D9-B24D-F26306E2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5DE64-A541-4ED8-A564-ABA716E3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BE989-678F-4DD1-AAEA-069FB80C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1BF7D-1E25-4E26-B291-2A9FE337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9E68A-B328-4306-8167-087E8C81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CFE17-9D91-470F-8268-73BA9F7F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699-6B5A-4722-B595-E9DD06DB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8B2E-8241-445F-987B-9FC7EB68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7E345-82EC-4B99-86C9-174B091D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431AF-4992-4F75-911E-EB0DC89E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30969-5A4E-45CF-A062-7BFC50EF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9AB56-426D-456A-8FD6-2D6B7D55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DB046-AC29-41A1-96F1-C324CBE9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8D5C3-DF49-46C3-BAB6-B70B7A11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65BC9-EBC9-4FAD-A116-F1A88A64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FD87A-2038-438A-8788-28B642A9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F586C-2F42-4131-9C9A-3B71FBDD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FB37F-D73A-40DE-9D6F-49909E09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DB5B-743B-443E-85F9-F82BA201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3CD68-5202-4416-BD52-754C5864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4F119-FC7A-4BFF-824C-D88B0606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65C74-B903-4B07-8989-FEC0C823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7918A-DA2D-49D9-942D-5F19EDD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695EF-9A78-4771-9F8E-53365280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4749E-70C1-46C9-8B60-42F2D4FC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179BC-EE7B-4608-B3E9-3DF5CA67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203B8-4E0D-4451-BDA1-0B697395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BFD2C-F709-4245-A7CA-2924F921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B59E2-86F6-4CB4-97BA-145CD3D0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9155-6D59-4502-BB1D-4AF2F34E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D9E4C-264A-4CE8-A54A-032EA3B6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41E691-B317-4783-9C8A-07AEB4D6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86820-DE59-4EEA-AEE1-005764EF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5B86C-70AD-4863-B9B0-4155CD5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A42BB-9FF5-4BA7-8A58-C2AEB5C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26D5D-0B4B-46BB-B1F0-C0FD9AC7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1ED80-0CD9-4326-94A2-C9B0BC6E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3039E-C78F-4EF2-A50F-B9F883D5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1710A-7418-4B58-9031-7EA2A1CD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9AC2-AD01-4A58-9CFE-104C2167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2703-DCF6-4902-B9A2-2DBB7A23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5C18-1758-4AFD-BACB-D0063F9C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1C4F3-1259-42A0-862D-7B788613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014AB-030D-4663-9564-32485DC3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C5A8A-AF27-431C-975B-251F4DEF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423C7-2A5C-4E59-A497-42F7B628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DFD00-75F4-4829-A286-63860E3D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C421E-4DF1-406F-A404-9987324A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BF4E2-86C1-4C0B-920A-9909CEB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7F9B-3222-4048-8F0A-B2A99C82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4E1B3-B999-4746-B905-0A7D8436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996378-BFA2-4BE5-9A66-FEC5F2FF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CCAB6-0311-45BB-8C59-B7BCE6A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521785-D5E5-4182-B7F0-89599F4F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98C0D-6A75-48E0-82E2-B22329D6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C1421-3EA3-4495-8A61-EADF8688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FC9E9-C91D-4677-9309-8CFDB979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E4628-1AFE-4B3F-8E1E-311C7063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CA198-C8F7-4051-B923-BFD1297F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44EBE-581F-40A2-872B-958D1E0F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4F50-8BC4-4BA3-9C36-1F61BAF1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05DA1-059D-4EAD-82F2-6EF3F226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45311-E3F9-471A-B32F-60A90E7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A01004-6293-47D1-9FDC-8A5E7157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3185D-AC06-4412-BB26-976511E1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6548D-CC37-404A-BAE3-0B2F51D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82F83-9FE6-486D-B99C-816720D3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36918-2701-4591-BB26-4596FD09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10C00-F2A0-43BF-A755-020C345F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1B12D-75DB-44B4-8E06-5316A4F2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A3DFE-DFD0-4A0F-A5A6-27529379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2DB6-3267-43CE-88CA-1BE26EB3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F1DCA-23A0-472D-8EFD-DFF1A1B0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85AC05-AD50-4D73-8F8E-C54B5462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808A6-717A-42BE-99A6-FA4EB6C6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3CA79-E284-4DB5-B634-571974BC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487B6-D070-44AD-ACC3-69CE7C8A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94795-425A-45EC-B686-F6AA51B0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62CE5-22CD-4FBE-98F2-1A416143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D3636-4CAB-4148-98E1-E89E5A9B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A49D9-96E6-4FBA-80D4-BA6436D6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53233-FE8E-453C-ADCB-3E0E9972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27F2-E5BD-40EA-96E5-9A80EAC8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3237A-D267-4FA2-9F8E-A67FFAEA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DE513-1D01-406B-BD8B-8405FF0F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1025E-D764-47C5-93DF-F445DD15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F24E9C-4CF8-46CC-85DC-3D2D9C7C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02B5C-0C88-4F1D-BF99-7037BC78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A8D3FB-6DF6-47FA-AC5A-DFA80E6B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0206C-58F7-4D43-B22A-D06CA0A3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14272-27E7-4A9F-AE21-B216AB8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4DDD0-BAD0-4066-BBBF-5F50E85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98CCA-E006-44BE-BEC0-63ADA9AF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DDD-BF64-41CB-A45A-72E63D4F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9B2AF-0F79-4CE8-AFFA-F10226FF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6128D-CEAB-4418-8B94-7881F12B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19006-49E3-4DF5-8022-52BDFA78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CBFF34-537F-495F-91A5-A2657C8D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879769-0F3C-4B60-964A-8C9F9E8C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44D084-4F7E-422F-81B0-84E74A41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8215EF-8284-41DC-A3EF-244C870B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CCB87A-1BA1-4906-AE63-4D05B1E6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1A4287-04C6-4645-BC7D-A4148591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6B71A-D413-481A-BC51-DF2AA96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4A0CE7-5FE0-45F0-A8DC-A7A7D23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C47E-1B01-4760-9C45-C23A610E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C00F14-DD03-479E-89FD-87B72D72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0A4E72-F3C7-44D7-AF6E-59C411B1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352BB-06A3-4F9F-A173-53B992DD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312A09-8620-4933-9994-B6B09731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62CB3-A376-46FC-A3A4-FE4A741F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4E5AB2-2A0C-43E4-A553-C85688B0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25633B-22EF-4C63-AF1B-8C2D4EFD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C1EAA6-6A15-4A32-81E4-506C70CD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CC1FFD-8A60-4683-BD93-E449F8EC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7C3AAC-E6EA-4DA6-97F4-45538A5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1E62-9452-4200-9D2D-78F84859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A97B0C-FD2F-4BE9-9C60-44EDCD79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E43E6D-6F22-4637-993B-38C3929F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22835E-5C38-424E-8537-AEC2E0EF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546C24-93F8-40AB-8300-663250B2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226B5F-7779-4A52-863B-72CA222E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EE2884-D2C9-4D4C-BB35-2E387365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F31CF5-A5A1-4956-A83B-19697E9D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EE818D-4240-4D59-97D7-3ADDE5EF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1F1ECA-CCC0-489D-B103-75BCFD37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F40DE4-7F35-42BC-A258-6B858914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07937-2BB7-4631-9635-FC10D60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C35DE0-B475-4D59-9079-CF83C08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FDE1AB-355B-443E-9E6E-021FC8BF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686980-4AB2-484B-8A2A-61F06FE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72E594-1410-41EF-83B1-242EACD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D7254F-5EB1-4103-8399-AAF5A125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DDB522-0077-4AD1-B310-D0D8C6C4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8EAB1C-7352-47E5-9903-E1647D69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A503C4-3E15-4C7E-949B-4A972E0B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057240-D2DF-4B0D-8950-320A0621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441185-9E6A-4B94-A1F8-F96366C5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0BDA-1433-44AF-BF62-9CBC42E9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795C57-4438-4E73-AD6A-7C6653FF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8C1D94-0CBC-46AF-8C0D-F28F752C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23A633-4E7A-4718-A665-041CF053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044E37-BFCC-4137-85FD-C2732EBB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C515EC-A534-4316-BF09-4CFE70B1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1D8B84-9AFD-4AC9-BC0A-8C979BC1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51ED50-44A2-4CFF-ACF5-DFCFDB57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9C77AF-531E-4D5D-9D0E-72F640F6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7EE940-7F4D-48D3-8A74-45FE189B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F4A45E-9CA5-49DF-80E3-C955AB4A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7FD4-B631-448F-8C3B-ABBA9CD6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DFFB48-77EC-4AA0-BDFD-5E27C59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FA4D56-9586-4800-87EA-3B582A5C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C6D71E-393D-47D3-8D3B-559C561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5399F7-A4E2-4B94-A15C-0FF5B20B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7CE75D-2D00-47C8-9A34-FD4C31B0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4657C6-5A06-442C-8F0A-5C3D033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326160-D2EC-4D74-8D47-39796DE4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27F8C8-20BC-4A26-BB9C-4DBF7F57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E332A8-2F12-4966-8B3A-A3F52626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C2789F-8C19-4C3D-B3AE-5E280786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A2CE-DC7B-4F96-807B-EF8511DF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81D9AD-E383-4A8B-8489-B7FFC931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677EC0-AA68-4894-B39D-282132CF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D34727-BBD8-4A80-A7A2-83767F4D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0782FD-B448-4346-B85D-EC9AD22A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D25DAC-611B-49BF-B2D3-2AF6F6F4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E132DA-77F5-49E3-80A5-1A094CB2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5D46A8-600C-4AEE-86A7-9CDD9307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B64F85-A35A-405B-8195-9D24F73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0CDFA0-FE61-45F1-8987-77465975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81B09E-64DA-4F43-94A3-52D4F13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CE1B-0709-4D29-94BE-C277D4FF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88C65D-722A-4C21-9FFD-32C0E229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F681E2-2B0F-450E-B631-0D4B8D1D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B67467-023F-4ACE-AEE1-EE3500DF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D77758-CA8F-47A5-9573-4F22E1DA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55D7AE-4662-4ED8-9F11-9918E5F4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E957C7-897E-443E-BD94-12957A41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F81FBA-E42C-4A69-91CC-8464FD9D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013ACC-9015-4257-B25D-9DC3555B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C662C7-CFE7-430E-986A-B317FDEF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1A7F08-ECF6-45F3-B972-64450E8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2C27-3A97-4A37-8D2D-784279C0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5B04C6-4CF1-4141-B9A1-BB6F219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FA18FF-A528-420C-9082-FFFC7E04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66A72B-2A9F-48CC-AA44-ABB1D56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2A3438-9171-4CB2-B155-9A1D0B84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2FF309-C6F3-447F-B171-242119C2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5899-1530-4240-9114-53988E96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D320CD-0DD3-4476-8776-71083842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B4FC57-B05B-47B4-86F6-DC2B46E7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C918FA-759F-4A34-96AF-6B0EC53F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3DD-AF37-4855-A373-B488F4C0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AF29-6E02-4428-9750-69323CE4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BFDDFD-4913-4D48-864F-D25AB374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0DC96D-B719-4A72-B44A-B553E398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9EAC34-F2C7-4E6C-A39D-1115B951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1DE2A4-152C-4870-B11A-A2BBDAC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39C087-835B-47C0-AF1D-AB3AF51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5BAF29-F8C4-4FD7-9489-5AB7A4C5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6D0D1D-DE80-43A7-8F7C-0C7BDCB3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3BF129-C1EE-40B0-8467-78FDE2DC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C0E8E7-8E5D-4299-84D8-36D191BD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448F1D-945D-4316-8CCE-DC09F7EC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582C-EDF0-490E-80A9-A107D6DD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D55151-02E9-495C-87EB-1F823810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518D3C-634B-4A5A-A70C-43B1A24B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8C096F-28CA-4524-AB6F-868155F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F550D8-3309-4CB7-A6DD-6D04CBF2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21B3C7-27D4-4DC3-BA0E-A8D8E1DA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3C8489-FA03-4343-9C2B-136EDF9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48E9B5-F900-405B-810A-CE140B52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6D6412-8D4B-4E05-B00D-7866CA1F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9BA1A1-BA33-44BC-8AAC-8F3ACE7A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4B972F-2E9E-4F49-9143-E1CCC148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4CBB-104C-4432-95B5-D87AD3BD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C9BA85-75BE-47A8-9C9D-03241260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1D5A59-F20D-48F9-A581-826AE26E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2245B6-1C41-4D26-AC5D-555CEB70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D11587-7C2C-4E8F-BD2A-5AFE9C6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F9E2B8-D696-4A3A-AC51-A807C62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698348-8621-4FD1-A24B-EF495BF0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3F8A00-78BD-4A2D-8D7A-4856A3E7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404AE0-D670-40B5-96AF-3EAD92BF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7E2D80-87F2-4952-9EFF-4CC2007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959029-CE6B-43F4-9CC1-ABEAA23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E309-56AF-4DC9-9B5A-0C110DE4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FD90C6-8F94-4BE5-90ED-C0F3433B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053CD7-B0A3-4EA1-829C-07F7C619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163F0B-D56E-4698-957D-43D9D11E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0F0DE9-CBA6-41A4-8591-813943B8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EFD53F-433C-49DC-9485-BCD1B0FF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9AD956-24F8-4366-B0B3-3D2B7CB9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511868-DB83-43AB-9C82-92EE7169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BDE065-A77C-4C89-B2AD-BC196525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980BBA-FC51-40E6-B56E-18449745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0DA93E-CA47-4E47-A786-D1B68234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863F-409F-42E9-A8E9-90E8F167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6FF633-A45A-4165-9906-F2407968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56C59D-A4EE-4A55-A696-EDCFD730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C84D6E-B011-43EC-A5A2-E757AEA5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318108-B75B-4CF7-811D-1001E2D6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94494C-C77F-4DF0-AD22-21BBBF3A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BEEC83-D9C7-45AE-8B77-78C1731A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2EE063-1506-431D-90B9-ECC37AB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9F9BEE-62E8-422A-9990-AC301189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FDD1C3-5FE3-4803-B4CC-CBC5F890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8EBBA6-6CA6-4066-A5E5-F27A553B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E158-7054-4B78-874E-51D73CAE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2383CB-8C6A-45E0-BCC1-A04B9BEA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011531-5D41-4A5B-8A25-5FCE897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13C246-7156-4A86-B59E-507666C5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8A6BB5-D5D3-4C66-A167-11A4EE7B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AFCFA7-3143-4B60-813E-0952E62D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CF174D-D936-49F1-A29F-A51CB774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01C56D-A68E-444A-ADD9-AB31EC8E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BDCE68-F253-4658-B294-2F3716FC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ABB84E-3D2D-4610-9FE9-2384BA40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51D6D0-80F8-4265-AA87-50CB823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B2CF6-EE14-4460-9457-E434891B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A662CB-6064-416E-8C59-84809ACE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D92CE1-2F9A-4D3F-80D5-923187B7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EF4DD7-F1BC-4208-8997-30378DFA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2DCD0A-6215-4757-B541-E858B4C8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F30875-44C2-473A-A1F5-0C7B824D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47FF0D-8EEA-4200-9464-19538F50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3915D5-D0C3-46BC-AEA8-04FF488C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E2A7B7-5CA1-4895-949F-5F4AC594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6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27E170-55DF-46DF-9DE0-DB8C90FE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D28A2B-BF86-4A53-8920-FCAFB713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E1C7-BB12-42B8-A064-3BF7A9D8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57FE81-DE57-4352-8670-99E8993D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773B3D-F1C6-4911-A83B-600C20BB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4A43A0-7B87-4964-B037-CC6C9228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4E8B86-494D-4108-BC9A-45FA922E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8F5A41-A426-48F0-B68D-D3F83244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6BA553-DD91-412F-948B-93682B85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793E76-4865-4930-BB98-8F0436C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8B3C52-B90E-4307-BE00-4FB4C03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6B6784-D1BC-4B8F-AB04-5FF5C1E2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AF6629-9B20-44A9-9F43-C8F2302B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0090-D27A-40DE-9F8D-FD5C58C8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6B8FB1-4988-4F1A-8A7D-2E5F0D38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75E3C2-EA92-4907-9AF1-830A385C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D5F60C-149B-40F8-B818-9794ACE0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8DA562-D0BA-4177-9195-D5CA156C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3E0886-C93B-4D3D-8416-0DD382C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B28D8B-353C-4628-975C-DB3C5A91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C1EA44-F7A0-45CB-A0E0-BE877D77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3EB6DD-5A9C-470D-AA9D-B4C559F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822E7A-3C47-4589-8F00-C1C5AFA4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1A5D2F-8ABC-4D2C-84E0-81362D58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95105-56F8-4310-A0B4-BFC3AD4F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84BF0B-2C60-4A3B-89CB-F5F5490F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B1397C-4285-47F9-AD98-7E131B38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5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6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DAF96B-954E-466B-A0BD-70A203C3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01061B-66A3-4A21-8DF5-6398E41D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0A6B98-6CA5-41F3-B6BA-9608C9FC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7862D9-DC7A-4183-A480-601174C7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FEE8AA-839B-4D67-A690-78A0F457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6CB2087-E4FA-407F-8BD7-D4E597D0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E0D0FB-107F-476E-B397-37D21407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A17580-9C06-4CE7-97F8-453B040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FA5-661B-4369-867B-35E80E67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AFD9A-3B63-42BE-876D-5E1251EB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AF31CF-89BD-4A83-A61D-A3C4AC7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0FBB5C-B0BE-4C45-8AC8-E9E92A48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3C0DC6-E2B2-4BD1-85B5-A6038EF2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D9CF09-3D38-44E3-AF21-B5E70457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DA9912-C0E0-4B2A-8A1D-9BA32A69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20BB52-6438-4BE9-804B-1C433D1B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1F1292-4268-4DBC-B463-B7800705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410B36-BFAB-43E1-A6E1-C10302EB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0E342A-9115-4C21-986B-70DC7DF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A4B9F0-CBC4-427A-9BE0-2E2D922E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596C-FB39-49FC-84BE-15FF714F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78B9A1-CE3D-4676-9A99-A308C212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AFAAF3-9CC4-4742-B4B0-6759278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07F367-19A4-4A0E-8038-5A2EBD6E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F3BE8C-D85C-45BD-A36F-A30D44C6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4383AB-1224-44E0-8435-F416E540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50793CD-1600-49CA-9B82-439EE05F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423066-2634-4268-BD62-A3D29346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DCEDB-8FC8-47D3-AA8B-4B573D45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64D345-DE36-4B5A-8DD6-474483FB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8B1F7-36C7-42E7-86AF-76FEBA66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B99197-9129-44EF-8642-814DB808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C6F927-79A5-4D01-8D12-A76DA188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1485D1-CB0F-43D4-8970-E290343F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8EF355-C570-4565-A208-8C6E3C91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143D3B-C9F8-4113-8B04-76AA7EEC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54F20D2-C3AA-494B-83E8-49A4FD3D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58113D-92DC-4274-B5D4-79F4DCE8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4E8123F-86D3-4A53-ABE0-80B3F5F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9DCE44-2C51-4944-B26F-B59A2E3F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EA271ED-52D3-40A8-AC31-5EEA505E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5073-0C5D-48C1-9120-8AA56221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CCB05B-CEE0-4A4B-B4D6-4D3AC2A5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3447F4-5D80-4025-8D19-79BF60CA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AED0C7-5079-4B9B-927C-03805B66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924BBE-A7FF-487E-88B0-34CE028F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D66046-824A-4F45-BEDB-A82BF6D5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5DD11B-88D2-4272-8A75-35A4B93D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48E75C9-2C71-4C4A-9963-0DED9662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6C5CEF-4A6C-4A3C-B940-FF27F005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4F0B0F-0FC0-4077-9631-852E9ECC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EFA23E-EE4C-402D-9F6A-1B45667E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5061B-0545-4F4D-899B-ABEFBBDA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7D2537-57A2-4D0B-9847-DE09C4B0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91550C-0AA2-4021-B8BF-6DEAE4F1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CA9632-AB74-4098-9A23-D7FFE713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12BB45-62A2-456A-BDF4-E17AB806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2B6AA5-0559-45DB-A48A-DAAA0C2F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ABBEE3-3B9B-487E-BFB9-000E3A60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E58C66-EB12-40E7-AB50-54F6094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35C436-DAE6-4B7C-9642-B667F135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EB8CC5-4328-4723-85BF-00E6C66A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DE506D-A499-4FB3-87CE-10EBCA9F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22372-CB2D-4702-B162-45EA7EBD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529E9BE-B75A-477A-B7B2-1C0BC3F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5B11B9-5B9B-45F9-A02E-6A891BDC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3A3B6B-CA60-4926-A482-F17540C1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168D27-4CCB-4175-B515-216A2FEC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0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F647C6-876B-411B-AFEB-3DBC42AD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6619C8F-E099-4331-8B79-6834E3C0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60A6DD-7697-47F1-9FC4-E0E00794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2197383-4404-4BB3-BF79-23D46BA9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41C367-A97A-42F1-A71B-EBED120B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6D02C8-6296-45B3-9AD6-41E6B6A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9E7C1-D51C-4370-92FC-23CBA076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992802-A291-4FDB-9DA4-90AB8C7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ABC991-1C25-4229-A6F7-DCC3EAB1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9C42177-7213-4A01-8751-8ED54376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1BF56A-E882-45B9-BC4E-F158DF8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3FB1BF-B5D9-42AB-8D04-A612D7FD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45CD77-7181-4095-9456-064F325A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513667-E121-4247-BD3A-F5BC5D45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77DAF56-7D00-4BE1-9125-27A73F5B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CEB785-645A-48F1-8277-777ED4A2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14AEAA-6554-4860-96C3-1CF68382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AD827-D0D8-4E61-8312-AD141B0F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933C70-BE49-4E7B-8C58-43CCEA9F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4B1067-4D2A-4C18-9B28-63183507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9DF3257-BFAC-4EA4-9F6A-58E3FACE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B96FDE-A240-4DF0-BCAC-0C3FBCD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7F1188-C26F-424E-AF53-3838D55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9F7CCD-BA5F-4EC0-8581-C88F6A8A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0B2CFB4-F432-4266-8054-FDF1AAB7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16A568-8A53-4D98-A8D0-64585884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34EF850-DACE-41BB-B8FA-81F5C228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AD75810-7AB6-482A-B3C7-32C9EDD8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7CE7-6FF0-48AD-9F6A-F5511A85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B693E4-AF85-4E5A-8A11-993E666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EF2419-066B-4F44-A292-EE352F9A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1141E1-AC34-463E-8A2C-95568984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8D40B81-29B3-4961-B428-C6EE3E6D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7ED5973-F638-42B1-99B6-0D09A122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7B4473-2821-455D-B1E4-50891A7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9E0CE0-8A4D-4546-A265-CB14B68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3A277E-03AC-422F-993B-B0B3CA1F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D530AA-8C01-48E4-9BC5-46F2CCDE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6726671-01A4-4F86-B9D5-B1D41BAD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FFF-1E03-47C6-85A2-1CEDA635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F684-BCF5-4622-818D-A358DEF5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331156-91FD-4282-B24C-864ED8F4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165B94-BC32-4A4C-B95F-67AC28FC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9C2944-3E24-4441-AB0E-F230887A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9CA024-994B-43E1-A32F-E07B7A3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9FDADE-E779-4174-8301-6DBF7F31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1F132A-FCC3-4C50-9713-00DB8748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7B58C9C-C686-4761-AF73-92D89302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B189ECF-1BF8-4E14-AA53-6CA839A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009F33F-098E-4CDC-95D7-50EB8316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D5DE9A4-AC34-40AE-8FDD-B626CAE2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5F2CE-DE6C-4D1B-BE5E-5C77AF63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9648784-9725-42DB-83B2-13420629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770664-B0BC-46FE-87BB-2B2EE235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CEB532-8AB4-4D4D-AFE8-32E7F273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B56E5F-F0C0-4765-8F47-03DEDDE5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8D5C12-1F32-4A38-8D3B-131FC04D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D5638B-8CEC-43BC-9192-405BA77E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6766E98-A15C-4954-A9B6-C417820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07FD44-AD7E-4340-B961-D07A4C2C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8C0062-ECF5-4E38-847B-49B9788D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09DA67-7D1E-434E-8D02-A235096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A7BB5-FBE2-4F0B-B18E-621BF57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A9304C-36A8-40BD-AC0C-D1753D20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B820D8-4254-40DB-A9A1-7C3CA0A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FFC16F-E034-4310-924D-249D7B05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2989DE-A347-4699-9E3E-5591C67A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007803-473F-4AC2-91D6-DF1FB62B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73F4CE2-B2C4-48C0-9044-F420A45D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6BFF6B-1B16-4632-91BD-015E5EDD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E0D9A92-527C-43C1-9587-FD561036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76989A3-EF71-43FD-A1C5-59745F56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AD2A5E-B789-401D-A6AE-DC5DFF3C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8420F-A713-4391-A219-4193D32E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58D50D-3903-4FF5-8B12-D1FD3968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1CF1714-DEEC-4BB9-9DD6-F530097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6A5279F-CE97-43B2-9AF5-31F3AB1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2E4375-A074-42E5-9BA7-D55DD67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EDDFF8-CBB6-489E-AE86-7D7198DC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EF0334-9626-411E-91F4-47F5FB03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3DF987D-BCFF-493A-8BDF-EA964EDC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9DD9A1-009D-47A7-9659-F3672BD2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8A3EC6-A88F-4CC9-B53B-EB237A16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C36634-FA43-4008-93C7-79F5E16F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D34A9-BB64-4E49-A4C1-CD95DD6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BFB298-3F5C-434E-9E71-0D065C18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7D755A-C785-4FE1-9247-3D0A2924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4A4644-2D22-4A01-AD84-E64F443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C94274-2421-47FE-9092-5B852A23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FD6C9C-3402-4AA5-BB87-E3E31C2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97E8A7-2A9E-4417-A4E9-613611B6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1DF438-CDCC-457A-B49F-E0B0A08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BBAB792-06AC-47CF-A7E1-2F8BCE71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0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0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626F555-1F31-449D-A29C-2BFBFAF0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938ED80-177F-4FF0-B647-79F30748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FE6CC-5664-40A6-83F7-357B3E89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45EE938-438C-4AAF-894F-B704877B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730C337-622E-4A6A-AE2A-55CBBED7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924B15-7EAD-4809-BF66-88B5863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A26B85-5B31-404B-BCE6-55AE2F03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336096-DF3A-48CD-AA2C-26AEC9D8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FBAE0E-186E-408C-8289-5E34CDEB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F07DB4-FD87-4F4B-BC8B-E91FBC87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6472C15-6D7B-49AC-8F5C-DD58600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6F4C597-8AEF-496E-8E59-9BDCA2B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15C2A67-7653-44A0-AA53-9845C716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BD59F-2272-411F-B84C-BAA36CE7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7CB1D6-63AD-4D89-B91B-66733C35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1382-A5A6-4D95-9C4D-2462CB99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1417-97D1-4102-8B58-D73A03B2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E1370-0F52-40C5-8B64-687CE89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3B4-1237-4E27-8183-2A09A9E3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BB4D4-FBF8-4511-A3AF-BE4C12B5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27CC-CABB-4BA4-AE78-1DBD2996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BC18A-19AF-4061-8EB8-3E6A3AA7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3F5-AA70-4DAC-B650-7C716B67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4F1-4685-4BB6-8BA7-5FEB37E4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61CF5-A632-4986-B731-52C77ABD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6BEA-32A1-4BD8-8296-AAE214B0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A7A9-190A-411F-8253-18CB3AEB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ED95-BF8D-4988-A22A-70879FE8609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3821e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625B-3CB8-41D2-AC5A-9BA1BF775EC6}" type="slidenum">
              <a:rPr b="1" lang="zh-TW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382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32FE-125F-44BA-85AB-1B971DDD2637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7DAE-1ABA-438E-BB4C-79F62D002074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425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5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9895-F63B-4DBE-884A-DDBB005751B9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6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5A9A-E7F4-4DF2-9626-DA9E5FFACB93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468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F9EB-1A72-4947-97D0-B75D3EA774B0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7FE9-9328-4523-9372-8CC33F2B5858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511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D5F3-0653-4400-97A7-B80D18C4A353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D280-1743-4546-9DA1-3D31C0B167E6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554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16D5-913E-42DA-B1F5-04AE3A904445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8788-70CE-4540-92AF-F01A085D6957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597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7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945A-E733-454F-972E-80A8D9E3BE8D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8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8813-DCD2-4CA5-A18F-5C642A3453CD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640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0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D846-75CE-4A2B-B419-1A9FD1FE2C75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1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D62C-7CD2-4306-B6EF-F1D2BD934C3E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683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61A5-BEE7-43EA-A8E5-50EF09945EC7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F598-C7C7-4698-B7CF-A8A02ACF97F5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726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6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2C91-F6D0-4477-8DA5-1F8039C4DFBB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47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4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1DCD-E61C-4302-B956-3ECD5394AB32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769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49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B218-8E24-414C-93F4-871E32E1355A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0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F88-9008-43D3-9346-72E49722440A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D6EB-04F3-4FD8-A49B-84916F145CD1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527-7516-43C3-8C9E-8D7F4BFB69E0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49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4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3c3c"/>
            </a:gs>
            <a:gs pos="100000">
              <a:srgbClr val="35363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4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890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2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9A1C-AF4C-4CA7-9163-82B314D70416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3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5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DCFF-8274-4246-A00D-382013826EC9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933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55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67FC-3589-4B18-9A6D-D7068D668101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56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5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6B31-0EEA-4499-A5CE-4E762BF25371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976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58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F88D-859E-4B0E-B3E4-56567CCB76C0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59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60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BE80-880D-4FBB-AEDC-33A073210A5F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019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61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26C6-A9B3-418B-967D-9C6D65275645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62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6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0A98-4A4A-4011-9809-CC2D98BF6B2E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062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64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9A8E-2E27-417E-AECC-13538E474A48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65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6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9850-C0F8-4AB8-8C10-F2A26EBC4183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105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 type="dt" idx="67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A2B9-E063-44C3-982C-EF2C85F7BA15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 type="ftr" idx="68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 type="sldNum" idx="6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BC55-E74B-4014-9C22-3B1EC7958206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148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0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7168-C52F-4384-A24F-D49F6C905F92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1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7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0590-B08B-42CF-9390-DB1AF82DC460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191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3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5E60-4327-45D6-93A0-EEB2A0097D3B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74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7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9D04-27E7-486B-94AD-A56456B955A7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0603-E45E-4249-B265-25F2E8427666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3821e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726D-3BE9-448D-A280-615C659EE5E5}" type="slidenum">
              <a:rPr b="1" lang="zh-TW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234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76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EC61-0470-412B-8170-D0FECADE95BA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77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7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D460-FBCF-4B51-B68F-1DB9DC9BA1EA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277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79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390-5A9B-4218-8577-717B92FBF060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80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8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A0CA-75B4-4CDE-A795-7A81D34DF4E4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320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2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3A93-F214-4FCD-8B47-7F3DFEC73571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3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8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206F-BA99-4E4B-8768-53C0E2605F8E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Picture 4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9" descr="Tongji2"/>
          <p:cNvPicPr/>
          <p:nvPr/>
        </p:nvPicPr>
        <p:blipFill>
          <a:blip r:embed="rId3"/>
          <a:stretch/>
        </p:blipFill>
        <p:spPr>
          <a:xfrm>
            <a:off x="1042920" y="2276640"/>
            <a:ext cx="1828800" cy="514080"/>
          </a:xfrm>
          <a:prstGeom prst="rect">
            <a:avLst/>
          </a:prstGeom>
          <a:ln w="0">
            <a:noFill/>
          </a:ln>
        </p:spPr>
      </p:pic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Picture 7" descr="Logotype.png"/>
          <p:cNvPicPr/>
          <p:nvPr/>
        </p:nvPicPr>
        <p:blipFill>
          <a:blip r:embed="rId2"/>
          <a:stretch/>
        </p:blipFill>
        <p:spPr>
          <a:xfrm>
            <a:off x="108000" y="6381720"/>
            <a:ext cx="1619280" cy="405000"/>
          </a:xfrm>
          <a:prstGeom prst="rect">
            <a:avLst/>
          </a:prstGeom>
          <a:ln w="0">
            <a:noFill/>
          </a:ln>
        </p:spPr>
      </p:pic>
      <p:sp>
        <p:nvSpPr>
          <p:cNvPr id="1403" name="Footer Placeholder 4"/>
          <p:cNvSpPr/>
          <p:nvPr/>
        </p:nvSpPr>
        <p:spPr>
          <a:xfrm>
            <a:off x="1835280" y="6381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404" name="Picture 9" descr="Tongji2"/>
          <p:cNvPicPr/>
          <p:nvPr/>
        </p:nvPicPr>
        <p:blipFill>
          <a:blip r:embed="rId3"/>
          <a:stretch/>
        </p:blipFill>
        <p:spPr>
          <a:xfrm>
            <a:off x="7315200" y="634356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85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C02C-67B9-496D-9431-05979CB8BD61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86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8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63E2-2167-4C4D-984B-33FE2D233E2E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447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dt" idx="88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7F91-6455-442C-8887-7B22D138B068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 type="ftr" idx="89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 type="sldNum" idx="90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DF46-1AFE-4E7C-8937-E3AF97E1BD6B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49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91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1633-E6E3-43EE-8176-6C2FED7165B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92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9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A263-D64B-44BE-B5C7-A14DBC7E0AC8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2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533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94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474C-6BFA-47A9-A29A-CE06CED4C3FB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ftr" idx="95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 type="sldNum" idx="9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8D74-850E-4D63-95BB-E77B2C1A0B55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57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97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D3F9-1628-4FED-92E0-0989529DF106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98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9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62FC-EF96-40D3-B896-8EBCDB4FA8A0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61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 type="dt" idx="100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D434-880D-4D8A-98B2-E2EC5CE18539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 type="ftr" idx="101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 type="sldNum" idx="10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4308-55F6-40A5-963E-40740CADFD3E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E90F-5CC4-433A-B014-15C72616F5A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852C-771E-4EA7-BEF3-8DDE8C08706D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35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66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 type="dt" idx="103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113F-FD16-4366-9443-52EAC440538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 type="ftr" idx="104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 type="sldNum" idx="10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609C-3178-4CD9-A24D-0D302DDB729B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705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dt" idx="106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650-16F7-4523-94DB-1848AD8A2ED0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ftr" idx="107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 type="sldNum" idx="10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0BE0-CBC8-4595-8B96-A9F391F66CB1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7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74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 type="dt" idx="109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B22E-5C62-4262-A785-73FF590EE5FA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 type="ftr" idx="110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 type="sldNum" idx="11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BC42-A1E9-4DFA-A2B2-72E413DAD7B3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0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791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 type="dt" idx="112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0BA8-3C31-4BED-8397-65F42B506C1A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 type="ftr" idx="113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 type="sldNum" idx="11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EEEA-1B78-4F0B-95E9-8D41BF2EED3B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3c3c"/>
            </a:gs>
            <a:gs pos="100000">
              <a:srgbClr val="35363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Picture 4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873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 type="dt" idx="115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E27F-534C-4643-A945-E03AF24CAAC7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 type="ftr" idx="116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 type="sldNum" idx="11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1F3A-19E6-4530-96D3-F7D5CB3F68F4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916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18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E55C-DB4C-446E-B885-C0B353825061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19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20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5CAA-3249-44EC-ACCE-0BE421C14C4D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959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 type="dt" idx="121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649F-968A-44B8-8184-CBBC205DC02F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 type="ftr" idx="122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 type="sldNum" idx="12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EDEC-997F-45DC-9CF6-7C36E0C06063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002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 type="dt" idx="124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1440-1464-45E1-ADC2-C69101613889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 type="ftr" idx="125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 type="sldNum" idx="12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D35-0314-4D60-B0BB-EFDFF316BF02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045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 type="dt" idx="127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8F62-9178-47C1-860E-D3B5AB7AF3F3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 type="ftr" idx="128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 type="sldNum" idx="12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4315-DF54-4F3C-9D67-04995D9FD82E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1247-FFFD-4380-9C2B-C2F0600A1EB4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3821e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1106-FD24-47F4-A625-C8912044F055}" type="slidenum">
              <a:rPr b="1" lang="zh-TW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088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30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EB08-888A-415A-91CC-23EC07DB4AB2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31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3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60E7-6D4D-4D5C-BF1D-9548253DC637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131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33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7D25-F298-4965-B17F-210A5F88C1F0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34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3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98ED-904B-4D6E-9928-D19BE04218BF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174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136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C116-F1B3-4F16-BE00-AD0EA3ACB6D9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ftr" idx="137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sldNum" idx="13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9BE0-B9C9-4F99-8042-47175F98F2A9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217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 type="dt" idx="139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AEFD-205B-4D58-80DD-2727DF19CEF5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 type="ftr" idx="140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 type="sldNum" idx="14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71B3-7B14-4F8D-B64C-D34B43D9D91D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260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 type="dt" idx="142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A9C6-EC4C-412E-A91A-571D543B84E0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 type="ftr" idx="143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 type="sldNum" idx="14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4524-82AE-487F-9D5A-31BE042B612B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303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 type="dt" idx="145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B806-64D9-4132-8C1C-5B7B1A7EFB04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 type="ftr" idx="146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 type="sldNum" idx="14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D3BC-3C0D-40D5-96F8-EAAA330725B5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98D4-316D-4F66-810C-C93921D9BE22}" type="datetime">
              <a:rPr b="0" lang="sv-SE" sz="800" spc="-1" strike="noStrike">
                <a:solidFill>
                  <a:srgbClr val="999a94"/>
                </a:solidFill>
                <a:latin typeface="Calibri"/>
              </a:rPr>
              <a:t>26-07-30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5B3A-BC3C-44CB-81AD-E4BC6AD2B4A3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21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259" name="Footer Placeholder 4"/>
          <p:cNvSpPr/>
          <p:nvPr/>
        </p:nvSpPr>
        <p:spPr>
          <a:xfrm>
            <a:off x="3594240" y="108900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3c3c"/>
            </a:gs>
            <a:gs pos="100000">
              <a:srgbClr val="35363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299" name="Footer Placeholder 4"/>
          <p:cNvSpPr/>
          <p:nvPr/>
        </p:nvSpPr>
        <p:spPr>
          <a:xfrm>
            <a:off x="3594240" y="108900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339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85A5-8913-41A1-A8AE-0D08291C7298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0C40-E9F2-49AE-808E-9A6E28995F7F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ubTitle"/>
          </p:nvPr>
        </p:nvSpPr>
        <p:spPr>
          <a:xfrm>
            <a:off x="3348000" y="4233600"/>
            <a:ext cx="56167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00a1de"/>
                </a:solidFill>
                <a:latin typeface="Calibri"/>
              </a:rPr>
              <a:t>Jing Ye, Shan Liu, Shawmin Lei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a1de"/>
                </a:solidFill>
                <a:latin typeface="Calibri"/>
              </a:rPr>
              <a:t>Xianyi Chen, Liping Zhao, Tao Lin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title"/>
          </p:nvPr>
        </p:nvSpPr>
        <p:spPr>
          <a:xfrm>
            <a:off x="3419280" y="1463400"/>
            <a:ext cx="526716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53630"/>
                </a:solidFill>
                <a:latin typeface="Calibri"/>
              </a:rPr>
              <a:t>Improvements on </a:t>
            </a:r>
            <a:br>
              <a:rPr sz="4400"/>
            </a:br>
            <a:r>
              <a:rPr b="1" lang="en-US" sz="4400" spc="-1" strike="noStrike">
                <a:solidFill>
                  <a:srgbClr val="353630"/>
                </a:solidFill>
                <a:latin typeface="Calibri"/>
              </a:rPr>
              <a:t>1D dictionary coding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New length coding method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3630"/>
                </a:solidFill>
                <a:latin typeface="Calibri"/>
              </a:rPr>
              <a:t>Observation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ength value which is a multiple of 3 occurs more often.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hort length(&lt;27) and long length(&gt;253) occurs more often. 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Based on these observation, we modified 1D dictionary length coding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14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1B95-A96B-499E-9F5F-A0E4DB01C6B8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15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16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8771-5D0F-4B1E-8A4D-288F9336297C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New length coding method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19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C9B7-C4C3-43C5-8857-DA83F26E5D69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20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21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E414-E833-4444-A597-3A7EA4A02132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422" name=""/>
          <p:cNvGraphicFramePr/>
          <p:nvPr/>
        </p:nvGraphicFramePr>
        <p:xfrm>
          <a:off x="468360" y="1197000"/>
          <a:ext cx="8229600" cy="5371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ode Smaller_than_27_And_divided_by3_flag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821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if ( Smaller_than_27_And_divided_by3_flag==0)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decode 3 bits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length;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Length=length*3+3; 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else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Decode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bigger_than_251_And_divided_by3_flag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If (bigger_than_251_And_divided_by3_flag==0) 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{decode 3 bits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length; 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Length=length*3+252;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else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decode 8 bits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;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052280"/>
            <a:ext cx="82296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Lossy method 1: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Anchor: </a:t>
            </a:r>
            <a:r>
              <a:rPr b="1" lang="en-CA" sz="2400" spc="-1" strike="noStrike">
                <a:solidFill>
                  <a:srgbClr val="353630"/>
                </a:solidFill>
                <a:latin typeface="Calibri"/>
              </a:rPr>
              <a:t>HM-13.0+RExt-6.0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-11.5%, -6.8%, and -3.8% BD-rate savings are shown for SC RGB sequences under AI, RA, and LB, respectively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25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19CA-C5D8-4CBD-9312-622EA82FAEB5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26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27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B3A-2D05-4617-89E9-E99308A885C9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428" name=""/>
          <p:cNvGraphicFramePr/>
          <p:nvPr/>
        </p:nvGraphicFramePr>
        <p:xfrm>
          <a:off x="826920" y="2924280"/>
          <a:ext cx="7129800" cy="3458880"/>
        </p:xfrm>
        <a:graphic>
          <a:graphicData uri="http://schemas.openxmlformats.org/drawingml/2006/table">
            <a:tbl>
              <a:tblPr/>
              <a:tblGrid>
                <a:gridCol w="3703680"/>
                <a:gridCol w="1149480"/>
                <a:gridCol w="1127160"/>
                <a:gridCol w="1149480"/>
              </a:tblGrid>
              <a:tr h="25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Intra 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1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2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1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5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7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9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9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y method 1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31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A05-B7CA-42DE-A5C9-7C8A754A382B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32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33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383B-ABB5-4A77-A5F1-F46687D016F2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434" name=""/>
          <p:cNvGraphicFramePr/>
          <p:nvPr/>
        </p:nvGraphicFramePr>
        <p:xfrm>
          <a:off x="1116000" y="2060640"/>
          <a:ext cx="7129440" cy="4110120"/>
        </p:xfrm>
        <a:graphic>
          <a:graphicData uri="http://schemas.openxmlformats.org/drawingml/2006/table">
            <a:tbl>
              <a:tblPr/>
              <a:tblGrid>
                <a:gridCol w="3703680"/>
                <a:gridCol w="1149480"/>
                <a:gridCol w="1126800"/>
                <a:gridCol w="1149480"/>
              </a:tblGrid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7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7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5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8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8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3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8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y method 1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37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AC7C-DA64-4265-99C2-25FFB8214E90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38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39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3901-5854-4372-910D-62A8659AC873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440" name=""/>
          <p:cNvGraphicFramePr/>
          <p:nvPr/>
        </p:nvGraphicFramePr>
        <p:xfrm>
          <a:off x="1116000" y="2060640"/>
          <a:ext cx="7129440" cy="4110120"/>
        </p:xfrm>
        <a:graphic>
          <a:graphicData uri="http://schemas.openxmlformats.org/drawingml/2006/table">
            <a:tbl>
              <a:tblPr/>
              <a:tblGrid>
                <a:gridCol w="3703680"/>
                <a:gridCol w="1149480"/>
                <a:gridCol w="1126800"/>
                <a:gridCol w="1149480"/>
              </a:tblGrid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B 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3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3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5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3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less method 1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43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E58E-D58F-4804-88DD-791B067F73E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44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45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91A8-41A9-474F-8084-9FE29A9425B2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46" name="Picture 2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8439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less method 1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49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501-4B63-42F8-AD7A-7DDFDA456FCF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50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51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BFE-E8B1-47B4-9802-EFC13B7D2CA0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52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0246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less method 1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55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8E7E-6D22-4F14-98B0-2117A9D0101E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56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57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7B3-23A9-4F32-9508-E6AC007DCA39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58" name="Picture 2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0596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Lossy method 1 with method 2: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Anchor: </a:t>
            </a:r>
            <a:r>
              <a:rPr b="1" lang="en-CA" sz="2400" spc="-1" strike="noStrike">
                <a:solidFill>
                  <a:srgbClr val="353630"/>
                </a:solidFill>
                <a:latin typeface="Calibri"/>
              </a:rPr>
              <a:t>HM-13.0+RExt-6.0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-13.1%, -8.0%, and -4.8% BD-rate savings are shown for SC RGB sequences under AI, RA, and LB, respectively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61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CDD5-1BAB-4FB6-AACE-59ED54B0856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62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63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7088-B28F-4050-93B2-E14F346AB82D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464" name=""/>
          <p:cNvGraphicFramePr/>
          <p:nvPr/>
        </p:nvGraphicFramePr>
        <p:xfrm>
          <a:off x="1187280" y="2997360"/>
          <a:ext cx="6913800" cy="3412800"/>
        </p:xfrm>
        <a:graphic>
          <a:graphicData uri="http://schemas.openxmlformats.org/drawingml/2006/table">
            <a:tbl>
              <a:tblPr/>
              <a:tblGrid>
                <a:gridCol w="3592800"/>
                <a:gridCol w="1112760"/>
                <a:gridCol w="1093680"/>
                <a:gridCol w="1114560"/>
              </a:tblGrid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Intra 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3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4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3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1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1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3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7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y method 1 with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67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C2B-1ED4-4D6A-A21B-4A78B15C8D4F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68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69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7A9A-92CE-47D8-923C-FA4A8746DDC5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470" name=""/>
          <p:cNvGraphicFramePr/>
          <p:nvPr/>
        </p:nvGraphicFramePr>
        <p:xfrm>
          <a:off x="684360" y="2205000"/>
          <a:ext cx="7129440" cy="3954600"/>
        </p:xfrm>
        <a:graphic>
          <a:graphicData uri="http://schemas.openxmlformats.org/drawingml/2006/table">
            <a:tbl>
              <a:tblPr/>
              <a:tblGrid>
                <a:gridCol w="3703320"/>
                <a:gridCol w="1149480"/>
                <a:gridCol w="1127160"/>
                <a:gridCol w="1149480"/>
              </a:tblGrid>
              <a:tr h="303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7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8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8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8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7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7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1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9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7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9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urrent methods of 1D dictionary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48" name=""/>
          <p:cNvSpPr txBox="1"/>
          <p:nvPr/>
        </p:nvSpPr>
        <p:spPr>
          <a:xfrm>
            <a:off x="395280" y="5300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9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4055-1F91-4E05-8330-CAFAB36207D3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0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1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BC81-ED66-4CB1-9E42-A0577A2D3477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2" name="Line 254"/>
          <p:cNvSpPr/>
          <p:nvPr/>
        </p:nvSpPr>
        <p:spPr>
          <a:xfrm>
            <a:off x="5813280" y="22050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3" name="Rectangle 255"/>
          <p:cNvSpPr/>
          <p:nvPr/>
        </p:nvSpPr>
        <p:spPr>
          <a:xfrm>
            <a:off x="3351240" y="3651120"/>
            <a:ext cx="57924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4" name="Rectangle 256"/>
          <p:cNvSpPr/>
          <p:nvPr/>
        </p:nvSpPr>
        <p:spPr>
          <a:xfrm>
            <a:off x="3351240" y="3651120"/>
            <a:ext cx="36360" cy="507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5" name="Rectangle 257"/>
          <p:cNvSpPr/>
          <p:nvPr/>
        </p:nvSpPr>
        <p:spPr>
          <a:xfrm>
            <a:off x="3351240" y="4159080"/>
            <a:ext cx="36360" cy="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6" name="Rectangle 258"/>
          <p:cNvSpPr/>
          <p:nvPr/>
        </p:nvSpPr>
        <p:spPr>
          <a:xfrm>
            <a:off x="3387600" y="3651120"/>
            <a:ext cx="36720" cy="327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7" name="Rectangle 259"/>
          <p:cNvSpPr/>
          <p:nvPr/>
        </p:nvSpPr>
        <p:spPr>
          <a:xfrm>
            <a:off x="3387600" y="3976560"/>
            <a:ext cx="36720" cy="254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8" name="Rectangle 260"/>
          <p:cNvSpPr/>
          <p:nvPr/>
        </p:nvSpPr>
        <p:spPr>
          <a:xfrm>
            <a:off x="3424320" y="3651120"/>
            <a:ext cx="36360" cy="290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9" name="Rectangle 261"/>
          <p:cNvSpPr/>
          <p:nvPr/>
        </p:nvSpPr>
        <p:spPr>
          <a:xfrm>
            <a:off x="2771640" y="2205000"/>
            <a:ext cx="3041640" cy="202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0" name="Rectangle 262"/>
          <p:cNvSpPr/>
          <p:nvPr/>
        </p:nvSpPr>
        <p:spPr>
          <a:xfrm>
            <a:off x="3314880" y="2602080"/>
            <a:ext cx="36360" cy="18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1" name="Rectangle 263"/>
          <p:cNvSpPr/>
          <p:nvPr/>
        </p:nvSpPr>
        <p:spPr>
          <a:xfrm>
            <a:off x="2771640" y="2205000"/>
            <a:ext cx="57960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2" name="Rectangle 264"/>
          <p:cNvSpPr/>
          <p:nvPr/>
        </p:nvSpPr>
        <p:spPr>
          <a:xfrm>
            <a:off x="3351240" y="2205000"/>
            <a:ext cx="57924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3" name="Rectangle 265"/>
          <p:cNvSpPr/>
          <p:nvPr/>
        </p:nvSpPr>
        <p:spPr>
          <a:xfrm>
            <a:off x="3930480" y="2205000"/>
            <a:ext cx="57960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4" name="Rectangle 266"/>
          <p:cNvSpPr/>
          <p:nvPr/>
        </p:nvSpPr>
        <p:spPr>
          <a:xfrm>
            <a:off x="2771640" y="2782800"/>
            <a:ext cx="57960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5" name="Rectangle 267"/>
          <p:cNvSpPr/>
          <p:nvPr/>
        </p:nvSpPr>
        <p:spPr>
          <a:xfrm>
            <a:off x="3351240" y="2782800"/>
            <a:ext cx="57924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h+1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6" name="Rectangle 268"/>
          <p:cNvSpPr/>
          <p:nvPr/>
        </p:nvSpPr>
        <p:spPr>
          <a:xfrm>
            <a:off x="3930480" y="2782800"/>
            <a:ext cx="57960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h+2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7" name="Text Box 269"/>
          <p:cNvSpPr/>
          <p:nvPr/>
        </p:nvSpPr>
        <p:spPr>
          <a:xfrm>
            <a:off x="1908000" y="4437000"/>
            <a:ext cx="52563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3630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35363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353630"/>
                </a:solidFill>
                <a:latin typeface="Times New Roman"/>
              </a:rPr>
              <a:t> matched string (red) has 42 samples=14 pixels</a:t>
            </a: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363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35363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353630"/>
                </a:solidFill>
                <a:latin typeface="Times New Roman"/>
              </a:rPr>
              <a:t> matched string (blue) has 33 samples </a:t>
            </a: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3630"/>
                </a:solidFill>
                <a:latin typeface="Times New Roman"/>
              </a:rPr>
              <a:t>3</a:t>
            </a:r>
            <a:r>
              <a:rPr b="0" lang="en-US" sz="1800" spc="-1" strike="noStrike" baseline="30000">
                <a:solidFill>
                  <a:srgbClr val="353630"/>
                </a:solidFill>
                <a:latin typeface="Times New Roman"/>
              </a:rPr>
              <a:t>rd</a:t>
            </a:r>
            <a:r>
              <a:rPr b="0" lang="en-US" sz="1800" spc="-1" strike="noStrike">
                <a:solidFill>
                  <a:srgbClr val="353630"/>
                </a:solidFill>
                <a:latin typeface="Times New Roman"/>
              </a:rPr>
              <a:t> matched string (green) has 45 samples</a:t>
            </a: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8" name="Line 270"/>
          <p:cNvSpPr/>
          <p:nvPr/>
        </p:nvSpPr>
        <p:spPr>
          <a:xfrm flipH="1">
            <a:off x="3228840" y="4230720"/>
            <a:ext cx="122400" cy="182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9" name="Rectangle 271"/>
          <p:cNvSpPr/>
          <p:nvPr/>
        </p:nvSpPr>
        <p:spPr>
          <a:xfrm>
            <a:off x="3351240" y="2205000"/>
            <a:ext cx="36360" cy="325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0" name="Rectangle 272"/>
          <p:cNvSpPr/>
          <p:nvPr/>
        </p:nvSpPr>
        <p:spPr>
          <a:xfrm>
            <a:off x="2881440" y="2205000"/>
            <a:ext cx="36360" cy="14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1" name="Rectangle 273"/>
          <p:cNvSpPr/>
          <p:nvPr/>
        </p:nvSpPr>
        <p:spPr>
          <a:xfrm>
            <a:off x="2844720" y="2530440"/>
            <a:ext cx="36720" cy="252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2" name="Rectangle 274"/>
          <p:cNvSpPr/>
          <p:nvPr/>
        </p:nvSpPr>
        <p:spPr>
          <a:xfrm>
            <a:off x="5234040" y="2205000"/>
            <a:ext cx="57924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h-1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3" name="Rectangle 275"/>
          <p:cNvSpPr/>
          <p:nvPr/>
        </p:nvSpPr>
        <p:spPr>
          <a:xfrm>
            <a:off x="5776920" y="2313000"/>
            <a:ext cx="36360" cy="471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4" name="Rectangle 276"/>
          <p:cNvSpPr/>
          <p:nvPr/>
        </p:nvSpPr>
        <p:spPr>
          <a:xfrm>
            <a:off x="2771640" y="2782800"/>
            <a:ext cx="36720" cy="7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5" name="Rectangle 277"/>
          <p:cNvSpPr/>
          <p:nvPr/>
        </p:nvSpPr>
        <p:spPr>
          <a:xfrm>
            <a:off x="5234040" y="2782800"/>
            <a:ext cx="579240" cy="579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LCU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630"/>
                </a:solidFill>
                <a:latin typeface="Times New Roman"/>
              </a:rPr>
              <a:t>2h-1</a:t>
            </a:r>
            <a:endParaRPr b="0" lang="en-US" sz="10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6" name="TextBox 78"/>
          <p:cNvSpPr/>
          <p:nvPr/>
        </p:nvSpPr>
        <p:spPr>
          <a:xfrm>
            <a:off x="841320" y="1341360"/>
            <a:ext cx="63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3630"/>
                </a:solidFill>
                <a:latin typeface="Calibri"/>
                <a:ea typeface="新細明體"/>
              </a:rPr>
              <a:t>Current dictionary is based on string matching. </a:t>
            </a: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3630"/>
                </a:solidFill>
                <a:latin typeface="Calibri"/>
                <a:ea typeface="新細明體"/>
              </a:rPr>
              <a:t>It is implemented in LCU level, the signal and coding is at LCU level</a:t>
            </a:r>
            <a:endParaRPr b="0" lang="en-US" sz="1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72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y method 1 with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73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FB9-82A9-4C57-96D0-21719DAB574A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74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75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CC4E-63F4-45BB-A546-21701A5CC1EE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476" name=""/>
          <p:cNvGraphicFramePr/>
          <p:nvPr/>
        </p:nvGraphicFramePr>
        <p:xfrm>
          <a:off x="826920" y="2133720"/>
          <a:ext cx="7056720" cy="3976560"/>
        </p:xfrm>
        <a:graphic>
          <a:graphicData uri="http://schemas.openxmlformats.org/drawingml/2006/table">
            <a:tbl>
              <a:tblPr/>
              <a:tblGrid>
                <a:gridCol w="3667320"/>
                <a:gridCol w="1136520"/>
                <a:gridCol w="1116000"/>
                <a:gridCol w="1136880"/>
              </a:tblGrid>
              <a:tr h="304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B 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5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3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5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-6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less method 1 with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79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C6A8-8FFE-4646-AAC9-87DD52795A6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80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81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D66D-38CC-4712-A0E8-FFF993CC38F6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82" name="Picture 1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0246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84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less method 1 with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85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0B0F-A8BA-45EF-843F-8612D6EF2781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86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87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C6B1-0EDB-49FB-B990-4B1EC1DDAB54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88" name="Picture 1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15644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less method 1 with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91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0E3B-ACB0-4158-B44B-86306063BD90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92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93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D7E9-B7EA-416A-8841-D1E9E2528B3F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94" name="Picture 1" descr=""/>
          <p:cNvPicPr/>
          <p:nvPr/>
        </p:nvPicPr>
        <p:blipFill>
          <a:blip r:embed="rId1"/>
          <a:stretch/>
        </p:blipFill>
        <p:spPr>
          <a:xfrm>
            <a:off x="1135080" y="2205000"/>
            <a:ext cx="69962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Lossy method 2: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Anchor: </a:t>
            </a:r>
            <a:r>
              <a:rPr b="1" lang="en-CA" sz="2400" spc="-1" strike="noStrike">
                <a:solidFill>
                  <a:srgbClr val="353630"/>
                </a:solidFill>
                <a:latin typeface="Calibri"/>
                <a:ea typeface="宋体"/>
              </a:rPr>
              <a:t>method1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-2.5%, -1.3%, and -0.8% BD-rate savings are shown for SC YUV sequences under AI, RA, and LB, respectively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97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5D50-70E0-4B4F-A865-AE08E46818D6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98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99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E18-41BF-44D0-9CAA-9E1C14E13B03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500" name=""/>
          <p:cNvGraphicFramePr/>
          <p:nvPr/>
        </p:nvGraphicFramePr>
        <p:xfrm>
          <a:off x="900000" y="2924280"/>
          <a:ext cx="6912000" cy="3520800"/>
        </p:xfrm>
        <a:graphic>
          <a:graphicData uri="http://schemas.openxmlformats.org/drawingml/2006/table">
            <a:tbl>
              <a:tblPr/>
              <a:tblGrid>
                <a:gridCol w="3600720"/>
                <a:gridCol w="1112760"/>
                <a:gridCol w="1087200"/>
                <a:gridCol w="1111320"/>
              </a:tblGrid>
              <a:tr h="269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Intra 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502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y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03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8FB5-A614-444F-8C68-EEB24642B44B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04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05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D451-62F4-4BA1-988D-A92A7F4B5327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506" name=""/>
          <p:cNvGraphicFramePr/>
          <p:nvPr/>
        </p:nvGraphicFramePr>
        <p:xfrm>
          <a:off x="900000" y="2133720"/>
          <a:ext cx="7201080" cy="4039920"/>
        </p:xfrm>
        <a:graphic>
          <a:graphicData uri="http://schemas.openxmlformats.org/drawingml/2006/table">
            <a:tbl>
              <a:tblPr/>
              <a:tblGrid>
                <a:gridCol w="3749760"/>
                <a:gridCol w="1158840"/>
                <a:gridCol w="1135080"/>
                <a:gridCol w="1157400"/>
              </a:tblGrid>
              <a:tr h="307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y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09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A3D-9E65-404C-B21F-C9A6FDA4FCAA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10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11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3E7-DD5E-4591-992B-25636755FD36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512" name=""/>
          <p:cNvGraphicFramePr/>
          <p:nvPr/>
        </p:nvGraphicFramePr>
        <p:xfrm>
          <a:off x="1403280" y="1989000"/>
          <a:ext cx="7056360" cy="4176720"/>
        </p:xfrm>
        <a:graphic>
          <a:graphicData uri="http://schemas.openxmlformats.org/drawingml/2006/table">
            <a:tbl>
              <a:tblPr/>
              <a:tblGrid>
                <a:gridCol w="3675240"/>
                <a:gridCol w="1135080"/>
                <a:gridCol w="1110960"/>
                <a:gridCol w="1135080"/>
              </a:tblGrid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B 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less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15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1D0C-6DDB-4718-8C47-89742208EEF9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16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17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C32E-7B66-43C9-A683-ACC7A7468634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518" name="Picture 1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7309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520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less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21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1EC5-0C19-477B-8BE4-0C388B9805D9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22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23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B683-EC88-4931-9780-7135A80EAE92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524" name="Picture 1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10748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Simulation results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526" name=""/>
          <p:cNvSpPr txBox="1"/>
          <p:nvPr/>
        </p:nvSpPr>
        <p:spPr>
          <a:xfrm>
            <a:off x="457200" y="1341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ossless method 2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27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5BBA-5E76-4A86-BC31-56C3B769A6D9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28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29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E695-E6D4-45EC-A049-7E1A7B6DBEB8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530" name="Picture 1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12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urrent syntax of 1D dictionary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78" name="Date Placeholder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A30D-DD4B-4E6B-9425-2B63F142CDC8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9" name="Footer Placeholder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0" name="Slide Number Placeholder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695B-2847-4E3A-9198-2F7972A25515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381" name=""/>
          <p:cNvGraphicFramePr/>
          <p:nvPr/>
        </p:nvGraphicFramePr>
        <p:xfrm>
          <a:off x="539640" y="1123920"/>
          <a:ext cx="8136000" cy="5121360"/>
        </p:xfrm>
        <a:graphic>
          <a:graphicData uri="http://schemas.openxmlformats.org/drawingml/2006/table">
            <a:tbl>
              <a:tblPr/>
              <a:tblGrid>
                <a:gridCol w="6782040"/>
                <a:gridCol w="135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ing_tree_unit( x0, y0, log2CbSize )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xCtb = ( CtbAddrRS % PicWidthInCtbsY ) &lt;&lt; Log2CtbSizeY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yCtb = ( CtbAddrRS / PicHeightInCtbsY ) &lt;&lt; Log2CtbSizeY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CtbAddrInSliceSeg = CtbAddrInRS − slice_segment_address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if( slice_sao_luma_flag  | |  slice_sao_chroma_flag 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  <a:ea typeface="Malgun Gothic"/>
                        </a:rPr>
                        <a:t>sao( xCtb &gt;&gt; Log2CtbSizeY, yCtb &gt;&gt; Log2CtbSizeY 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(</a:t>
                      </a:r>
                      <a:r>
                        <a:rPr b="0" lang="en-CA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dual_coder_mode =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0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coding_quadtree( xCtb, yCtb, Log2CtbSizeY, 0 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se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ctu_coded_by_p2m_coder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flag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(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cu_coded_by_p2m_code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flag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= = 0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//HYBRID_CODER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coding_quadtree( xCtb, yCtb, Log2CtbSizeY, 0 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s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p2m_coder( x0, y0, Log2CtbSizeY )}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9EB2-0C12-44D9-85EB-2D4C6AF26DE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32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33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7952-636B-45A2-B0DA-74FD3FE28432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34" name="標題 1"/>
          <p:cNvSpPr/>
          <p:nvPr/>
        </p:nvSpPr>
        <p:spPr>
          <a:xfrm>
            <a:off x="468360" y="189000"/>
            <a:ext cx="82296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Conclusions</a:t>
            </a:r>
            <a:endParaRPr b="0" lang="en-US" sz="44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535" name="Content Placeholder 8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The current 1D dictionary method is very primitive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Not consider special characteristics of 2D data at all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Significant Potential and Room for Improvements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This contribution describes two examples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Especially, most improvements made in the past one year to IBC and Palette may be applied to SM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Recommend further studies of string matching and its derivatives based SCC tools in CE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3A48-EE51-4C35-9255-C17A543F9170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3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4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1651-5DC4-435B-8C99-F212B49A1C4D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5" name=""/>
          <p:cNvSpPr txBox="1"/>
          <p:nvPr/>
        </p:nvSpPr>
        <p:spPr>
          <a:xfrm>
            <a:off x="468360" y="155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Pos (=DV in IBC)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en = the length of the string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Unmatched sample (=escape color in palette)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86" name="標題 1"/>
          <p:cNvSpPr/>
          <p:nvPr/>
        </p:nvSpPr>
        <p:spPr>
          <a:xfrm>
            <a:off x="468360" y="333360"/>
            <a:ext cx="82296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Basic Elements of String Matching</a:t>
            </a:r>
            <a:endParaRPr b="0" lang="en-US" sz="44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7094-8F29-4183-AD48-6544DC3288BB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8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9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A55A-8B02-4A08-97DE-D112023EE4B0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90" name="標題 1"/>
          <p:cNvSpPr/>
          <p:nvPr/>
        </p:nvSpPr>
        <p:spPr>
          <a:xfrm>
            <a:off x="468360" y="189000"/>
            <a:ext cx="82296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The Current Way to Code </a:t>
            </a:r>
            <a:br>
              <a:rPr sz="4400"/>
            </a:b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the Three Elements</a:t>
            </a:r>
            <a:endParaRPr b="0" lang="en-US" sz="44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91" name="Content Placeholder 8"/>
          <p:cNvSpPr/>
          <p:nvPr/>
        </p:nvSpPr>
        <p:spPr>
          <a:xfrm>
            <a:off x="0" y="1484280"/>
            <a:ext cx="9144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Directly copied from LZMA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Very primitive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Not consider special characteristics of 2D data at all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Like MPEG-1 stage of block matching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Only one matching mode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All three elements are directly coded by FL coding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Significant Potential and Room for Improvements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BA31-710E-4E7A-9631-0C83ED596ED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93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94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E868-00BC-41E2-929A-44B0B55CFD22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ength is classified into 3 group: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ength is ranged from(2, 273)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Group 1: length &lt;8   -------------using 3 bits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Group 2: 8&lt;length&lt;16 -----------using 3 bits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Group 3: length&gt;16 --------------using 8 bits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96" name="標題 1"/>
          <p:cNvSpPr/>
          <p:nvPr/>
        </p:nvSpPr>
        <p:spPr>
          <a:xfrm>
            <a:off x="457200" y="609480"/>
            <a:ext cx="82296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Current method of length coding</a:t>
            </a:r>
            <a:endParaRPr b="0" lang="en-US" sz="44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urrent method of length coding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graphicFrame>
        <p:nvGraphicFramePr>
          <p:cNvPr id="2398" name=""/>
          <p:cNvGraphicFramePr/>
          <p:nvPr/>
        </p:nvGraphicFramePr>
        <p:xfrm>
          <a:off x="468360" y="1197000"/>
          <a:ext cx="8229600" cy="5371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ode Smaller_than_8_flag      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821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if ( Smaller_than_8_flag==0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decode 3 bits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matching_string_length_minus2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else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Decode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Smaller_than_16_flag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If ( Smaller_than_16_flag==0) 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{ decode 3 bits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matching_string_length_minus2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matching_string_length_minus2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= 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matching_string_length_minus2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+8;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else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decode 8 bits 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matching_string_length_minus2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;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matching_string_length_minus2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matching_string_length_minus2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+16;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length =</a:t>
                      </a:r>
                      <a:r>
                        <a:rPr b="1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matching_string_length_minus2+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Calibri"/>
                        </a:rPr>
                        <a:t> MATCH_LEN_MIN; 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8cc"/>
                    </a:solidFill>
                  </a:tcPr>
                </a:tc>
              </a:tr>
            </a:tbl>
          </a:graphicData>
        </a:graphic>
      </p:graphicFrame>
      <p:sp>
        <p:nvSpPr>
          <p:cNvPr id="2399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1D77-214B-41DF-B753-1993C8BBC051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00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01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CEAF-D9BE-4AE5-AEFC-0F69C9B5BA3D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Proposed methods of 1D dictionary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457200" y="2565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Method 1: CU level 1D Dictionary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Method 2: New length encoding method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04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C75E-F3EC-4FFE-9239-05D561F1DA81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05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06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ACF0-EC2B-45C6-860B-5BAB888627A0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U level 1D dictionary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08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89E9-2FC1-45F4-AB9D-19BC6BC7D460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30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09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10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9EC2-F81D-4E8F-B717-855C9E9AC883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411" name=""/>
          <p:cNvGraphicFramePr/>
          <p:nvPr/>
        </p:nvGraphicFramePr>
        <p:xfrm>
          <a:off x="971640" y="620640"/>
          <a:ext cx="7489800" cy="6093000"/>
        </p:xfrm>
        <a:graphic>
          <a:graphicData uri="http://schemas.openxmlformats.org/drawingml/2006/table">
            <a:tbl>
              <a:tblPr/>
              <a:tblGrid>
                <a:gridCol w="5964120"/>
                <a:gridCol w="15256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coding_unit( x0, y0, log2CbSize )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else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 intra_block_copy_enabled_flag 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ntra_bc_flag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[ x0 ][ y0 ]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 !intra_bc_flag[ x0 ][ y0 ] )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intra_p2m_enabled_flag ) 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581040"/>
                          <a:tab algn="l" pos="61272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ntra_p2m_flag</a:t>
                      </a:r>
                      <a:r>
                        <a:rPr b="0" lang="pt-B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[ x0 ][ y0 ]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44460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ntra_p2m_flag[ x0 ][ y0 ]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566640"/>
                          <a:tab algn="l" pos="59688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m_coder( x0, y0, 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log2CbSize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 !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ntra_p2m_flag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[ x0 ][ y0 ] )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 slice_type  !=  I  &amp;&amp;  !intra_bc_flag[ x0 ][ y0 ]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pred_mode_flag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5:26Z</dcterms:created>
  <dc:creator>yuwen</dc:creator>
  <dc:description/>
  <dc:language>en-US</dc:language>
  <cp:lastModifiedBy>mtk06504</cp:lastModifiedBy>
  <dcterms:modified xsi:type="dcterms:W3CDTF">2014-03-28T22:45:47Z</dcterms:modified>
  <cp:revision>77</cp:revision>
  <dc:subject/>
  <dc:title>Powerpoint Title (Confidential A)</dc:title>
</cp:coreProperties>
</file>