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F24-EF79-432F-A660-EF8739FD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E2D-A8A8-4BAF-832E-815ADD1F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8A1-47E4-4F82-A9E2-EB3E7D42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516-8635-4410-A7F1-4E2DDB68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A59-EA36-45ED-8AD7-C09963D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EFB-2AF5-46D5-9BEF-866D7E8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F7E-4F51-48AD-8D28-838C454D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E32-91D6-4567-8413-6FDF4274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A9F-7E79-47CA-9DAA-40C1928B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785-FFD8-4FD7-9456-9B4BBEA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E5E-4038-4434-8431-8FE8D828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CB5-DE92-482C-9468-3CEF0D9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E6F-3A43-4979-86ED-562EE8B31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84582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me S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yntax Modifications for HEVC Range Exten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CTVC-P0166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ue Yu and Limin Wa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is Group In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Arris"/>
          <p:cNvPicPr/>
          <p:nvPr/>
        </p:nvPicPr>
        <p:blipFill>
          <a:blip r:embed="rId1"/>
          <a:stretch/>
        </p:blipFill>
        <p:spPr>
          <a:xfrm>
            <a:off x="7315200" y="4038480"/>
            <a:ext cx="10587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6440"/>
                <a:tab algn="l" pos="274680"/>
                <a:tab algn="l" pos="411120"/>
                <a:tab algn="l" pos="549360"/>
                <a:tab algn="l" pos="685800"/>
                <a:tab algn="l" pos="822240"/>
                <a:tab algn="l" pos="960480"/>
                <a:tab algn="l" pos="1096920"/>
                <a:tab algn="l" pos="1235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6" descr=""/>
          <p:cNvPicPr/>
          <p:nvPr/>
        </p:nvPicPr>
        <p:blipFill>
          <a:blip r:embed="rId1"/>
          <a:stretch/>
        </p:blipFill>
        <p:spPr>
          <a:xfrm>
            <a:off x="1146240" y="231840"/>
            <a:ext cx="7004160" cy="6467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Conditionally Parsing PPS extension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1. pps_extension2_flag is conditionally parsed by checking the value of pps_extension1_flag. However, pps_extension2_flag is always checked no matter it is present or no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The later standardized extension must include syntax elements related to the previous standardized extension, even if those extensions are not relat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66680" y="3200400"/>
          <a:ext cx="7010640" cy="3352680"/>
        </p:xfrm>
        <a:graphic>
          <a:graphicData uri="http://schemas.openxmlformats.org/drawingml/2006/table">
            <a:tbl>
              <a:tblPr/>
              <a:tblGrid>
                <a:gridCol w="6116760"/>
                <a:gridCol w="893880"/>
              </a:tblGrid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.......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ps_extension1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pps_extension1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transform_skip_enabled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og2_max_transform_skip_block_size_minus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luma_chroma_prediction_enabled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hroma_qp_adjustment_enabled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chroma_qp_adjustment_enabled_flag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iff_cu_chroma_qp_adjustment_dep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hroma_qp_adjustment_table_size_minus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for( i = 0; i  &lt;=  chroma_qp_adjustment_table_size_minus1; i++ 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b_qp_adjustm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i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r_qp_adjustment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i 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ps_extension2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pps_extension2_flag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while( more_rbsp_data( 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ps_extension_data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6440"/>
                <a:tab algn="l" pos="274680"/>
                <a:tab algn="l" pos="411120"/>
                <a:tab algn="l" pos="549360"/>
                <a:tab algn="l" pos="685800"/>
                <a:tab algn="l" pos="822240"/>
                <a:tab algn="l" pos="960480"/>
                <a:tab algn="l" pos="1096920"/>
                <a:tab algn="l" pos="1235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posal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add additional flags to indicate further extension syntax elements if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pps_extension_present_fla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1. Each individual flag controls whether the specific extension syntax are pre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 A 7-bit syntax is used to indicate further exten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Harmonize PPS level extension syntax with SPS level design (JCTVC-O014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6440"/>
                <a:tab algn="l" pos="274680"/>
                <a:tab algn="l" pos="411120"/>
                <a:tab algn="l" pos="549360"/>
                <a:tab algn="l" pos="685800"/>
                <a:tab algn="l" pos="822240"/>
                <a:tab algn="l" pos="960480"/>
                <a:tab algn="l" pos="1096920"/>
                <a:tab algn="l" pos="1235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Table 3" descr=""/>
          <p:cNvPicPr/>
          <p:nvPr/>
        </p:nvPicPr>
        <p:blipFill>
          <a:blip r:embed="rId2"/>
          <a:stretch/>
        </p:blipFill>
        <p:spPr>
          <a:xfrm>
            <a:off x="615960" y="689040"/>
            <a:ext cx="7991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odifications of Transform Skip Related Synt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transform skip related syntax, transform_skip_rotation_enabled_flag , transform_skip_context_enabled_flag and log2_max_transform_skip_block_size_minus2, are added for range exten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of them are present at SPS and one is present at PPS in the current spe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urrent spec. : transform_skip_rotation_enabled_fla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equal to 1 specifies that a rotation is applied to the residual data block for intra 4x4 blocks, with the exception of blocks using intra block copying prediction, coded using a transform skip operation. transform_skip_rotation_enabled_flag equal to 0 specifies that this rotation is not applied. When not present, the value of transform_skip_rotation_enabled_flag is inferred to be equal to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SPS syntax will be used if eithe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orm_skip_rotation_enabled_flag 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quant_bypass_enabled_flag  is equal to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Present all transform skip related syntax at PPS 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transform_skip_rotation_enabled_flag , transform_skip_context_enabled_flag  should be conditionally parsed if transform_skip_enabled_flag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quant_bypass_enabled_flag is equal to 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146240" y="1219320"/>
            <a:ext cx="7004160" cy="4468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6440"/>
                <a:tab algn="l" pos="274680"/>
                <a:tab algn="l" pos="411120"/>
                <a:tab algn="l" pos="549360"/>
                <a:tab algn="l" pos="685800"/>
                <a:tab algn="l" pos="822240"/>
                <a:tab algn="l" pos="960480"/>
                <a:tab algn="l" pos="1096920"/>
                <a:tab algn="l" pos="1235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841320" y="689040"/>
            <a:ext cx="7693200" cy="5230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mplification of Intra Block Copy Synt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_block_copy_enabled_flag is equal to 1, 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a one-bi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_bc_flag 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is always coded except the current CU is inter skip mode. The status of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_bc_flag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 indicates whether intra block copy is used or not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t may check the status of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_bc_flag 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up to </a:t>
            </a:r>
            <a:r>
              <a:rPr b="0" lang="en-CA" sz="2200" spc="-1" strike="noStrike">
                <a:solidFill>
                  <a:srgbClr val="ff0000"/>
                </a:solidFill>
                <a:latin typeface="Calibri"/>
              </a:rPr>
              <a:t>three tim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posal 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only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ne tim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eck of the status of intra_bc_flag without any performance change. The spec. is more clea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intra_bc_flag is 1, CuPredMode[ x ][ y ] is inferred to be equal to MODE_INTRA. Therefore, the check of CuPredMode[ x0 ][ y0 ]  = =  MODE_INTRA  &amp;&amp;  intra_bc_flag[ x0 ][ y0 ] is equivalent to the check of intra_bc_flag[ x0 ][ y0 ]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posal 2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plify (CuPredMode[ x0 ][ y0 ]  = =  MODE_INTRA  &amp;&amp;  intra_bc_flag[ x0 ][ y0 ]) to intra_bc_flag[ x0 ][ y0 ]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05:58:11Z</dcterms:created>
  <dc:creator>MGIA0269</dc:creator>
  <dc:description/>
  <dc:language>en-US</dc:language>
  <cp:lastModifiedBy>build</cp:lastModifiedBy>
  <dcterms:modified xsi:type="dcterms:W3CDTF">2014-01-14T03:56:13Z</dcterms:modified>
  <cp:revision>60</cp:revision>
  <dc:subject/>
  <dc:title>Slide 1</dc:title>
</cp:coreProperties>
</file>