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dt" idx="23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ftr" idx="24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 type="sldNum" idx="25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0A78-FD09-4F71-9D92-D9F27A7CE2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EA86-3415-472F-BA9F-B0859095A0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슬라이드 번호 개체 틀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7D94-1C07-4145-BD3E-B805638F45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슬라이드 번호 개체 틀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1E1F-D867-492F-9360-295C5E9509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슬라이드 번호 개체 틀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CFB0-6CA3-49E1-9A17-742D136B7D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슬라이드 번호 개체 틀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9698-DF38-4BED-BFBC-221240D47A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슬라이드 번호 개체 틀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9FDD-D8A8-43F9-92D8-B81D40912F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슬라이드 번호 개체 틀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5435-E464-48B5-A05B-8143CF9687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5263-8CF1-4272-A62C-9B1EBCC9C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34881-0589-4C20-BAC3-806CB9C2C78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2F03D9-60EA-4AB1-A56D-6F298F06FE0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688CEA-A837-448A-A74B-8E0E8A41056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7F6536-A6C2-4393-AAA7-93A699B73D5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3B46EC-C4D7-44BA-94C8-26A31809A56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473A97-9101-4A73-8B33-7FBD7C4BD4E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787D40-F244-4604-A7E0-BAA37C67A9E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818F31-6E33-4B46-BE29-DADCC2432D2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CC5F1A-B2EF-4BD9-A549-15FF9F896D0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3AF1A2-E47C-4C4C-9D9A-9913CC33B22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F485A3-FB2E-494A-8044-EEA528753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539AB-CFD8-4446-8395-62283A83DFD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A23CA4-4A02-460D-8095-64475B78F4C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FF6701-1D08-450A-8496-14EB852834A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24F4D5-61D0-4A29-BAB1-1870DE3B4DE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67ACB0-6419-4D4E-A7E2-C6A7ACABB99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43FA2B-02FB-41FB-BCC1-5088A3C2EED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94FDED-5323-40F9-9CD9-F1C6DB27DA2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7A806C-DDC6-4FC3-8497-EE7B2FB754E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5DF6F4-DB50-4187-BC68-FC10A22994F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B25982-551B-45C5-AC88-D8CAA5707C6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EA7E70-2546-4776-B01D-82EBAD160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EDFF-FE18-4197-B1FD-355F605E6A6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A28093-ED67-47AB-B597-45C2F49DF27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BA400-DDB9-464D-B21C-7D8FB5209B0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1DDDA-F5A5-4C9C-8265-501A5B68316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A5FA3-E918-4777-905A-4C92667D883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44A32-791C-4092-B3A2-E9B12D14A03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ED18D-4357-4EB4-ACCA-1CC69B4D12A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0EEAC-85E9-4541-A608-B237A44D9B1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BD978-36FC-4D88-81F5-070E68290CE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B0D68-B78C-420F-93FA-FED6442917D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DBB43-4009-49BF-A441-FBA32A57C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8B340-315B-4ED4-ACD1-3CB6A0D0848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EED12-0236-47BF-B547-3A2BFC10096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FEF51-FB53-48E8-8CF4-6E79330799F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377F43-9CD9-4334-9156-D2129239618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7E465D-A959-4AFD-A891-82434CA72B1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28564F-4CAF-4D17-814A-9A44C11AA76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FCFC18-591A-414D-A5FF-3D0CEFBF73B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E05ECC-38BE-4E3B-B531-2FACD0684BD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0D8B0F-579A-4CC2-93FD-FAEFC0D1510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745DAB-245A-4CF3-AA7D-3FB2F6FE89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DD9A69-54A3-45DC-8C67-EC0487FB8B8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18643B-3BEB-403F-B5C7-930C3C44686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A421E-22CD-45C9-AEF6-8AC80EEF8AF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0ACB70-730C-44CF-953F-D1D8AC8ED11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4431E4-65BB-4827-9A59-D52166ED2E6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74DE5F-8B82-404C-AE53-8170079EF70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142F4A-FB24-43C4-A11B-A505FFE0F75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9FA1DB-C5F1-40C0-8688-487FC9E4B24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505F7D-03AA-4279-AC36-D386BCC491F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CE5BAF-742E-4C17-AA9B-5E79612C20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2621E0-AB08-490D-96C3-999D14972AA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E9E882-5876-4D89-95DE-3EDEAE5E4CA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878BF5-8C0A-43AD-A015-ACBCCAB163B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773A45-0B6A-40C3-8535-02573240895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94D33B-DD81-45E6-82A3-0C271CDCB38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0C945D-2C9E-44EB-81AD-B2465EF8EA7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9286C0-099F-42D1-89E0-0554FEBA94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BCD3-A6FE-40CA-A367-96AEDD197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C9A63-9F6B-472D-A811-BFBD21D978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80549-8AA5-4C71-98C6-43C0D2AF57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0263F-5BD3-4187-9FD6-4741327C01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90169-AAA1-4F9A-9B68-BEE7204185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11B4B-D308-41E8-A498-D59B7D6305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5411-B92A-4ADF-B61F-BFC3A4DDC6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5122-A231-49C2-A14D-7FB08AE512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CDFBD-FF22-43C5-A672-6A628B011C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21C17-F536-4489-8470-5E5BF20345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31A01-113B-4BEC-9482-D1FB96110B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B8D0A-5B30-4E81-B614-076B8755F9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651FD-57B1-4BF2-A537-45D1B51345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F8FC7-8ED0-48E5-8063-4A863071171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BA23F-B309-4EBE-BFC5-A2CD03FC7C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AF786-D2AD-42FB-86F9-B01912D9CC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169E7-ED43-4533-8362-0FC96985E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E826-7BD3-4DC4-BEAB-2898AB8240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BF08B-585C-4E7F-9784-B2F6D7A47C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3E306-4BFC-47CC-B1B7-974181C4A0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6D31B-3C74-4EE5-BE61-1A26068E01F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B274E-F278-4716-90A5-152D8C459C1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0D8B4-3CF1-4624-A570-6B72D7990DC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869C0-BCC8-4E2A-8F79-D47CF4E1B9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D14D3-913D-4BEE-AED7-F2708CCCAB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80290-0DB5-4370-B2E5-9B1FAF02C8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6346A-5BA7-4144-A710-DA2EC837EB9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5936-D02D-4E5E-8633-A6FBC45C3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B3067-0986-4711-8A1F-A52E983E60D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69FA-A0C3-48CE-9AC0-A55289A16F4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14A4-367D-416B-9BD5-5DC9F7DFA98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00EC-2FD8-4AEA-92AC-F0A953F57D6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7D0E-4E77-446D-9A62-E82EE56E914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4300-5EC1-4A6C-AC24-1F4E0E2292E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FDFB-B852-4BC1-8F83-17FF71DFC3B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5E19-198D-40C9-AA02-0FD218EE503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9D7A-0DA7-4D5E-859A-D5864E8FAC8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4554-1D11-4A5B-AF59-9D834CBCDB6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7EEA-D39F-41C8-AEFD-08EA2CC25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0E12-4ACE-4271-9D24-1E940BDD657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D259-41AF-4275-9B64-023C7DD1128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602F6-BE89-4898-992D-C72DEFA9F24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229A0-B459-43EC-9B5E-5475AEF6B28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3DDCB-E0CC-4482-ACFA-5788AF9F474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71C34-5425-48D5-86E7-0DA2559E48C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F107F-172A-422C-8AF0-7E3C1720BFD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D6DA5-D0F6-4A32-9449-C8DAB874248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065C3-C827-4391-8771-8337453DB9B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C0243-DD13-4292-947B-85D1D28FE1E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989AFF-AC24-44AC-88F4-0240EE73E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A8061-30D7-458C-8534-03D4298FED7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E2EBAF-318B-4745-9D75-23A093F098F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134F2-2851-40D0-937F-5EAFB5B8DE5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79BAC-6476-47B5-8A35-2D0D034DB44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B7748B-AD5C-46AE-8F2C-FDB56D41AA8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AF03B8-C324-4C53-9171-32D3A26F7FD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998878-954F-436D-864C-7D089A01A26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79A083-39CB-4266-A1B0-E06B43819E6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B6B1AF-73F5-4A8E-B794-0BFF865DF62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97E510-A73B-47BD-97A0-7F9D5E01D17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F4BFB1-CD16-4564-B8B3-F6B0B3429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9268B-25A8-4BC0-B8AE-F340F2AA833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695FDE-5C8E-43B9-9310-17CE47D7CDD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F8A93F-357D-4A24-8329-54DF029A7BB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662997-A6E5-48C2-B47D-3074B1CAC82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2B667C-E86E-4AF6-846E-3486875683C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A0E0F0-8DC8-48CD-9DFD-58C113BC5DB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054A2-C1E7-4ECE-A7AA-6E2C12F6034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80B79-C069-46FB-AAD7-C409FF90ED4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D550A-4277-4C0E-931C-5D4A95AF342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D3023-6076-4C05-9E13-A31C644D238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50002-48BB-43B0-A74B-4DD0CAC41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0B3D5-6FC9-4BF7-9382-1562FCD3CC8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0E4EB-7A81-41BA-883D-65F55925A57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AE470-EB59-4FA7-8F7F-82F54A1FCA6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7A2A5-D7F3-42EB-9398-A1E83CC3E24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925C1-EC40-4DA0-876D-8C2A65ED837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94434-6E97-4C8F-97D1-D552F1C2256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43FDC-C4DF-4A3C-9414-066EC4C78F1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9F8DC-7B14-4554-AAA3-F03DF77D140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DAAEB0-8B52-4CF6-AEE1-51FEEFA4B6F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5F7720-E5B3-4FD6-B909-E9B5697D9BB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787E99-31EF-4639-8F83-739131726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10800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39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BCE2-1A5E-4502-B1C4-D3D93D00BF73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143760" y="6238800"/>
            <a:ext cx="100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10800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6"/>
          <p:cNvSpPr/>
          <p:nvPr/>
        </p:nvSpPr>
        <p:spPr>
          <a:xfrm>
            <a:off x="6143760" y="6238800"/>
            <a:ext cx="100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ftr" idx="15"/>
          </p:nvPr>
        </p:nvSpPr>
        <p:spPr>
          <a:xfrm>
            <a:off x="2985840" y="6232680"/>
            <a:ext cx="31575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16"/>
          </p:nvPr>
        </p:nvSpPr>
        <p:spPr>
          <a:xfrm>
            <a:off x="4539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FC00-8C67-41A0-A10D-89F89EFE34D4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10800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6"/>
          <p:cNvSpPr/>
          <p:nvPr/>
        </p:nvSpPr>
        <p:spPr>
          <a:xfrm>
            <a:off x="6143760" y="6238800"/>
            <a:ext cx="100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17"/>
          </p:nvPr>
        </p:nvSpPr>
        <p:spPr>
          <a:xfrm>
            <a:off x="2985840" y="6232680"/>
            <a:ext cx="31575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18"/>
          </p:nvPr>
        </p:nvSpPr>
        <p:spPr>
          <a:xfrm>
            <a:off x="4539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75BA-154D-497A-9178-B9ED6E1C7A3F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10800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6"/>
          <p:cNvSpPr/>
          <p:nvPr/>
        </p:nvSpPr>
        <p:spPr>
          <a:xfrm>
            <a:off x="6143760" y="6238800"/>
            <a:ext cx="100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ftr" idx="19"/>
          </p:nvPr>
        </p:nvSpPr>
        <p:spPr>
          <a:xfrm>
            <a:off x="2985840" y="6232680"/>
            <a:ext cx="31575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sldNum" idx="20"/>
          </p:nvPr>
        </p:nvSpPr>
        <p:spPr>
          <a:xfrm>
            <a:off x="4539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78F0-CCE7-44A9-9CA8-C6278BFFA52B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10800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6"/>
          <p:cNvSpPr/>
          <p:nvPr/>
        </p:nvSpPr>
        <p:spPr>
          <a:xfrm>
            <a:off x="6143760" y="6238800"/>
            <a:ext cx="100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ftr" idx="21"/>
          </p:nvPr>
        </p:nvSpPr>
        <p:spPr>
          <a:xfrm>
            <a:off x="2985840" y="6232680"/>
            <a:ext cx="31575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sldNum" idx="22"/>
          </p:nvPr>
        </p:nvSpPr>
        <p:spPr>
          <a:xfrm>
            <a:off x="4539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1CF9-2E00-4D69-9C5F-83C8AEEF94B9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10800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6143760" y="6238800"/>
            <a:ext cx="100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439560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6151-BEC3-4A13-98C1-5FBA812CDF00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10800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6143760" y="6238800"/>
            <a:ext cx="100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2985840" y="6232680"/>
            <a:ext cx="31575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4539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4A86-1035-46BF-A37A-462A23DB8DAC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10800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6143760" y="6238800"/>
            <a:ext cx="100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2985840" y="6232680"/>
            <a:ext cx="31575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4539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8AB3-A171-4A25-A1E7-FF87B94D931A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10800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6"/>
          <p:cNvSpPr/>
          <p:nvPr/>
        </p:nvSpPr>
        <p:spPr>
          <a:xfrm>
            <a:off x="6143760" y="6238800"/>
            <a:ext cx="100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7"/>
          </p:nvPr>
        </p:nvSpPr>
        <p:spPr>
          <a:xfrm>
            <a:off x="2985840" y="6232680"/>
            <a:ext cx="31575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8"/>
          </p:nvPr>
        </p:nvSpPr>
        <p:spPr>
          <a:xfrm>
            <a:off x="4539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3732-4FF9-4336-B49B-94377E090C18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10800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6"/>
          <p:cNvSpPr/>
          <p:nvPr/>
        </p:nvSpPr>
        <p:spPr>
          <a:xfrm>
            <a:off x="6143760" y="6238800"/>
            <a:ext cx="100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9"/>
          </p:nvPr>
        </p:nvSpPr>
        <p:spPr>
          <a:xfrm>
            <a:off x="2985840" y="6232680"/>
            <a:ext cx="31575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0"/>
          </p:nvPr>
        </p:nvSpPr>
        <p:spPr>
          <a:xfrm>
            <a:off x="4539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7983-90FB-4C82-A692-496E6880559D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10800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6"/>
          <p:cNvSpPr/>
          <p:nvPr/>
        </p:nvSpPr>
        <p:spPr>
          <a:xfrm>
            <a:off x="6143760" y="6238800"/>
            <a:ext cx="100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11"/>
          </p:nvPr>
        </p:nvSpPr>
        <p:spPr>
          <a:xfrm>
            <a:off x="2985840" y="6232680"/>
            <a:ext cx="31575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12"/>
          </p:nvPr>
        </p:nvSpPr>
        <p:spPr>
          <a:xfrm>
            <a:off x="4539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B7EE-E41F-4CDF-BF94-750125763976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10800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143760" y="6238800"/>
            <a:ext cx="100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13"/>
          </p:nvPr>
        </p:nvSpPr>
        <p:spPr>
          <a:xfrm>
            <a:off x="2985840" y="6232680"/>
            <a:ext cx="31575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14"/>
          </p:nvPr>
        </p:nvSpPr>
        <p:spPr>
          <a:xfrm>
            <a:off x="4539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B6B2-B317-4F04-89FB-BBE608FF82AB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9" descr="gray_bot"/>
          <p:cNvPicPr/>
          <p:nvPr/>
        </p:nvPicPr>
        <p:blipFill>
          <a:blip r:embed="rId1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" descr="cover_back_8"/>
          <p:cNvPicPr/>
          <p:nvPr/>
        </p:nvPicPr>
        <p:blipFill>
          <a:blip r:embed="rId2"/>
          <a:stretch/>
        </p:blipFill>
        <p:spPr>
          <a:xfrm>
            <a:off x="-9360" y="1978200"/>
            <a:ext cx="9172440" cy="33526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6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Non-RCE4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ajor Color Table (Palette) Sha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7" descr="logo"/>
          <p:cNvPicPr/>
          <p:nvPr/>
        </p:nvPicPr>
        <p:blipFill>
          <a:blip r:embed="rId4"/>
          <a:stretch/>
        </p:blipFill>
        <p:spPr>
          <a:xfrm>
            <a:off x="1509840" y="819000"/>
            <a:ext cx="3782880" cy="405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1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309600" y="407664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oLin Lai, Shan Lu, Tzu-Der (Peter) Chuang, Yu-Wen Huang, Shawmin 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3"/>
          <p:cNvSpPr/>
          <p:nvPr/>
        </p:nvSpPr>
        <p:spPr>
          <a:xfrm>
            <a:off x="5292720" y="5621400"/>
            <a:ext cx="354168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Presented b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n L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1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JCT-VC Meeting in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an Jos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9–17 Jan.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1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2080" y="384120"/>
            <a:ext cx="8350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urrently in RCE4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ajor Color Table (Palette) Predi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11280" y="1411200"/>
            <a:ext cx="836136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CE4, major color tables (palettes)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neighboring CUs can be used to predict the major color table of the current 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CE4 Test1, the major color tables of the left / above CUs ar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CE4 Test2, the major color tables of the left CUs ar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-wise c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major color element in the table, i.e. MCtable_current [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table_current [n] can copy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rrespon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Ctable_above/left [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ement MCtable_current [n]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g to indicate copy, and copy direction (above/left), or code colo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neighboring CU is not “major-color-mod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color table of the neighboring CU is set to al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ior major color table cannot be propagated to following 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投影片編號版面配置區 4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AA59-EC3B-403A-B5CA-17558BBBB4F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1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: MC Table (Palette) Sha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27120" y="1125000"/>
            <a:ext cx="8337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29040" indent="-32904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re the most-recently decoded major color table (palet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current 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entire major color table from the most-recent-palette-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it’s own major colo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.(sharing), save syntax for major color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la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_color_sh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 to indicate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syntax for major colo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b.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_color_sh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, two options tes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element-wise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Ctable_current [n]: Copy MCtable_last [n], or code colo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element-wise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Ctable_current [n]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code colo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er evaluates a. b. based on 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投影片編號版面配置區 4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8F02-99CF-4379-A199-0065A37CDD9C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1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620280" y="1123560"/>
            <a:ext cx="8055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chor: RCE4 Test1 (P010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0%, 3.4%, and 2.2% 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D-rate savings for SC YUV 444 sequences under AI-MT, RA-MT, and LB-MT, respectiv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2080" y="384120"/>
            <a:ext cx="85215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ethod 1: Non-share has Element-wise Copy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投影片編號版面配置區 3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DEE1-162C-4CBB-8157-C93555A3CC9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250920" y="3500280"/>
          <a:ext cx="8712000" cy="2533680"/>
        </p:xfrm>
        <a:graphic>
          <a:graphicData uri="http://schemas.openxmlformats.org/drawingml/2006/table">
            <a:tbl>
              <a:tblPr/>
              <a:tblGrid>
                <a:gridCol w="1844640"/>
                <a:gridCol w="981000"/>
                <a:gridCol w="981000"/>
                <a:gridCol w="981000"/>
                <a:gridCol w="981360"/>
                <a:gridCol w="981000"/>
                <a:gridCol w="981000"/>
                <a:gridCol w="981000"/>
              </a:tblGrid>
              <a:tr h="2527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D-rat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-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-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-S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-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-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LB-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LB-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 RGB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nimation RGB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 YUV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53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nimation YUV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nge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(444) GBR Op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6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6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5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5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5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(444) YUV Op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7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8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8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7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6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7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5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1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620280" y="1123560"/>
            <a:ext cx="8055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chor: RCE4 Test1 (P010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4%, 1.8%, and 2.0% 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D-rate savings for SC YUV 444 sequences under AI, RA, and LB, respectiv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2080" y="384120"/>
            <a:ext cx="85215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ethod 1: Non-share has Element-wise Copy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投影片編號版面配置區 3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392A-5C67-4AE7-B333-783EBDBEAB29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2124000" y="2997360"/>
          <a:ext cx="4680000" cy="2787480"/>
        </p:xfrm>
        <a:graphic>
          <a:graphicData uri="http://schemas.openxmlformats.org/drawingml/2006/table">
            <a:tbl>
              <a:tblPr/>
              <a:tblGrid>
                <a:gridCol w="2158920"/>
                <a:gridCol w="841680"/>
                <a:gridCol w="839520"/>
                <a:gridCol w="839880"/>
              </a:tblGrid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Average bit-rate incr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標楷體"/>
                        </a:rPr>
                        <a:t>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標楷體"/>
                        </a:rPr>
                        <a:t>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標楷體"/>
                        </a:rPr>
                        <a:t>L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GB 4:4:4 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GB 4:4:4 Ani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YCbCr 4:4:4 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2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YCbCr 4:4:4 Ani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ange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GB 4:4:4 SC (Option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5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5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5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YCbCr 4:4:4 SC (Option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7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6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7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0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1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620280" y="1123560"/>
            <a:ext cx="8055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chor: RCE4 Test1 (P010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9%, 3.1%, and 2.2% 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D-rate savings for SC YUV 444 sequences under AI-MT, RA-MT, and LB-MT, respectiv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3404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ethod 2: Non-share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ode all color valu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投影片編號版面配置區 3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1B91-BEA3-443A-956A-9A71B1F8FFDE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250920" y="3500280"/>
          <a:ext cx="8712000" cy="2533680"/>
        </p:xfrm>
        <a:graphic>
          <a:graphicData uri="http://schemas.openxmlformats.org/drawingml/2006/table">
            <a:tbl>
              <a:tblPr/>
              <a:tblGrid>
                <a:gridCol w="1844640"/>
                <a:gridCol w="981000"/>
                <a:gridCol w="981000"/>
                <a:gridCol w="981000"/>
                <a:gridCol w="981360"/>
                <a:gridCol w="981000"/>
                <a:gridCol w="981000"/>
                <a:gridCol w="981000"/>
              </a:tblGrid>
              <a:tr h="2527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D-rat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-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-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-S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-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-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LB-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LB-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 RGB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nimation RGB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 YUV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53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nimation YUV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nge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(444) GBR Op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5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5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5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5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(444) YUV Op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6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7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7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6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6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5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6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5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1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620280" y="1123560"/>
            <a:ext cx="8055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chor: RCE4 Test1 (P010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3%, 1.7%, and 2.0% 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D-rate savings for SC YUV 444 sequences under AI, RA, and LB, respectiv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2080" y="384120"/>
            <a:ext cx="85215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ethod 2: Non-share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ode all color valu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投影片編號版面配置區 3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B5E2-2112-4B7A-8B4A-C263AB31992D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2124000" y="2997360"/>
          <a:ext cx="4680000" cy="2787480"/>
        </p:xfrm>
        <a:graphic>
          <a:graphicData uri="http://schemas.openxmlformats.org/drawingml/2006/table">
            <a:tbl>
              <a:tblPr/>
              <a:tblGrid>
                <a:gridCol w="2158920"/>
                <a:gridCol w="841680"/>
                <a:gridCol w="839520"/>
                <a:gridCol w="839880"/>
              </a:tblGrid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Average bit-rate incr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標楷體"/>
                        </a:rPr>
                        <a:t>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標楷體"/>
                        </a:rPr>
                        <a:t>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標楷體"/>
                        </a:rPr>
                        <a:t>L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GB 4:4:4 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GB 4:4:4 Ani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YCbCr 4:4:4 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YCbCr 4:4:4 Ani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ange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RGB 4:4:4 SC (Option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4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4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4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YCbCr 4:4:4 SC (Option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6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6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-7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1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626760" y="98064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color table (palette) sh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of the most-recently decoded major color table (palet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urrent CU, select betwe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entire MC table from the most-recent-palette-C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it’s own M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b.(non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, two options tes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element-wise copy from most-recent, or code color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y code all the color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B8F2-02DE-42C8-9038-4464237063C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1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468360" y="3967200"/>
          <a:ext cx="8246880" cy="2127240"/>
        </p:xfrm>
        <a:graphic>
          <a:graphicData uri="http://schemas.openxmlformats.org/drawingml/2006/table">
            <a:tbl>
              <a:tblPr/>
              <a:tblGrid>
                <a:gridCol w="5727600"/>
                <a:gridCol w="863640"/>
                <a:gridCol w="863640"/>
                <a:gridCol w="792000"/>
              </a:tblGrid>
              <a:tr h="61920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Lossy Y-BD rate, on top of RCE4 Test1 (P010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C YUV 444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L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7620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Test 1: Non-share has element-wise, Lossy-M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4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3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2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764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Test 1: Non-share has element-wise, Lossl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2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1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2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620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Test 2: Non-share codes all colors, Lossy-M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3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3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2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7800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Test 2: Non-share codes all colors, Lossl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2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1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2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627120" y="1483920"/>
            <a:ext cx="83455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 study of major color table (palette) sh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the most-recent-table for sharing, this contribution t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one set of recently decoded tables for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set mechanism: Reset the stored table for parallelism / error resil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sharing that copies entire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 of allowing element-wise copy for non-sh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43959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2165-8A2B-4FCB-99A8-54BE891DF2AC}" type="slidenum"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8"/>
          <p:cNvSpPr/>
          <p:nvPr/>
        </p:nvSpPr>
        <p:spPr>
          <a:xfrm>
            <a:off x="7567560" y="16812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P01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xzhang</dc:creator>
  <dc:description>Confidential A</dc:description>
  <cp:keywords>Confidential A</cp:keywords>
  <dc:language>en-US</dc:language>
  <cp:lastModifiedBy>mtk30288</cp:lastModifiedBy>
  <dcterms:modified xsi:type="dcterms:W3CDTF">2014-01-10T03:08:28Z</dcterms:modified>
  <cp:revision>2604</cp:revision>
  <dc:subject/>
  <dc:title>JCTVC-H0455</dc:title>
</cp:coreProperties>
</file>