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dt" idx="23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ftr" idx="24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 type="sldNum" idx="25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567C-A202-4A06-93A5-66D5225A96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8665-494D-437C-988C-DD9B9E07A2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6424-BB70-453C-A889-5AAAF2B9CF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DA44-F457-4C6D-8800-652F8D7C7C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C912-603F-4BD9-A8A5-4969F06AF0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C4F4-AFEF-44D9-8789-93D6A2CC18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2298-BFB6-4E64-9A1F-AA7864F781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D871-521B-4728-8400-3724A83F03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8C35-FC5C-4A16-A1B0-C81A10223E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C6E5-1A26-4895-91A0-68DBD23C41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AADC-613D-4B71-81DF-1CF8DA33C7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E9E2-8DD7-4134-AE6D-9DFD4F3795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81D3-3627-4908-8B3E-905A9114B8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6729-3435-4AD2-B63C-5548B36392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93DC-F1F5-4FC0-B5DB-70A5AE25A3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87DF-9F56-498C-993E-06A50CE402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7753-8D02-4244-B40F-1968858D50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70FF-DFE1-49C1-BD0E-56ED30C2DF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619E-23B4-487A-A7B2-36B082EBC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EB98-7A28-456D-BE5E-F1029D5F6A2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064A48-073D-4D29-98E1-F0373D8E790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8ED35-E52C-4AF1-9E53-803A8DC1B7D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66FAF1-823A-4AF9-B7D3-DE0EC3C419F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9A864-3755-4E1C-8E10-4474DAFDB1E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B6F7B6-774E-4121-8DF2-79C2D4C6682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D6435-7737-4A85-A26A-7D781A6353A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7AFA0-9A09-4818-9E9F-50719555040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BD8EB9-C980-4008-BAC2-EE3A7CAD5C3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8B05C-C132-4946-B391-BCED6B0E413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347E19-D9E3-4D10-885A-96F433C7B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D2E7-92C4-4336-A0E6-5E7683ADF51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5B1CA5-778B-4026-A8A6-D2DB6A7A3F4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3FD542-964D-4DB1-8939-F8B957C4EDC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D6F03E-9DE6-4D9A-ACA8-9ED9ED73B0E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110870-F6D1-40C1-9002-5302AB20F0E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F9B9B1-C3C9-4F05-A96F-D2D6AEBEEFF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52DFE1-9AA4-4372-82BA-9C63FE43102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15B28D-4A59-464E-8E5E-0D55AD3D747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C73647-E64C-452D-A0A1-FB10A1B98E9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5D0F19-520D-40BC-AF9E-E93959EA75E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67E053-50F7-47E6-AFF1-F4DF5A5FD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98EF-05EF-443E-9CAD-2D47F3936C2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F53286-A165-4464-871B-BCEB2F7B45F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E1918-80A9-4120-9DCC-688A5439E2E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B70EB-50CB-4DF6-859D-A26CA6831BC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70168-B2E3-40E2-BC0B-244592DD35E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46686-A1D5-4E37-8B5C-39B23ED52F8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3F9D6-FC97-4761-A7DD-7800CE7C6BE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F499D-E0C4-4E6B-B582-2E09AA40FCC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48072-8482-4E88-AF06-684F397E0F1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3616C-DBAB-468F-A2D2-D37DACCAA8E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00E9D-5219-4077-A0E3-2497B6F4F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53246-C55F-46B2-A2A3-BE4F8C34A56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B7626-782A-46FE-8A71-EEAB41A449F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ADE5C-9E7D-42E4-8916-241F34A939D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79A2FB-9689-4EBE-BA32-A29AE2514FB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659945-32D6-4D3F-A336-7F5550137AD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A4C063-2DD8-410A-8D6F-AFCC4D52895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83C9F4-0929-40EB-9B62-803A4E9A329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BE9729-51E1-4406-ACAA-748F04A25A3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D017D-67C6-4BF1-A144-5D2F78164DB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E6D200-7A4F-4FFE-82EB-0818EFCD4A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93034-4773-4E06-B403-8C4AA6C09FD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A0A0CD-FD83-4E8F-96FC-8D6116102C9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8F702A-8579-4F9B-8D7F-3DD0D7CFDA3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D831F6-EA10-4AAC-BFE4-D2B8D5141C3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2B32AE-040E-4715-A9EF-849867B8563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C8B017-15AD-491C-B78E-CDA833E8AD6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2AC5B3-F770-412D-8CB6-FAA9A588C10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B3D2E6-A674-442D-BE34-4BC3AEF8E4D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FC32AC-3920-4F92-B906-29EF2450118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4A5CE6-345B-4510-86E6-7C2C611238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512B1A-3BCB-43D2-A27A-496DCDA8159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9125D7-1B55-4118-AB27-7D25DE32709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53C986-AF59-496D-A597-B0516F0C199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8470A6-96B8-455C-9A47-7FC04E2C13C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8821CB-EB55-4F7C-9577-96ED82F7BFE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A7C20A-76D9-4EF9-BF07-E0C5ADEBE80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5C8374-753F-4DA8-8551-DB03B96E24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37F7-A55A-476B-9C64-64210C494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CF116-3C76-422F-915B-027539EBA7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4BC6-2847-49F3-839B-75B280B5AC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BFF0-2E1F-4617-8DAF-BDAA761EB2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8283-FEDD-4B23-B1E9-B30EC3F660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718FB-C86E-4C49-9C9D-03253FC762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F560-AA20-4D43-963D-3B12AF9510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B38E-0565-4C89-8357-97CF80C8D2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4336-7A93-443C-847F-799D63292F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556E-53F4-4D5A-BB74-8E7FD0EEE9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F223D-D4CB-4352-9035-4C4AEEC768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DB7E7-1CAB-4A11-857C-DC41E09898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FFB11-1A40-4C94-AD9C-1AA9E76570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54744-9F00-448D-B4C3-28736368A2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06DC4-905E-4D77-8D5D-D5DC864BE5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CEB2D-E917-40AF-A3AB-9548D000EE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89CF7-3D7B-4261-A5AD-65C15892F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1F57-8277-42AE-A5A2-8A05631B6F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4BC16-E25D-45F3-8CA9-1C531319BD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69411-8E92-49D3-818C-B6E5E7D46B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686A0-2373-4493-AF3E-C2F1468EDD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21841-0907-420E-A51B-9A1DFB03BC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5D2E1-39D6-4BE7-B822-A0C128E419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F2758-57C0-4657-A31A-A59675FB5B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16736-0AAD-4F35-8EF6-5F3F2A87FC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5F1E6-9734-41CA-94AE-D20C0B2E1B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A5FCB-A050-4AAE-9A89-8E4A39A9411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A46D-27F9-4EFB-9960-A131F932C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5D56-250B-45F9-B590-0CEFD47962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94BA-CD40-488C-813B-914EF0B23AC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EB14-9B57-4548-9178-63364B76F3E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3CFA-9954-4F2F-A708-088FEEF98FD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6AEB-026A-4615-97F2-9B840F8D29D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9A72-A5CE-4099-9EC0-66A598BA7D3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F27A-6A97-458E-BD87-73C7CAB57A8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A9B4-3140-445C-BE5B-EF613EDA998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35BA-AC88-406E-8FFE-A00EB6ADE04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9E5F-00E8-4891-AEA8-4A1E2518AA2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A06E-347D-424D-AF2E-0ACE2E920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31C2-9CB6-48E0-AE10-EE6A9CFD9E6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97C3-BB8E-48FD-A6FE-2CB429F3ECE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18692-6A00-40D8-B82D-ED78C4B01A7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23262-0026-449C-ADC0-054378F6DC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D968D-4AAC-43F3-B7C0-201CC28A9E9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6FD40-E20C-411A-AA1D-26E119F6998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0AB00-7B7C-4670-A1DF-F0F34EE983B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0F46B-658F-4796-89BF-10AF3E92CDC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11BDC-27B9-4D4A-9054-37523CF2CBE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262F6-A280-4C60-8F51-74974A55A0D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2A3CA-7A5B-4B21-AFC8-0D8C65F00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56F2-5E9E-44A1-8A9D-5B5D0991244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E9A66-2908-43D5-97BE-049FDBD11A2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ACEAE-FA7B-4245-9E5A-C80389FD6D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15F9F-BE64-466C-A24C-994DB25D13D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A84EF5-C665-4DC4-AEA6-D84D239AB80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11ACAC-A1C8-4419-B4AE-DE9901097F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0C84DD-F4AA-4975-9C6F-77CFB60D61A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283D71-AC88-4E84-BD6E-AC53DEAEF2F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4B341E-B013-4677-9C19-A3D452D824C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77D7A9-CD07-4034-857D-47677020496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61554-4B9D-4228-A592-F7A5F5F8C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0F2E-E2AE-40C7-B975-FFCEF6AAB1B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5A08FC-D2F0-47DE-8A93-6BD82D7B99D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638EA4-F5EE-4641-89EF-A17976A70A4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BBCD2-F569-4D19-87B8-B8E0C523BA4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FDAA7D-E5B2-4395-8893-39ED8865AFE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C641DA-111A-4F75-8C0C-5AF6F3FFD4E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3C8D-97F7-46FC-BD47-C2CCF323297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66A59-55B2-43D6-99F8-2753131B23F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53907-2921-4D2F-8970-5827F666BCB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C80FE-5CE4-44F4-ADC3-DADF5E61472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5D570-858E-4520-9C21-A1E52A282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C760-EDDE-4E74-8C52-E8F87FFF9B0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C5988-1CAC-4B38-9508-2E12B0A30EE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616D3-E6B7-4F9B-ABA0-05337D98B02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C53A2-6E36-49CD-859D-84F7414D617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B8062-1469-47DD-B30F-480724E6816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66568-77F0-4997-A1C0-3A9F8F61062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65534-87D3-4B68-9D95-102A06D7487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5625B-48F2-4CB9-90EB-0DB9A2F7533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8A8C3B-060E-4AB2-95FF-7F83B6D5FA6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4E7E1-1A82-4CEF-BF10-E40317D8460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D25B0-BB84-4696-874E-EF8EE0D33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98C8-5800-4916-AB79-09B143DD05F5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15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6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AA26-69F4-4EA8-B53B-9AD398620C78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17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18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4426-48F0-4811-861F-9FDDAC9B9A2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19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20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B62E-722A-4C47-AAAF-A2C82B286B5F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21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sldNum" idx="22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3238-B692-4A1A-BB2F-DDAFA5405181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39560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A49A-014A-45DD-9076-F76D2F578EE6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8A0B-4F60-4549-AD4B-217C223B21CF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F925-0FE7-4A4A-B829-CC4B5572E37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7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8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3213-AA9D-47C5-973D-E73194C91471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9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0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1C4B-AD80-4986-87C1-38B5AC434F57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11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2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6C47-2CB9-48BE-93AB-23F9856A108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13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14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5609-2212-477F-8AC9-0B484C3D62D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9" descr="gray_bot"/>
          <p:cNvPicPr/>
          <p:nvPr/>
        </p:nvPicPr>
        <p:blipFill>
          <a:blip r:embed="rId1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" descr="cover_back_8"/>
          <p:cNvPicPr/>
          <p:nvPr/>
        </p:nvPicPr>
        <p:blipFill>
          <a:blip r:embed="rId2"/>
          <a:stretch/>
        </p:blipFill>
        <p:spPr>
          <a:xfrm>
            <a:off x="-9360" y="1978200"/>
            <a:ext cx="9172440" cy="33526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6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900" spc="-1" strike="noStrike">
                <a:solidFill>
                  <a:srgbClr val="000000"/>
                </a:solidFill>
                <a:latin typeface="Arial"/>
              </a:rPr>
              <a:t>Non-RCE4</a:t>
            </a:r>
            <a:br>
              <a:rPr sz="2900"/>
            </a:br>
            <a:r>
              <a:rPr b="1" lang="en-CA" sz="2900" spc="-1" strike="noStrike">
                <a:solidFill>
                  <a:srgbClr val="000000"/>
                </a:solidFill>
                <a:latin typeface="Arial"/>
              </a:rPr>
              <a:t>Major Color Table (Palette) Merge </a:t>
            </a:r>
            <a:br>
              <a:rPr sz="2900"/>
            </a:br>
            <a:r>
              <a:rPr b="1" lang="en-CA" sz="2900" spc="-1" strike="noStrike">
                <a:solidFill>
                  <a:srgbClr val="000000"/>
                </a:solidFill>
                <a:latin typeface="Arial"/>
              </a:rPr>
              <a:t>from Above and Left CU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7" descr="logo"/>
          <p:cNvPicPr/>
          <p:nvPr/>
        </p:nvPicPr>
        <p:blipFill>
          <a:blip r:embed="rId4"/>
          <a:stretch/>
        </p:blipFill>
        <p:spPr>
          <a:xfrm>
            <a:off x="1509840" y="819000"/>
            <a:ext cx="3782880" cy="405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1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309600" y="407664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oLin Lai, Shan Lu, Tzu-Der (Peter) Chuang, Yu-Wen Huang, Shawmin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3"/>
          <p:cNvSpPr/>
          <p:nvPr/>
        </p:nvSpPr>
        <p:spPr>
          <a:xfrm>
            <a:off x="5292720" y="5621400"/>
            <a:ext cx="35416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n L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1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an Jos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9–17 Jan.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ajor Color Table (Palette) Predi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11280" y="1339560"/>
            <a:ext cx="8208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CE4, major color tables of neighboring CUs can be used to predict the major color table of the current 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CE4 Test1, the major color tables of the left / above CUs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CE4 Test2, the major color tables of the left CUs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P0152, copy entire table from left / above 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49"/>
              </a:spcBef>
              <a:buClr>
                <a:srgbClr val="ed6d00"/>
              </a:buClr>
              <a:buFont typeface="Arial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neighboring CU is not coded in palette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color table of the neighboring CU is set to al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or major color table cannot be propagated to following 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投影片編號版面配置區 4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2443-5951-4707-A676-CF0E767C6D1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0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26760" y="1339560"/>
            <a:ext cx="8055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non-palette CU, the major color table of its left CU is used as its major color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major color table can be a reference major color table for following C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or major color table can be propagated through non-palette C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current CU, even neighbors are non-palette CU, there are still major color tables (propagated from left palette-coded CU) to be used for the element-wise c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投影片編號版面配置區 4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89D3-31B4-4995-B4B8-6E402690DFE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0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620280" y="1123560"/>
            <a:ext cx="83422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chor: RCE4 Test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, 2.3%, and 1.5%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D-rate savings for SC YUV 444 sequences under AI-MT, RA-MT, and LB-MT, respectiv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nk Microsoft for cross-verification (JCTVC-P026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on Top of RCE4 Test1 - Loss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投影片編號版面配置區 3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8033-DEC8-4EDA-B4C1-E1EECD4A06C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212760" y="3500280"/>
          <a:ext cx="8712000" cy="2533680"/>
        </p:xfrm>
        <a:graphic>
          <a:graphicData uri="http://schemas.openxmlformats.org/drawingml/2006/table">
            <a:tbl>
              <a:tblPr/>
              <a:tblGrid>
                <a:gridCol w="1844640"/>
                <a:gridCol w="981000"/>
                <a:gridCol w="981000"/>
                <a:gridCol w="981360"/>
                <a:gridCol w="981000"/>
                <a:gridCol w="981000"/>
                <a:gridCol w="981000"/>
                <a:gridCol w="981000"/>
              </a:tblGrid>
              <a:tr h="252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D-rat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S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nimation 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YUV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nimation YUV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nge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(444) GBR O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(444) YUV O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5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6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7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0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620280" y="1123560"/>
            <a:ext cx="8055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chor: RCE4 Test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9%, 1.6%, and 1.5%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D-rate savings for SC YUV 444 sequences under AI, RA, and LB, respectiv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2080" y="384120"/>
            <a:ext cx="84135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on Top of RCE4 Test1 - Loss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投影片編號版面配置區 3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50C4-138F-4A43-891B-CD93CDEEE5D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124000" y="2997360"/>
          <a:ext cx="4680000" cy="3060720"/>
        </p:xfrm>
        <a:graphic>
          <a:graphicData uri="http://schemas.openxmlformats.org/drawingml/2006/table">
            <a:tbl>
              <a:tblPr/>
              <a:tblGrid>
                <a:gridCol w="2158920"/>
                <a:gridCol w="841680"/>
                <a:gridCol w="839520"/>
                <a:gridCol w="83988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Average bit-rate incr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Ani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Ani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ange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SC (Opt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3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SC (Opt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5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4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2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0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20280" y="1123560"/>
            <a:ext cx="8055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chor: RCE4 Test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4%, 1.3%, and 0.6%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D-rate savings for SC YUV 444 sequences under AI-MT, RA-MT, and LB-MT, respectiv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nk Qualcomm for cross-verification (JCTVC-P024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on Top of RCE4 Test2 - Loss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投影片編號版面配置區 3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30AD-CFEE-42C6-BF3E-BA0297C0687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28600" y="3500280"/>
          <a:ext cx="8712360" cy="2533680"/>
        </p:xfrm>
        <a:graphic>
          <a:graphicData uri="http://schemas.openxmlformats.org/drawingml/2006/table">
            <a:tbl>
              <a:tblPr/>
              <a:tblGrid>
                <a:gridCol w="1844640"/>
                <a:gridCol w="981000"/>
                <a:gridCol w="981360"/>
                <a:gridCol w="981000"/>
                <a:gridCol w="981000"/>
                <a:gridCol w="981000"/>
                <a:gridCol w="981000"/>
                <a:gridCol w="981360"/>
              </a:tblGrid>
              <a:tr h="252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D-rat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S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nimation 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YUV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nimation YUV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nge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(444) GBR O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(444) YUV O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5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5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0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620280" y="1123560"/>
            <a:ext cx="8055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chor: RCE4 Test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1%, 1.2%, and 1.6%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D-rate savings for SC YUV 444 sequences under AI, RA, and LB, respectiv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2080" y="384120"/>
            <a:ext cx="84135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on Top of RCE4 Test2 - Loss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投影片編號版面配置區 3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836F-5DEF-4A24-80E1-EDB3C8B9269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2124000" y="2997360"/>
          <a:ext cx="4680000" cy="3060720"/>
        </p:xfrm>
        <a:graphic>
          <a:graphicData uri="http://schemas.openxmlformats.org/drawingml/2006/table">
            <a:tbl>
              <a:tblPr/>
              <a:tblGrid>
                <a:gridCol w="2158920"/>
                <a:gridCol w="841680"/>
                <a:gridCol w="839520"/>
                <a:gridCol w="83988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Average bit-rate incr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Ani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Ani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ange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SC (Opt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3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SC (Opt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5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5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4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2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0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627120" y="1353600"/>
            <a:ext cx="84088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ropagate the major color tab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ugh non-palette C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non-palette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jor color table of its left CU is used as its major col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able can be a reference major color table for following C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or major color table can be propagated through non-palette 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1D71-F28F-4F48-8C48-14E29A7272F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0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155600" y="3317760"/>
          <a:ext cx="6873840" cy="2127240"/>
        </p:xfrm>
        <a:graphic>
          <a:graphicData uri="http://schemas.openxmlformats.org/drawingml/2006/table">
            <a:tbl>
              <a:tblPr/>
              <a:tblGrid>
                <a:gridCol w="4353120"/>
                <a:gridCol w="863640"/>
                <a:gridCol w="865080"/>
                <a:gridCol w="792000"/>
              </a:tblGrid>
              <a:tr h="619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Y-BD r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YUV 444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762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On top of RCE4 Test1, Lossy-M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2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2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80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On top of RCE4 Test1, Loss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62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On top of RCE4 Test2, Lossy-M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0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7764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On top of RCE4 Test2, Loss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9" descr="gray_bot"/>
          <p:cNvPicPr/>
          <p:nvPr/>
        </p:nvPicPr>
        <p:blipFill>
          <a:blip r:embed="rId1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cover_back_8"/>
          <p:cNvPicPr/>
          <p:nvPr/>
        </p:nvPicPr>
        <p:blipFill>
          <a:blip r:embed="rId2"/>
          <a:stretch/>
        </p:blipFill>
        <p:spPr>
          <a:xfrm>
            <a:off x="-9360" y="1978200"/>
            <a:ext cx="9172440" cy="3352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6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0152 Major Color Table Merge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P0096 Major Color Table Propag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7" descr="logo"/>
          <p:cNvPicPr/>
          <p:nvPr/>
        </p:nvPicPr>
        <p:blipFill>
          <a:blip r:embed="rId4"/>
          <a:stretch/>
        </p:blipFill>
        <p:spPr>
          <a:xfrm>
            <a:off x="1509840" y="819000"/>
            <a:ext cx="3782880" cy="405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1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13"/>
          <p:cNvSpPr/>
          <p:nvPr/>
        </p:nvSpPr>
        <p:spPr>
          <a:xfrm>
            <a:off x="5292720" y="5621400"/>
            <a:ext cx="35416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n L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1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an Jos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9–17 Jan.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7451640" y="168120"/>
            <a:ext cx="157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+ JCTVC-P00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626760" y="1282320"/>
            <a:ext cx="8055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0152 Major color table (palette) merge, select amo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entire MC table from the left C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ust 2 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entire MC table from the above C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ust 2 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it’s own M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0096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color table (palette)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ropag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non-palette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jor color table of its left CU is used as its major col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able can be a reference major color table for following 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mbined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e coded-palette from the left CU for non-palette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 above / left” now could actually be merging with a previously-coded-palette that is not from a CU adjacent to the current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A78C-B7B0-4AC0-9B6D-67149B10187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7451640" y="168120"/>
            <a:ext cx="157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+ JCTVC-P00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15AD-CCA1-47F4-9B30-1216502B3C1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755640" y="1484280"/>
          <a:ext cx="7632720" cy="1800360"/>
        </p:xfrm>
        <a:graphic>
          <a:graphicData uri="http://schemas.openxmlformats.org/drawingml/2006/table">
            <a:tbl>
              <a:tblPr/>
              <a:tblGrid>
                <a:gridCol w="3887640"/>
                <a:gridCol w="1293840"/>
                <a:gridCol w="1227240"/>
                <a:gridCol w="1224000"/>
              </a:tblGrid>
              <a:tr h="619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Y-BD rates,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os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YUV 444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M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-M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-M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762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P0152 Method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80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P00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2696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P0152,M1 + P00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653" name="Rectangle 8"/>
          <p:cNvSpPr/>
          <p:nvPr/>
        </p:nvSpPr>
        <p:spPr>
          <a:xfrm>
            <a:off x="7451640" y="168120"/>
            <a:ext cx="157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+ JCTVC-P00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755640" y="3716280"/>
          <a:ext cx="7632720" cy="1800360"/>
        </p:xfrm>
        <a:graphic>
          <a:graphicData uri="http://schemas.openxmlformats.org/drawingml/2006/table">
            <a:tbl>
              <a:tblPr/>
              <a:tblGrid>
                <a:gridCol w="3887640"/>
                <a:gridCol w="1293840"/>
                <a:gridCol w="1227240"/>
                <a:gridCol w="1224000"/>
              </a:tblGrid>
              <a:tr h="619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Y-BD rates,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oss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YUV 444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762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P0152 Method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80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P00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2696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P0152,M1 + P00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urrently in RCE4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ajor Color Table (Palette) Predi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11280" y="1555560"/>
            <a:ext cx="8532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CE4, major color tables (palettes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neighboring CUs can be used to predict the major color table of the current 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CE4 Test1, the major color tables of the left / above CUs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CE4 Test2, the major color tables of the left CUs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-wise c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major color element in the table, i.e. MCtable_current [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table_current [n] can copy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rrespon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Ctable_above/left [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ment MCtable_current [n]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 to indicate copy, and copy direction (above/left), or code colo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投影片編號版面配置區 4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19E7-34DB-4907-8454-DE5EE5F1996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620280" y="1123560"/>
            <a:ext cx="8055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chor: RCE4 Test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6%, 3.7%, and 2.4%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D-rate savings for SC YUV 444 sequences under AI-MT, RA-MT, and LB-M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ed Results - Loss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投影片編號版面配置區 3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E630-07D1-4156-B76F-43A42328D31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212760" y="3500280"/>
          <a:ext cx="8712000" cy="2533680"/>
        </p:xfrm>
        <a:graphic>
          <a:graphicData uri="http://schemas.openxmlformats.org/drawingml/2006/table">
            <a:tbl>
              <a:tblPr/>
              <a:tblGrid>
                <a:gridCol w="1844640"/>
                <a:gridCol w="981000"/>
                <a:gridCol w="981000"/>
                <a:gridCol w="981360"/>
                <a:gridCol w="981000"/>
                <a:gridCol w="981000"/>
                <a:gridCol w="981000"/>
                <a:gridCol w="981000"/>
              </a:tblGrid>
              <a:tr h="252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D-rat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S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nimation 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YUV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nimation YUV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nge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(444) GBR O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7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6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6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5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5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(444) YUV O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8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9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7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8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5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6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9" name="Rectangle 8"/>
          <p:cNvSpPr/>
          <p:nvPr/>
        </p:nvSpPr>
        <p:spPr>
          <a:xfrm>
            <a:off x="7451640" y="168120"/>
            <a:ext cx="157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+ JCTVC-P00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620280" y="1123560"/>
            <a:ext cx="8055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chor: RCE4 Test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8%, 2.3%, and 2.3%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D-rate savings for SC YUV 444 sequences under AI, RA, and LB, respectiv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2080" y="384120"/>
            <a:ext cx="84135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ed Results - Loss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投影片編號版面配置區 3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CFEE-9CA4-47BB-92DD-96B1E0F54B1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2124000" y="3233880"/>
          <a:ext cx="4680000" cy="2787480"/>
        </p:xfrm>
        <a:graphic>
          <a:graphicData uri="http://schemas.openxmlformats.org/drawingml/2006/table">
            <a:tbl>
              <a:tblPr/>
              <a:tblGrid>
                <a:gridCol w="2158920"/>
                <a:gridCol w="841680"/>
                <a:gridCol w="839520"/>
                <a:gridCol w="839880"/>
              </a:tblGrid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Average bit-rate incr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Ani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Ani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ange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SC (Opt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6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6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SC (Opt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8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7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7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Rectangle 8"/>
          <p:cNvSpPr/>
          <p:nvPr/>
        </p:nvSpPr>
        <p:spPr>
          <a:xfrm>
            <a:off x="7451640" y="168120"/>
            <a:ext cx="157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+ JCTVC-P00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: MC Table (Palette) Mer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27120" y="980640"/>
            <a:ext cx="8337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current 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entire major color table from the left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entire major color table from the above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it’s own major col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. and b.(merge), save syntax for major color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la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_color_me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to indicate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la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_color_merge_d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indicate left/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syntax for M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c.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_color_me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two options tes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element-wise copy (as in RCE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Ctable_current [n]: Copy flag, copy direction flag, or colo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element-wise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Ctable_current [n]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code colo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er evaluates a. b. and c. based on 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投影片編號版面配置區 4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79A8-6B64-4A1D-AD8F-510B9974C18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620280" y="1123560"/>
            <a:ext cx="8055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chor: RCE4 Test1 (P01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2%, 1.6%, and 1.0%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D-rate savings for SC YUV 444 sequences under AI-MT, RA-MT, and LB-MT, respectiv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3404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ethod 1: Non-merge has Element-wise Copy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投影片編號版面配置區 3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03AA-A1D1-4D8C-BE18-943D4359B64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50920" y="3500280"/>
          <a:ext cx="8712000" cy="2533680"/>
        </p:xfrm>
        <a:graphic>
          <a:graphicData uri="http://schemas.openxmlformats.org/drawingml/2006/table">
            <a:tbl>
              <a:tblPr/>
              <a:tblGrid>
                <a:gridCol w="1844640"/>
                <a:gridCol w="981000"/>
                <a:gridCol w="981000"/>
                <a:gridCol w="981000"/>
                <a:gridCol w="981360"/>
                <a:gridCol w="981000"/>
                <a:gridCol w="981000"/>
                <a:gridCol w="981000"/>
              </a:tblGrid>
              <a:tr h="252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D-rat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S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nimation 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YUV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nimation YUV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nge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(444) GBR O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(444) YUV O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620280" y="1123560"/>
            <a:ext cx="8055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chor: RCE4 Test1 (P01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7%, 1.2%, and 1.1%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D-rate savings for SC YUV 444 sequences under AI, RA, and LB, respectiv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2080" y="384120"/>
            <a:ext cx="85215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ethod 1: Non-merge has Element-wise Copy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投影片編號版面配置區 3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6C83-8051-4AFD-B2D6-C5B7EFC81AA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2124000" y="2997360"/>
          <a:ext cx="4680000" cy="2787480"/>
        </p:xfrm>
        <a:graphic>
          <a:graphicData uri="http://schemas.openxmlformats.org/drawingml/2006/table">
            <a:tbl>
              <a:tblPr/>
              <a:tblGrid>
                <a:gridCol w="2158920"/>
                <a:gridCol w="841680"/>
                <a:gridCol w="839520"/>
                <a:gridCol w="839880"/>
              </a:tblGrid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Average bit-rate incr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Ani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Ani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ange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SC (Opt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3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3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SC (Opt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3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3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620280" y="1123560"/>
            <a:ext cx="8055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chor: RCE4 Test1 (P01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2%, 1.6%, and 1.0%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D-rate savings for SC YUV 444 sequences under AI-MT, RA-MT, and LB-MT, respectiv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3404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ethod 2: Non-merge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de all color valu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投影片編號版面配置區 3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75FE-BFFB-4E1C-A56C-32E79505877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250920" y="3500280"/>
          <a:ext cx="8712000" cy="2533680"/>
        </p:xfrm>
        <a:graphic>
          <a:graphicData uri="http://schemas.openxmlformats.org/drawingml/2006/table">
            <a:tbl>
              <a:tblPr/>
              <a:tblGrid>
                <a:gridCol w="1844640"/>
                <a:gridCol w="981000"/>
                <a:gridCol w="981000"/>
                <a:gridCol w="981000"/>
                <a:gridCol w="981360"/>
                <a:gridCol w="981000"/>
                <a:gridCol w="981000"/>
                <a:gridCol w="981000"/>
              </a:tblGrid>
              <a:tr h="252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D-rat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S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nimation 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YUV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nimation YUV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nge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(444) GBR O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(444) YUV O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5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20280" y="1123560"/>
            <a:ext cx="8055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chor: RCE4 Test1 (P01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6%, 1.1%, and 1.0%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D-rate savings for SC YUV 444 sequences under AI, RA, and LB, respectiv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2080" y="384120"/>
            <a:ext cx="85215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ethod 2: Non-merge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de all color valu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投影片編號版面配置區 3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8530-17CF-418B-A1DF-4A0549935AB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2124000" y="2997360"/>
          <a:ext cx="4680000" cy="2787480"/>
        </p:xfrm>
        <a:graphic>
          <a:graphicData uri="http://schemas.openxmlformats.org/drawingml/2006/table">
            <a:tbl>
              <a:tblPr/>
              <a:tblGrid>
                <a:gridCol w="2158920"/>
                <a:gridCol w="841680"/>
                <a:gridCol w="839520"/>
                <a:gridCol w="839880"/>
              </a:tblGrid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Average bit-rate incr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Ani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Ani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ange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SC (Opt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SC (Opt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3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color table (palette) merge, select amo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entire MC table from the left C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ust 2 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entire MC table from the above C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ust 2 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it’s own M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c.(non-merge), two options tes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element-wise copy (as in RCE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y code all the color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ADF3-4C98-4B04-913E-1E1E9B997D3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395280" y="3822840"/>
          <a:ext cx="8313840" cy="2127240"/>
        </p:xfrm>
        <a:graphic>
          <a:graphicData uri="http://schemas.openxmlformats.org/drawingml/2006/table">
            <a:tbl>
              <a:tblPr/>
              <a:tblGrid>
                <a:gridCol w="5792760"/>
                <a:gridCol w="865080"/>
                <a:gridCol w="863640"/>
                <a:gridCol w="792360"/>
              </a:tblGrid>
              <a:tr h="618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Y-BD rate, on top of RCE4 Test1 (P010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YUV 444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7656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Test 1: Non-merge has element-wise, Lossy-M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2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764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Test 1: Non-merge has element-wise, Loss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62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Test 2: Non-merge codes all colors, Lossy-M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2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780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Test 2: Non-merge codes all colors, Loss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9" descr="gray_bot"/>
          <p:cNvPicPr/>
          <p:nvPr/>
        </p:nvPicPr>
        <p:blipFill>
          <a:blip r:embed="rId1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" descr="cover_back_8"/>
          <p:cNvPicPr/>
          <p:nvPr/>
        </p:nvPicPr>
        <p:blipFill>
          <a:blip r:embed="rId2"/>
          <a:stretch/>
        </p:blipFill>
        <p:spPr>
          <a:xfrm>
            <a:off x="-9360" y="1978200"/>
            <a:ext cx="9172440" cy="335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6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Non-RCE4: Major color table propagation through non-palette C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7" descr="logo"/>
          <p:cNvPicPr/>
          <p:nvPr/>
        </p:nvPicPr>
        <p:blipFill>
          <a:blip r:embed="rId4"/>
          <a:stretch/>
        </p:blipFill>
        <p:spPr>
          <a:xfrm>
            <a:off x="1509840" y="819000"/>
            <a:ext cx="3782880" cy="405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1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09600" y="407664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zu-Der (Peter) Chuang, PoLin Lai, Yu-Chen Sun, Yi-Wen Ch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Yu-Wen Huang, Shan Lu, Shawmin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3"/>
          <p:cNvSpPr/>
          <p:nvPr/>
        </p:nvSpPr>
        <p:spPr>
          <a:xfrm>
            <a:off x="5292720" y="5621400"/>
            <a:ext cx="35416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n L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1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an Jos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9–17 Jan.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0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xzhang</dc:creator>
  <dc:description>Confidential A</dc:description>
  <cp:keywords>Confidential A</cp:keywords>
  <dc:language>en-US</dc:language>
  <cp:lastModifiedBy>mtk30288</cp:lastModifiedBy>
  <dcterms:modified xsi:type="dcterms:W3CDTF">2014-01-10T07:12:10Z</dcterms:modified>
  <cp:revision>2598</cp:revision>
  <dc:subject/>
  <dc:title>JCTVC-H0455</dc:title>
</cp:coreProperties>
</file>