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332000" y="6494400"/>
            <a:ext cx="8762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34A-F97B-4CC3-9FC4-A57E53B707DD}" type="slidenum"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4797360"/>
            <a:ext cx="71280" cy="93672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 Bold"/>
              </a:rPr>
              <a:t>RExt HLS (AHG5 and 9): SEI message for alpha channel inform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 Bold"/>
              </a:rPr>
              <a:t>JCTVC-P0123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parameters and associated 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SEI message for alpha channel inform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7640" y="838080"/>
            <a:ext cx="8929800" cy="432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pecifies for each pixel its degree of transparency or opac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Content Placeholder 9"/>
          <p:cNvSpPr/>
          <p:nvPr/>
        </p:nvSpPr>
        <p:spPr>
          <a:xfrm>
            <a:off x="108000" y="3213000"/>
            <a:ext cx="8929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HEVC supports transmission of alpha channel using auxiliary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Do not have norma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ransmitted as an additional scalability dimension in the bitstream (O0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ccordingly, each signal dependent parameter can be transmitted using specific SE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is contribution therefore proposes an SEI message to signal parameters related to the alpha channel and its use in fram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test"/>
          <p:cNvPicPr/>
          <p:nvPr/>
        </p:nvPicPr>
        <p:blipFill>
          <a:blip r:embed="rId1"/>
          <a:stretch/>
        </p:blipFill>
        <p:spPr>
          <a:xfrm>
            <a:off x="1620720" y="1341360"/>
            <a:ext cx="2708280" cy="15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alpha"/>
          <p:cNvPicPr/>
          <p:nvPr/>
        </p:nvPicPr>
        <p:blipFill>
          <a:blip r:embed="rId2"/>
          <a:stretch/>
        </p:blipFill>
        <p:spPr>
          <a:xfrm>
            <a:off x="4842000" y="1341360"/>
            <a:ext cx="270648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Alpha channel parameters and associated processing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7640" y="909360"/>
            <a:ext cx="8929800" cy="532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For alpha channel signals, it is desirable to transmit the following information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Values for opaque and transparent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Bit depth associated to alpha channel pixe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hether sample values should be clipped, filtered, etc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hether the received primary picture is a pre-multiplied alph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hether the received alpha channel should be up-sampl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proposed SEI message for alpha channel information includes all these featur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roposed SEI message for alpha channel information 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38" name="Table 3" descr=""/>
          <p:cNvPicPr/>
          <p:nvPr/>
        </p:nvPicPr>
        <p:blipFill>
          <a:blip r:embed="rId1"/>
          <a:stretch/>
        </p:blipFill>
        <p:spPr>
          <a:xfrm>
            <a:off x="4797360" y="781200"/>
            <a:ext cx="3882960" cy="5626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260640" y="909720"/>
            <a:ext cx="308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Indicates the use of alpha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Multiply with primar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Do n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8"/>
          <p:cNvCxnSpPr>
            <a:stCxn id="139" idx="3"/>
          </p:cNvCxnSpPr>
          <p:nvPr/>
        </p:nvCxnSpPr>
        <p:spPr>
          <a:xfrm>
            <a:off x="3348000" y="1386000"/>
            <a:ext cx="172944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TextBox 15"/>
          <p:cNvSpPr/>
          <p:nvPr/>
        </p:nvSpPr>
        <p:spPr>
          <a:xfrm>
            <a:off x="252360" y="204300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Avoids division during frame com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6"/>
          <p:cNvCxnSpPr>
            <a:stCxn id="141" idx="3"/>
          </p:cNvCxnSpPr>
          <p:nvPr/>
        </p:nvCxnSpPr>
        <p:spPr>
          <a:xfrm flipV="1">
            <a:off x="3204720" y="2204640"/>
            <a:ext cx="187236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3" name="TextBox 19"/>
          <p:cNvSpPr/>
          <p:nvPr/>
        </p:nvSpPr>
        <p:spPr>
          <a:xfrm>
            <a:off x="260640" y="2997360"/>
            <a:ext cx="357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Indicates  alpha channel values cli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Binary cli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Linear cli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20"/>
          <p:cNvCxnSpPr>
            <a:stCxn id="143" idx="3"/>
          </p:cNvCxnSpPr>
          <p:nvPr/>
        </p:nvCxnSpPr>
        <p:spPr>
          <a:xfrm flipV="1">
            <a:off x="3844800" y="2356560"/>
            <a:ext cx="1232280" cy="1010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5" name="TextBox 23"/>
          <p:cNvSpPr/>
          <p:nvPr/>
        </p:nvSpPr>
        <p:spPr>
          <a:xfrm>
            <a:off x="263520" y="4491000"/>
            <a:ext cx="344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Indicates whether alpha channel up-sampling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24"/>
          <p:cNvCxnSpPr>
            <a:stCxn id="145" idx="3"/>
          </p:cNvCxnSpPr>
          <p:nvPr/>
        </p:nvCxnSpPr>
        <p:spPr>
          <a:xfrm flipV="1">
            <a:off x="3708000" y="2996640"/>
            <a:ext cx="1369080" cy="1756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4-01-10T17:34:51Z</dcterms:modified>
  <cp:revision>1053</cp:revision>
  <dc:subject/>
  <dc:title>JCTVC-H0477 On Just Noticeable Distortion Quantization in the HEVC Codec</dc:title>
</cp:coreProperties>
</file>