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D6A1-5C1D-43CF-AEA8-ECDA8BB7A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C6DA-DF7B-4236-90A3-2DD5C8EFDA0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AF74-E0F5-4FA9-81BB-BEF0626DBBB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61E58-69E3-4804-84E7-77BC6F631F5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DB82-3FB0-47B6-8ED1-11BE57B723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A100A-D425-4898-8DE3-D49B4D701E8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57DDB-8B69-49F2-A121-75AA4173683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42314-5A47-4835-AB02-C67A64D0569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61790-316C-470B-9D7F-541665CC5E5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8E769-F886-4B92-A7C0-4A86ECDA386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629B8-2485-4597-9098-1838D9A9E89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62B018-A881-4D82-8DF0-D72374F76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F710-55FF-4CFD-B729-9E78D0CF1FF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036693-C9C1-4779-89FC-2E1705F986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B1EA76-FA81-48DC-9E3A-4A4103D9E2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D3F13-D7F7-4AE1-BFD5-140822C2A10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A28D0-1800-4999-B644-3E4955E53F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6759C-A39A-4504-9C17-B97383FFFDE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4E34D-0535-4C78-8C9A-537CDB74D8D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8C03D-E6D8-4AF9-A78F-92C538754D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A763B-F5ED-4C1A-91FD-B5ED6DF26AA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C751F-37E1-4FCD-B61D-6B40779E09F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62C8A-E207-4D62-B5C6-4D19DD8A5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790F-C020-4351-A633-0D252B28695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ACB1F-B0E8-41D8-9967-1BC5B9B14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C9369-AA43-4B24-9947-7261E30C41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92FBF-5A0A-416A-A940-0078031145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A64B7-968C-46FD-A59E-0237E177E4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F4302-4ED0-47B7-91A8-D70DF07EEF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CDCD2-E457-4E40-B750-01FD9CA66C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5603D-A0F9-4108-A359-8EF76A20AD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B520A-B17C-4CD3-83A8-A06E396BC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A67E-44F1-476C-AE87-40ED30A9C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E8882-BDA4-4B8A-BFF9-711C185A67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93840-88B7-43EC-AD9F-F00936976F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BA59C-80F7-4D3C-B3D0-4273761455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2A1F2-607A-4E35-95BB-97840A208B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0E126-1B36-4FDC-954A-82CDEA2275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653C-BD9D-445F-8866-4BA33B888A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A380-3612-4058-BEE7-3A8E116DA1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8D06-2D1F-4512-9DAA-B966F6028F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B5D1-C33F-44D8-801D-4C93D4F82C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34F5-482F-4D1C-83EF-0296811490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1B5B-DC93-47DA-91C5-21803A34C0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E254-292B-46B4-B9F1-AD253D87B1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BD05-67FF-4B3A-9ADA-550D2E3F43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BBB6-EA1B-4D5F-B552-BE8C6077EC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F165-0997-4585-AB7B-FF218908AA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0157-7957-4D5A-A8EB-C4FA27BF0E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0460-6DF0-4FB2-B80B-AB7B099B7F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26CD-8677-4F13-8F7A-6896956F0F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83B61-4EC3-4543-8925-5203953652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1C91A-4F47-4276-B6FB-8CB62DCA3C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9F342-0E71-4256-974C-0B5954603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10C8-6FB6-4D95-85C1-DC032B9C0D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522EC-AE67-4BED-B179-70A2FF0817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BACAD-7305-4F98-A980-D7203654B8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2A98F-0190-465A-AA30-F7EF9B0CC3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E7A3C-517F-408C-B9B6-63D4F15D22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4AF3F-025E-4591-AC4F-B6930F12F8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45FC8-FC17-4E82-B3E2-EB2D944C94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4939B-589E-4CF9-968E-A7EE9676BF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62695-A839-41E4-B39D-517BB647F1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181C0-58A6-4674-8236-F987174EBF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2BFE4F-516D-437C-A252-4526CD720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0D09-9984-4AF3-A2C1-2D4EFB50CC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1DF49-01A9-447B-A90B-42332A0B1D4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12089-27B3-41D2-A33C-9BDFE2B44B2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7F1BA-3B98-4B35-A3F1-D07FB200D11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3C51C-F8A2-49A6-BD44-6A7E0B8C56A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D149B-744C-455F-8287-CFEFFB3BAFA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884EE-4F01-421C-875F-EEBFD7AF16F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E3A2A-9907-4042-B2BD-621FD76C4C7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101216-4AD1-4BF6-B374-25E59A6AAB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D01E40-9BE8-4B0D-8C50-9DD9847599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22277-8A01-4E87-AAB2-7ADE356BF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82F6-27CB-4256-B988-2108C2A6D95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3BBA4-B6CE-4151-8E99-28CC531506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5D231-CCA4-4603-9A19-4AB1E84DAF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1DCFC-2AB6-4363-B107-75697FF3920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5B5E5-8AEF-4815-BF26-EF20B57CA75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63E23-45EA-4E6A-8F5A-99BE98544EA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7BF62-5FA8-4604-8A13-CF296632DE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BAB3C-2756-46EF-8255-63764409913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AF87-05E5-4543-9458-6D88940038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B4908-D14A-4B22-8BE0-EA819FE0B0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C3F12-D977-4AD3-9B01-FEF5CF1BA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00DE-6DD5-40AA-975A-1BC231171E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6B47-5B54-4FE4-B690-6075900A93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FB7B8-45B8-41CC-88E2-7B920010BF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AB6CE-CFA3-4E39-8820-AFA1003543B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7D848-993C-41A2-85AC-FF853BD7982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5EE99-A046-4889-B0EF-CCB2955D21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610BA-D60A-49C6-B81D-6789278EDA1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4E2F2-9144-437F-B870-CB2E3126A6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0CB57-057B-4B71-A622-4447F075D99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BF3B6-9FA6-4982-B748-29731528A0D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ED154-2E30-4C6A-B7AD-EF7CE61AB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70FC-FB1B-43EA-8D85-15EFBDAC2C4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92ACF-DD2B-405C-8C88-57742F843CE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15FA7-6599-499B-9B3F-7F1FCE7B44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ECDDF-02F1-45AD-BA89-5E959177F5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E4F2D-D50B-4E20-9FDF-172D31352CE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BBE2E-2CF8-4DA8-BB2D-64E98A71E3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127536-410D-49A2-A3A5-CFE0B6BC5C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893E97-1ECC-42EF-A567-FC815E763F2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F559CA-0E8C-41B7-8651-D2338490452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39CDFD-359A-417A-B3D2-4108E0D2FB4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A86D5B-5EB0-431B-91A5-1D6ABDDB3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6C97A-4621-435D-BCE9-898997860E0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86AC39-C03D-483E-87E0-9D22BA8E6CC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F34DDB-B63C-4919-A05C-B8C028E8C43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A55057-7A66-4A02-9348-E0D7B54DC0B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99E3AB-90AA-4185-9888-BAFDF8F8DAE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59CF9D-A1D1-4D78-928B-8967EA0746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8765D3-2297-42C3-B795-8026BC2431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EF075C-E072-4C90-93D4-76B3B831022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60AB7-E943-468D-BD06-363C524E806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98BB1-143B-4CE0-B3C3-20141A3DDAD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89E74-9A44-48F4-AD2D-56CFA6A2F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22EF-47BF-4135-B075-1B0500560928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2"/>
          <a:stretch/>
        </p:blipFill>
        <p:spPr>
          <a:xfrm>
            <a:off x="0" y="6384960"/>
            <a:ext cx="1500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" descr=""/>
          <p:cNvPicPr/>
          <p:nvPr/>
        </p:nvPicPr>
        <p:blipFill>
          <a:blip r:embed="rId2"/>
          <a:stretch/>
        </p:blipFill>
        <p:spPr>
          <a:xfrm>
            <a:off x="0" y="6384960"/>
            <a:ext cx="1500120" cy="473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9"/>
          </p:nvPr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20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64D1-B118-46F1-901C-CDA2B73AAB0B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0" y="6384960"/>
            <a:ext cx="1500120" cy="473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3"/>
          <a:stretch/>
        </p:blipFill>
        <p:spPr>
          <a:xfrm>
            <a:off x="190440" y="141120"/>
            <a:ext cx="4030560" cy="127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5C7D-590C-461F-8E60-1B04BDEAF9AB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0" y="6384960"/>
            <a:ext cx="1500120" cy="473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1501920" y="649296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53DA-E8DE-44E5-8EDF-0240D6A647C9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0" y="6384960"/>
            <a:ext cx="1500120" cy="473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190440" y="141120"/>
            <a:ext cx="4030560" cy="1279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7"/>
          </p:nvPr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2C8C-3CEF-4E5C-8093-39B5F05C12DC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"/>
          <p:cNvPicPr/>
          <p:nvPr/>
        </p:nvPicPr>
        <p:blipFill>
          <a:blip r:embed="rId2"/>
          <a:stretch/>
        </p:blipFill>
        <p:spPr>
          <a:xfrm>
            <a:off x="0" y="6384960"/>
            <a:ext cx="1500120" cy="473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9"/>
          </p:nvPr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0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039F-8B62-41FF-BB56-4C2D891F48FA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0" y="6384960"/>
            <a:ext cx="1500120" cy="473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7AE9-935D-46A5-93EE-73AC4928E314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9" descr=""/>
          <p:cNvPicPr/>
          <p:nvPr/>
        </p:nvPicPr>
        <p:blipFill>
          <a:blip r:embed="rId2"/>
          <a:stretch/>
        </p:blipFill>
        <p:spPr>
          <a:xfrm>
            <a:off x="0" y="6384960"/>
            <a:ext cx="1500120" cy="4730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3"/>
          </p:nvPr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016F-36CD-42EF-BB85-B2C105D43CA0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9" descr=""/>
          <p:cNvPicPr/>
          <p:nvPr/>
        </p:nvPicPr>
        <p:blipFill>
          <a:blip r:embed="rId2"/>
          <a:stretch/>
        </p:blipFill>
        <p:spPr>
          <a:xfrm>
            <a:off x="0" y="6384960"/>
            <a:ext cx="1500120" cy="473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15"/>
          </p:nvPr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6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EE9E-6A9A-41EB-80BF-361FC7090D4A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9" descr=""/>
          <p:cNvPicPr/>
          <p:nvPr/>
        </p:nvPicPr>
        <p:blipFill>
          <a:blip r:embed="rId2"/>
          <a:stretch/>
        </p:blipFill>
        <p:spPr>
          <a:xfrm>
            <a:off x="0" y="6384960"/>
            <a:ext cx="1500120" cy="473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17"/>
          </p:nvPr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18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6201-95FD-412D-89DC-EF5472AD0606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1"/>
          <p:cNvSpPr/>
          <p:nvPr/>
        </p:nvSpPr>
        <p:spPr>
          <a:xfrm>
            <a:off x="5446800" y="6459480"/>
            <a:ext cx="130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/1/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RCE4: Advanced copy mode for Palette 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h-Chung 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h-Sheng 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ao-Hsiung H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ooter Placeholder 1"/>
          <p:cNvSpPr/>
          <p:nvPr/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0F12-216F-4012-BFA6-E95A9A5947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it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23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quired data are in the current C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data access from external memo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a comparators can be easily integrated in current method to realize parallel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2"/>
          <p:cNvSpPr/>
          <p:nvPr/>
        </p:nvSpPr>
        <p:spPr>
          <a:xfrm>
            <a:off x="1501920" y="649296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763E-B074-411A-90DB-475584D70D0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"/>
          <p:cNvSpPr/>
          <p:nvPr/>
        </p:nvSpPr>
        <p:spPr>
          <a:xfrm>
            <a:off x="4270320" y="4294080"/>
            <a:ext cx="603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4270320" y="4653000"/>
            <a:ext cx="603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4270320" y="5013360"/>
            <a:ext cx="603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4270320" y="5373720"/>
            <a:ext cx="603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4270320" y="5732640"/>
            <a:ext cx="603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1166760" y="4440240"/>
            <a:ext cx="1654200" cy="1508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mory for CU pixe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Elbow Connector 21"/>
          <p:cNvCxnSpPr>
            <a:endCxn id="606" idx="1"/>
          </p:cNvCxnSpPr>
          <p:nvPr/>
        </p:nvCxnSpPr>
        <p:spPr>
          <a:xfrm>
            <a:off x="2820960" y="5732640"/>
            <a:ext cx="1450080" cy="18144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9" name="Elbow Connector 24"/>
          <p:cNvCxnSpPr>
            <a:endCxn id="605" idx="1"/>
          </p:cNvCxnSpPr>
          <p:nvPr/>
        </p:nvCxnSpPr>
        <p:spPr>
          <a:xfrm>
            <a:off x="2820960" y="5463720"/>
            <a:ext cx="1450080" cy="8964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0" name="Elbow Connector 26"/>
          <p:cNvCxnSpPr>
            <a:stCxn id="607" idx="3"/>
            <a:endCxn id="604" idx="1"/>
          </p:cNvCxnSpPr>
          <p:nvPr/>
        </p:nvCxnSpPr>
        <p:spPr>
          <a:xfrm>
            <a:off x="2820960" y="5194080"/>
            <a:ext cx="1450080" cy="108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1" name="Elbow Connector 28"/>
          <p:cNvCxnSpPr>
            <a:endCxn id="603" idx="1"/>
          </p:cNvCxnSpPr>
          <p:nvPr/>
        </p:nvCxnSpPr>
        <p:spPr>
          <a:xfrm flipV="1">
            <a:off x="2820960" y="4833360"/>
            <a:ext cx="1450080" cy="9108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2" name="Elbow Connector 30"/>
          <p:cNvCxnSpPr>
            <a:endCxn id="602" idx="1"/>
          </p:cNvCxnSpPr>
          <p:nvPr/>
        </p:nvCxnSpPr>
        <p:spPr>
          <a:xfrm flipV="1">
            <a:off x="2820960" y="4473360"/>
            <a:ext cx="1450080" cy="18144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3" name="Elbow Connector 37"/>
          <p:cNvCxnSpPr>
            <a:stCxn id="607" idx="0"/>
            <a:endCxn id="602" idx="0"/>
          </p:cNvCxnSpPr>
          <p:nvPr/>
        </p:nvCxnSpPr>
        <p:spPr>
          <a:xfrm flipH="1" flipV="1" rot="5400000">
            <a:off x="3208680" y="3077640"/>
            <a:ext cx="146880" cy="2578680"/>
          </a:xfrm>
          <a:prstGeom prst="bentConnector3">
            <a:avLst>
              <a:gd name="adj1" fmla="val 25700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4" name="Rectangle 55"/>
          <p:cNvSpPr/>
          <p:nvPr/>
        </p:nvSpPr>
        <p:spPr>
          <a:xfrm>
            <a:off x="5599080" y="4294080"/>
            <a:ext cx="91908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6"/>
          <p:cNvSpPr/>
          <p:nvPr/>
        </p:nvSpPr>
        <p:spPr>
          <a:xfrm>
            <a:off x="5599080" y="4653000"/>
            <a:ext cx="919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7"/>
          <p:cNvSpPr/>
          <p:nvPr/>
        </p:nvSpPr>
        <p:spPr>
          <a:xfrm>
            <a:off x="5599080" y="5013360"/>
            <a:ext cx="919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8"/>
          <p:cNvSpPr/>
          <p:nvPr/>
        </p:nvSpPr>
        <p:spPr>
          <a:xfrm>
            <a:off x="5599080" y="5373720"/>
            <a:ext cx="91908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59"/>
          <p:cNvSpPr/>
          <p:nvPr/>
        </p:nvSpPr>
        <p:spPr>
          <a:xfrm>
            <a:off x="5599080" y="5732640"/>
            <a:ext cx="919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54"/>
          <p:cNvCxnSpPr>
            <a:stCxn id="602" idx="3"/>
            <a:endCxn id="614" idx="1"/>
          </p:cNvCxnSpPr>
          <p:nvPr/>
        </p:nvCxnSpPr>
        <p:spPr>
          <a:xfrm>
            <a:off x="4873320" y="4473360"/>
            <a:ext cx="726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0" name="Straight Arrow Connector 62"/>
          <p:cNvCxnSpPr/>
          <p:nvPr/>
        </p:nvCxnSpPr>
        <p:spPr>
          <a:xfrm>
            <a:off x="4873320" y="4824000"/>
            <a:ext cx="726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1" name="Straight Arrow Connector 63"/>
          <p:cNvCxnSpPr/>
          <p:nvPr/>
        </p:nvCxnSpPr>
        <p:spPr>
          <a:xfrm>
            <a:off x="4873320" y="5194080"/>
            <a:ext cx="726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2" name="Straight Arrow Connector 64"/>
          <p:cNvCxnSpPr/>
          <p:nvPr/>
        </p:nvCxnSpPr>
        <p:spPr>
          <a:xfrm>
            <a:off x="4873320" y="5552640"/>
            <a:ext cx="726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3" name="Straight Arrow Connector 65"/>
          <p:cNvCxnSpPr/>
          <p:nvPr/>
        </p:nvCxnSpPr>
        <p:spPr>
          <a:xfrm>
            <a:off x="4873320" y="5913000"/>
            <a:ext cx="726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4" name="Cloud 60"/>
          <p:cNvSpPr/>
          <p:nvPr/>
        </p:nvSpPr>
        <p:spPr>
          <a:xfrm>
            <a:off x="7130880" y="4834080"/>
            <a:ext cx="700200" cy="728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Elbow Connector 66"/>
          <p:cNvCxnSpPr>
            <a:stCxn id="614" idx="3"/>
            <a:endCxn id="624" idx="2"/>
          </p:cNvCxnSpPr>
          <p:nvPr/>
        </p:nvCxnSpPr>
        <p:spPr>
          <a:xfrm>
            <a:off x="6517800" y="4473360"/>
            <a:ext cx="615240" cy="726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6" name="Elbow Connector 68"/>
          <p:cNvCxnSpPr>
            <a:stCxn id="615" idx="3"/>
            <a:endCxn id="624" idx="2"/>
          </p:cNvCxnSpPr>
          <p:nvPr/>
        </p:nvCxnSpPr>
        <p:spPr>
          <a:xfrm>
            <a:off x="6517800" y="4834080"/>
            <a:ext cx="615240" cy="36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7" name="Elbow Connector 71"/>
          <p:cNvCxnSpPr>
            <a:stCxn id="616" idx="3"/>
            <a:endCxn id="624" idx="2"/>
          </p:cNvCxnSpPr>
          <p:nvPr/>
        </p:nvCxnSpPr>
        <p:spPr>
          <a:xfrm>
            <a:off x="6517800" y="5194080"/>
            <a:ext cx="61524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8" name="Elbow Connector 73"/>
          <p:cNvCxnSpPr>
            <a:stCxn id="617" idx="3"/>
            <a:endCxn id="624" idx="2"/>
          </p:cNvCxnSpPr>
          <p:nvPr/>
        </p:nvCxnSpPr>
        <p:spPr>
          <a:xfrm flipV="1">
            <a:off x="6517800" y="5198400"/>
            <a:ext cx="615240" cy="35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9" name="Elbow Connector 75"/>
          <p:cNvCxnSpPr>
            <a:stCxn id="618" idx="3"/>
            <a:endCxn id="624" idx="2"/>
          </p:cNvCxnSpPr>
          <p:nvPr/>
        </p:nvCxnSpPr>
        <p:spPr>
          <a:xfrm flipV="1">
            <a:off x="6517800" y="5198760"/>
            <a:ext cx="615240" cy="714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result of our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sless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ooter Placeholder 3"/>
          <p:cNvSpPr/>
          <p:nvPr/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3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7259-061D-43C2-8FA0-04454928CCD8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3495600" y="2000160"/>
            <a:ext cx="31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HM-12.1+Rext-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93680" y="2820960"/>
          <a:ext cx="4017960" cy="2849760"/>
        </p:xfrm>
        <a:graphic>
          <a:graphicData uri="http://schemas.openxmlformats.org/drawingml/2006/table">
            <a:tbl>
              <a:tblPr/>
              <a:tblGrid>
                <a:gridCol w="1687680"/>
                <a:gridCol w="588960"/>
                <a:gridCol w="593640"/>
                <a:gridCol w="584280"/>
                <a:gridCol w="563400"/>
              </a:tblGrid>
              <a:tr h="190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t-rate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SC (Opt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SC (Opt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4218120" y="2816280"/>
          <a:ext cx="2328840" cy="2838240"/>
        </p:xfrm>
        <a:graphic>
          <a:graphicData uri="http://schemas.openxmlformats.org/drawingml/2006/table">
            <a:tbl>
              <a:tblPr/>
              <a:tblGrid>
                <a:gridCol w="585720"/>
                <a:gridCol w="584280"/>
                <a:gridCol w="585720"/>
                <a:gridCol w="573120"/>
              </a:tblGrid>
              <a:tr h="190440">
                <a:tc grid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 grid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t-rate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 gridSpan="4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 gridSpan="4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6546960" y="2817720"/>
          <a:ext cx="2324160" cy="2838600"/>
        </p:xfrm>
        <a:graphic>
          <a:graphicData uri="http://schemas.openxmlformats.org/drawingml/2006/table">
            <a:tbl>
              <a:tblPr/>
              <a:tblGrid>
                <a:gridCol w="583920"/>
                <a:gridCol w="584280"/>
                <a:gridCol w="582840"/>
                <a:gridCol w="573120"/>
              </a:tblGrid>
              <a:tr h="190440">
                <a:tc grid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grid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t-rate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4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 gridSpan="4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 gridSpan="4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roposal of our propos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sy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2"/>
          <p:cNvSpPr/>
          <p:nvPr/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DEFA-EAF5-45FC-B68B-ABFE1F7E41B3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880920" y="1947960"/>
          <a:ext cx="7506000" cy="2114280"/>
        </p:xfrm>
        <a:graphic>
          <a:graphicData uri="http://schemas.openxmlformats.org/drawingml/2006/table">
            <a:tbl>
              <a:tblPr/>
              <a:tblGrid>
                <a:gridCol w="1443240"/>
                <a:gridCol w="673200"/>
                <a:gridCol w="672840"/>
                <a:gridCol w="674640"/>
                <a:gridCol w="673200"/>
                <a:gridCol w="673200"/>
                <a:gridCol w="674640"/>
                <a:gridCol w="673200"/>
                <a:gridCol w="674640"/>
                <a:gridCol w="673200"/>
              </a:tblGrid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Super-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 4:4:4 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 4:4:4 Anim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4:4 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4:4 Anim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 4:4:4 SC (Option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4:4 SC (Option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4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101520" y="4170240"/>
          <a:ext cx="4946760" cy="2297160"/>
        </p:xfrm>
        <a:graphic>
          <a:graphicData uri="http://schemas.openxmlformats.org/drawingml/2006/table">
            <a:tbl>
              <a:tblPr/>
              <a:tblGrid>
                <a:gridCol w="1432080"/>
                <a:gridCol w="590400"/>
                <a:gridCol w="638280"/>
                <a:gridCol w="552600"/>
                <a:gridCol w="552240"/>
                <a:gridCol w="619200"/>
                <a:gridCol w="561960"/>
              </a:tblGrid>
              <a:tr h="169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9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 4:4:4 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9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 4:4:4 Anim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4:4 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9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4:4 Anim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 4:4:4 SC (Option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4:4 SC (Option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9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5133960" y="4162320"/>
          <a:ext cx="3571920" cy="2278080"/>
        </p:xfrm>
        <a:graphic>
          <a:graphicData uri="http://schemas.openxmlformats.org/drawingml/2006/table">
            <a:tbl>
              <a:tblPr/>
              <a:tblGrid>
                <a:gridCol w="571680"/>
                <a:gridCol w="609480"/>
                <a:gridCol w="647640"/>
                <a:gridCol w="571680"/>
                <a:gridCol w="544320"/>
                <a:gridCol w="627120"/>
              </a:tblGrid>
              <a:tr h="1731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73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71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717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3" name="Text Box 6"/>
          <p:cNvSpPr/>
          <p:nvPr/>
        </p:nvSpPr>
        <p:spPr>
          <a:xfrm>
            <a:off x="3125880" y="1590840"/>
            <a:ext cx="329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HM-12.1+Rext-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t-rate saving is obvi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ity increasing is s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method can be combined with Qualcomm’s method to get better 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ooter Placeholder 2"/>
          <p:cNvSpPr/>
          <p:nvPr/>
        </p:nvSpPr>
        <p:spPr>
          <a:xfrm>
            <a:off x="1501920" y="649296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D3D2-B692-4EEE-B73B-5611227651D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MediaTek for cross-chec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1501920" y="649296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1C57-5D0E-48FB-8A24-1D02B893AEAD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ooter Placeholder 2"/>
          <p:cNvSpPr/>
          <p:nvPr/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2B0B-44CB-48ED-85A3-C4280BE1287D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result comparing to P0198 on HM-12.1+RExt5.1 (Lossl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oter Placeholder 2"/>
          <p:cNvSpPr/>
          <p:nvPr/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FC01-3B7B-4567-B613-02A7C071E9B3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1994040" y="2192400"/>
            <a:ext cx="119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6040440" y="2192400"/>
            <a:ext cx="173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4834080" y="2590920"/>
          <a:ext cx="3908160" cy="3060720"/>
        </p:xfrm>
        <a:graphic>
          <a:graphicData uri="http://schemas.openxmlformats.org/drawingml/2006/table">
            <a:tbl>
              <a:tblPr/>
              <a:tblGrid>
                <a:gridCol w="2020680"/>
                <a:gridCol w="628560"/>
                <a:gridCol w="630360"/>
                <a:gridCol w="628560"/>
              </a:tblGrid>
              <a:tr h="2505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bit-rate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SC (Opt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SC (Opt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422280" y="2577960"/>
          <a:ext cx="3984480" cy="3063960"/>
        </p:xfrm>
        <a:graphic>
          <a:graphicData uri="http://schemas.openxmlformats.org/drawingml/2006/table">
            <a:tbl>
              <a:tblPr/>
              <a:tblGrid>
                <a:gridCol w="2060640"/>
                <a:gridCol w="641160"/>
                <a:gridCol w="641520"/>
                <a:gridCol w="641160"/>
              </a:tblGrid>
              <a:tr h="2509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bit-rate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SC (Opt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SC (Opt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9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result comparing to O0218 on HM-12.1+RExt5.0.1 (Lossl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ooter Placeholder 2"/>
          <p:cNvSpPr/>
          <p:nvPr/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C2C8-1682-4CFF-8E7E-EAB224279DD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525600" y="2568600"/>
          <a:ext cx="3782880" cy="3102120"/>
        </p:xfrm>
        <a:graphic>
          <a:graphicData uri="http://schemas.openxmlformats.org/drawingml/2006/table">
            <a:tbl>
              <a:tblPr/>
              <a:tblGrid>
                <a:gridCol w="1955520"/>
                <a:gridCol w="609840"/>
                <a:gridCol w="608040"/>
                <a:gridCol w="609480"/>
              </a:tblGrid>
              <a:tr h="434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bit-rate 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Ani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Ani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SC (Opt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SC (Opt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Text Box 6"/>
          <p:cNvSpPr/>
          <p:nvPr/>
        </p:nvSpPr>
        <p:spPr>
          <a:xfrm>
            <a:off x="1994040" y="2192400"/>
            <a:ext cx="119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02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4824360" y="2610000"/>
          <a:ext cx="3772080" cy="3051000"/>
        </p:xfrm>
        <a:graphic>
          <a:graphicData uri="http://schemas.openxmlformats.org/drawingml/2006/table">
            <a:tbl>
              <a:tblPr/>
              <a:tblGrid>
                <a:gridCol w="1951200"/>
                <a:gridCol w="606240"/>
                <a:gridCol w="608040"/>
                <a:gridCol w="606600"/>
              </a:tblGrid>
              <a:tr h="434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bit-rate 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Ani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Ani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 4:4:4 SC (Opt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CbCr 4:4:4 SC (Opt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9" name="Text Box 6"/>
          <p:cNvSpPr/>
          <p:nvPr/>
        </p:nvSpPr>
        <p:spPr>
          <a:xfrm>
            <a:off x="6040440" y="2192400"/>
            <a:ext cx="173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ntax for Advanced copy_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ooter Placeholder 3"/>
          <p:cNvSpPr/>
          <p:nvPr/>
        </p:nvSpPr>
        <p:spPr>
          <a:xfrm>
            <a:off x="1501920" y="649296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3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B58F-F4B4-4F92-869B-C4B6A5C96114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Table 6" descr=""/>
          <p:cNvPicPr/>
          <p:nvPr/>
        </p:nvPicPr>
        <p:blipFill>
          <a:blip r:embed="rId1"/>
          <a:stretch/>
        </p:blipFill>
        <p:spPr>
          <a:xfrm>
            <a:off x="378000" y="1390680"/>
            <a:ext cx="3584520" cy="5503680"/>
          </a:xfrm>
          <a:prstGeom prst="rect">
            <a:avLst/>
          </a:prstGeom>
          <a:ln w="0">
            <a:noFill/>
          </a:ln>
        </p:spPr>
      </p:pic>
      <p:pic>
        <p:nvPicPr>
          <p:cNvPr id="674" name="Table 7" descr=""/>
          <p:cNvPicPr/>
          <p:nvPr/>
        </p:nvPicPr>
        <p:blipFill>
          <a:blip r:embed="rId2"/>
          <a:stretch/>
        </p:blipFill>
        <p:spPr>
          <a:xfrm>
            <a:off x="4237200" y="1182600"/>
            <a:ext cx="4546440" cy="82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lette coding method (JCTVC-O0218, Qualcom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516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un mode: for consecutive N pixels have the same index 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n_mode_flag=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lette_index=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n=N-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py above mode: for consecutive N pixels with each index equals to the one on its above 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n_mode_flag=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n=N-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oter Placeholder 3"/>
          <p:cNvSpPr/>
          <p:nvPr/>
        </p:nvSpPr>
        <p:spPr>
          <a:xfrm>
            <a:off x="1501920" y="649296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227A-C9BA-4CCF-AD97-6421E5CCD0EA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721480" y="2604960"/>
          <a:ext cx="2862000" cy="278784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422" name="Straight Arrow Connector 6"/>
          <p:cNvCxnSpPr/>
          <p:nvPr/>
        </p:nvCxnSpPr>
        <p:spPr>
          <a:xfrm>
            <a:off x="5724360" y="2133360"/>
            <a:ext cx="455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423" name="Text Box 6"/>
          <p:cNvSpPr/>
          <p:nvPr/>
        </p:nvSpPr>
        <p:spPr>
          <a:xfrm>
            <a:off x="6264360" y="2025720"/>
            <a:ext cx="209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ster scan coding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5619600" y="2151000"/>
            <a:ext cx="3067200" cy="320760"/>
          </a:xfrm>
          <a:custGeom>
            <a:avLst/>
            <a:gdLst/>
            <a:ahLst/>
            <a:rect l="l" t="t" r="r" b="b"/>
            <a:pathLst>
              <a:path w="3066555" h="321013">
                <a:moveTo>
                  <a:pt x="2701522" y="0"/>
                </a:moveTo>
                <a:cubicBezTo>
                  <a:pt x="3071173" y="33236"/>
                  <a:pt x="3236544" y="95655"/>
                  <a:pt x="2827982" y="126459"/>
                </a:cubicBezTo>
                <a:cubicBezTo>
                  <a:pt x="2419420" y="157263"/>
                  <a:pt x="678169" y="152400"/>
                  <a:pt x="250152" y="184826"/>
                </a:cubicBezTo>
                <a:cubicBezTo>
                  <a:pt x="-177865" y="217252"/>
                  <a:pt x="23984" y="271564"/>
                  <a:pt x="259880" y="32101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5983200" y="5583240"/>
            <a:ext cx="237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lette indices for a 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lette 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ooter Placeholder 3"/>
          <p:cNvSpPr/>
          <p:nvPr/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1237-20AC-4309-B968-77ED5B66D49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5"/>
          <p:cNvSpPr/>
          <p:nvPr/>
        </p:nvSpPr>
        <p:spPr>
          <a:xfrm flipH="1">
            <a:off x="1363680" y="2336760"/>
            <a:ext cx="31104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743040" y="1800360"/>
            <a:ext cx="3189240" cy="1833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0"/>
          <p:cNvSpPr/>
          <p:nvPr/>
        </p:nvSpPr>
        <p:spPr>
          <a:xfrm flipH="1">
            <a:off x="2328840" y="2333520"/>
            <a:ext cx="311040" cy="308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Straight Arrow Connector 11"/>
          <p:cNvCxnSpPr/>
          <p:nvPr/>
        </p:nvCxnSpPr>
        <p:spPr>
          <a:xfrm flipV="1">
            <a:off x="1518840" y="268560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33" name="Text Box 6"/>
          <p:cNvSpPr/>
          <p:nvPr/>
        </p:nvSpPr>
        <p:spPr>
          <a:xfrm>
            <a:off x="1203480" y="3075120"/>
            <a:ext cx="761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3"/>
          <p:cNvSpPr/>
          <p:nvPr/>
        </p:nvSpPr>
        <p:spPr>
          <a:xfrm flipH="1">
            <a:off x="2951280" y="2333520"/>
            <a:ext cx="312480" cy="308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744560" y="1422360"/>
            <a:ext cx="106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7"/>
          <p:cNvSpPr/>
          <p:nvPr/>
        </p:nvSpPr>
        <p:spPr>
          <a:xfrm flipH="1">
            <a:off x="1689840" y="2333520"/>
            <a:ext cx="31140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8"/>
          <p:cNvSpPr/>
          <p:nvPr/>
        </p:nvSpPr>
        <p:spPr>
          <a:xfrm flipH="1">
            <a:off x="2017800" y="2333520"/>
            <a:ext cx="31104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9"/>
          <p:cNvSpPr/>
          <p:nvPr/>
        </p:nvSpPr>
        <p:spPr>
          <a:xfrm flipH="1">
            <a:off x="2639160" y="2336760"/>
            <a:ext cx="311400" cy="308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Table 20" descr=""/>
          <p:cNvPicPr/>
          <p:nvPr/>
        </p:nvPicPr>
        <p:blipFill>
          <a:blip r:embed="rId1"/>
          <a:stretch/>
        </p:blipFill>
        <p:spPr>
          <a:xfrm>
            <a:off x="5261040" y="1566720"/>
            <a:ext cx="3060720" cy="314496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22"/>
          <p:cNvSpPr/>
          <p:nvPr/>
        </p:nvSpPr>
        <p:spPr>
          <a:xfrm>
            <a:off x="743040" y="4403880"/>
            <a:ext cx="3189240" cy="1833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Straight Arrow Connector 24"/>
          <p:cNvCxnSpPr/>
          <p:nvPr/>
        </p:nvCxnSpPr>
        <p:spPr>
          <a:xfrm flipV="1">
            <a:off x="1587240" y="528912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42" name="Text Box 6"/>
          <p:cNvSpPr/>
          <p:nvPr/>
        </p:nvSpPr>
        <p:spPr>
          <a:xfrm>
            <a:off x="1308240" y="5661000"/>
            <a:ext cx="761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1523880" y="4025880"/>
            <a:ext cx="19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abov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Table 31" descr=""/>
          <p:cNvPicPr/>
          <p:nvPr/>
        </p:nvPicPr>
        <p:blipFill>
          <a:blip r:embed="rId2"/>
          <a:stretch/>
        </p:blipFill>
        <p:spPr>
          <a:xfrm>
            <a:off x="5267160" y="5370480"/>
            <a:ext cx="3059280" cy="6224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6"/>
          <p:cNvSpPr/>
          <p:nvPr/>
        </p:nvSpPr>
        <p:spPr>
          <a:xfrm>
            <a:off x="5891040" y="1370160"/>
            <a:ext cx="14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5979960" y="5164200"/>
            <a:ext cx="14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Straight Arrow Connector 39"/>
          <p:cNvCxnSpPr/>
          <p:nvPr/>
        </p:nvCxnSpPr>
        <p:spPr>
          <a:xfrm>
            <a:off x="907560" y="2018880"/>
            <a:ext cx="4532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448" name="Text Box 6"/>
          <p:cNvSpPr/>
          <p:nvPr/>
        </p:nvSpPr>
        <p:spPr>
          <a:xfrm>
            <a:off x="1447920" y="1911240"/>
            <a:ext cx="209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ster scan coding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43"/>
          <p:cNvSpPr/>
          <p:nvPr/>
        </p:nvSpPr>
        <p:spPr>
          <a:xfrm>
            <a:off x="803160" y="2038320"/>
            <a:ext cx="3067200" cy="320760"/>
          </a:xfrm>
          <a:custGeom>
            <a:avLst/>
            <a:gdLst/>
            <a:ahLst/>
            <a:rect l="l" t="t" r="r" b="b"/>
            <a:pathLst>
              <a:path w="3066555" h="321013">
                <a:moveTo>
                  <a:pt x="2701522" y="0"/>
                </a:moveTo>
                <a:cubicBezTo>
                  <a:pt x="3071173" y="33236"/>
                  <a:pt x="3236544" y="95655"/>
                  <a:pt x="2827982" y="126459"/>
                </a:cubicBezTo>
                <a:cubicBezTo>
                  <a:pt x="2419420" y="157263"/>
                  <a:pt x="678169" y="152400"/>
                  <a:pt x="250152" y="184826"/>
                </a:cubicBezTo>
                <a:cubicBezTo>
                  <a:pt x="-177865" y="217252"/>
                  <a:pt x="23984" y="271564"/>
                  <a:pt x="259880" y="32101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47"/>
          <p:cNvSpPr/>
          <p:nvPr/>
        </p:nvSpPr>
        <p:spPr>
          <a:xfrm flipH="1">
            <a:off x="1432080" y="4940280"/>
            <a:ext cx="31104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48"/>
          <p:cNvSpPr/>
          <p:nvPr/>
        </p:nvSpPr>
        <p:spPr>
          <a:xfrm flipH="1">
            <a:off x="2397240" y="4937040"/>
            <a:ext cx="311040" cy="308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49"/>
          <p:cNvSpPr/>
          <p:nvPr/>
        </p:nvSpPr>
        <p:spPr>
          <a:xfrm flipH="1">
            <a:off x="3018600" y="4937040"/>
            <a:ext cx="312840" cy="308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50"/>
          <p:cNvSpPr/>
          <p:nvPr/>
        </p:nvSpPr>
        <p:spPr>
          <a:xfrm flipH="1">
            <a:off x="1758960" y="4937040"/>
            <a:ext cx="31104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1"/>
          <p:cNvSpPr/>
          <p:nvPr/>
        </p:nvSpPr>
        <p:spPr>
          <a:xfrm flipH="1">
            <a:off x="2085120" y="4937040"/>
            <a:ext cx="31140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52"/>
          <p:cNvSpPr/>
          <p:nvPr/>
        </p:nvSpPr>
        <p:spPr>
          <a:xfrm flipH="1">
            <a:off x="2708280" y="4940280"/>
            <a:ext cx="311040" cy="308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53"/>
          <p:cNvSpPr/>
          <p:nvPr/>
        </p:nvSpPr>
        <p:spPr>
          <a:xfrm flipH="1">
            <a:off x="1432080" y="4641840"/>
            <a:ext cx="31104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54"/>
          <p:cNvSpPr/>
          <p:nvPr/>
        </p:nvSpPr>
        <p:spPr>
          <a:xfrm flipH="1">
            <a:off x="2397240" y="4638600"/>
            <a:ext cx="311040" cy="308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55"/>
          <p:cNvSpPr/>
          <p:nvPr/>
        </p:nvSpPr>
        <p:spPr>
          <a:xfrm flipH="1">
            <a:off x="3018600" y="4638600"/>
            <a:ext cx="312840" cy="308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56"/>
          <p:cNvSpPr/>
          <p:nvPr/>
        </p:nvSpPr>
        <p:spPr>
          <a:xfrm flipH="1">
            <a:off x="1758960" y="4638600"/>
            <a:ext cx="31104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7"/>
          <p:cNvSpPr/>
          <p:nvPr/>
        </p:nvSpPr>
        <p:spPr>
          <a:xfrm flipH="1">
            <a:off x="2085120" y="4638600"/>
            <a:ext cx="31140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8"/>
          <p:cNvSpPr/>
          <p:nvPr/>
        </p:nvSpPr>
        <p:spPr>
          <a:xfrm flipH="1">
            <a:off x="2708280" y="4641840"/>
            <a:ext cx="311040" cy="308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ight Arrow 59"/>
          <p:cNvSpPr/>
          <p:nvPr/>
        </p:nvSpPr>
        <p:spPr>
          <a:xfrm>
            <a:off x="4397400" y="2624040"/>
            <a:ext cx="426960" cy="23832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ight Arrow 60"/>
          <p:cNvSpPr/>
          <p:nvPr/>
        </p:nvSpPr>
        <p:spPr>
          <a:xfrm>
            <a:off x="4397400" y="5437080"/>
            <a:ext cx="426960" cy="2365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unt for single run index (run=0) is mostly greater than the count for non-single run index (run&gt;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 has a value of 0 most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“Copy mode” can save more b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ooter Placeholder 2"/>
          <p:cNvSpPr/>
          <p:nvPr/>
        </p:nvSpPr>
        <p:spPr>
          <a:xfrm>
            <a:off x="1501920" y="649296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341B-2F67-41E9-8D56-456118A4F62B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al base on Qualcomm’s palette coding tool (JCTVC-O021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4965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Put the position of the left pixel into the “copy candidates” to extend the “Copy above mode” to a more general “Copy mode”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Extend the copy candidates to include three more neighbouring posi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starting position to copy index from can be found at other neighbouring lo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oter Placeholder 2"/>
          <p:cNvSpPr/>
          <p:nvPr/>
        </p:nvSpPr>
        <p:spPr>
          <a:xfrm>
            <a:off x="1501920" y="649296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7988-3CC2-4B66-A255-ED86E50E6589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6"/>
          <p:cNvSpPr/>
          <p:nvPr/>
        </p:nvSpPr>
        <p:spPr>
          <a:xfrm flipH="1">
            <a:off x="7116840" y="3916440"/>
            <a:ext cx="311040" cy="30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"/>
          <p:cNvSpPr/>
          <p:nvPr/>
        </p:nvSpPr>
        <p:spPr>
          <a:xfrm flipH="1">
            <a:off x="7114320" y="3586320"/>
            <a:ext cx="311400" cy="3110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"/>
          <p:cNvSpPr/>
          <p:nvPr/>
        </p:nvSpPr>
        <p:spPr>
          <a:xfrm flipH="1">
            <a:off x="7116840" y="3268800"/>
            <a:ext cx="311040" cy="311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5423040" y="2693880"/>
            <a:ext cx="3462120" cy="2521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0"/>
          <p:cNvSpPr/>
          <p:nvPr/>
        </p:nvSpPr>
        <p:spPr>
          <a:xfrm flipH="1">
            <a:off x="7439760" y="3586320"/>
            <a:ext cx="311400" cy="311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1"/>
          <p:cNvSpPr/>
          <p:nvPr/>
        </p:nvSpPr>
        <p:spPr>
          <a:xfrm flipH="1">
            <a:off x="8078760" y="3916440"/>
            <a:ext cx="311040" cy="30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Straight Arrow Connector 12"/>
          <p:cNvCxnSpPr/>
          <p:nvPr/>
        </p:nvCxnSpPr>
        <p:spPr>
          <a:xfrm flipV="1">
            <a:off x="7272000" y="429552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79" name="Text Box 6"/>
          <p:cNvSpPr/>
          <p:nvPr/>
        </p:nvSpPr>
        <p:spPr>
          <a:xfrm>
            <a:off x="6953400" y="4646520"/>
            <a:ext cx="798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4"/>
          <p:cNvSpPr/>
          <p:nvPr/>
        </p:nvSpPr>
        <p:spPr>
          <a:xfrm flipH="1">
            <a:off x="6788880" y="3916440"/>
            <a:ext cx="312840" cy="307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5"/>
          <p:cNvSpPr/>
          <p:nvPr/>
        </p:nvSpPr>
        <p:spPr>
          <a:xfrm>
            <a:off x="6167520" y="3344760"/>
            <a:ext cx="512640" cy="501840"/>
          </a:xfrm>
          <a:custGeom>
            <a:avLst/>
            <a:gdLst/>
            <a:ahLst/>
            <a:rect l="l" t="t" r="r" b="b"/>
            <a:pathLst>
              <a:path w="622570" h="573932">
                <a:moveTo>
                  <a:pt x="0" y="0"/>
                </a:moveTo>
                <a:cubicBezTo>
                  <a:pt x="94034" y="185636"/>
                  <a:pt x="188068" y="371273"/>
                  <a:pt x="291830" y="466928"/>
                </a:cubicBezTo>
                <a:cubicBezTo>
                  <a:pt x="395592" y="562583"/>
                  <a:pt x="509081" y="568257"/>
                  <a:pt x="622570" y="573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5608800" y="2955960"/>
            <a:ext cx="296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_index” for copy candi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7"/>
          <p:cNvSpPr/>
          <p:nvPr/>
        </p:nvSpPr>
        <p:spPr>
          <a:xfrm flipH="1">
            <a:off x="6789600" y="3586320"/>
            <a:ext cx="325440" cy="311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8"/>
          <p:cNvSpPr/>
          <p:nvPr/>
        </p:nvSpPr>
        <p:spPr>
          <a:xfrm flipH="1">
            <a:off x="7439760" y="3916440"/>
            <a:ext cx="311400" cy="30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9"/>
          <p:cNvSpPr/>
          <p:nvPr/>
        </p:nvSpPr>
        <p:spPr>
          <a:xfrm flipH="1">
            <a:off x="7767720" y="3916440"/>
            <a:ext cx="311040" cy="30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ntax mod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59984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yntax “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run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” exists only for “Copy mode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dd a syntax “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py_index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” to indicate the position to be copied for “Copy mode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opy_index=0~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1501920" y="649296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1AD-56AF-4205-8BDA-D4518BC1ED1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Table 4" descr=""/>
          <p:cNvPicPr/>
          <p:nvPr/>
        </p:nvPicPr>
        <p:blipFill>
          <a:blip r:embed="rId1"/>
          <a:stretch/>
        </p:blipFill>
        <p:spPr>
          <a:xfrm>
            <a:off x="5114880" y="4254480"/>
            <a:ext cx="3243240" cy="1878120"/>
          </a:xfrm>
          <a:prstGeom prst="rect">
            <a:avLst/>
          </a:prstGeom>
          <a:ln w="0">
            <a:noFill/>
          </a:ln>
        </p:spPr>
      </p:pic>
      <p:pic>
        <p:nvPicPr>
          <p:cNvPr id="491" name="Table 5" descr=""/>
          <p:cNvPicPr/>
          <p:nvPr/>
        </p:nvPicPr>
        <p:blipFill>
          <a:blip r:embed="rId2"/>
          <a:stretch/>
        </p:blipFill>
        <p:spPr>
          <a:xfrm>
            <a:off x="835200" y="4376880"/>
            <a:ext cx="3041640" cy="1622160"/>
          </a:xfrm>
          <a:prstGeom prst="rect">
            <a:avLst/>
          </a:prstGeom>
          <a:ln w="0">
            <a:noFill/>
          </a:ln>
        </p:spPr>
      </p:pic>
      <p:sp>
        <p:nvSpPr>
          <p:cNvPr id="492" name="Right Arrow 6"/>
          <p:cNvSpPr/>
          <p:nvPr/>
        </p:nvSpPr>
        <p:spPr>
          <a:xfrm>
            <a:off x="4221000" y="5102280"/>
            <a:ext cx="506520" cy="2048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ced copy mode for Palette coding: cas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1500120" y="6492960"/>
            <a:ext cx="270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14 ITRI </a:t>
            </a:r>
            <a:r>
              <a:rPr b="0" lang="zh-TW" sz="1200" spc="-1" strike="noStrike">
                <a:solidFill>
                  <a:srgbClr val="898989"/>
                </a:solidFill>
                <a:latin typeface="Arial"/>
              </a:rPr>
              <a:t>工業技術研究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4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6E6C-7730-4CBA-A8FD-5BAFCF07B953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38"/>
          <p:cNvSpPr/>
          <p:nvPr/>
        </p:nvSpPr>
        <p:spPr>
          <a:xfrm flipH="1">
            <a:off x="1512000" y="3119400"/>
            <a:ext cx="31140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892080" y="2583000"/>
            <a:ext cx="3191040" cy="1833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2"/>
          <p:cNvSpPr/>
          <p:nvPr/>
        </p:nvSpPr>
        <p:spPr>
          <a:xfrm flipH="1">
            <a:off x="2478240" y="3116160"/>
            <a:ext cx="311040" cy="308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Straight Arrow Connector 46"/>
          <p:cNvCxnSpPr/>
          <p:nvPr/>
        </p:nvCxnSpPr>
        <p:spPr>
          <a:xfrm flipV="1">
            <a:off x="1668240" y="347004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500" name="Text Box 6"/>
          <p:cNvSpPr/>
          <p:nvPr/>
        </p:nvSpPr>
        <p:spPr>
          <a:xfrm>
            <a:off x="1353960" y="3857760"/>
            <a:ext cx="762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48"/>
          <p:cNvSpPr/>
          <p:nvPr/>
        </p:nvSpPr>
        <p:spPr>
          <a:xfrm flipH="1">
            <a:off x="3099600" y="3116160"/>
            <a:ext cx="312840" cy="308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1893960" y="2206800"/>
            <a:ext cx="106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50"/>
          <p:cNvSpPr/>
          <p:nvPr/>
        </p:nvSpPr>
        <p:spPr>
          <a:xfrm flipH="1">
            <a:off x="1839960" y="3116160"/>
            <a:ext cx="31104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51"/>
          <p:cNvSpPr/>
          <p:nvPr/>
        </p:nvSpPr>
        <p:spPr>
          <a:xfrm flipH="1">
            <a:off x="2166120" y="3116160"/>
            <a:ext cx="31140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52"/>
          <p:cNvSpPr/>
          <p:nvPr/>
        </p:nvSpPr>
        <p:spPr>
          <a:xfrm flipH="1">
            <a:off x="2789280" y="3119400"/>
            <a:ext cx="311040" cy="308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Straight Arrow Connector 53"/>
          <p:cNvCxnSpPr/>
          <p:nvPr/>
        </p:nvCxnSpPr>
        <p:spPr>
          <a:xfrm>
            <a:off x="1056960" y="2803320"/>
            <a:ext cx="4546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07" name="Text Box 6"/>
          <p:cNvSpPr/>
          <p:nvPr/>
        </p:nvSpPr>
        <p:spPr>
          <a:xfrm>
            <a:off x="1596960" y="2695680"/>
            <a:ext cx="209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ster scan coding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55"/>
          <p:cNvSpPr/>
          <p:nvPr/>
        </p:nvSpPr>
        <p:spPr>
          <a:xfrm>
            <a:off x="952560" y="2820960"/>
            <a:ext cx="3066840" cy="320760"/>
          </a:xfrm>
          <a:custGeom>
            <a:avLst/>
            <a:gdLst/>
            <a:ahLst/>
            <a:rect l="l" t="t" r="r" b="b"/>
            <a:pathLst>
              <a:path w="3066555" h="321013">
                <a:moveTo>
                  <a:pt x="2701522" y="0"/>
                </a:moveTo>
                <a:cubicBezTo>
                  <a:pt x="3071173" y="33236"/>
                  <a:pt x="3236544" y="95655"/>
                  <a:pt x="2827982" y="126459"/>
                </a:cubicBezTo>
                <a:cubicBezTo>
                  <a:pt x="2419420" y="157263"/>
                  <a:pt x="678169" y="152400"/>
                  <a:pt x="250152" y="184826"/>
                </a:cubicBezTo>
                <a:cubicBezTo>
                  <a:pt x="-177865" y="217252"/>
                  <a:pt x="23984" y="271564"/>
                  <a:pt x="259880" y="32101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Table 56" descr=""/>
          <p:cNvPicPr/>
          <p:nvPr/>
        </p:nvPicPr>
        <p:blipFill>
          <a:blip r:embed="rId1"/>
          <a:stretch/>
        </p:blipFill>
        <p:spPr>
          <a:xfrm>
            <a:off x="5162400" y="2498760"/>
            <a:ext cx="3152880" cy="28908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5832360" y="2301840"/>
            <a:ext cx="14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ight Arrow 76"/>
          <p:cNvSpPr/>
          <p:nvPr/>
        </p:nvSpPr>
        <p:spPr>
          <a:xfrm>
            <a:off x="4367160" y="3424320"/>
            <a:ext cx="428760" cy="23796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ced copy mode for Palette coding: case 2 &amp;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2599-59CD-4E08-86AA-960419384B3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5292720" y="2155680"/>
            <a:ext cx="3189240" cy="2241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59"/>
          <p:cNvCxnSpPr/>
          <p:nvPr/>
        </p:nvCxnSpPr>
        <p:spPr>
          <a:xfrm flipV="1">
            <a:off x="6136920" y="333180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516" name="Text Box 6"/>
          <p:cNvSpPr/>
          <p:nvPr/>
        </p:nvSpPr>
        <p:spPr>
          <a:xfrm>
            <a:off x="5857920" y="3703680"/>
            <a:ext cx="762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5857920" y="1486080"/>
            <a:ext cx="225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mode from above-abov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Table 62" descr=""/>
          <p:cNvPicPr/>
          <p:nvPr/>
        </p:nvPicPr>
        <p:blipFill>
          <a:blip r:embed="rId1"/>
          <a:stretch/>
        </p:blipFill>
        <p:spPr>
          <a:xfrm>
            <a:off x="5376960" y="5224320"/>
            <a:ext cx="3060720" cy="87804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6"/>
          <p:cNvSpPr/>
          <p:nvPr/>
        </p:nvSpPr>
        <p:spPr>
          <a:xfrm>
            <a:off x="6275520" y="5040360"/>
            <a:ext cx="144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4"/>
          <p:cNvSpPr/>
          <p:nvPr/>
        </p:nvSpPr>
        <p:spPr>
          <a:xfrm flipH="1">
            <a:off x="5981760" y="2982960"/>
            <a:ext cx="31104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65"/>
          <p:cNvSpPr/>
          <p:nvPr/>
        </p:nvSpPr>
        <p:spPr>
          <a:xfrm flipH="1">
            <a:off x="6946920" y="2979720"/>
            <a:ext cx="311040" cy="308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66"/>
          <p:cNvSpPr/>
          <p:nvPr/>
        </p:nvSpPr>
        <p:spPr>
          <a:xfrm flipH="1">
            <a:off x="7569360" y="2979720"/>
            <a:ext cx="312480" cy="308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67"/>
          <p:cNvSpPr/>
          <p:nvPr/>
        </p:nvSpPr>
        <p:spPr>
          <a:xfrm flipH="1">
            <a:off x="6307920" y="2979720"/>
            <a:ext cx="31140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68"/>
          <p:cNvSpPr/>
          <p:nvPr/>
        </p:nvSpPr>
        <p:spPr>
          <a:xfrm flipH="1">
            <a:off x="6635880" y="2979720"/>
            <a:ext cx="31104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69"/>
          <p:cNvSpPr/>
          <p:nvPr/>
        </p:nvSpPr>
        <p:spPr>
          <a:xfrm flipH="1">
            <a:off x="7257240" y="2982960"/>
            <a:ext cx="311400" cy="307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70"/>
          <p:cNvSpPr/>
          <p:nvPr/>
        </p:nvSpPr>
        <p:spPr>
          <a:xfrm flipH="1">
            <a:off x="5981760" y="2674800"/>
            <a:ext cx="311040" cy="3049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71"/>
          <p:cNvSpPr/>
          <p:nvPr/>
        </p:nvSpPr>
        <p:spPr>
          <a:xfrm flipH="1">
            <a:off x="6946920" y="2671920"/>
            <a:ext cx="311040" cy="307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72"/>
          <p:cNvSpPr/>
          <p:nvPr/>
        </p:nvSpPr>
        <p:spPr>
          <a:xfrm flipH="1">
            <a:off x="7569360" y="2671920"/>
            <a:ext cx="312480" cy="307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73"/>
          <p:cNvSpPr/>
          <p:nvPr/>
        </p:nvSpPr>
        <p:spPr>
          <a:xfrm flipH="1">
            <a:off x="6307920" y="2671920"/>
            <a:ext cx="311400" cy="307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74"/>
          <p:cNvSpPr/>
          <p:nvPr/>
        </p:nvSpPr>
        <p:spPr>
          <a:xfrm flipH="1">
            <a:off x="6635880" y="2671920"/>
            <a:ext cx="311040" cy="307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75"/>
          <p:cNvSpPr/>
          <p:nvPr/>
        </p:nvSpPr>
        <p:spPr>
          <a:xfrm flipH="1">
            <a:off x="7257240" y="2674800"/>
            <a:ext cx="311400" cy="3081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1"/>
          <p:cNvSpPr/>
          <p:nvPr/>
        </p:nvSpPr>
        <p:spPr>
          <a:xfrm flipH="1">
            <a:off x="5981760" y="2367000"/>
            <a:ext cx="31104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2"/>
          <p:cNvSpPr/>
          <p:nvPr/>
        </p:nvSpPr>
        <p:spPr>
          <a:xfrm flipH="1">
            <a:off x="6946920" y="2363760"/>
            <a:ext cx="311040" cy="308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6"/>
          <p:cNvSpPr/>
          <p:nvPr/>
        </p:nvSpPr>
        <p:spPr>
          <a:xfrm flipH="1">
            <a:off x="7569360" y="2363760"/>
            <a:ext cx="312480" cy="308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7"/>
          <p:cNvSpPr/>
          <p:nvPr/>
        </p:nvSpPr>
        <p:spPr>
          <a:xfrm flipH="1">
            <a:off x="6307920" y="2363760"/>
            <a:ext cx="31140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48"/>
          <p:cNvSpPr/>
          <p:nvPr/>
        </p:nvSpPr>
        <p:spPr>
          <a:xfrm flipH="1">
            <a:off x="6635880" y="2363760"/>
            <a:ext cx="31104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49"/>
          <p:cNvSpPr/>
          <p:nvPr/>
        </p:nvSpPr>
        <p:spPr>
          <a:xfrm flipH="1">
            <a:off x="7257240" y="2367000"/>
            <a:ext cx="311400" cy="307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0"/>
          <p:cNvSpPr/>
          <p:nvPr/>
        </p:nvSpPr>
        <p:spPr>
          <a:xfrm>
            <a:off x="768240" y="2155680"/>
            <a:ext cx="3191040" cy="1832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51"/>
          <p:cNvCxnSpPr/>
          <p:nvPr/>
        </p:nvCxnSpPr>
        <p:spPr>
          <a:xfrm flipV="1">
            <a:off x="1614240" y="304128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540" name="Text Box 6"/>
          <p:cNvSpPr/>
          <p:nvPr/>
        </p:nvSpPr>
        <p:spPr>
          <a:xfrm>
            <a:off x="1335240" y="3411360"/>
            <a:ext cx="761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1549440" y="1486080"/>
            <a:ext cx="1906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mode from abov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Table 54" descr=""/>
          <p:cNvPicPr/>
          <p:nvPr/>
        </p:nvPicPr>
        <p:blipFill>
          <a:blip r:embed="rId2"/>
          <a:stretch/>
        </p:blipFill>
        <p:spPr>
          <a:xfrm>
            <a:off x="858960" y="5010120"/>
            <a:ext cx="3060720" cy="873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1758960" y="4824360"/>
            <a:ext cx="144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56"/>
          <p:cNvSpPr/>
          <p:nvPr/>
        </p:nvSpPr>
        <p:spPr>
          <a:xfrm flipH="1">
            <a:off x="1459080" y="2692440"/>
            <a:ext cx="31104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57"/>
          <p:cNvSpPr/>
          <p:nvPr/>
        </p:nvSpPr>
        <p:spPr>
          <a:xfrm flipH="1">
            <a:off x="2424240" y="2689200"/>
            <a:ext cx="311040" cy="308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88"/>
          <p:cNvSpPr/>
          <p:nvPr/>
        </p:nvSpPr>
        <p:spPr>
          <a:xfrm flipH="1">
            <a:off x="3045600" y="2689200"/>
            <a:ext cx="312840" cy="308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89"/>
          <p:cNvSpPr/>
          <p:nvPr/>
        </p:nvSpPr>
        <p:spPr>
          <a:xfrm flipH="1">
            <a:off x="1785960" y="2689200"/>
            <a:ext cx="31104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90"/>
          <p:cNvSpPr/>
          <p:nvPr/>
        </p:nvSpPr>
        <p:spPr>
          <a:xfrm flipH="1">
            <a:off x="2112120" y="2689200"/>
            <a:ext cx="31140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91"/>
          <p:cNvSpPr/>
          <p:nvPr/>
        </p:nvSpPr>
        <p:spPr>
          <a:xfrm flipH="1">
            <a:off x="2735280" y="2692440"/>
            <a:ext cx="311040" cy="307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92"/>
          <p:cNvSpPr/>
          <p:nvPr/>
        </p:nvSpPr>
        <p:spPr>
          <a:xfrm flipH="1">
            <a:off x="1459080" y="2392200"/>
            <a:ext cx="31104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93"/>
          <p:cNvSpPr/>
          <p:nvPr/>
        </p:nvSpPr>
        <p:spPr>
          <a:xfrm flipH="1">
            <a:off x="2424240" y="2389320"/>
            <a:ext cx="311040" cy="307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94"/>
          <p:cNvSpPr/>
          <p:nvPr/>
        </p:nvSpPr>
        <p:spPr>
          <a:xfrm flipH="1">
            <a:off x="3045600" y="2389320"/>
            <a:ext cx="312840" cy="307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95"/>
          <p:cNvSpPr/>
          <p:nvPr/>
        </p:nvSpPr>
        <p:spPr>
          <a:xfrm flipH="1">
            <a:off x="1785960" y="2389320"/>
            <a:ext cx="311040" cy="30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96"/>
          <p:cNvSpPr/>
          <p:nvPr/>
        </p:nvSpPr>
        <p:spPr>
          <a:xfrm flipH="1">
            <a:off x="2112120" y="2389320"/>
            <a:ext cx="311400" cy="30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97"/>
          <p:cNvSpPr/>
          <p:nvPr/>
        </p:nvSpPr>
        <p:spPr>
          <a:xfrm flipH="1">
            <a:off x="2735280" y="2392200"/>
            <a:ext cx="311040" cy="308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Down Arrow 2"/>
          <p:cNvSpPr/>
          <p:nvPr/>
        </p:nvSpPr>
        <p:spPr>
          <a:xfrm>
            <a:off x="2230560" y="4227480"/>
            <a:ext cx="250560" cy="339840"/>
          </a:xfrm>
          <a:prstGeom prst="downArrow">
            <a:avLst>
              <a:gd name="adj1" fmla="val 50000"/>
              <a:gd name="adj2" fmla="val 500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Down Arrow 98"/>
          <p:cNvSpPr/>
          <p:nvPr/>
        </p:nvSpPr>
        <p:spPr>
          <a:xfrm>
            <a:off x="6761160" y="4583160"/>
            <a:ext cx="252360" cy="33984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ced copy mode for Palette coding: case 4 &amp; 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B0DB-A4A4-4B9C-BC47-B4B126D5EA4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8"/>
          <p:cNvSpPr/>
          <p:nvPr/>
        </p:nvSpPr>
        <p:spPr>
          <a:xfrm>
            <a:off x="5292720" y="2155680"/>
            <a:ext cx="3189240" cy="1832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59"/>
          <p:cNvCxnSpPr/>
          <p:nvPr/>
        </p:nvCxnSpPr>
        <p:spPr>
          <a:xfrm flipV="1">
            <a:off x="6136920" y="304128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562" name="Text Box 6"/>
          <p:cNvSpPr/>
          <p:nvPr/>
        </p:nvSpPr>
        <p:spPr>
          <a:xfrm>
            <a:off x="5857920" y="3411360"/>
            <a:ext cx="762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6073920" y="1486080"/>
            <a:ext cx="1906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mode from above-lef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Table 62" descr=""/>
          <p:cNvPicPr/>
          <p:nvPr/>
        </p:nvPicPr>
        <p:blipFill>
          <a:blip r:embed="rId1"/>
          <a:stretch/>
        </p:blipFill>
        <p:spPr>
          <a:xfrm>
            <a:off x="5389560" y="5010120"/>
            <a:ext cx="3059280" cy="8730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6"/>
          <p:cNvSpPr/>
          <p:nvPr/>
        </p:nvSpPr>
        <p:spPr>
          <a:xfrm>
            <a:off x="6283440" y="4824360"/>
            <a:ext cx="144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64"/>
          <p:cNvSpPr/>
          <p:nvPr/>
        </p:nvSpPr>
        <p:spPr>
          <a:xfrm flipH="1">
            <a:off x="5981760" y="2692440"/>
            <a:ext cx="31104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5"/>
          <p:cNvSpPr/>
          <p:nvPr/>
        </p:nvSpPr>
        <p:spPr>
          <a:xfrm flipH="1">
            <a:off x="6946920" y="2689200"/>
            <a:ext cx="311040" cy="308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66"/>
          <p:cNvSpPr/>
          <p:nvPr/>
        </p:nvSpPr>
        <p:spPr>
          <a:xfrm flipH="1">
            <a:off x="7569360" y="2689200"/>
            <a:ext cx="312480" cy="308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67"/>
          <p:cNvSpPr/>
          <p:nvPr/>
        </p:nvSpPr>
        <p:spPr>
          <a:xfrm flipH="1">
            <a:off x="6307920" y="2689200"/>
            <a:ext cx="31140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68"/>
          <p:cNvSpPr/>
          <p:nvPr/>
        </p:nvSpPr>
        <p:spPr>
          <a:xfrm flipH="1">
            <a:off x="6635880" y="2689200"/>
            <a:ext cx="31104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69"/>
          <p:cNvSpPr/>
          <p:nvPr/>
        </p:nvSpPr>
        <p:spPr>
          <a:xfrm flipH="1">
            <a:off x="7257240" y="2692440"/>
            <a:ext cx="311400" cy="307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70"/>
          <p:cNvSpPr/>
          <p:nvPr/>
        </p:nvSpPr>
        <p:spPr>
          <a:xfrm flipH="1">
            <a:off x="5651640" y="2392200"/>
            <a:ext cx="31104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71"/>
          <p:cNvSpPr/>
          <p:nvPr/>
        </p:nvSpPr>
        <p:spPr>
          <a:xfrm flipH="1">
            <a:off x="6616800" y="2389320"/>
            <a:ext cx="311040" cy="307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72"/>
          <p:cNvSpPr/>
          <p:nvPr/>
        </p:nvSpPr>
        <p:spPr>
          <a:xfrm flipH="1">
            <a:off x="7238160" y="2389320"/>
            <a:ext cx="312840" cy="307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73"/>
          <p:cNvSpPr/>
          <p:nvPr/>
        </p:nvSpPr>
        <p:spPr>
          <a:xfrm flipH="1">
            <a:off x="5978520" y="2389320"/>
            <a:ext cx="311040" cy="30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74"/>
          <p:cNvSpPr/>
          <p:nvPr/>
        </p:nvSpPr>
        <p:spPr>
          <a:xfrm flipH="1">
            <a:off x="6304680" y="2389320"/>
            <a:ext cx="311400" cy="30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75"/>
          <p:cNvSpPr/>
          <p:nvPr/>
        </p:nvSpPr>
        <p:spPr>
          <a:xfrm flipH="1">
            <a:off x="6927840" y="2392200"/>
            <a:ext cx="311040" cy="308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7"/>
          <p:cNvSpPr/>
          <p:nvPr/>
        </p:nvSpPr>
        <p:spPr>
          <a:xfrm>
            <a:off x="768240" y="2155680"/>
            <a:ext cx="3191040" cy="1832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Straight Arrow Connector 39"/>
          <p:cNvCxnSpPr/>
          <p:nvPr/>
        </p:nvCxnSpPr>
        <p:spPr>
          <a:xfrm flipV="1">
            <a:off x="1614240" y="304128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580" name="Text Box 6"/>
          <p:cNvSpPr/>
          <p:nvPr/>
        </p:nvSpPr>
        <p:spPr>
          <a:xfrm>
            <a:off x="1335240" y="3411360"/>
            <a:ext cx="761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324080" y="1486080"/>
            <a:ext cx="2239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mode from above-righ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Table 44" descr=""/>
          <p:cNvPicPr/>
          <p:nvPr/>
        </p:nvPicPr>
        <p:blipFill>
          <a:blip r:embed="rId2"/>
          <a:stretch/>
        </p:blipFill>
        <p:spPr>
          <a:xfrm>
            <a:off x="865080" y="5010120"/>
            <a:ext cx="3060720" cy="873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6"/>
          <p:cNvSpPr/>
          <p:nvPr/>
        </p:nvSpPr>
        <p:spPr>
          <a:xfrm>
            <a:off x="1760400" y="4824360"/>
            <a:ext cx="14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76"/>
          <p:cNvSpPr/>
          <p:nvPr/>
        </p:nvSpPr>
        <p:spPr>
          <a:xfrm flipH="1">
            <a:off x="1459080" y="2692440"/>
            <a:ext cx="31104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77"/>
          <p:cNvSpPr/>
          <p:nvPr/>
        </p:nvSpPr>
        <p:spPr>
          <a:xfrm flipH="1">
            <a:off x="2424240" y="2689200"/>
            <a:ext cx="311040" cy="308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78"/>
          <p:cNvSpPr/>
          <p:nvPr/>
        </p:nvSpPr>
        <p:spPr>
          <a:xfrm flipH="1">
            <a:off x="3045600" y="2689200"/>
            <a:ext cx="312840" cy="308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79"/>
          <p:cNvSpPr/>
          <p:nvPr/>
        </p:nvSpPr>
        <p:spPr>
          <a:xfrm flipH="1">
            <a:off x="1785960" y="2689200"/>
            <a:ext cx="31104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80"/>
          <p:cNvSpPr/>
          <p:nvPr/>
        </p:nvSpPr>
        <p:spPr>
          <a:xfrm flipH="1">
            <a:off x="2112120" y="2689200"/>
            <a:ext cx="311400" cy="30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81"/>
          <p:cNvSpPr/>
          <p:nvPr/>
        </p:nvSpPr>
        <p:spPr>
          <a:xfrm flipH="1">
            <a:off x="2735280" y="2692440"/>
            <a:ext cx="311040" cy="307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82"/>
          <p:cNvSpPr/>
          <p:nvPr/>
        </p:nvSpPr>
        <p:spPr>
          <a:xfrm flipH="1">
            <a:off x="1789200" y="2392200"/>
            <a:ext cx="31104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83"/>
          <p:cNvSpPr/>
          <p:nvPr/>
        </p:nvSpPr>
        <p:spPr>
          <a:xfrm flipH="1">
            <a:off x="2754360" y="2389320"/>
            <a:ext cx="311040" cy="307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4"/>
          <p:cNvSpPr/>
          <p:nvPr/>
        </p:nvSpPr>
        <p:spPr>
          <a:xfrm flipH="1">
            <a:off x="3375720" y="2389320"/>
            <a:ext cx="312840" cy="307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85"/>
          <p:cNvSpPr/>
          <p:nvPr/>
        </p:nvSpPr>
        <p:spPr>
          <a:xfrm flipH="1">
            <a:off x="2116080" y="2389320"/>
            <a:ext cx="311040" cy="30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86"/>
          <p:cNvSpPr/>
          <p:nvPr/>
        </p:nvSpPr>
        <p:spPr>
          <a:xfrm flipH="1">
            <a:off x="2443320" y="2389320"/>
            <a:ext cx="311040" cy="30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87"/>
          <p:cNvSpPr/>
          <p:nvPr/>
        </p:nvSpPr>
        <p:spPr>
          <a:xfrm flipH="1">
            <a:off x="3065400" y="2392200"/>
            <a:ext cx="311040" cy="308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Down Arrow 88"/>
          <p:cNvSpPr/>
          <p:nvPr/>
        </p:nvSpPr>
        <p:spPr>
          <a:xfrm>
            <a:off x="2230560" y="4227480"/>
            <a:ext cx="250560" cy="339840"/>
          </a:xfrm>
          <a:prstGeom prst="downArrow">
            <a:avLst>
              <a:gd name="adj1" fmla="val 50000"/>
              <a:gd name="adj2" fmla="val 500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Down Arrow 89"/>
          <p:cNvSpPr/>
          <p:nvPr/>
        </p:nvSpPr>
        <p:spPr>
          <a:xfrm>
            <a:off x="6813720" y="4265640"/>
            <a:ext cx="250560" cy="339840"/>
          </a:xfrm>
          <a:prstGeom prst="downArrow">
            <a:avLst>
              <a:gd name="adj1" fmla="val 50000"/>
              <a:gd name="adj2" fmla="val 500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Lin</cp:lastModifiedBy>
  <cp:lastPrinted>2013-05-17T00:59:36Z</cp:lastPrinted>
  <dcterms:modified xsi:type="dcterms:W3CDTF">2014-01-09T12:49:39Z</dcterms:modified>
  <cp:revision>791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