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7069-3C21-4444-887D-6DF9DE16AC4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5E46-8278-427B-A6EE-776224F32A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8DB9-BAFE-4B10-8BE4-FA1712D8D9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C07E-3708-4B22-9FD2-09410A2209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F0C7-22AA-4B60-ACA0-C02857759CA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C385-EDFA-44DB-8BDF-7E6833DE36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C4FA-1AB1-4927-BA81-C1B95DCCFF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D758-15A3-4000-B6B7-22556F704B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5122-FF4B-4780-A8AB-E40553D3F3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050A-DA5F-4AA8-95B1-B9DCB8914F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B099-7CC7-4ADE-9FF4-C157357F2F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5CC1-4236-48D2-ADEB-B359253360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3684-32FD-48E4-8BF1-9EA0EA4F7B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A5C9-D5E1-4B3B-B2E7-1081C8AD7E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5D04-D358-4F9B-A6F1-231F52F0CC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7AEA-2562-4422-B84C-242A791A60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547-A804-4523-9814-F8A12430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7CB-92ED-4B19-9FD7-EF5A39C2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E20B73-04B6-4C76-A6D2-4E829220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8FB939-D31C-4943-990B-657FCB9C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ADB4C8-69ED-4CD0-A565-AA52144D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CE96B0-F022-421F-A5DA-49B09A1A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438CBB-01CC-45C4-BF76-E32AF162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9D14F2-28BC-4E9C-BE3A-D889725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967212-5A85-4CCA-A48F-4A148681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D77AE3-29F3-45B7-BE53-9277EC14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CBF638-1A22-43AB-AFE4-CC38EF05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8E608-0C31-4514-8E1E-89CBD992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E4E-B1B4-4CF1-A80B-E8A6EA07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40A7D7-C37C-4C0A-BEB7-9A0FBEAA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89214C-0B4F-4268-A58B-6769DF57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7A9E94-4A3B-4657-ADC1-41C467CC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73044D-D557-47C7-9AD0-3E752AC1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5A1D47-1366-49E3-8E6A-124753F1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3E76D6-7FC3-414A-86B8-B09866D1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A0C0B0-9DF8-4F72-B447-D9CA58C7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2E890C-B5FC-4853-9ADC-979CFEA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CCA0A3-9548-4566-99F1-F8D9811C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8F4F5D-FAF7-4AEA-8CB3-69B4DAA3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25C-FF8E-420D-B33D-A8E13618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DF5AC5-67ED-4A74-A303-72FF5BDD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FF3858-E4AF-4AD8-B2EA-E6157F9F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945735-0ABB-44E5-BAD8-BC7E6AA7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C5C9E1-DEB2-4645-92BF-A362F0FC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36A7D5-B1FF-44EF-BA38-76F483E7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7AA860-66F1-4570-ADA6-50961C80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1D9D48-7544-40CF-B497-0A04AA3C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20AB6C-2AC1-4AA9-8A76-A414FF99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49F9CF-AA4B-43EC-A124-B142746E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371178-55B7-447E-B03D-1CFAE63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F7EC85-713D-4E0A-8E29-8D271C7B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EA0694-8474-4C9D-93E2-BB6347ED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095867-F715-4EEC-BE61-5C6F46D1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EC6-8DB8-4D0D-98DA-15C73AC8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37E0D-DE7D-46BB-89EB-6381B352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CD744-4C7E-4765-BEF8-4F234CA9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9C226-0696-41F9-896C-12241B10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DCD0A-4B8E-4448-9DCA-41862058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B8056-A0A6-4446-9103-2B421ED9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606-DB97-4613-89C8-D646D824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86586-0BE1-4522-BBB9-BED76365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2B4BA-830F-4969-810F-899BEA28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38AC1-EFB7-4A55-836B-CA581E59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F0FF7-B5D3-4E58-BBAD-1733DA67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E6812-6E6F-4689-9436-C70DA0C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C8B9A-7501-41E0-9DF7-064876D3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95E7D-CC0F-4950-8AF0-289A5366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18A24-3321-4FA0-8578-5F4D64CC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DC96F-79FE-4154-A812-0851B0DF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7D6F5-9A5B-48DD-9516-7351D2AE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C55-1E89-4453-A2E1-8FCB1667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21143-F0B0-47AA-928B-4A579AA6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4039B-9B01-463B-A571-A8431EBD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B01DA-ACC1-41C5-B869-50281D66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3A0C7-3599-4A4E-96CD-65B03C42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416B0-D5A3-4689-908B-C6B4493A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7E79C-7699-4DB1-AF90-4A5B782A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39EC8-32C7-424B-801B-E9B987A5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5B4E3-7537-4248-B909-1F1233B5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2CA28-B59D-4858-A350-6778A6A7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6AC0B-78C4-4CD1-9994-58C23586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8D3-619D-417A-A2B8-1FCA3BC2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A2568-FFFE-4406-82F1-84BFA4E7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CCDED-DA8B-474A-A62E-910B16BD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22FBD-58FE-4B7E-9624-569516EB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D5D6B-FD76-42DC-A955-A4E7BE0F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EE98E-33C7-48BE-9524-34C5DE67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63B0E-06E2-4E10-84CB-AE12ABDF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BDBBE-A60E-4E5A-9097-E2ABC66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E587D-2C59-4137-998F-951D0313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68C4E-FEAC-4A76-B890-F42A08D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C6897-1C07-4930-81E4-9CFFC5BD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364-9B68-48DE-A9DE-D62B0822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69DC0-2C3C-4A86-9F4A-D61C32B2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C682B-6F3E-4610-94E6-442E1DA2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13A75-D948-4684-BC9A-416C5B6E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DE5BC-E02E-41BA-B53B-046157C0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14557F-62AA-4844-9130-AD48015A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BE9AB-D64D-41FF-8CC5-D367B068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9D062-AA8F-4015-87FA-F7FF6226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9A87A-9C65-4842-8ADA-91D1DDB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CB0DA-41A2-4ADA-8AB3-99514CD7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5D35E-6A2D-4CC7-9ABC-196F323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663-244A-434B-811D-50B966F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97E6F-4453-48A3-B4C6-FA0E56E9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3DA86-9EC7-471D-8170-828EB072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17DF9-4D8B-42BF-8CE3-5F096D6D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5EB0F-379E-4C77-9BDD-C3B0CA07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CE18F-846C-4760-96BC-83B25B45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4599F-7B9D-40E2-A92C-34E861C5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D769A-448E-4B05-9714-F8F07F38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6E16B-2CFD-49E9-9DFC-C4BDDD5F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C0C3A-73BB-4F84-8BD1-FA7E83DD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F39B8-E676-4BC4-B2B1-23FE1095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7D4-B03D-48D8-BAF9-80BBCCE7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3C893-A947-4247-9C2E-A17F92F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78AF0D-736D-4EDF-A0C7-7338EACA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3BE45-0A9F-4359-98BD-357A05C6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A358D-35D6-40F8-B965-CCEEE6F1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47BAB-38BE-4C68-8C44-628C74A1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68F78F-2204-4BAA-9095-F5A582BB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31DB49-33E4-4EB0-9481-56793417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E315CC-0512-4993-8311-B6419302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8A8AB1-F86E-46D1-99BC-FD557B2D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AC5D2D-7603-4C95-A2E9-445DD3C4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64C-A641-4962-9450-9FAED7D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78C666-86EE-4D1B-8AF0-256BA783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7AEDC1-8951-4A98-AE4E-90FB83D6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E67C10-1B38-4D43-B741-20711289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F5C5A7-D6D7-4502-B854-11F39EB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ACEE77-CDA0-4ED5-A4F8-190E5C6B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8B975D-014F-4797-8814-F8FDA461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FA6360-978A-4DBB-B805-F284367D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B3C9FE-B7BD-4A0D-9365-2FDA0432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290C58-F8EB-40D8-A8D0-98E15E01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92E6D9-7B67-48D6-A3F9-1387DDA9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E_中面4対3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92560" y="6476760"/>
            <a:ext cx="2135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79DA-DB62-462D-ACF9-5FA406B3FDE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8" descr="E_中面4対3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EEE6-8785-4A63-8C4D-A3ACEB0E12B2}" type="slidenum">
              <a:rPr b="0" lang="ja-JP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8" descr="E_中面4対3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DB7E-8128-470B-9479-9413EC01F0ED}" type="slidenum">
              <a:rPr b="0" lang="ja-JP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E_中面4対3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E_表紙4対3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E_中面4対3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98D5-365D-44C8-A5FF-7495D0EB594F}" type="slidenum">
              <a:rPr b="0" lang="ja-JP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E_中面4対3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A05B-285E-4FBC-8019-C9051BD49F31}" type="slidenum">
              <a:rPr b="0" lang="ja-JP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E_中面4対3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1EA5-0B0C-41D5-A5B9-AA3D39ED7D69}" type="slidenum">
              <a:rPr b="0" lang="ja-JP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8" descr="E_中面4対3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6EB2-B22D-4B47-B07A-6C2DA0401BAA}" type="slidenum">
              <a:rPr b="0" lang="ja-JP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8" descr="E_中面4対3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772C-6570-4C9C-B187-A1D3736E41B8}" type="slidenum">
              <a:rPr b="0" lang="ja-JP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8" descr="E_中面4対3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02AB-9ADB-43EF-B721-A6F9296DE4AA}" type="slidenum">
              <a:rPr b="0" lang="ja-JP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8" descr="E_中面4対3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0B22-D409-466C-ABFC-DF698478E72E}" type="slidenum">
              <a:rPr b="0" lang="ja-JP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78544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Non-RCE3: On padding/unavailable samples pre-set for intra block co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kira Minezawa, Kazuyuki Miyazawa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un-ichi Sekiguchi, Tokumichi Murakam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tsubishi Electric Corpo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テキスト ボックス 1"/>
          <p:cNvSpPr/>
          <p:nvPr/>
        </p:nvSpPr>
        <p:spPr>
          <a:xfrm>
            <a:off x="115920" y="104292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P00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n length-based deriv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566100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longest-connected pixel value to fill the unavailabl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remove the memory for hist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円/楕円 1"/>
          <p:cNvSpPr/>
          <p:nvPr/>
        </p:nvSpPr>
        <p:spPr>
          <a:xfrm>
            <a:off x="2411280" y="1236600"/>
            <a:ext cx="252720" cy="250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円/楕円 2"/>
          <p:cNvSpPr/>
          <p:nvPr/>
        </p:nvSpPr>
        <p:spPr>
          <a:xfrm>
            <a:off x="2411280" y="2273400"/>
            <a:ext cx="252720" cy="250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円/楕円 3"/>
          <p:cNvSpPr/>
          <p:nvPr/>
        </p:nvSpPr>
        <p:spPr>
          <a:xfrm>
            <a:off x="2411280" y="3309840"/>
            <a:ext cx="252720" cy="25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円/楕円 3"/>
          <p:cNvSpPr/>
          <p:nvPr/>
        </p:nvSpPr>
        <p:spPr>
          <a:xfrm>
            <a:off x="2411280" y="3568680"/>
            <a:ext cx="252720" cy="25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円/楕円 3"/>
          <p:cNvSpPr/>
          <p:nvPr/>
        </p:nvSpPr>
        <p:spPr>
          <a:xfrm>
            <a:off x="2411280" y="4087800"/>
            <a:ext cx="252720" cy="25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円/楕円 3"/>
          <p:cNvSpPr/>
          <p:nvPr/>
        </p:nvSpPr>
        <p:spPr>
          <a:xfrm>
            <a:off x="2411280" y="4605480"/>
            <a:ext cx="252720" cy="25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円/楕円 1"/>
          <p:cNvSpPr/>
          <p:nvPr/>
        </p:nvSpPr>
        <p:spPr>
          <a:xfrm>
            <a:off x="2411280" y="1495440"/>
            <a:ext cx="252720" cy="252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円/楕円 1"/>
          <p:cNvSpPr/>
          <p:nvPr/>
        </p:nvSpPr>
        <p:spPr>
          <a:xfrm>
            <a:off x="2411280" y="2532240"/>
            <a:ext cx="252720" cy="25236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円/楕円 1"/>
          <p:cNvSpPr/>
          <p:nvPr/>
        </p:nvSpPr>
        <p:spPr>
          <a:xfrm>
            <a:off x="2411280" y="2013120"/>
            <a:ext cx="252720" cy="25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円/楕円 2"/>
          <p:cNvSpPr/>
          <p:nvPr/>
        </p:nvSpPr>
        <p:spPr>
          <a:xfrm>
            <a:off x="2411280" y="2790720"/>
            <a:ext cx="252720" cy="25236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円/楕円 3"/>
          <p:cNvSpPr/>
          <p:nvPr/>
        </p:nvSpPr>
        <p:spPr>
          <a:xfrm>
            <a:off x="2411280" y="3828960"/>
            <a:ext cx="252720" cy="250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円/楕円 3"/>
          <p:cNvSpPr/>
          <p:nvPr/>
        </p:nvSpPr>
        <p:spPr>
          <a:xfrm>
            <a:off x="2411280" y="4346640"/>
            <a:ext cx="252720" cy="25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円/楕円 3"/>
          <p:cNvSpPr/>
          <p:nvPr/>
        </p:nvSpPr>
        <p:spPr>
          <a:xfrm>
            <a:off x="2411280" y="4865760"/>
            <a:ext cx="252720" cy="250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円/楕円 3"/>
          <p:cNvSpPr/>
          <p:nvPr/>
        </p:nvSpPr>
        <p:spPr>
          <a:xfrm>
            <a:off x="2411280" y="5124600"/>
            <a:ext cx="252720" cy="252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円/楕円 1"/>
          <p:cNvSpPr/>
          <p:nvPr/>
        </p:nvSpPr>
        <p:spPr>
          <a:xfrm>
            <a:off x="2411280" y="3051000"/>
            <a:ext cx="252720" cy="250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円/楕円 1"/>
          <p:cNvSpPr/>
          <p:nvPr/>
        </p:nvSpPr>
        <p:spPr>
          <a:xfrm>
            <a:off x="2411280" y="1754280"/>
            <a:ext cx="252720" cy="252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正方形/長方形 1"/>
          <p:cNvSpPr/>
          <p:nvPr/>
        </p:nvSpPr>
        <p:spPr>
          <a:xfrm>
            <a:off x="2674800" y="1236600"/>
            <a:ext cx="4140360" cy="414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テキスト ボックス 73"/>
          <p:cNvSpPr/>
          <p:nvPr/>
        </p:nvSpPr>
        <p:spPr>
          <a:xfrm>
            <a:off x="3929760" y="83664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左中かっこ 2"/>
          <p:cNvSpPr/>
          <p:nvPr/>
        </p:nvSpPr>
        <p:spPr>
          <a:xfrm>
            <a:off x="2195640" y="1236600"/>
            <a:ext cx="144360" cy="75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755640"/>
              <a:gd name="textAreaBottom" fmla="*/ 752040 h 7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左中かっこ 25"/>
          <p:cNvSpPr/>
          <p:nvPr/>
        </p:nvSpPr>
        <p:spPr>
          <a:xfrm>
            <a:off x="2195640" y="2039760"/>
            <a:ext cx="144360" cy="4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468360"/>
              <a:gd name="textAreaBottom" fmla="*/ 46476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左中かっこ 26"/>
          <p:cNvSpPr/>
          <p:nvPr/>
        </p:nvSpPr>
        <p:spPr>
          <a:xfrm>
            <a:off x="2195640" y="2543040"/>
            <a:ext cx="144360" cy="4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468360"/>
              <a:gd name="textAreaBottom" fmla="*/ 46476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左中かっこ 27"/>
          <p:cNvSpPr/>
          <p:nvPr/>
        </p:nvSpPr>
        <p:spPr>
          <a:xfrm>
            <a:off x="2195640" y="3068640"/>
            <a:ext cx="144360" cy="21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16000"/>
              <a:gd name="textAreaBottom" fmla="*/ 2124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5400" y="10800"/>
                  <a:pt x="0" y="10800"/>
                </a:cubicBezTo>
                <a:cubicBezTo>
                  <a:pt x="54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左中かっこ 28"/>
          <p:cNvSpPr/>
          <p:nvPr/>
        </p:nvSpPr>
        <p:spPr>
          <a:xfrm>
            <a:off x="2195640" y="3324240"/>
            <a:ext cx="144360" cy="17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763640"/>
              <a:gd name="textAreaBottom" fmla="*/ 176004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"/>
                  <a:pt x="10800" y="147"/>
                </a:cubicBezTo>
                <a:lnTo>
                  <a:pt x="10800" y="10653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4"/>
                  <a:pt x="10800" y="10947"/>
                </a:cubicBezTo>
                <a:lnTo>
                  <a:pt x="10800" y="21453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左中かっこ 29"/>
          <p:cNvSpPr/>
          <p:nvPr/>
        </p:nvSpPr>
        <p:spPr>
          <a:xfrm>
            <a:off x="2195640" y="5146560"/>
            <a:ext cx="144360" cy="21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16000"/>
              <a:gd name="textAreaBottom" fmla="*/ 2124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0"/>
                  <a:pt x="10800" y="1200"/>
                </a:cubicBezTo>
                <a:lnTo>
                  <a:pt x="10800" y="9600"/>
                </a:lnTo>
                <a:cubicBezTo>
                  <a:pt x="10800" y="10200"/>
                  <a:pt x="5400" y="10800"/>
                  <a:pt x="0" y="10800"/>
                </a:cubicBezTo>
                <a:cubicBezTo>
                  <a:pt x="5400" y="10800"/>
                  <a:pt x="10800" y="11400"/>
                  <a:pt x="10800" y="12000"/>
                </a:cubicBezTo>
                <a:lnTo>
                  <a:pt x="10800" y="20400"/>
                </a:lnTo>
                <a:cubicBezTo>
                  <a:pt x="10800" y="210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テキスト ボックス 73"/>
          <p:cNvSpPr/>
          <p:nvPr/>
        </p:nvSpPr>
        <p:spPr>
          <a:xfrm>
            <a:off x="1052280" y="141444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テキスト ボックス 73"/>
          <p:cNvSpPr/>
          <p:nvPr/>
        </p:nvSpPr>
        <p:spPr>
          <a:xfrm>
            <a:off x="1052280" y="207180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テキスト ボックス 73"/>
          <p:cNvSpPr/>
          <p:nvPr/>
        </p:nvSpPr>
        <p:spPr>
          <a:xfrm>
            <a:off x="1052280" y="256392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テキスト ボックス 73"/>
          <p:cNvSpPr/>
          <p:nvPr/>
        </p:nvSpPr>
        <p:spPr>
          <a:xfrm>
            <a:off x="1052280" y="297036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テキスト ボックス 73"/>
          <p:cNvSpPr/>
          <p:nvPr/>
        </p:nvSpPr>
        <p:spPr>
          <a:xfrm>
            <a:off x="1052280" y="399564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ngth=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テキスト ボックス 73"/>
          <p:cNvSpPr/>
          <p:nvPr/>
        </p:nvSpPr>
        <p:spPr>
          <a:xfrm>
            <a:off x="1052280" y="504684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-level adaptation (lossles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4292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r: HM12.1 + RExt5.1 (RCE3 anch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bitrate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 to 1.2%, 1.3%, 1.1% for AI, RA, LB, respec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0" y="1052640"/>
          <a:ext cx="9144000" cy="2873160"/>
        </p:xfrm>
        <a:graphic>
          <a:graphicData uri="http://schemas.openxmlformats.org/drawingml/2006/table">
            <a:tbl>
              <a:tblPr/>
              <a:tblGrid>
                <a:gridCol w="1674720"/>
                <a:gridCol w="598680"/>
                <a:gridCol w="596880"/>
                <a:gridCol w="598320"/>
                <a:gridCol w="596880"/>
                <a:gridCol w="596880"/>
                <a:gridCol w="598680"/>
                <a:gridCol w="596880"/>
                <a:gridCol w="596880"/>
                <a:gridCol w="676080"/>
                <a:gridCol w="675000"/>
                <a:gridCol w="676080"/>
                <a:gridCol w="662040"/>
              </a:tblGrid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it-rate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-level adaptation (loss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chor: HM12.1 + RExt5.1 (RCE3 anch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s up to 3.3% bitrate sav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971640" y="981000"/>
          <a:ext cx="7056360" cy="2102040"/>
        </p:xfrm>
        <a:graphic>
          <a:graphicData uri="http://schemas.openxmlformats.org/drawingml/2006/table">
            <a:tbl>
              <a:tblPr/>
              <a:tblGrid>
                <a:gridCol w="1355760"/>
                <a:gridCol w="633240"/>
                <a:gridCol w="633600"/>
                <a:gridCol w="633240"/>
                <a:gridCol w="633600"/>
                <a:gridCol w="633240"/>
                <a:gridCol w="633600"/>
                <a:gridCol w="633240"/>
                <a:gridCol w="633240"/>
                <a:gridCol w="633600"/>
              </a:tblGrid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Super-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34920" y="3213000"/>
          <a:ext cx="5184720" cy="2105280"/>
        </p:xfrm>
        <a:graphic>
          <a:graphicData uri="http://schemas.openxmlformats.org/drawingml/2006/table">
            <a:tbl>
              <a:tblPr/>
              <a:tblGrid>
                <a:gridCol w="1363680"/>
                <a:gridCol w="636480"/>
                <a:gridCol w="636840"/>
                <a:gridCol w="636480"/>
                <a:gridCol w="638280"/>
                <a:gridCol w="636480"/>
                <a:gridCol w="636480"/>
              </a:tblGrid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2" name=""/>
          <p:cNvGraphicFramePr/>
          <p:nvPr/>
        </p:nvGraphicFramePr>
        <p:xfrm>
          <a:off x="5292720" y="3213000"/>
          <a:ext cx="3816360" cy="2105280"/>
        </p:xfrm>
        <a:graphic>
          <a:graphicData uri="http://schemas.openxmlformats.org/drawingml/2006/table">
            <a:tbl>
              <a:tblPr/>
              <a:tblGrid>
                <a:gridCol w="636480"/>
                <a:gridCol w="635040"/>
                <a:gridCol w="636840"/>
                <a:gridCol w="636480"/>
                <a:gridCol w="635040"/>
                <a:gridCol w="636480"/>
              </a:tblGrid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TU-level adaptation (lossles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4292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r: HM12.1 + RExt5.1 (RCE3 anch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bitrate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 to 1.1%, 1.2%, 1.1% for AI, RA, LB, respec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0" y="1052640"/>
          <a:ext cx="9144000" cy="2873160"/>
        </p:xfrm>
        <a:graphic>
          <a:graphicData uri="http://schemas.openxmlformats.org/drawingml/2006/table">
            <a:tbl>
              <a:tblPr/>
              <a:tblGrid>
                <a:gridCol w="1674720"/>
                <a:gridCol w="598680"/>
                <a:gridCol w="596880"/>
                <a:gridCol w="598320"/>
                <a:gridCol w="596880"/>
                <a:gridCol w="596880"/>
                <a:gridCol w="598680"/>
                <a:gridCol w="596880"/>
                <a:gridCol w="596880"/>
                <a:gridCol w="676080"/>
                <a:gridCol w="675000"/>
                <a:gridCol w="676080"/>
                <a:gridCol w="662040"/>
              </a:tblGrid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it-rate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TU-level adaptation (loss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chor: HM12.1 + RExt5.1 (RCE3 anch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s up to 2.7% bitrate sav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971640" y="981000"/>
          <a:ext cx="7056360" cy="2102040"/>
        </p:xfrm>
        <a:graphic>
          <a:graphicData uri="http://schemas.openxmlformats.org/drawingml/2006/table">
            <a:tbl>
              <a:tblPr/>
              <a:tblGrid>
                <a:gridCol w="1355760"/>
                <a:gridCol w="633240"/>
                <a:gridCol w="633600"/>
                <a:gridCol w="633240"/>
                <a:gridCol w="633600"/>
                <a:gridCol w="633240"/>
                <a:gridCol w="633600"/>
                <a:gridCol w="633240"/>
                <a:gridCol w="633240"/>
                <a:gridCol w="633600"/>
              </a:tblGrid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Super-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34920" y="3213000"/>
          <a:ext cx="5184720" cy="2105280"/>
        </p:xfrm>
        <a:graphic>
          <a:graphicData uri="http://schemas.openxmlformats.org/drawingml/2006/table">
            <a:tbl>
              <a:tblPr/>
              <a:tblGrid>
                <a:gridCol w="1363680"/>
                <a:gridCol w="636480"/>
                <a:gridCol w="636840"/>
                <a:gridCol w="636480"/>
                <a:gridCol w="638280"/>
                <a:gridCol w="636480"/>
                <a:gridCol w="636480"/>
              </a:tblGrid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5292720" y="3213000"/>
          <a:ext cx="3816360" cy="2105280"/>
        </p:xfrm>
        <a:graphic>
          <a:graphicData uri="http://schemas.openxmlformats.org/drawingml/2006/table">
            <a:tbl>
              <a:tblPr/>
              <a:tblGrid>
                <a:gridCol w="636480"/>
                <a:gridCol w="635040"/>
                <a:gridCol w="636840"/>
                <a:gridCol w="636480"/>
                <a:gridCol w="635040"/>
                <a:gridCol w="636480"/>
              </a:tblGrid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23640" y="1052640"/>
            <a:ext cx="856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Propose adaptive pre-set derivation schemes for unavailable samples of intra block cop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Set background color to pre-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ropose histogram-based and run-length based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o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 and CTU level adaptation are evalu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run-length based method with CTU-level adaptation achieves up to 2.7% and 1.2% bitrate savings relative to </a:t>
            </a: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RCE3 anch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or lossy and lossless configur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erformance of CTU-level adaptation is almost the same as that of CU-level adap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mmend to adopt one of the proposed schemes to RExt draft text or to evaluate them in 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476424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lax vector restriction for overlap area in intra block copy, fill unavailable area with some sort of c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ose adaptive derivation of the color for fi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7"/>
          <p:cNvSpPr/>
          <p:nvPr/>
        </p:nvSpPr>
        <p:spPr>
          <a:xfrm>
            <a:off x="3664080" y="2421000"/>
            <a:ext cx="2087280" cy="2087640"/>
          </a:xfrm>
          <a:prstGeom prst="rect">
            <a:avLst/>
          </a:prstGeom>
          <a:solidFill>
            <a:srgbClr val="a6a6a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テキスト ボックス 8"/>
          <p:cNvSpPr/>
          <p:nvPr/>
        </p:nvSpPr>
        <p:spPr>
          <a:xfrm>
            <a:off x="334800" y="13413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テキスト ボックス 9"/>
          <p:cNvSpPr/>
          <p:nvPr/>
        </p:nvSpPr>
        <p:spPr>
          <a:xfrm>
            <a:off x="5837400" y="321300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yet reconstruc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正方形/長方形 6"/>
          <p:cNvSpPr/>
          <p:nvPr/>
        </p:nvSpPr>
        <p:spPr>
          <a:xfrm>
            <a:off x="2124000" y="1052640"/>
            <a:ext cx="2087640" cy="20890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cheme (CU-lev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フローチャート : 代替処理 67"/>
          <p:cNvSpPr/>
          <p:nvPr/>
        </p:nvSpPr>
        <p:spPr>
          <a:xfrm>
            <a:off x="2544840" y="3759120"/>
            <a:ext cx="5340240" cy="28386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正方形/長方形 4"/>
          <p:cNvSpPr/>
          <p:nvPr/>
        </p:nvSpPr>
        <p:spPr>
          <a:xfrm>
            <a:off x="1881360" y="1895400"/>
            <a:ext cx="539640" cy="54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正方形/長方形 5"/>
          <p:cNvSpPr/>
          <p:nvPr/>
        </p:nvSpPr>
        <p:spPr>
          <a:xfrm>
            <a:off x="998640" y="1082520"/>
            <a:ext cx="2817720" cy="10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正方形/長方形 6"/>
          <p:cNvSpPr/>
          <p:nvPr/>
        </p:nvSpPr>
        <p:spPr>
          <a:xfrm>
            <a:off x="998640" y="2131920"/>
            <a:ext cx="1187280" cy="108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20"/>
          <p:cNvSpPr/>
          <p:nvPr/>
        </p:nvSpPr>
        <p:spPr>
          <a:xfrm>
            <a:off x="1071720" y="12366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paper, we pro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テキスト ボックス 21"/>
          <p:cNvSpPr/>
          <p:nvPr/>
        </p:nvSpPr>
        <p:spPr>
          <a:xfrm>
            <a:off x="1071720" y="16765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sult shows that 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線コネクタ 9"/>
          <p:cNvSpPr/>
          <p:nvPr/>
        </p:nvSpPr>
        <p:spPr>
          <a:xfrm>
            <a:off x="993600" y="1071720"/>
            <a:ext cx="30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線コネクタ 10"/>
          <p:cNvSpPr/>
          <p:nvPr/>
        </p:nvSpPr>
        <p:spPr>
          <a:xfrm>
            <a:off x="3160800" y="21384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テキスト ボックス 45"/>
          <p:cNvSpPr/>
          <p:nvPr/>
        </p:nvSpPr>
        <p:spPr>
          <a:xfrm>
            <a:off x="1071720" y="21160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used by motion 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46"/>
          <p:cNvSpPr/>
          <p:nvPr/>
        </p:nvSpPr>
        <p:spPr>
          <a:xfrm>
            <a:off x="1071720" y="2997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also conducted and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36"/>
          <p:cNvSpPr/>
          <p:nvPr/>
        </p:nvSpPr>
        <p:spPr>
          <a:xfrm>
            <a:off x="1071720" y="2556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. This edge offsets are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グループ化 38"/>
          <p:cNvGrpSpPr/>
          <p:nvPr/>
        </p:nvGrpSpPr>
        <p:grpSpPr>
          <a:xfrm>
            <a:off x="1090440" y="2152800"/>
            <a:ext cx="2922840" cy="1460520"/>
            <a:chOff x="1090440" y="2152800"/>
            <a:chExt cx="2922840" cy="1460520"/>
          </a:xfrm>
        </p:grpSpPr>
        <p:sp>
          <p:nvSpPr>
            <p:cNvPr id="491" name="正方形/長方形 15"/>
            <p:cNvSpPr/>
            <p:nvPr/>
          </p:nvSpPr>
          <p:spPr>
            <a:xfrm>
              <a:off x="2428920" y="2152800"/>
              <a:ext cx="1584360" cy="14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正方形/長方形 16"/>
            <p:cNvSpPr/>
            <p:nvPr/>
          </p:nvSpPr>
          <p:spPr>
            <a:xfrm>
              <a:off x="2158920" y="2451240"/>
              <a:ext cx="1584360" cy="11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正方形/長方形 17"/>
            <p:cNvSpPr/>
            <p:nvPr/>
          </p:nvSpPr>
          <p:spPr>
            <a:xfrm>
              <a:off x="1090440" y="3222720"/>
              <a:ext cx="158436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直線コネクタ 18"/>
          <p:cNvSpPr/>
          <p:nvPr/>
        </p:nvSpPr>
        <p:spPr>
          <a:xfrm>
            <a:off x="993600" y="1071720"/>
            <a:ext cx="0" cy="23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直線コネクタ 19"/>
          <p:cNvSpPr/>
          <p:nvPr/>
        </p:nvSpPr>
        <p:spPr>
          <a:xfrm>
            <a:off x="992160" y="321804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74"/>
          <p:cNvSpPr/>
          <p:nvPr/>
        </p:nvSpPr>
        <p:spPr>
          <a:xfrm>
            <a:off x="834480" y="71604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テキスト ボックス 73"/>
          <p:cNvSpPr/>
          <p:nvPr/>
        </p:nvSpPr>
        <p:spPr>
          <a:xfrm>
            <a:off x="912960" y="35733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線コネクタ 22"/>
          <p:cNvSpPr/>
          <p:nvPr/>
        </p:nvSpPr>
        <p:spPr>
          <a:xfrm flipV="1">
            <a:off x="1944720" y="322056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正方形/長方形 23"/>
          <p:cNvSpPr/>
          <p:nvPr/>
        </p:nvSpPr>
        <p:spPr>
          <a:xfrm>
            <a:off x="3817800" y="804960"/>
            <a:ext cx="93528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73"/>
          <p:cNvSpPr/>
          <p:nvPr/>
        </p:nvSpPr>
        <p:spPr>
          <a:xfrm>
            <a:off x="4998240" y="213192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テキスト ボックス 75"/>
          <p:cNvSpPr/>
          <p:nvPr/>
        </p:nvSpPr>
        <p:spPr>
          <a:xfrm>
            <a:off x="3949560" y="102060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d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線コネクタ 26"/>
          <p:cNvSpPr/>
          <p:nvPr/>
        </p:nvSpPr>
        <p:spPr>
          <a:xfrm flipV="1">
            <a:off x="3673440" y="1220760"/>
            <a:ext cx="26820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正方形/長方形 27"/>
          <p:cNvSpPr/>
          <p:nvPr/>
        </p:nvSpPr>
        <p:spPr>
          <a:xfrm>
            <a:off x="2430360" y="2144880"/>
            <a:ext cx="811440" cy="107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正方形/長方形 28"/>
          <p:cNvSpPr/>
          <p:nvPr/>
        </p:nvSpPr>
        <p:spPr>
          <a:xfrm>
            <a:off x="2160720" y="2414520"/>
            <a:ext cx="269640" cy="80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グループ化 38"/>
          <p:cNvGrpSpPr/>
          <p:nvPr/>
        </p:nvGrpSpPr>
        <p:grpSpPr>
          <a:xfrm>
            <a:off x="1069920" y="2138400"/>
            <a:ext cx="2166840" cy="1079640"/>
            <a:chOff x="1069920" y="2138400"/>
            <a:chExt cx="2166840" cy="1079640"/>
          </a:xfrm>
        </p:grpSpPr>
        <p:sp>
          <p:nvSpPr>
            <p:cNvPr id="506" name="正方形/長方形 30"/>
            <p:cNvSpPr/>
            <p:nvPr/>
          </p:nvSpPr>
          <p:spPr>
            <a:xfrm>
              <a:off x="2155680" y="2138400"/>
              <a:ext cx="1081080" cy="10796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線コネクタ 26"/>
            <p:cNvSpPr/>
            <p:nvPr/>
          </p:nvSpPr>
          <p:spPr>
            <a:xfrm>
              <a:off x="2156400" y="2678040"/>
              <a:ext cx="10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直線コネクタ 29"/>
            <p:cNvSpPr/>
            <p:nvPr/>
          </p:nvSpPr>
          <p:spPr>
            <a:xfrm>
              <a:off x="2696760" y="2138400"/>
              <a:ext cx="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正方形/長方形 33"/>
            <p:cNvSpPr/>
            <p:nvPr/>
          </p:nvSpPr>
          <p:spPr>
            <a:xfrm>
              <a:off x="1069920" y="213840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直線コネクタ 47"/>
          <p:cNvSpPr/>
          <p:nvPr/>
        </p:nvSpPr>
        <p:spPr>
          <a:xfrm>
            <a:off x="2160720" y="24400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直線コネクタ 49"/>
          <p:cNvSpPr/>
          <p:nvPr/>
        </p:nvSpPr>
        <p:spPr>
          <a:xfrm>
            <a:off x="2427120" y="2136600"/>
            <a:ext cx="0" cy="5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直線矢印コネクタ 46"/>
          <p:cNvCxnSpPr/>
          <p:nvPr/>
        </p:nvCxnSpPr>
        <p:spPr>
          <a:xfrm>
            <a:off x="3375000" y="6163920"/>
            <a:ext cx="324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直線矢印コネクタ 51"/>
          <p:cNvCxnSpPr/>
          <p:nvPr/>
        </p:nvCxnSpPr>
        <p:spPr>
          <a:xfrm flipV="1">
            <a:off x="3447720" y="4462200"/>
            <a:ext cx="1080" cy="16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4" name="テキスト ボックス 75"/>
          <p:cNvSpPr/>
          <p:nvPr/>
        </p:nvSpPr>
        <p:spPr>
          <a:xfrm>
            <a:off x="6550200" y="59878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テキスト ボックス 75"/>
          <p:cNvSpPr/>
          <p:nvPr/>
        </p:nvSpPr>
        <p:spPr>
          <a:xfrm>
            <a:off x="2594520" y="39117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テキスト ボックス 75"/>
          <p:cNvSpPr/>
          <p:nvPr/>
        </p:nvSpPr>
        <p:spPr>
          <a:xfrm>
            <a:off x="3442320" y="616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テキスト ボックス 75"/>
          <p:cNvSpPr/>
          <p:nvPr/>
        </p:nvSpPr>
        <p:spPr>
          <a:xfrm>
            <a:off x="4124880" y="616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テキスト ボックス 75"/>
          <p:cNvSpPr/>
          <p:nvPr/>
        </p:nvSpPr>
        <p:spPr>
          <a:xfrm>
            <a:off x="5968440" y="616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直線矢印コネクタ 59"/>
          <p:cNvCxnSpPr/>
          <p:nvPr/>
        </p:nvCxnSpPr>
        <p:spPr>
          <a:xfrm flipV="1">
            <a:off x="3590640" y="6129000"/>
            <a:ext cx="108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直線矢印コネクタ 60"/>
          <p:cNvCxnSpPr/>
          <p:nvPr/>
        </p:nvCxnSpPr>
        <p:spPr>
          <a:xfrm flipV="1">
            <a:off x="4339800" y="6129000"/>
            <a:ext cx="108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直線矢印コネクタ 62"/>
          <p:cNvCxnSpPr/>
          <p:nvPr/>
        </p:nvCxnSpPr>
        <p:spPr>
          <a:xfrm flipV="1">
            <a:off x="6254280" y="6129000"/>
            <a:ext cx="108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正方形/長方形 63"/>
          <p:cNvSpPr/>
          <p:nvPr/>
        </p:nvSpPr>
        <p:spPr>
          <a:xfrm>
            <a:off x="3560760" y="5985000"/>
            <a:ext cx="71280" cy="179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正方形/長方形 64"/>
          <p:cNvSpPr/>
          <p:nvPr/>
        </p:nvSpPr>
        <p:spPr>
          <a:xfrm>
            <a:off x="4311720" y="4653000"/>
            <a:ext cx="71280" cy="151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テキスト ボックス 75"/>
          <p:cNvSpPr/>
          <p:nvPr/>
        </p:nvSpPr>
        <p:spPr>
          <a:xfrm>
            <a:off x="3105720" y="6000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角丸四角形吹き出し 71"/>
          <p:cNvSpPr/>
          <p:nvPr/>
        </p:nvSpPr>
        <p:spPr>
          <a:xfrm>
            <a:off x="4287960" y="2629080"/>
            <a:ext cx="4316400" cy="749160"/>
          </a:xfrm>
          <a:prstGeom prst="wedgeRoundRectCallout">
            <a:avLst>
              <a:gd name="adj1" fmla="val -54069"/>
              <a:gd name="adj2" fmla="val 28736"/>
              <a:gd name="adj3" fmla="val 1666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t the most frequently appeared value in neighboring samples of current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正方形/長方形 50"/>
          <p:cNvSpPr/>
          <p:nvPr/>
        </p:nvSpPr>
        <p:spPr>
          <a:xfrm>
            <a:off x="2151000" y="2155680"/>
            <a:ext cx="270000" cy="270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正方形/長方形 41"/>
          <p:cNvSpPr/>
          <p:nvPr/>
        </p:nvSpPr>
        <p:spPr>
          <a:xfrm>
            <a:off x="2111400" y="2131920"/>
            <a:ext cx="460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線コネクタ 52"/>
          <p:cNvSpPr/>
          <p:nvPr/>
        </p:nvSpPr>
        <p:spPr>
          <a:xfrm flipH="1" flipV="1">
            <a:off x="2421000" y="2290320"/>
            <a:ext cx="2571840" cy="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右矢印 43"/>
          <p:cNvSpPr/>
          <p:nvPr/>
        </p:nvSpPr>
        <p:spPr>
          <a:xfrm rot="2700000">
            <a:off x="1895400" y="2941560"/>
            <a:ext cx="2022480" cy="434880"/>
          </a:xfrm>
          <a:prstGeom prst="rightArrow">
            <a:avLst>
              <a:gd name="adj1" fmla="val 24083"/>
              <a:gd name="adj2" fmla="val 8608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円弧 54"/>
          <p:cNvSpPr/>
          <p:nvPr/>
        </p:nvSpPr>
        <p:spPr>
          <a:xfrm>
            <a:off x="539640" y="2205000"/>
            <a:ext cx="3800520" cy="4824360"/>
          </a:xfrm>
          <a:custGeom>
            <a:avLst/>
            <a:gdLst>
              <a:gd name="textAreaLeft" fmla="*/ 1889280 w 3800520"/>
              <a:gd name="textAreaRight" fmla="*/ 3800520 w 3800520"/>
              <a:gd name="textAreaTop" fmla="*/ 0 h 4824360"/>
              <a:gd name="textAreaBottom" fmla="*/ 2389320 h 4824360"/>
            </a:gdLst>
            <a:ahLst/>
            <a:rect l="textAreaLeft" t="textAreaTop" r="textAreaRight" b="textAreaBottom"/>
            <a:pathLst>
              <a:path stroke="0" w="3800475" h="4824412">
                <a:moveTo>
                  <a:pt x="1889176" y="41"/>
                </a:moveTo>
                <a:lnTo>
                  <a:pt x="1889176" y="41"/>
                </a:lnTo>
                <a:arcTo wR="1900238" hR="2412206" stAng="-5415764" swAng="5374364"/>
                <a:lnTo>
                  <a:pt x="1900238" y="2412206"/>
                </a:lnTo>
                <a:close/>
              </a:path>
              <a:path fill="none" w="3800475" h="4824412">
                <a:moveTo>
                  <a:pt x="1889176" y="41"/>
                </a:moveTo>
                <a:lnTo>
                  <a:pt x="1889176" y="41"/>
                </a:lnTo>
                <a:arcTo wR="1900238" hR="2412206" stAng="-5415764" swAng="5374364"/>
              </a:path>
            </a:pathLst>
          </a:custGeom>
          <a:noFill/>
          <a:ln w="2556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scheme (CTU-leve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正方形/長方形 4"/>
          <p:cNvSpPr/>
          <p:nvPr/>
        </p:nvSpPr>
        <p:spPr>
          <a:xfrm>
            <a:off x="1881360" y="1895400"/>
            <a:ext cx="539640" cy="54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正方形/長方形 5"/>
          <p:cNvSpPr/>
          <p:nvPr/>
        </p:nvSpPr>
        <p:spPr>
          <a:xfrm>
            <a:off x="998640" y="1082520"/>
            <a:ext cx="2817720" cy="10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正方形/長方形 6"/>
          <p:cNvSpPr/>
          <p:nvPr/>
        </p:nvSpPr>
        <p:spPr>
          <a:xfrm>
            <a:off x="998640" y="2131920"/>
            <a:ext cx="1187280" cy="108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テキスト ボックス 20"/>
          <p:cNvSpPr/>
          <p:nvPr/>
        </p:nvSpPr>
        <p:spPr>
          <a:xfrm>
            <a:off x="1071720" y="12366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paper, we pro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テキスト ボックス 21"/>
          <p:cNvSpPr/>
          <p:nvPr/>
        </p:nvSpPr>
        <p:spPr>
          <a:xfrm>
            <a:off x="1071720" y="16765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sult shows that 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線コネクタ 9"/>
          <p:cNvSpPr/>
          <p:nvPr/>
        </p:nvSpPr>
        <p:spPr>
          <a:xfrm>
            <a:off x="993600" y="1071720"/>
            <a:ext cx="30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直線コネクタ 10"/>
          <p:cNvSpPr/>
          <p:nvPr/>
        </p:nvSpPr>
        <p:spPr>
          <a:xfrm>
            <a:off x="3160800" y="21384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テキスト ボックス 45"/>
          <p:cNvSpPr/>
          <p:nvPr/>
        </p:nvSpPr>
        <p:spPr>
          <a:xfrm>
            <a:off x="1071720" y="21160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used by motion 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テキスト ボックス 46"/>
          <p:cNvSpPr/>
          <p:nvPr/>
        </p:nvSpPr>
        <p:spPr>
          <a:xfrm>
            <a:off x="1071720" y="2997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also conducted and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テキスト ボックス 36"/>
          <p:cNvSpPr/>
          <p:nvPr/>
        </p:nvSpPr>
        <p:spPr>
          <a:xfrm>
            <a:off x="1071720" y="2556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. This edge offsets are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グループ化 38"/>
          <p:cNvGrpSpPr/>
          <p:nvPr/>
        </p:nvGrpSpPr>
        <p:grpSpPr>
          <a:xfrm>
            <a:off x="1090440" y="2152800"/>
            <a:ext cx="2922840" cy="1460520"/>
            <a:chOff x="1090440" y="2152800"/>
            <a:chExt cx="2922840" cy="1460520"/>
          </a:xfrm>
        </p:grpSpPr>
        <p:sp>
          <p:nvSpPr>
            <p:cNvPr id="543" name="正方形/長方形 15"/>
            <p:cNvSpPr/>
            <p:nvPr/>
          </p:nvSpPr>
          <p:spPr>
            <a:xfrm>
              <a:off x="2428920" y="2152800"/>
              <a:ext cx="1584360" cy="14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正方形/長方形 16"/>
            <p:cNvSpPr/>
            <p:nvPr/>
          </p:nvSpPr>
          <p:spPr>
            <a:xfrm>
              <a:off x="2158920" y="2451240"/>
              <a:ext cx="1584360" cy="11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正方形/長方形 17"/>
            <p:cNvSpPr/>
            <p:nvPr/>
          </p:nvSpPr>
          <p:spPr>
            <a:xfrm>
              <a:off x="1090440" y="3222720"/>
              <a:ext cx="158436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直線コネクタ 18"/>
          <p:cNvSpPr/>
          <p:nvPr/>
        </p:nvSpPr>
        <p:spPr>
          <a:xfrm>
            <a:off x="993600" y="1071720"/>
            <a:ext cx="0" cy="23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線コネクタ 19"/>
          <p:cNvSpPr/>
          <p:nvPr/>
        </p:nvSpPr>
        <p:spPr>
          <a:xfrm>
            <a:off x="992160" y="321804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テキスト ボックス 74"/>
          <p:cNvSpPr/>
          <p:nvPr/>
        </p:nvSpPr>
        <p:spPr>
          <a:xfrm>
            <a:off x="834480" y="71604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テキスト ボックス 73"/>
          <p:cNvSpPr/>
          <p:nvPr/>
        </p:nvSpPr>
        <p:spPr>
          <a:xfrm>
            <a:off x="912960" y="35733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線コネクタ 22"/>
          <p:cNvSpPr/>
          <p:nvPr/>
        </p:nvSpPr>
        <p:spPr>
          <a:xfrm flipV="1">
            <a:off x="1944720" y="322056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正方形/長方形 23"/>
          <p:cNvSpPr/>
          <p:nvPr/>
        </p:nvSpPr>
        <p:spPr>
          <a:xfrm>
            <a:off x="3817800" y="804960"/>
            <a:ext cx="93528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テキスト ボックス 73"/>
          <p:cNvSpPr/>
          <p:nvPr/>
        </p:nvSpPr>
        <p:spPr>
          <a:xfrm>
            <a:off x="4998240" y="213192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テキスト ボックス 75"/>
          <p:cNvSpPr/>
          <p:nvPr/>
        </p:nvSpPr>
        <p:spPr>
          <a:xfrm>
            <a:off x="3949560" y="102060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d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線コネクタ 26"/>
          <p:cNvSpPr/>
          <p:nvPr/>
        </p:nvSpPr>
        <p:spPr>
          <a:xfrm flipV="1">
            <a:off x="3673440" y="1220760"/>
            <a:ext cx="26820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正方形/長方形 27"/>
          <p:cNvSpPr/>
          <p:nvPr/>
        </p:nvSpPr>
        <p:spPr>
          <a:xfrm>
            <a:off x="2430360" y="2144880"/>
            <a:ext cx="811440" cy="107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正方形/長方形 28"/>
          <p:cNvSpPr/>
          <p:nvPr/>
        </p:nvSpPr>
        <p:spPr>
          <a:xfrm>
            <a:off x="2160720" y="2414520"/>
            <a:ext cx="269640" cy="80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グループ化 38"/>
          <p:cNvGrpSpPr/>
          <p:nvPr/>
        </p:nvGrpSpPr>
        <p:grpSpPr>
          <a:xfrm>
            <a:off x="1069920" y="2138400"/>
            <a:ext cx="2166840" cy="1079640"/>
            <a:chOff x="1069920" y="2138400"/>
            <a:chExt cx="2166840" cy="1079640"/>
          </a:xfrm>
        </p:grpSpPr>
        <p:sp>
          <p:nvSpPr>
            <p:cNvPr id="558" name="正方形/長方形 30"/>
            <p:cNvSpPr/>
            <p:nvPr/>
          </p:nvSpPr>
          <p:spPr>
            <a:xfrm>
              <a:off x="2155680" y="2138400"/>
              <a:ext cx="1081080" cy="10796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直線コネクタ 26"/>
            <p:cNvSpPr/>
            <p:nvPr/>
          </p:nvSpPr>
          <p:spPr>
            <a:xfrm>
              <a:off x="2156400" y="2678040"/>
              <a:ext cx="10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直線コネクタ 29"/>
            <p:cNvSpPr/>
            <p:nvPr/>
          </p:nvSpPr>
          <p:spPr>
            <a:xfrm>
              <a:off x="2696760" y="2138400"/>
              <a:ext cx="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正方形/長方形 33"/>
            <p:cNvSpPr/>
            <p:nvPr/>
          </p:nvSpPr>
          <p:spPr>
            <a:xfrm>
              <a:off x="1069920" y="213840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直線コネクタ 47"/>
          <p:cNvSpPr/>
          <p:nvPr/>
        </p:nvSpPr>
        <p:spPr>
          <a:xfrm>
            <a:off x="2160720" y="24400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線コネクタ 49"/>
          <p:cNvSpPr/>
          <p:nvPr/>
        </p:nvSpPr>
        <p:spPr>
          <a:xfrm>
            <a:off x="2427120" y="2136600"/>
            <a:ext cx="0" cy="5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直線矢印コネクタ 46"/>
          <p:cNvCxnSpPr/>
          <p:nvPr/>
        </p:nvCxnSpPr>
        <p:spPr>
          <a:xfrm>
            <a:off x="3375000" y="6163920"/>
            <a:ext cx="324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5" name="直線矢印コネクタ 51"/>
          <p:cNvCxnSpPr/>
          <p:nvPr/>
        </p:nvCxnSpPr>
        <p:spPr>
          <a:xfrm flipV="1">
            <a:off x="3447720" y="4462200"/>
            <a:ext cx="1080" cy="16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6" name="テキスト ボックス 75"/>
          <p:cNvSpPr/>
          <p:nvPr/>
        </p:nvSpPr>
        <p:spPr>
          <a:xfrm>
            <a:off x="2594520" y="39117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テキスト ボックス 75"/>
          <p:cNvSpPr/>
          <p:nvPr/>
        </p:nvSpPr>
        <p:spPr>
          <a:xfrm>
            <a:off x="3442320" y="616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テキスト ボックス 75"/>
          <p:cNvSpPr/>
          <p:nvPr/>
        </p:nvSpPr>
        <p:spPr>
          <a:xfrm>
            <a:off x="4124880" y="616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テキスト ボックス 75"/>
          <p:cNvSpPr/>
          <p:nvPr/>
        </p:nvSpPr>
        <p:spPr>
          <a:xfrm>
            <a:off x="5968440" y="616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直線矢印コネクタ 59"/>
          <p:cNvCxnSpPr/>
          <p:nvPr/>
        </p:nvCxnSpPr>
        <p:spPr>
          <a:xfrm flipV="1">
            <a:off x="3590640" y="6129000"/>
            <a:ext cx="108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直線矢印コネクタ 60"/>
          <p:cNvCxnSpPr/>
          <p:nvPr/>
        </p:nvCxnSpPr>
        <p:spPr>
          <a:xfrm flipV="1">
            <a:off x="4339800" y="6129000"/>
            <a:ext cx="108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2" name="直線矢印コネクタ 62"/>
          <p:cNvCxnSpPr/>
          <p:nvPr/>
        </p:nvCxnSpPr>
        <p:spPr>
          <a:xfrm flipV="1">
            <a:off x="6254280" y="6129000"/>
            <a:ext cx="108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3" name="正方形/長方形 63"/>
          <p:cNvSpPr/>
          <p:nvPr/>
        </p:nvSpPr>
        <p:spPr>
          <a:xfrm>
            <a:off x="3560760" y="5985000"/>
            <a:ext cx="71280" cy="179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正方形/長方形 64"/>
          <p:cNvSpPr/>
          <p:nvPr/>
        </p:nvSpPr>
        <p:spPr>
          <a:xfrm>
            <a:off x="4311720" y="4653000"/>
            <a:ext cx="71280" cy="151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テキスト ボックス 75"/>
          <p:cNvSpPr/>
          <p:nvPr/>
        </p:nvSpPr>
        <p:spPr>
          <a:xfrm>
            <a:off x="3105720" y="6000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角丸四角形吹き出し 71"/>
          <p:cNvSpPr/>
          <p:nvPr/>
        </p:nvSpPr>
        <p:spPr>
          <a:xfrm>
            <a:off x="4287960" y="2629080"/>
            <a:ext cx="4316400" cy="749160"/>
          </a:xfrm>
          <a:prstGeom prst="wedgeRoundRectCallout">
            <a:avLst>
              <a:gd name="adj1" fmla="val -54069"/>
              <a:gd name="adj2" fmla="val 28736"/>
              <a:gd name="adj3" fmla="val 1666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t the most frequently appeared value in neighboring samples of current C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正方形/長方形 50"/>
          <p:cNvSpPr/>
          <p:nvPr/>
        </p:nvSpPr>
        <p:spPr>
          <a:xfrm>
            <a:off x="2151000" y="2155680"/>
            <a:ext cx="270000" cy="270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直線コネクタ 52"/>
          <p:cNvSpPr/>
          <p:nvPr/>
        </p:nvSpPr>
        <p:spPr>
          <a:xfrm flipH="1" flipV="1">
            <a:off x="2421000" y="2290320"/>
            <a:ext cx="2571840" cy="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円弧 54"/>
          <p:cNvSpPr/>
          <p:nvPr/>
        </p:nvSpPr>
        <p:spPr>
          <a:xfrm>
            <a:off x="539640" y="2205000"/>
            <a:ext cx="3800520" cy="4824360"/>
          </a:xfrm>
          <a:custGeom>
            <a:avLst/>
            <a:gdLst>
              <a:gd name="textAreaLeft" fmla="*/ 1889280 w 3800520"/>
              <a:gd name="textAreaRight" fmla="*/ 3800520 w 3800520"/>
              <a:gd name="textAreaTop" fmla="*/ 0 h 4824360"/>
              <a:gd name="textAreaBottom" fmla="*/ 2389320 h 4824360"/>
            </a:gdLst>
            <a:ahLst/>
            <a:rect l="textAreaLeft" t="textAreaTop" r="textAreaRight" b="textAreaBottom"/>
            <a:pathLst>
              <a:path stroke="0" w="3800475" h="4824412">
                <a:moveTo>
                  <a:pt x="1889176" y="41"/>
                </a:moveTo>
                <a:lnTo>
                  <a:pt x="1889176" y="41"/>
                </a:lnTo>
                <a:arcTo wR="1900238" hR="2412206" stAng="-5415764" swAng="5374364"/>
                <a:lnTo>
                  <a:pt x="1900238" y="2412206"/>
                </a:lnTo>
                <a:close/>
              </a:path>
              <a:path fill="none" w="3800475" h="4824412">
                <a:moveTo>
                  <a:pt x="1889176" y="41"/>
                </a:moveTo>
                <a:lnTo>
                  <a:pt x="1889176" y="41"/>
                </a:lnTo>
                <a:arcTo wR="1900238" hR="2412206" stAng="-5415764" swAng="5374364"/>
              </a:path>
            </a:pathLst>
          </a:custGeom>
          <a:noFill/>
          <a:ln w="2556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フローチャート : 代替処理 67"/>
          <p:cNvSpPr/>
          <p:nvPr/>
        </p:nvSpPr>
        <p:spPr>
          <a:xfrm>
            <a:off x="2544840" y="3759120"/>
            <a:ext cx="5340240" cy="28386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テキスト ボックス 75"/>
          <p:cNvSpPr/>
          <p:nvPr/>
        </p:nvSpPr>
        <p:spPr>
          <a:xfrm>
            <a:off x="6550200" y="59878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右矢印 43"/>
          <p:cNvSpPr/>
          <p:nvPr/>
        </p:nvSpPr>
        <p:spPr>
          <a:xfrm rot="2700000">
            <a:off x="1895400" y="2941560"/>
            <a:ext cx="2022480" cy="434880"/>
          </a:xfrm>
          <a:prstGeom prst="rightArrow">
            <a:avLst>
              <a:gd name="adj1" fmla="val 24083"/>
              <a:gd name="adj2" fmla="val 8608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正方形/長方形 41"/>
          <p:cNvSpPr/>
          <p:nvPr/>
        </p:nvSpPr>
        <p:spPr>
          <a:xfrm>
            <a:off x="2111400" y="2131920"/>
            <a:ext cx="4608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-level adaptation (lossles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4292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r: HM12.1 + RExt5.1 (RCE3 anch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bitrate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 to 1.2%, 1.3%, 1.1% for AI, RA, LB, respec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0" y="1052640"/>
          <a:ext cx="9144000" cy="2873160"/>
        </p:xfrm>
        <a:graphic>
          <a:graphicData uri="http://schemas.openxmlformats.org/drawingml/2006/table">
            <a:tbl>
              <a:tblPr/>
              <a:tblGrid>
                <a:gridCol w="1674720"/>
                <a:gridCol w="598680"/>
                <a:gridCol w="596880"/>
                <a:gridCol w="598320"/>
                <a:gridCol w="596880"/>
                <a:gridCol w="596880"/>
                <a:gridCol w="598680"/>
                <a:gridCol w="596880"/>
                <a:gridCol w="596880"/>
                <a:gridCol w="676080"/>
                <a:gridCol w="675000"/>
                <a:gridCol w="676080"/>
                <a:gridCol w="662040"/>
              </a:tblGrid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it-rate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-level adaptation (loss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6840" y="5445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chor: HM12.1 + RExt5.1 (RCE3 anch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s up to 3.2% bitrate sav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971640" y="981000"/>
          <a:ext cx="7056360" cy="2081160"/>
        </p:xfrm>
        <a:graphic>
          <a:graphicData uri="http://schemas.openxmlformats.org/drawingml/2006/table">
            <a:tbl>
              <a:tblPr/>
              <a:tblGrid>
                <a:gridCol w="1355760"/>
                <a:gridCol w="633240"/>
                <a:gridCol w="633600"/>
                <a:gridCol w="633240"/>
                <a:gridCol w="633600"/>
                <a:gridCol w="633240"/>
                <a:gridCol w="633600"/>
                <a:gridCol w="633240"/>
                <a:gridCol w="633240"/>
                <a:gridCol w="633600"/>
              </a:tblGrid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Super-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34920" y="3213000"/>
          <a:ext cx="5184720" cy="2105280"/>
        </p:xfrm>
        <a:graphic>
          <a:graphicData uri="http://schemas.openxmlformats.org/drawingml/2006/table">
            <a:tbl>
              <a:tblPr/>
              <a:tblGrid>
                <a:gridCol w="1363680"/>
                <a:gridCol w="636480"/>
                <a:gridCol w="636840"/>
                <a:gridCol w="636480"/>
                <a:gridCol w="638280"/>
                <a:gridCol w="636480"/>
                <a:gridCol w="636480"/>
              </a:tblGrid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5292720" y="3213000"/>
          <a:ext cx="3816360" cy="2105280"/>
        </p:xfrm>
        <a:graphic>
          <a:graphicData uri="http://schemas.openxmlformats.org/drawingml/2006/table">
            <a:tbl>
              <a:tblPr/>
              <a:tblGrid>
                <a:gridCol w="636480"/>
                <a:gridCol w="635040"/>
                <a:gridCol w="636840"/>
                <a:gridCol w="636480"/>
                <a:gridCol w="635040"/>
                <a:gridCol w="636480"/>
              </a:tblGrid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TU-level adaptation (lossles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4292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r: HM12.1 + RExt5.1 (RCE3 anch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bitrate sav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 to 1.1%, 1.0%, 1.1% for AI, RA, LB, respec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0" y="1052640"/>
          <a:ext cx="9144000" cy="2873160"/>
        </p:xfrm>
        <a:graphic>
          <a:graphicData uri="http://schemas.openxmlformats.org/drawingml/2006/table">
            <a:tbl>
              <a:tblPr/>
              <a:tblGrid>
                <a:gridCol w="1674720"/>
                <a:gridCol w="598680"/>
                <a:gridCol w="596880"/>
                <a:gridCol w="598320"/>
                <a:gridCol w="596880"/>
                <a:gridCol w="596880"/>
                <a:gridCol w="598680"/>
                <a:gridCol w="596880"/>
                <a:gridCol w="596880"/>
                <a:gridCol w="676080"/>
                <a:gridCol w="675000"/>
                <a:gridCol w="676080"/>
                <a:gridCol w="662040"/>
              </a:tblGrid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it-rate incr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TU-level adaptation (loss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chor: HM12.1 + RExt5.1 (RCE3 anch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s up to 2.9% bitrate sav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971640" y="981000"/>
          <a:ext cx="7056360" cy="2102040"/>
        </p:xfrm>
        <a:graphic>
          <a:graphicData uri="http://schemas.openxmlformats.org/drawingml/2006/table">
            <a:tbl>
              <a:tblPr/>
              <a:tblGrid>
                <a:gridCol w="1355760"/>
                <a:gridCol w="633240"/>
                <a:gridCol w="633600"/>
                <a:gridCol w="633240"/>
                <a:gridCol w="633600"/>
                <a:gridCol w="633240"/>
                <a:gridCol w="633600"/>
                <a:gridCol w="633240"/>
                <a:gridCol w="633240"/>
                <a:gridCol w="633600"/>
              </a:tblGrid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 Super-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34920" y="3213000"/>
          <a:ext cx="5184720" cy="2105280"/>
        </p:xfrm>
        <a:graphic>
          <a:graphicData uri="http://schemas.openxmlformats.org/drawingml/2006/table">
            <a:tbl>
              <a:tblPr/>
              <a:tblGrid>
                <a:gridCol w="1363680"/>
                <a:gridCol w="636480"/>
                <a:gridCol w="636840"/>
                <a:gridCol w="636480"/>
                <a:gridCol w="638280"/>
                <a:gridCol w="636480"/>
                <a:gridCol w="636480"/>
              </a:tblGrid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dom Access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An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e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CbCr 4:4:4 SC (Opt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292720" y="3213000"/>
          <a:ext cx="3816360" cy="2105280"/>
        </p:xfrm>
        <a:graphic>
          <a:graphicData uri="http://schemas.openxmlformats.org/drawingml/2006/table">
            <a:tbl>
              <a:tblPr/>
              <a:tblGrid>
                <a:gridCol w="636480"/>
                <a:gridCol w="635040"/>
                <a:gridCol w="636840"/>
                <a:gridCol w="636480"/>
                <a:gridCol w="635040"/>
                <a:gridCol w="636480"/>
              </a:tblGrid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igh-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sible drawba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正方形/長方形 4"/>
          <p:cNvSpPr/>
          <p:nvPr/>
        </p:nvSpPr>
        <p:spPr>
          <a:xfrm>
            <a:off x="1881360" y="1895400"/>
            <a:ext cx="539640" cy="54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正方形/長方形 5"/>
          <p:cNvSpPr/>
          <p:nvPr/>
        </p:nvSpPr>
        <p:spPr>
          <a:xfrm>
            <a:off x="998640" y="1082520"/>
            <a:ext cx="2817720" cy="10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正方形/長方形 6"/>
          <p:cNvSpPr/>
          <p:nvPr/>
        </p:nvSpPr>
        <p:spPr>
          <a:xfrm>
            <a:off x="998640" y="2131920"/>
            <a:ext cx="1187280" cy="108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テキスト ボックス 20"/>
          <p:cNvSpPr/>
          <p:nvPr/>
        </p:nvSpPr>
        <p:spPr>
          <a:xfrm>
            <a:off x="1071720" y="12366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paper, we pro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テキスト ボックス 21"/>
          <p:cNvSpPr/>
          <p:nvPr/>
        </p:nvSpPr>
        <p:spPr>
          <a:xfrm>
            <a:off x="1071720" y="16765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sult shows that 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線コネクタ 9"/>
          <p:cNvSpPr/>
          <p:nvPr/>
        </p:nvSpPr>
        <p:spPr>
          <a:xfrm>
            <a:off x="993600" y="1071720"/>
            <a:ext cx="30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線コネクタ 10"/>
          <p:cNvSpPr/>
          <p:nvPr/>
        </p:nvSpPr>
        <p:spPr>
          <a:xfrm>
            <a:off x="3160800" y="21384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テキスト ボックス 45"/>
          <p:cNvSpPr/>
          <p:nvPr/>
        </p:nvSpPr>
        <p:spPr>
          <a:xfrm>
            <a:off x="1071720" y="21160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used by motion 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テキスト ボックス 46"/>
          <p:cNvSpPr/>
          <p:nvPr/>
        </p:nvSpPr>
        <p:spPr>
          <a:xfrm>
            <a:off x="1071720" y="2997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also conducted and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テキスト ボックス 36"/>
          <p:cNvSpPr/>
          <p:nvPr/>
        </p:nvSpPr>
        <p:spPr>
          <a:xfrm>
            <a:off x="1071720" y="2556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. This edge offsets are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グループ化 38"/>
          <p:cNvGrpSpPr/>
          <p:nvPr/>
        </p:nvGrpSpPr>
        <p:grpSpPr>
          <a:xfrm>
            <a:off x="1090440" y="2152800"/>
            <a:ext cx="2922840" cy="1460520"/>
            <a:chOff x="1090440" y="2152800"/>
            <a:chExt cx="2922840" cy="1460520"/>
          </a:xfrm>
        </p:grpSpPr>
        <p:sp>
          <p:nvSpPr>
            <p:cNvPr id="612" name="正方形/長方形 15"/>
            <p:cNvSpPr/>
            <p:nvPr/>
          </p:nvSpPr>
          <p:spPr>
            <a:xfrm>
              <a:off x="2428920" y="2152800"/>
              <a:ext cx="1584360" cy="14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正方形/長方形 16"/>
            <p:cNvSpPr/>
            <p:nvPr/>
          </p:nvSpPr>
          <p:spPr>
            <a:xfrm>
              <a:off x="2158920" y="2451240"/>
              <a:ext cx="1584360" cy="11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正方形/長方形 17"/>
            <p:cNvSpPr/>
            <p:nvPr/>
          </p:nvSpPr>
          <p:spPr>
            <a:xfrm>
              <a:off x="1090440" y="3222720"/>
              <a:ext cx="158436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直線コネクタ 18"/>
          <p:cNvSpPr/>
          <p:nvPr/>
        </p:nvSpPr>
        <p:spPr>
          <a:xfrm>
            <a:off x="993600" y="1071720"/>
            <a:ext cx="0" cy="23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直線コネクタ 19"/>
          <p:cNvSpPr/>
          <p:nvPr/>
        </p:nvSpPr>
        <p:spPr>
          <a:xfrm>
            <a:off x="992160" y="3218040"/>
            <a:ext cx="11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テキスト ボックス 74"/>
          <p:cNvSpPr/>
          <p:nvPr/>
        </p:nvSpPr>
        <p:spPr>
          <a:xfrm>
            <a:off x="834480" y="71604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線コネクタ 22"/>
          <p:cNvSpPr/>
          <p:nvPr/>
        </p:nvSpPr>
        <p:spPr>
          <a:xfrm flipV="1">
            <a:off x="1944720" y="322056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正方形/長方形 23"/>
          <p:cNvSpPr/>
          <p:nvPr/>
        </p:nvSpPr>
        <p:spPr>
          <a:xfrm>
            <a:off x="3817800" y="804960"/>
            <a:ext cx="93528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テキスト ボックス 73"/>
          <p:cNvSpPr/>
          <p:nvPr/>
        </p:nvSpPr>
        <p:spPr>
          <a:xfrm>
            <a:off x="4998240" y="213192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テキスト ボックス 75"/>
          <p:cNvSpPr/>
          <p:nvPr/>
        </p:nvSpPr>
        <p:spPr>
          <a:xfrm>
            <a:off x="3949560" y="102060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d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線コネクタ 26"/>
          <p:cNvSpPr/>
          <p:nvPr/>
        </p:nvSpPr>
        <p:spPr>
          <a:xfrm flipV="1">
            <a:off x="3673440" y="1220760"/>
            <a:ext cx="26820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正方形/長方形 27"/>
          <p:cNvSpPr/>
          <p:nvPr/>
        </p:nvSpPr>
        <p:spPr>
          <a:xfrm>
            <a:off x="2430360" y="2144880"/>
            <a:ext cx="811440" cy="107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正方形/長方形 28"/>
          <p:cNvSpPr/>
          <p:nvPr/>
        </p:nvSpPr>
        <p:spPr>
          <a:xfrm>
            <a:off x="2160720" y="2414520"/>
            <a:ext cx="269640" cy="80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グループ化 38"/>
          <p:cNvGrpSpPr/>
          <p:nvPr/>
        </p:nvGrpSpPr>
        <p:grpSpPr>
          <a:xfrm>
            <a:off x="1069920" y="2138400"/>
            <a:ext cx="2166840" cy="1079640"/>
            <a:chOff x="1069920" y="2138400"/>
            <a:chExt cx="2166840" cy="1079640"/>
          </a:xfrm>
        </p:grpSpPr>
        <p:sp>
          <p:nvSpPr>
            <p:cNvPr id="626" name="正方形/長方形 30"/>
            <p:cNvSpPr/>
            <p:nvPr/>
          </p:nvSpPr>
          <p:spPr>
            <a:xfrm>
              <a:off x="2155680" y="2138400"/>
              <a:ext cx="1081080" cy="10796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直線コネクタ 26"/>
            <p:cNvSpPr/>
            <p:nvPr/>
          </p:nvSpPr>
          <p:spPr>
            <a:xfrm>
              <a:off x="2156400" y="2678040"/>
              <a:ext cx="10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線コネクタ 29"/>
            <p:cNvSpPr/>
            <p:nvPr/>
          </p:nvSpPr>
          <p:spPr>
            <a:xfrm>
              <a:off x="2696760" y="2138400"/>
              <a:ext cx="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正方形/長方形 33"/>
            <p:cNvSpPr/>
            <p:nvPr/>
          </p:nvSpPr>
          <p:spPr>
            <a:xfrm>
              <a:off x="1069920" y="2138400"/>
              <a:ext cx="1081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直線コネクタ 47"/>
          <p:cNvSpPr/>
          <p:nvPr/>
        </p:nvSpPr>
        <p:spPr>
          <a:xfrm>
            <a:off x="2160720" y="24400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直線コネクタ 49"/>
          <p:cNvSpPr/>
          <p:nvPr/>
        </p:nvSpPr>
        <p:spPr>
          <a:xfrm>
            <a:off x="2427120" y="2136600"/>
            <a:ext cx="0" cy="5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正方形/長方形 50"/>
          <p:cNvSpPr/>
          <p:nvPr/>
        </p:nvSpPr>
        <p:spPr>
          <a:xfrm>
            <a:off x="2151000" y="2155680"/>
            <a:ext cx="270000" cy="2700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正方形/長方形 41"/>
          <p:cNvSpPr/>
          <p:nvPr/>
        </p:nvSpPr>
        <p:spPr>
          <a:xfrm>
            <a:off x="2111400" y="2131920"/>
            <a:ext cx="460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線コネクタ 52"/>
          <p:cNvSpPr/>
          <p:nvPr/>
        </p:nvSpPr>
        <p:spPr>
          <a:xfrm flipH="1" flipV="1">
            <a:off x="2421000" y="2290320"/>
            <a:ext cx="2571840" cy="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円弧 54"/>
          <p:cNvSpPr/>
          <p:nvPr/>
        </p:nvSpPr>
        <p:spPr>
          <a:xfrm>
            <a:off x="539640" y="2205000"/>
            <a:ext cx="3800520" cy="4824360"/>
          </a:xfrm>
          <a:custGeom>
            <a:avLst/>
            <a:gdLst>
              <a:gd name="textAreaLeft" fmla="*/ 1889280 w 3800520"/>
              <a:gd name="textAreaRight" fmla="*/ 3800520 w 3800520"/>
              <a:gd name="textAreaTop" fmla="*/ 0 h 4824360"/>
              <a:gd name="textAreaBottom" fmla="*/ 2389320 h 4824360"/>
            </a:gdLst>
            <a:ahLst/>
            <a:rect l="textAreaLeft" t="textAreaTop" r="textAreaRight" b="textAreaBottom"/>
            <a:pathLst>
              <a:path stroke="0" w="3800475" h="4824412">
                <a:moveTo>
                  <a:pt x="1889176" y="41"/>
                </a:moveTo>
                <a:lnTo>
                  <a:pt x="1889176" y="41"/>
                </a:lnTo>
                <a:arcTo wR="1900238" hR="2412206" stAng="-5415764" swAng="5374364"/>
                <a:lnTo>
                  <a:pt x="1900238" y="2412206"/>
                </a:lnTo>
                <a:close/>
              </a:path>
              <a:path fill="none" w="3800475" h="4824412">
                <a:moveTo>
                  <a:pt x="1889176" y="41"/>
                </a:moveTo>
                <a:lnTo>
                  <a:pt x="1889176" y="41"/>
                </a:lnTo>
                <a:arcTo wR="1900238" hR="2412206" stAng="-5415764" swAng="5374364"/>
              </a:path>
            </a:pathLst>
          </a:custGeom>
          <a:noFill/>
          <a:ln w="2556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フローチャート : 代替処理 67"/>
          <p:cNvSpPr/>
          <p:nvPr/>
        </p:nvSpPr>
        <p:spPr>
          <a:xfrm>
            <a:off x="2544840" y="3759120"/>
            <a:ext cx="5340240" cy="28386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テキスト ボックス 73"/>
          <p:cNvSpPr/>
          <p:nvPr/>
        </p:nvSpPr>
        <p:spPr>
          <a:xfrm>
            <a:off x="912960" y="35733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直線矢印コネクタ 46"/>
          <p:cNvCxnSpPr/>
          <p:nvPr/>
        </p:nvCxnSpPr>
        <p:spPr>
          <a:xfrm>
            <a:off x="3375000" y="6163920"/>
            <a:ext cx="324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9" name="直線矢印コネクタ 51"/>
          <p:cNvCxnSpPr/>
          <p:nvPr/>
        </p:nvCxnSpPr>
        <p:spPr>
          <a:xfrm flipV="1">
            <a:off x="3447720" y="4462200"/>
            <a:ext cx="1080" cy="16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0" name="テキスト ボックス 75"/>
          <p:cNvSpPr/>
          <p:nvPr/>
        </p:nvSpPr>
        <p:spPr>
          <a:xfrm>
            <a:off x="6550200" y="59878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テキスト ボックス 75"/>
          <p:cNvSpPr/>
          <p:nvPr/>
        </p:nvSpPr>
        <p:spPr>
          <a:xfrm>
            <a:off x="2594520" y="39117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テキスト ボックス 75"/>
          <p:cNvSpPr/>
          <p:nvPr/>
        </p:nvSpPr>
        <p:spPr>
          <a:xfrm>
            <a:off x="3442320" y="616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テキスト ボックス 75"/>
          <p:cNvSpPr/>
          <p:nvPr/>
        </p:nvSpPr>
        <p:spPr>
          <a:xfrm>
            <a:off x="4124880" y="616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テキスト ボックス 75"/>
          <p:cNvSpPr/>
          <p:nvPr/>
        </p:nvSpPr>
        <p:spPr>
          <a:xfrm>
            <a:off x="5968440" y="616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直線矢印コネクタ 59"/>
          <p:cNvCxnSpPr/>
          <p:nvPr/>
        </p:nvCxnSpPr>
        <p:spPr>
          <a:xfrm flipV="1">
            <a:off x="3590640" y="6129000"/>
            <a:ext cx="108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6" name="直線矢印コネクタ 60"/>
          <p:cNvCxnSpPr/>
          <p:nvPr/>
        </p:nvCxnSpPr>
        <p:spPr>
          <a:xfrm flipV="1">
            <a:off x="4339800" y="6129000"/>
            <a:ext cx="108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7" name="直線矢印コネクタ 62"/>
          <p:cNvCxnSpPr/>
          <p:nvPr/>
        </p:nvCxnSpPr>
        <p:spPr>
          <a:xfrm flipV="1">
            <a:off x="6254280" y="6129000"/>
            <a:ext cx="108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8" name="正方形/長方形 63"/>
          <p:cNvSpPr/>
          <p:nvPr/>
        </p:nvSpPr>
        <p:spPr>
          <a:xfrm>
            <a:off x="3560760" y="5985000"/>
            <a:ext cx="71280" cy="179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正方形/長方形 64"/>
          <p:cNvSpPr/>
          <p:nvPr/>
        </p:nvSpPr>
        <p:spPr>
          <a:xfrm>
            <a:off x="4311720" y="4653000"/>
            <a:ext cx="71280" cy="151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テキスト ボックス 75"/>
          <p:cNvSpPr/>
          <p:nvPr/>
        </p:nvSpPr>
        <p:spPr>
          <a:xfrm>
            <a:off x="3105720" y="6000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右矢印 43"/>
          <p:cNvSpPr/>
          <p:nvPr/>
        </p:nvSpPr>
        <p:spPr>
          <a:xfrm rot="2700000">
            <a:off x="1895400" y="2941560"/>
            <a:ext cx="2022480" cy="434880"/>
          </a:xfrm>
          <a:prstGeom prst="rightArrow">
            <a:avLst>
              <a:gd name="adj1" fmla="val 24083"/>
              <a:gd name="adj2" fmla="val 8608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角丸四角形吹き出し 71"/>
          <p:cNvSpPr/>
          <p:nvPr/>
        </p:nvSpPr>
        <p:spPr>
          <a:xfrm>
            <a:off x="4643280" y="4149720"/>
            <a:ext cx="4316400" cy="749160"/>
          </a:xfrm>
          <a:prstGeom prst="wedgeRoundRectCallout">
            <a:avLst>
              <a:gd name="adj1" fmla="val -37449"/>
              <a:gd name="adj2" fmla="val 190194"/>
              <a:gd name="adj3" fmla="val 1666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quire memory for histogram/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8:55:06Z</dcterms:created>
  <dc:creator>峯澤 彰(情報総研 高符Ｇ)</dc:creator>
  <dc:description/>
  <dc:language>en-US</dc:language>
  <cp:lastModifiedBy>峯澤 彰(情報総研 高符Ｇ)</cp:lastModifiedBy>
  <dcterms:modified xsi:type="dcterms:W3CDTF">2014-01-15T09:08:01Z</dcterms:modified>
  <cp:revision>393</cp:revision>
  <dc:subject/>
  <dc:title>スライド 1</dc:title>
</cp:coreProperties>
</file>