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CFEE-DFE9-4BAF-A81D-D8F5CEBF8E77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FAB1-FA66-4F5B-A562-8502FE2C1041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714F-C9FB-46E5-AF5D-2B13C4819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1C8D-6A43-4AA9-8AD9-5BF43234A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73E5-D567-4DC1-A44F-BBA50D61A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2593-303F-4F4F-9C82-1679EE05D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30BF-1D37-4942-825D-2C9F618EB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7722-E85B-4BF8-8984-D33D28A00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795F-AF7F-4666-AD23-226A457D0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4E19-8369-4E8D-9FFA-6324CCE16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19A6-47AD-41ED-9193-7B9145224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7BED-5609-4F26-A4B7-905FFD71A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882B-554A-4D76-A5D9-492CBACE0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25B1-5096-4F73-9C2B-BE7F01311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2B33-6FD5-42C8-A6C4-D6441FB4FB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Decoded picture buffer signalling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P0069/JCT3V-G0086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Jan. 20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he decoded picture buffer (DPB) size for each output layer set is signalled according to the maximum number of sub-layers of each output layer se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In VPS extension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x_sub_layers_output_layer_set_minus1[ i ] is proposed to indicate the maximum number of sub-layers for the i-th output layer se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max_sub_layers_output_layer_set_minus1[ i ] is present, syntax elements related to DPB-size (max_vps_dec_pic_buffering_minus1[ i ][ k ][ j ], max_vps_num_reorder_pics[ i ][ j ], max_vps_latency_increase_plus1[ i ][ j ]) are signaled as many as the values of max_sub_layers_output_layer_set_minus1[ i ]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wise, the maximum number of each output layer set can be inferred from other syntax elements, without explicit signal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F94E-9D90-4C5B-87AC-E4343B1A09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 syntax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내용 개체 틀 4" descr=""/>
          <p:cNvPicPr/>
          <p:nvPr/>
        </p:nvPicPr>
        <p:blipFill>
          <a:blip r:embed="rId1"/>
          <a:stretch/>
        </p:blipFill>
        <p:spPr>
          <a:xfrm>
            <a:off x="1620720" y="2000160"/>
            <a:ext cx="5907240" cy="3084480"/>
          </a:xfrm>
          <a:prstGeom prst="rect">
            <a:avLst/>
          </a:prstGeom>
          <a:ln w="0">
            <a:noFill/>
          </a:ln>
        </p:spPr>
      </p:pic>
      <p:sp>
        <p:nvSpPr>
          <p:cNvPr id="10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07DB-CD3B-4038-BD9B-AD80E932E6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 syntax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1081-8CE0-4ECF-8086-B3EBB64F44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내용 개체 틀 6" descr=""/>
          <p:cNvPicPr/>
          <p:nvPr/>
        </p:nvPicPr>
        <p:blipFill>
          <a:blip r:embed="rId1"/>
          <a:stretch/>
        </p:blipFill>
        <p:spPr>
          <a:xfrm>
            <a:off x="1719360" y="865080"/>
            <a:ext cx="5705280" cy="57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propose that the DPB-size-related syntax elements for sub-layers of each output layer set move to VPS VUI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se syntax elements are informative without affecting the normative decoding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961-76A8-49E4-A6D3-E88C209191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CAFE-A29F-48DF-82F9-84A955D886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4-01-07T04:39:41Z</dcterms:modified>
  <cp:revision>4665</cp:revision>
  <dc:subject/>
  <dc:title>Visual SNHC Tools</dc:title>
</cp:coreProperties>
</file>