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DF7D-C18F-40F3-8BB9-8B4AA75F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253A-5D3F-4139-85A3-5FC9F72D8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D4DB-3A42-4396-A5DD-DC36A7DCC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E6BF-CB62-4FA5-A4A7-2EAED1891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39F0-6F84-4387-B47C-A77176B34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02F4-0034-4973-B0BA-CBB7D3315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093D-4997-4572-AD62-56427E264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B9F8-60B0-4B6B-83AE-C38C90535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A335-1A7C-4D75-8D08-D30169001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4E12-FDDC-4030-B797-3555ED603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80EC-0FFA-4508-9C5B-A83D753DA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68E3-7504-4E4D-BD55-6E3B1C3B3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20A-AE02-4613-A66A-E171A099ADEE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19280" y="1233360"/>
            <a:ext cx="78120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sing qp=0, 4, 8, 12 for visually lossless coding experiments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O0269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23 Oct. – 1 Nov. 20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FF0E-B292-4061-A049-F0F0D14328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6000" y="765000"/>
            <a:ext cx="87138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CC applications require visually lossless co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ommon test conditions have only lossy coding and lossless co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ing qp=12,17,22,27,32,37 for lossy coding experiments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ypassing quantization for lossless coding experim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ng: experiments that between lossy coding and lossless co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52D0-E828-4BC3-B6FA-DC97538CF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28640"/>
            <a:ext cx="87138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oposal for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or evaluating what is visually lossless co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is is a too big issue beyond our sco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o objective metric to measure visually losslessness:  mission impossi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o set up an experiment condition that is closer to visually lossless coding than the current lossy experiment and lossless experi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2BC4-6CAE-48E6-A30B-23234BB58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6000" y="765000"/>
            <a:ext cx="871380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test condi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ing qp = 0, 4, 8,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most natural, reasonable w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24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set of qp is between lossy coding experiments and lossless coding experim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HM12RE4.0 and HM12RE4.0+P2M coding experiments to validate the feasibility of the propos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BEFC-F82F-446D-BAC3-1F3345D977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692280"/>
            <a:ext cx="817236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30 test sequ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7 RGB 4:4:4 S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3 Animation RGB 4:4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7 YUV 4:4:4 S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3 Animation YUV 4:4: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3 SC(444) GBR Opt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3 SC(444) YUV Opt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4 New Huawei S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default macro setting of HM12RE4.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5EF1-A2F0-40D7-9FE1-E2D81F8A3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12640"/>
            <a:ext cx="81723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NR between 47dB and 955dB, mostly 60~90d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2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0458c"/>
                </a:solidFill>
                <a:latin typeface="Tahoma"/>
                <a:ea typeface="宋体"/>
              </a:rPr>
              <a:t>See the excel for more detai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examp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87280" y="2228760"/>
          <a:ext cx="8569440" cy="4545000"/>
        </p:xfrm>
        <a:graphic>
          <a:graphicData uri="http://schemas.openxmlformats.org/drawingml/2006/table">
            <a:tbl>
              <a:tblPr/>
              <a:tblGrid>
                <a:gridCol w="1800360"/>
                <a:gridCol w="468360"/>
                <a:gridCol w="2016000"/>
                <a:gridCol w="1403280"/>
                <a:gridCol w="1530360"/>
                <a:gridCol w="1351080"/>
              </a:tblGrid>
              <a:tr h="345600"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_map_1280x720_60_8bit.rgb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722.6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97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91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96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2414.92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0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91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.96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071.29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46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72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75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484.82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75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25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31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8480"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_web_browsing_1280x720_30_8bit_300_rgb.rgb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78.0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54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77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.54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906.21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86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81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6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385.74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85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05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16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965.07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97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0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60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8760"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_wordEditing_1280x720_60_8bit.rgb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182.20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.6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13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12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111.4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7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44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5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86.8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69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70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65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5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892.88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77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32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42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E6CD-8C6E-4625-9940-CC4078B9AE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736640"/>
          <a:ext cx="8821800" cy="4799160"/>
        </p:xfrm>
        <a:graphic>
          <a:graphicData uri="http://schemas.openxmlformats.org/drawingml/2006/table">
            <a:tbl>
              <a:tblPr/>
              <a:tblGrid>
                <a:gridCol w="1603440"/>
                <a:gridCol w="803160"/>
                <a:gridCol w="801720"/>
                <a:gridCol w="801720"/>
                <a:gridCol w="801720"/>
                <a:gridCol w="801720"/>
                <a:gridCol w="801720"/>
                <a:gridCol w="803160"/>
                <a:gridCol w="801720"/>
                <a:gridCol w="801720"/>
              </a:tblGrid>
              <a:tr h="79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HE Visual Lossles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-delay B HE Visual Lossles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E Visual Lossles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 RGB 44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9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0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0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3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3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3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5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5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5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 RG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 YUV 44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3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3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4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18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19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19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1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1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51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tion YU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 New Huawei SC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7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8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7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3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4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24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0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1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8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(444) GBR Option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8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8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9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9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0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4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4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8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(444) YUV Optional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1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3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2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4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4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7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9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9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79280" y="584280"/>
            <a:ext cx="87138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ference: HM12RE40, 100 fra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ested:       HM12RE40 + P2M (Pseudo-2D-matching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B81B-7314-4880-897B-D0B79C99D7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836640"/>
            <a:ext cx="853272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=0, 4, 8, 12 is a natural, reasonable, and good set of qp for visually lossless coding experi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lnSpc>
                <a:spcPct val="12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use the set of qp to do visually lossless (vls) experiments when evaluating screen content coding too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0997-8F52-40BB-AAB9-605A27D95F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3E15-8164-40E8-BDCF-575E0B9F55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3-10-25T14:23:56Z</dcterms:modified>
  <cp:revision>1407</cp:revision>
  <dc:subject/>
  <dc:title>Slide 1</dc:title>
</cp:coreProperties>
</file>