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4C35-70A6-4D6E-90D6-25A1451A6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9BC9-001F-4256-80D6-41966DC88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1CFB-A8F9-44FD-BBF5-5844ED2CC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A507-6507-47FB-A8AF-D9C22472E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6C4A-C2F0-4A78-9D6A-37E31F163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2D23-FB8C-4F3B-8CB5-7C98F59AF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4D8E-576C-4579-BB61-44C05414F2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54807-A723-4B1A-80E8-F7DC917BC4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A614-6F6B-4712-A53F-9D0926B22B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EF86F-411F-4C47-B05C-1673A3E9D3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97C97-B0F2-42F2-B411-3AAF8C1A6B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29AC0-BA61-4A30-B8C0-6F11BEEB89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A5804-6F81-45DB-BAAF-08A3FB3C29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DB41-3642-4B08-8B28-C0467ED84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D48D-13FF-4076-8E4E-ACE4DAE8E7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979C-0662-4D99-8534-0952F7DB32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52258-7F8D-44A1-9744-6E20F77BA9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A285-6086-4896-B782-CDFCBC6BEA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7C70-8C25-4112-987F-1B327E8CCB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D80-F3B8-4E97-84B2-5A70B36F68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4AEC-ED72-4CF8-BA9A-C763DA5AB1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8FA-7787-42BD-843D-81035FEAC1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B9F-072D-46D4-9470-E5A8E4B212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273-59D7-42D6-A8A1-0587287FF2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C6B0-C6A5-46DD-A377-FA2140FF8D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290-B7D7-4908-A136-9F1C27B192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3D5-BA30-42D1-96DC-CE5A64F78E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A802-102E-4CB6-98DB-D3C265646A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5FD-F76F-40ED-9C77-76C779C24F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248-9E14-4635-B6B2-03E9C4C5C6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542-3459-4C71-AE72-D9D53409C1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55A-FA2D-4850-9B7C-E2C0F2FB38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B1407-763F-4C1B-9F4F-A7AF5B9101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D08C0-78A6-4B3F-B3FB-B27873CD9F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B54DD-3B0E-42EF-AF6F-F54BC8BF5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318D-FEE8-418B-8FFF-5291F6B1F0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095F5-FB66-4270-BB3B-BD8C7EDFBC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22E50-4041-4C1B-B6F3-D2B5CEAEAA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9E980-30BF-432C-B8D8-07AEB777E1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8C42E-E81B-4F4B-858C-7AC6588547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71044-764E-4C55-8081-FC31D97005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9B812-3304-4DAB-BF0E-9F77A361EC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142AF-8D03-4286-8C3F-0EC1D7F828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8E1DB-4544-4553-A956-6110310A84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9B9D0-3CA2-42F8-9C29-082023CFDB8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0D041-C77C-425E-B1CF-577EA7CC3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5D2A-95B7-4789-812B-BE9CECFDE06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1DD89-D923-45BB-9C2B-DED0F105121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40F45-3787-446C-ABE7-903FA5FBA49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C79DA-F0DB-484E-8F01-9CBAC8685C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21B5A-41E3-4D4E-AE9B-F222BFBB769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02B43-13DC-4208-8C26-361BD49EFA0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D02E1-50C6-4F8D-9F76-1FB89B04318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1A028-E5C8-4F79-BE95-2CD89A2BD0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F1705-2FF8-4398-8CBF-24AD5BE5FA1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7F785-BB59-47B1-8589-F93F23F2B3B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500B0-375F-4E88-8B5E-77D286BC7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0407-86AD-40B9-9365-03DF4F94CA2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16B5F-4950-4EA8-AEAA-05CB522E0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3D50-5172-4E19-B0C2-8132DC88C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423C-DFC5-4327-8598-CBC5D5C73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FDB0-F7DA-4815-BDB9-82581ABA0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F0AF-EABB-4E12-8903-D4480E0E414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0" descr="ti_stk_2c_pos_rgb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A4FA-E967-45BE-8A5F-E785BD04AB4E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0547-357D-438E-9DFC-11BD2CBAC5C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AB60-0774-46BC-AEA4-33F2B3439ED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7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5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9" descr="ti_stk_2c_pos_rgb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2AE6-AED6-499D-8509-2F04D4D1C34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4"/>
          <p:cNvSpPr/>
          <p:nvPr/>
        </p:nvSpPr>
        <p:spPr>
          <a:xfrm>
            <a:off x="6642000" y="60390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9C07-ABE0-4724-8BE9-35F619CB7D3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45820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Gulim"/>
              </a:rPr>
              <a:t>JCTVC-N0245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Gulim"/>
              </a:rPr>
              <a:t>AHG5: Fast encoding using early skipping of Intra Block Copy (IntraBC) search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71160" y="37843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Do-Kyoung Kwon and Madhukar Budag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st 2 - Method 1 + Method 2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5A35-98C2-42BC-A1AD-7B39896D822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2 vs. IntraBlockCopyEnabled  = 0 (NoIntra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866880" y="2043000"/>
          <a:ext cx="7686720" cy="1419480"/>
        </p:xfrm>
        <a:graphic>
          <a:graphicData uri="http://schemas.openxmlformats.org/drawingml/2006/table">
            <a:tbl>
              <a:tblPr/>
              <a:tblGrid>
                <a:gridCol w="1881000"/>
                <a:gridCol w="1935360"/>
                <a:gridCol w="1935000"/>
                <a:gridCol w="1935360"/>
              </a:tblGrid>
              <a:tr h="37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(15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866880" y="4387680"/>
          <a:ext cx="7696080" cy="1590840"/>
        </p:xfrm>
        <a:graphic>
          <a:graphicData uri="http://schemas.openxmlformats.org/drawingml/2006/table">
            <a:tbl>
              <a:tblPr/>
              <a:tblGrid>
                <a:gridCol w="1433520"/>
                <a:gridCol w="893520"/>
                <a:gridCol w="895320"/>
                <a:gridCol w="895680"/>
                <a:gridCol w="893520"/>
                <a:gridCol w="895320"/>
                <a:gridCol w="893880"/>
                <a:gridCol w="895320"/>
              </a:tblGrid>
              <a:tr h="55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S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TextBox 7"/>
          <p:cNvSpPr/>
          <p:nvPr/>
        </p:nvSpPr>
        <p:spPr>
          <a:xfrm>
            <a:off x="3570120" y="3514680"/>
            <a:ext cx="49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IntraBlockCopyEnabled = 1 vs. IntraBlockCopyEnable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st 2 - Method 1 + Method 2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2 vs. 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BCF5-4CEA-4104-BF3B-A0078E86A3B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1000080" y="2076480"/>
            <a:ext cx="7317000" cy="24512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6"/>
          <p:cNvSpPr/>
          <p:nvPr/>
        </p:nvSpPr>
        <p:spPr>
          <a:xfrm>
            <a:off x="3695760" y="4295880"/>
            <a:ext cx="600120" cy="2379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5686560" y="4114800"/>
            <a:ext cx="600120" cy="2379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7667640" y="4295880"/>
            <a:ext cx="600120" cy="2379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3714840" y="2981160"/>
            <a:ext cx="561960" cy="162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5715000" y="2981160"/>
            <a:ext cx="561960" cy="162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7705800" y="2981160"/>
            <a:ext cx="561960" cy="162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st 2 - Method 1 + Method 2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E67B-57FF-43B8-A966-595F9D43CC8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33360" y="103320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2 vs. 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857240" y="1657440"/>
            <a:ext cx="5801040" cy="48765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6"/>
          <p:cNvSpPr/>
          <p:nvPr/>
        </p:nvSpPr>
        <p:spPr>
          <a:xfrm>
            <a:off x="6067440" y="2200320"/>
            <a:ext cx="561960" cy="162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4514760" y="2200320"/>
            <a:ext cx="561960" cy="162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2952720" y="2467080"/>
            <a:ext cx="561960" cy="162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2952720" y="3876840"/>
            <a:ext cx="561960" cy="1616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4514760" y="4019400"/>
            <a:ext cx="561960" cy="162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4514760" y="5695920"/>
            <a:ext cx="561960" cy="162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2952720" y="5686560"/>
            <a:ext cx="561960" cy="1616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2952720" y="3019320"/>
            <a:ext cx="561960" cy="1335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4505400" y="3019320"/>
            <a:ext cx="561960" cy="1335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6039000" y="3019320"/>
            <a:ext cx="561960" cy="1335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2952720" y="4562640"/>
            <a:ext cx="561960" cy="1425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4495680" y="4562640"/>
            <a:ext cx="561960" cy="1425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8"/>
          <p:cNvSpPr/>
          <p:nvPr/>
        </p:nvSpPr>
        <p:spPr>
          <a:xfrm>
            <a:off x="2952720" y="6238800"/>
            <a:ext cx="561960" cy="14292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st 3 - Method 1 + Method 3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6AAA-C762-428B-8C03-6265D94B869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3 vs. IntraBlockCopyEnabled  = 0 (NoIntra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866880" y="2043000"/>
          <a:ext cx="7686720" cy="1419480"/>
        </p:xfrm>
        <a:graphic>
          <a:graphicData uri="http://schemas.openxmlformats.org/drawingml/2006/table">
            <a:tbl>
              <a:tblPr/>
              <a:tblGrid>
                <a:gridCol w="1881000"/>
                <a:gridCol w="1935360"/>
                <a:gridCol w="1935000"/>
                <a:gridCol w="1935360"/>
              </a:tblGrid>
              <a:tr h="37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(15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866880" y="4387680"/>
          <a:ext cx="7696080" cy="1590840"/>
        </p:xfrm>
        <a:graphic>
          <a:graphicData uri="http://schemas.openxmlformats.org/drawingml/2006/table">
            <a:tbl>
              <a:tblPr/>
              <a:tblGrid>
                <a:gridCol w="1433520"/>
                <a:gridCol w="893520"/>
                <a:gridCol w="895320"/>
                <a:gridCol w="895680"/>
                <a:gridCol w="893520"/>
                <a:gridCol w="895320"/>
                <a:gridCol w="893880"/>
                <a:gridCol w="895320"/>
              </a:tblGrid>
              <a:tr h="55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S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Box 7"/>
          <p:cNvSpPr/>
          <p:nvPr/>
        </p:nvSpPr>
        <p:spPr>
          <a:xfrm>
            <a:off x="3570120" y="3514680"/>
            <a:ext cx="49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IntraBlockCopyEnabled = 1 vs. IntraBlockCopyEnable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st 3 - Method 1 + Method 3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3 vs. 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70B5-C48E-436E-9BDC-CD138936507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1000080" y="2066760"/>
            <a:ext cx="7317000" cy="245124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5"/>
          <p:cNvSpPr/>
          <p:nvPr/>
        </p:nvSpPr>
        <p:spPr>
          <a:xfrm>
            <a:off x="3695760" y="4295880"/>
            <a:ext cx="600120" cy="2379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5686560" y="4114800"/>
            <a:ext cx="600120" cy="2379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7667640" y="4295880"/>
            <a:ext cx="600120" cy="2379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3714840" y="2981160"/>
            <a:ext cx="561960" cy="162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5715000" y="2981160"/>
            <a:ext cx="561960" cy="162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7705800" y="2981160"/>
            <a:ext cx="561960" cy="162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st 3 - Method 1 + Method 3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725B-E4E8-4597-9E91-C6461CC432D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ntent Placeholder 2"/>
          <p:cNvSpPr/>
          <p:nvPr/>
        </p:nvSpPr>
        <p:spPr>
          <a:xfrm>
            <a:off x="333360" y="1033560"/>
            <a:ext cx="846792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3 vs. 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1866960" y="1676520"/>
            <a:ext cx="5800680" cy="487656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6"/>
          <p:cNvSpPr/>
          <p:nvPr/>
        </p:nvSpPr>
        <p:spPr>
          <a:xfrm>
            <a:off x="6067440" y="2219400"/>
            <a:ext cx="561960" cy="162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4514760" y="2219400"/>
            <a:ext cx="561960" cy="162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2952720" y="2486160"/>
            <a:ext cx="561960" cy="1616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2952720" y="3876840"/>
            <a:ext cx="561960" cy="1616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4514760" y="4162320"/>
            <a:ext cx="561960" cy="162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1"/>
          <p:cNvSpPr/>
          <p:nvPr/>
        </p:nvSpPr>
        <p:spPr>
          <a:xfrm>
            <a:off x="4514760" y="5562720"/>
            <a:ext cx="561960" cy="1616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2952720" y="5562720"/>
            <a:ext cx="561960" cy="1616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2952720" y="3048120"/>
            <a:ext cx="561960" cy="13320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4505400" y="2914560"/>
            <a:ext cx="561960" cy="1335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6067440" y="2914560"/>
            <a:ext cx="561960" cy="1335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2952720" y="4591080"/>
            <a:ext cx="561960" cy="14292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4495680" y="4591080"/>
            <a:ext cx="561960" cy="14292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2952720" y="6238800"/>
            <a:ext cx="561960" cy="14292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9"/>
          <p:cNvSpPr/>
          <p:nvPr/>
        </p:nvSpPr>
        <p:spPr>
          <a:xfrm>
            <a:off x="4533840" y="6238800"/>
            <a:ext cx="561960" cy="14292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33360" y="93780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1960" indent="-2019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Fast IntraBC search methods are prop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Test 2 (Method 1 + Method 2) provides good tradeoff b/w complexity and objective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Complexity can be reduced further by decimated search, N-step search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1960" indent="-2019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A7C4-A1EB-43E1-85D1-BA3598C0D87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600200" y="1806480"/>
          <a:ext cx="6981840" cy="1814760"/>
        </p:xfrm>
        <a:graphic>
          <a:graphicData uri="http://schemas.openxmlformats.org/drawingml/2006/table">
            <a:tbl>
              <a:tblPr/>
              <a:tblGrid>
                <a:gridCol w="812880"/>
                <a:gridCol w="2214360"/>
                <a:gridCol w="1317600"/>
                <a:gridCol w="1319400"/>
                <a:gridCol w="1317600"/>
              </a:tblGrid>
              <a:tr h="261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st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M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w.r.t. NoIntraBC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loss w.r.t . Anchor (M/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 / 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 / 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 / 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M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w.r.t. NoIntraBC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loss w.r.t . Anchor (M/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 /. 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 / 0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 / 1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M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w.r.t. NoIntraBC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loss w.r.t . Anchor (M/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 / 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 / 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% / 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1600200" y="3835440"/>
          <a:ext cx="6981840" cy="1814400"/>
        </p:xfrm>
        <a:graphic>
          <a:graphicData uri="http://schemas.openxmlformats.org/drawingml/2006/table">
            <a:tbl>
              <a:tblPr/>
              <a:tblGrid>
                <a:gridCol w="822240"/>
                <a:gridCol w="2205000"/>
                <a:gridCol w="1317600"/>
                <a:gridCol w="1319400"/>
                <a:gridCol w="1317600"/>
              </a:tblGrid>
              <a:tr h="261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st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M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w.r.t. NoIntraBC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loss w.r.t . Anchor (M/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 / 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 / 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 / 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M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w.r.t. NoIntraBC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loss w.r.t . Anchor (M/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 / 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 / 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 / 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M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w.r.t. NoIntraBC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loss w.r.t . Anchor (M/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 / 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 / 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  / 2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TextBox 6"/>
          <p:cNvSpPr/>
          <p:nvPr/>
        </p:nvSpPr>
        <p:spPr>
          <a:xfrm>
            <a:off x="545040" y="180036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Lossl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545040" y="383868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Los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3360" y="11188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 Block Copy (IntraBC) is an effective coding tools in encoding repeating patterns in text, graphics and screen content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st IntraBC search has been proposed in JCTVC-N0256 and adopted in the RExt-4.1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ble IntraBC search for 32x32 and 64x64 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D search for 16x16 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 search enabled only for 8x8 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complexity is still high due to 2-D search in 8x8 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ontribution, early IntraBC search skipping methods are prop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91A3-BD16-475F-9F31-CA98CEAAE51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nc/Dec Time by IntraBC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BlockCopyEnabled = 1 (Anchor) vs. IntraBlockCopyEnabled  = 0 (NoIntra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610B-36F6-4BC1-B089-01B33F94EB3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66880" y="2357280"/>
          <a:ext cx="7686720" cy="1148040"/>
        </p:xfrm>
        <a:graphic>
          <a:graphicData uri="http://schemas.openxmlformats.org/drawingml/2006/table">
            <a:tbl>
              <a:tblPr/>
              <a:tblGrid>
                <a:gridCol w="1881000"/>
                <a:gridCol w="1935360"/>
                <a:gridCol w="1935000"/>
                <a:gridCol w="1935360"/>
              </a:tblGrid>
              <a:tr h="382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866880" y="4406760"/>
          <a:ext cx="7696080" cy="1163880"/>
        </p:xfrm>
        <a:graphic>
          <a:graphicData uri="http://schemas.openxmlformats.org/drawingml/2006/table">
            <a:tbl>
              <a:tblPr/>
              <a:tblGrid>
                <a:gridCol w="1433520"/>
                <a:gridCol w="893520"/>
                <a:gridCol w="895320"/>
                <a:gridCol w="895680"/>
                <a:gridCol w="893520"/>
                <a:gridCol w="895320"/>
                <a:gridCol w="893880"/>
                <a:gridCol w="895320"/>
              </a:tblGrid>
              <a:tr h="54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S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ed Method 1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skipping based on regular intra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BC search is skipped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raC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in (48, 32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mb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92E1-3B49-49B2-B265-0D2B2C65280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ed Method 2 &amp; 3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33360" y="928440"/>
            <a:ext cx="846792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arent 16x16 CU is NOT IntraBC, only 10 ~ 15% 8x8 CUs are IntraBC 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x8 CUs in smooth area are rarely IntraBC 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othness is quantified by Activity of 8x8 C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min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6BFB-B4CD-45BC-B368-A3370162863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2514600" y="1990800"/>
            <a:ext cx="4305240" cy="18511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5"/>
              <p:cNvSpPr txBox="1"/>
              <p:nvPr/>
            </p:nvSpPr>
            <p:spPr>
              <a:xfrm>
                <a:off x="1584360" y="5065560"/>
                <a:ext cx="55688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t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8"/>
              <p:cNvSpPr txBox="1"/>
              <p:nvPr/>
            </p:nvSpPr>
            <p:spPr>
              <a:xfrm>
                <a:off x="1565280" y="5735520"/>
                <a:ext cx="51134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a original luma sample at j-th row and i-th colum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ed Method 2 &amp; 3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8x8 C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arent 16x16 CU is NOT Intr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 = 168 x (1 &lt;&lt; bitDepth – 8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1-D IntraBC search for this 8x8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a whole IntraBC search for this 8x8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1707-0197-426A-95D8-EAEEA2C90C6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st 1 - Method 1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1 vs. IntraBlockCopyEnabled  = 0 (NoIntra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8852-7A7C-454B-9BF9-3F3835A09E0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866880" y="2043000"/>
          <a:ext cx="7686720" cy="1419480"/>
        </p:xfrm>
        <a:graphic>
          <a:graphicData uri="http://schemas.openxmlformats.org/drawingml/2006/table">
            <a:tbl>
              <a:tblPr/>
              <a:tblGrid>
                <a:gridCol w="1881000"/>
                <a:gridCol w="1935360"/>
                <a:gridCol w="1935000"/>
                <a:gridCol w="1935360"/>
              </a:tblGrid>
              <a:tr h="37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(15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866880" y="4387680"/>
          <a:ext cx="7696080" cy="1590840"/>
        </p:xfrm>
        <a:graphic>
          <a:graphicData uri="http://schemas.openxmlformats.org/drawingml/2006/table">
            <a:tbl>
              <a:tblPr/>
              <a:tblGrid>
                <a:gridCol w="1433520"/>
                <a:gridCol w="893520"/>
                <a:gridCol w="895320"/>
                <a:gridCol w="895680"/>
                <a:gridCol w="893520"/>
                <a:gridCol w="895320"/>
                <a:gridCol w="893880"/>
                <a:gridCol w="895320"/>
              </a:tblGrid>
              <a:tr h="55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 S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 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Box 7"/>
          <p:cNvSpPr/>
          <p:nvPr/>
        </p:nvSpPr>
        <p:spPr>
          <a:xfrm>
            <a:off x="3570120" y="3514680"/>
            <a:ext cx="49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IntraBlockCopyEnabled = 1 vs. IntraBlockCopyEnable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st 1 - Method 1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1 vs. 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257F-EA88-41AA-88F4-F55A05CEFDD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308720" cy="244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5667480" y="4105440"/>
            <a:ext cx="600120" cy="23796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695760" y="4286160"/>
            <a:ext cx="600120" cy="23832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perimental Results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st 1 - Method 1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3360" y="103320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1 vs. Anc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E717-9A6F-4CF4-A089-CA2B3B0E579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838160" y="1647720"/>
            <a:ext cx="5801040" cy="4876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2952720" y="4543560"/>
            <a:ext cx="523800" cy="18072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924280" y="2457360"/>
            <a:ext cx="561960" cy="162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4505400" y="4543560"/>
            <a:ext cx="523800" cy="18072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933640" y="2981160"/>
            <a:ext cx="523800" cy="18108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4495680" y="2981160"/>
            <a:ext cx="524160" cy="18108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058080" y="2981160"/>
            <a:ext cx="523800" cy="18108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2924280" y="5410080"/>
            <a:ext cx="561960" cy="1620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a0271391</cp:lastModifiedBy>
  <dcterms:modified xsi:type="dcterms:W3CDTF">2013-10-24T10:07:28Z</dcterms:modified>
  <cp:revision>292</cp:revision>
  <dc:subject/>
  <dc:title>Presentation Title Here</dc:title>
</cp:coreProperties>
</file>