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A5AA-0560-45B0-806A-C247789D2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8055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080" y="3895200"/>
            <a:ext cx="8055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1B38-B57A-4366-B6B9-DF645516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20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94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1BEE-46AB-4033-A03D-7841A8944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5480" y="150804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9240" y="150804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22080" y="389520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5480" y="389520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9240" y="389520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AAD2-41F7-43EA-9CB2-4CACD40FC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22080" y="1508040"/>
            <a:ext cx="8055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80550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22440" y="383760"/>
            <a:ext cx="805968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20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22080" y="1508040"/>
            <a:ext cx="8055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A27E-0A49-4A41-A5D7-25DB4679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494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2080" y="3895200"/>
            <a:ext cx="8055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8055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22080" y="3895200"/>
            <a:ext cx="8055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20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494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45480" y="150804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69240" y="150804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22080" y="389520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45480" y="389520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69240" y="389520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80550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3A70-8857-4C18-AC2C-608A1CB5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2998-2271-4646-89D9-FBD02E00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09BF-19EE-47FD-8857-79AE4FB5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22440" y="383760"/>
            <a:ext cx="805968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DCB5-5275-44C1-B955-ADAAFBB9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220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EB39-15A3-4FA3-9BCC-DC16765C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94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2AB7-82A1-4EE2-B447-D10D0BE7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22080" y="3895200"/>
            <a:ext cx="8055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C157-78F8-4FA9-8B7A-81479ABD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0" descr="Conf_B_bkgd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2080" y="1508040"/>
            <a:ext cx="80550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49200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B750-D9F4-4DB5-8D50-71634406C388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33836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326E-7F55-4258-9A30-5591E214C3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3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ogether, We make the differen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O01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6" descr="Conf_B_title_base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5" descr="logo"/>
          <p:cNvPicPr/>
          <p:nvPr/>
        </p:nvPicPr>
        <p:blipFill>
          <a:blip r:embed="rId3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7" descr="cover_back_8"/>
          <p:cNvPicPr/>
          <p:nvPr/>
        </p:nvPicPr>
        <p:blipFill>
          <a:blip r:embed="rId4"/>
          <a:stretch/>
        </p:blipFill>
        <p:spPr>
          <a:xfrm>
            <a:off x="0" y="1978200"/>
            <a:ext cx="9144000" cy="335268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48"/>
          <p:cNvGrpSpPr/>
          <p:nvPr/>
        </p:nvGrpSpPr>
        <p:grpSpPr>
          <a:xfrm>
            <a:off x="923760" y="4572000"/>
            <a:ext cx="7294680" cy="590400"/>
            <a:chOff x="923760" y="4572000"/>
            <a:chExt cx="7294680" cy="590400"/>
          </a:xfrm>
        </p:grpSpPr>
        <p:pic>
          <p:nvPicPr>
            <p:cNvPr id="48" name="Picture 49" descr="icon_1"/>
            <p:cNvPicPr/>
            <p:nvPr/>
          </p:nvPicPr>
          <p:blipFill>
            <a:blip r:embed="rId5"/>
            <a:stretch/>
          </p:blipFill>
          <p:spPr>
            <a:xfrm>
              <a:off x="923760" y="4572000"/>
              <a:ext cx="58104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50" descr="icon_5"/>
            <p:cNvPicPr/>
            <p:nvPr/>
          </p:nvPicPr>
          <p:blipFill>
            <a:blip r:embed="rId6"/>
            <a:stretch/>
          </p:blipFill>
          <p:spPr>
            <a:xfrm>
              <a:off x="2597040" y="4572000"/>
              <a:ext cx="59040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51" descr="icon_2"/>
            <p:cNvPicPr/>
            <p:nvPr/>
          </p:nvPicPr>
          <p:blipFill>
            <a:blip r:embed="rId7"/>
            <a:stretch/>
          </p:blipFill>
          <p:spPr>
            <a:xfrm>
              <a:off x="7627680" y="4572000"/>
              <a:ext cx="59076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52" descr="icon_3"/>
            <p:cNvPicPr/>
            <p:nvPr/>
          </p:nvPicPr>
          <p:blipFill>
            <a:blip r:embed="rId8"/>
            <a:stretch/>
          </p:blipFill>
          <p:spPr>
            <a:xfrm>
              <a:off x="4279680" y="4572000"/>
              <a:ext cx="58104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53" descr="icon_4"/>
            <p:cNvPicPr/>
            <p:nvPr/>
          </p:nvPicPr>
          <p:blipFill>
            <a:blip r:embed="rId9"/>
            <a:stretch/>
          </p:blipFill>
          <p:spPr>
            <a:xfrm>
              <a:off x="5952960" y="4572000"/>
              <a:ext cx="581040" cy="59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Text Box 57"/>
          <p:cNvSpPr/>
          <p:nvPr/>
        </p:nvSpPr>
        <p:spPr>
          <a:xfrm>
            <a:off x="608040" y="623412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SimHei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O01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22080" y="1508040"/>
            <a:ext cx="80550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9600" y="1905120"/>
            <a:ext cx="85248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JCTVC-O019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HG5: Unification of processing order of RDPCM</a:t>
            </a:r>
            <a:br>
              <a:rPr sz="2800"/>
            </a:br>
            <a:r>
              <a:rPr b="1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in La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han Liu, Shawmin Le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114800" y="5486400"/>
            <a:ext cx="487692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Hei"/>
              </a:rPr>
              <a:t>Presented b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n L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Hei"/>
              </a:rPr>
              <a:t>1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SimHei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Hei"/>
              </a:rPr>
              <a:t> JCT-VC Meeting in Gene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Oct / Nov,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thod 2 v.s. 1, w/o rsd rotation for In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投影片編號版面配置區 4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3C74-1585-436F-B8E0-9903EADD5980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" descr=""/>
          <p:cNvPicPr/>
          <p:nvPr/>
        </p:nvPicPr>
        <p:blipFill>
          <a:blip r:embed="rId1"/>
          <a:stretch/>
        </p:blipFill>
        <p:spPr>
          <a:xfrm>
            <a:off x="685800" y="1001880"/>
            <a:ext cx="6558120" cy="5715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5"/>
          <p:cNvSpPr/>
          <p:nvPr/>
        </p:nvSpPr>
        <p:spPr>
          <a:xfrm>
            <a:off x="609480" y="1555920"/>
            <a:ext cx="6705720" cy="577800"/>
          </a:xfrm>
          <a:prstGeom prst="rect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609480" y="3494160"/>
            <a:ext cx="4876920" cy="577800"/>
          </a:xfrm>
          <a:prstGeom prst="rect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609480" y="5442120"/>
            <a:ext cx="4876920" cy="577800"/>
          </a:xfrm>
          <a:prstGeom prst="rect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9600" y="1905120"/>
            <a:ext cx="85248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內容版面配置區 2" descr=""/>
          <p:cNvPicPr/>
          <p:nvPr/>
        </p:nvPicPr>
        <p:blipFill>
          <a:blip r:embed="rId1"/>
          <a:stretch/>
        </p:blipFill>
        <p:spPr>
          <a:xfrm>
            <a:off x="549360" y="1255680"/>
            <a:ext cx="8375400" cy="5578560"/>
          </a:xfrm>
          <a:prstGeom prst="rect">
            <a:avLst/>
          </a:prstGeom>
          <a:ln w="0">
            <a:noFill/>
          </a:ln>
        </p:spPr>
      </p:pic>
      <p:sp>
        <p:nvSpPr>
          <p:cNvPr id="97" name="投影片編號版面配置區 4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6AA0-7E22-4723-B075-ABDF85073A68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 of the two metho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內容版面配置區 2" descr=""/>
          <p:cNvPicPr/>
          <p:nvPr/>
        </p:nvPicPr>
        <p:blipFill>
          <a:blip r:embed="rId1"/>
          <a:stretch/>
        </p:blipFill>
        <p:spPr>
          <a:xfrm>
            <a:off x="549360" y="1255680"/>
            <a:ext cx="8375400" cy="4621320"/>
          </a:xfrm>
          <a:prstGeom prst="rect">
            <a:avLst/>
          </a:prstGeom>
          <a:ln w="0">
            <a:noFill/>
          </a:ln>
        </p:spPr>
      </p:pic>
      <p:sp>
        <p:nvSpPr>
          <p:cNvPr id="100" name="投影片編號版面配置區 4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483E-8580-44F6-9377-44BFAC58D10F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sults (no change in RDOQ) Method 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投影片編號版面配置區 4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2EE3-6525-4CFF-BAC8-109B90EE6E49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685800" y="1012680"/>
            <a:ext cx="6553080" cy="57103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7"/>
          <p:cNvSpPr/>
          <p:nvPr/>
        </p:nvSpPr>
        <p:spPr>
          <a:xfrm>
            <a:off x="609480" y="1555920"/>
            <a:ext cx="6705720" cy="577800"/>
          </a:xfrm>
          <a:prstGeom prst="rect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609480" y="3505320"/>
            <a:ext cx="4876920" cy="577800"/>
          </a:xfrm>
          <a:prstGeom prst="rect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609480" y="5442120"/>
            <a:ext cx="4876920" cy="577800"/>
          </a:xfrm>
          <a:prstGeom prst="rect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5486400" y="41911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ks Microsoft for cross-chec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CTVC-O0324 (100% dec 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sults (no change in RDOQ) Method 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投影片編號版面配置區 4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B996-9C39-49DA-804B-C2F8B497D24E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685800" y="1011240"/>
            <a:ext cx="6553080" cy="571176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5486400" y="41911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ks BBC for cross-chec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CTVC-O0350 (100% dec 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609480" y="1555920"/>
            <a:ext cx="6705720" cy="577800"/>
          </a:xfrm>
          <a:prstGeom prst="rect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609480" y="3505320"/>
            <a:ext cx="4876920" cy="577800"/>
          </a:xfrm>
          <a:prstGeom prst="rect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609480" y="5442120"/>
            <a:ext cx="4876920" cy="577800"/>
          </a:xfrm>
          <a:prstGeom prst="rect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sults (no change in RDOQ) Method 2 v.s. 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投影片編號版面配置區 4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933A-CB23-4BE5-80D3-9DC68391C623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685800" y="1023840"/>
            <a:ext cx="6521400" cy="5681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609480" y="1555920"/>
            <a:ext cx="6705720" cy="577800"/>
          </a:xfrm>
          <a:prstGeom prst="rect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609480" y="3494160"/>
            <a:ext cx="4876920" cy="577800"/>
          </a:xfrm>
          <a:prstGeom prst="rect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609480" y="5462640"/>
            <a:ext cx="4876920" cy="577800"/>
          </a:xfrm>
          <a:prstGeom prst="rect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thods + No rsd rotaton in Inter/IntraBC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內容版面配置區 2" descr=""/>
          <p:cNvPicPr/>
          <p:nvPr/>
        </p:nvPicPr>
        <p:blipFill>
          <a:blip r:embed="rId1"/>
          <a:stretch/>
        </p:blipFill>
        <p:spPr>
          <a:xfrm>
            <a:off x="549360" y="1103400"/>
            <a:ext cx="8375400" cy="5651280"/>
          </a:xfrm>
          <a:prstGeom prst="rect">
            <a:avLst/>
          </a:prstGeom>
          <a:ln w="0">
            <a:noFill/>
          </a:ln>
        </p:spPr>
      </p:pic>
      <p:sp>
        <p:nvSpPr>
          <p:cNvPr id="123" name="投影片編號版面配置區 4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E149-F4FC-40D9-9724-DF975EB1881B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aight Connector 5"/>
          <p:cNvSpPr/>
          <p:nvPr/>
        </p:nvSpPr>
        <p:spPr>
          <a:xfrm>
            <a:off x="6781680" y="2209680"/>
            <a:ext cx="914400" cy="38124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traight Connector 6"/>
          <p:cNvSpPr/>
          <p:nvPr/>
        </p:nvSpPr>
        <p:spPr>
          <a:xfrm flipH="1">
            <a:off x="6781680" y="2209680"/>
            <a:ext cx="914400" cy="38124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14"/>
          <p:cNvSpPr/>
          <p:nvPr/>
        </p:nvSpPr>
        <p:spPr>
          <a:xfrm>
            <a:off x="5410080" y="4114800"/>
            <a:ext cx="914400" cy="38088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15"/>
          <p:cNvSpPr/>
          <p:nvPr/>
        </p:nvSpPr>
        <p:spPr>
          <a:xfrm flipH="1">
            <a:off x="5410080" y="4114800"/>
            <a:ext cx="914400" cy="38088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traight Connector 16"/>
          <p:cNvSpPr/>
          <p:nvPr/>
        </p:nvSpPr>
        <p:spPr>
          <a:xfrm>
            <a:off x="5410080" y="5867280"/>
            <a:ext cx="914400" cy="38124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traight Connector 17"/>
          <p:cNvSpPr/>
          <p:nvPr/>
        </p:nvSpPr>
        <p:spPr>
          <a:xfrm flipH="1">
            <a:off x="5410080" y="5867280"/>
            <a:ext cx="914400" cy="38124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thod 1 + No rsd rotation in Inter (O0171-4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投影片編號版面配置區 4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3A0D-80DC-4EEC-9EA3-C63A42DE9E65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711360" y="1011240"/>
            <a:ext cx="6534000" cy="56944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7"/>
          <p:cNvSpPr/>
          <p:nvPr/>
        </p:nvSpPr>
        <p:spPr>
          <a:xfrm>
            <a:off x="609480" y="1555920"/>
            <a:ext cx="6705720" cy="577800"/>
          </a:xfrm>
          <a:prstGeom prst="rect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609480" y="3505320"/>
            <a:ext cx="4876920" cy="577800"/>
          </a:xfrm>
          <a:prstGeom prst="rect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609480" y="5442120"/>
            <a:ext cx="4876920" cy="577800"/>
          </a:xfrm>
          <a:prstGeom prst="rect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thod 2 + No rsd rotation in In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投影片編號版面配置區 4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B4B9-3F48-433A-B6F9-7B6A9043F3AC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696960" y="1001880"/>
            <a:ext cx="6557760" cy="5715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609480" y="1555920"/>
            <a:ext cx="6705720" cy="577800"/>
          </a:xfrm>
          <a:prstGeom prst="rect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609480" y="3505320"/>
            <a:ext cx="4876920" cy="577800"/>
          </a:xfrm>
          <a:prstGeom prst="rect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609480" y="5442120"/>
            <a:ext cx="4876920" cy="577800"/>
          </a:xfrm>
          <a:prstGeom prst="rect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PoLin Lai</dc:creator>
  <dc:description/>
  <dc:language>en-US</dc:language>
  <cp:lastModifiedBy>mtk30288</cp:lastModifiedBy>
  <dcterms:modified xsi:type="dcterms:W3CDTF">2013-10-30T10:26:34Z</dcterms:modified>
  <cp:revision>1701</cp:revision>
  <dc:subject/>
  <dc:title>Redundant Check For Merge and AMVP</dc:title>
</cp:coreProperties>
</file>